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EA5-BC3A-4140-9BC3-8165DF0E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E85-B048-4ADE-9155-234B266B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CEB9-8C04-47FA-B35C-C2BFC5C3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EC0-EDE3-4A8C-B6B9-10003EAD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156F-19F5-4077-A69C-A8B4F38F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6D8-C599-4F8C-946B-66DC127B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998-E3BA-4934-8A1D-B55B7D73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6467-5850-48DC-9137-04CE657C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E48D-95F9-4F0C-8CFC-6ADB732B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675E-118F-4408-B384-651DEBB8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CE7-F00A-4850-A8ED-CA2607A3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582E-71A1-4D1C-98E0-D319B4CB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3AC5-45FC-4EB2-BEDC-1B3C4AE1047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contrast="-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’appuyer sur les réseaux de villes et de pouvoirs locaux à travers le monde pour promouvoir, à adapter aux demandes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70028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Des gouvernances fondées sur des autorités publiques locales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de proximité, responsables devant leurs populations, librement, de l’organisation sociale, économique et technique des services publics d’eau et d’assainissement, 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les Etats renforçant leur rôle de garant, de soutien, de régulateur,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 pour un droit à l’eau pour t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La participation active des citoyens, la transparence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des comptes et de la gestion, pratiques démocratiques gage de développement et de pérennité : information, rapports réguliers, commissions, comités d’usager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L’accroissement des capacités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d’organisation et de contrôle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par des échanges, transferts de pratiques et de savoir-faire, des formations, des accompagnements conseil entre collectivités locales, confortés par des partenariats avec les autres acteurs internat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Le développement et la synergie des financements directs aux projets locaux :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66"/>
                </a:solidFill>
                <a:latin typeface="Arial"/>
              </a:rPr>
              <a:t>financements solidaires, aides publiques et financements de développeme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9T13:24:27Z</dcterms:created>
  <dc:creator>Sgcp</dc:creator>
  <dc:description/>
  <dc:language>en-US</dc:language>
  <cp:lastModifiedBy>Sgcp</cp:lastModifiedBy>
  <dcterms:modified xsi:type="dcterms:W3CDTF">2006-03-19T17:46:53Z</dcterms:modified>
  <cp:revision>12</cp:revision>
  <dc:subject/>
  <dc:title>Diapositive 1</dc:title>
</cp:coreProperties>
</file>