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643-1AA2-42B8-B98D-C2DFD1E3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EFC-5A50-45AC-80E0-0EB5D0AF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CD6-B00F-4846-9847-CB658B61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14C-DC04-4F95-B5CA-E106A1DC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43C-E794-4435-942D-7EA7248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DF3-5D3D-416F-8163-315D00F3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EC6-1E23-4B2B-8F3C-2182E79E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6AE-F9DF-4FB6-9023-DAE0B9B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7E3-C532-4D9C-BBFF-C38035A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213-3BF3-49B1-BE95-DFFB934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ACC-33C1-47E2-9330-79F74C6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2BC-1AD5-4D44-B63A-642AC9C2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4F2-BA35-4172-86E1-AB460E8508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’appuyer sur les réseaux de villes et de pouvoirs locaux à travers le monde pour promouvoir, à adapter aux deman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Des gouvernances fondées sur des autorités publiques locales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de proximité, responsables devant leurs populations, librement, de l’organisation sociale, économique et technique des services publics d’eau et d’assainissement,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les Etats renforçant leur rôle de garant, de soutien, de régulateur,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 pour un droit à l’eau pour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La participation active des citoyens, la transparence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des comptes et de la gestion, pratiques démocratiques gage de développement et de pérennité : information, rapports réguliers, commissions, comités d’usager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L’accroissement des capacités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d’organisation et de contrôle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par des échanges, transferts de pratiques et de savoir-faire, des formations, des accompagnements conseil entre collectivités locales, confortés par des partenariats avec les autres acteur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Le développement et la synergie des financements directs aux projets locaux :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financements solidaires, aides publiques et financements de développeme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3:24:27Z</dcterms:created>
  <dc:creator>Sgcp</dc:creator>
  <dc:description/>
  <dc:language>en-US</dc:language>
  <cp:lastModifiedBy>Sgcp</cp:lastModifiedBy>
  <dcterms:modified xsi:type="dcterms:W3CDTF">2006-03-19T17:46:53Z</dcterms:modified>
  <cp:revision>12</cp:revision>
  <dc:subject/>
  <dc:title>Diapositive 1</dc:title>
</cp:coreProperties>
</file>