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png" ContentType="image/png"/>
  <Override PartName="/ppt/media/image7.png" ContentType="image/png"/>
  <Override PartName="/ppt/media/image2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6.png" ContentType="image/png"/>
  <Override PartName="/ppt/media/image9.jpeg" ContentType="image/jpeg"/>
  <Override PartName="/ppt/media/image11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2.jpeg" ContentType="image/jpeg"/>
  <Override PartName="/ppt/media/image20.wmf" ContentType="image/x-wmf"/>
  <Override PartName="/ppt/media/image33.jpeg" ContentType="image/jpeg"/>
  <Override PartName="/ppt/media/image17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wmf" ContentType="image/x-wmf"/>
  <Override PartName="/ppt/media/image2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7FF-B78E-46A9-A565-8044C1C9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320" y="42069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7BB-AAF0-4763-A414-3AA929E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476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74C-D87D-4DCB-A877-4B9327E2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0216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9536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32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0216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9536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567-61A2-4643-A16E-C74A910D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7EFB-672A-41FB-B942-C4BF495E5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093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99"/>
              </a:solidFill>
              <a:latin typeface="TheSans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2D97-7490-442C-B553-31D1499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6936-4147-481E-9370-5D7F8BBD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3CD0E-BB66-4EC7-9F23-8A2F2D1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265A-BE9B-48F8-912E-5C6A1DCA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9520" y="228240"/>
            <a:ext cx="4800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99"/>
              </a:solidFill>
              <a:latin typeface="The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DB54D-B886-4D0C-B759-83DE5622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F767-9ABE-4ED3-B3AD-7A18F7C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3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99"/>
              </a:solidFill>
              <a:latin typeface="TheSans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54E-3B75-4F2A-B61E-A71C36F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8476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83B88-9D3C-4759-8446-E2EBDD0E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7692C-077E-49FA-B7DD-E851D57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09320" y="42069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7683-D82C-406D-A701-C74C7478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8476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7B48-581E-4F02-ACFA-6F0A35D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0216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95360" y="20574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0932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50216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795360" y="42069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EE94-7DAF-4E07-932D-DE1A20983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398-9582-4E36-81D8-81414B4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32D-C84E-4D45-84B8-EAF25A3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A94-7061-4D4E-A8B0-96ABA684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9520" y="228240"/>
            <a:ext cx="4800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99"/>
              </a:solidFill>
              <a:latin typeface="The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AAF-C6AA-431F-B247-6128855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484-DA05-4D0C-9183-E176795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84760" y="42069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E33-E580-4771-AD0E-2996680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4760" y="20574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320" y="42069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FEA-6D4A-4E4D-A439-089DC2E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040" cy="1600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42800" y="0"/>
            <a:ext cx="374832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72000" y="6705720"/>
            <a:ext cx="457200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05720"/>
            <a:ext cx="4724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Click to edit the title text format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093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Click to edit the outline text format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743040" indent="-28584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2" marL="1143000" indent="-228600" algn="just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Third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3" marL="1600200" indent="-228600" algn="just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Fourth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4" marL="2057400" indent="-228600" algn="just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Fifth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5" marL="2057400" indent="-228600" algn="just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Sixth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6" marL="2057400" indent="-228600" algn="just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Seventh Outline Level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495680" y="655272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99"/>
                </a:solidFill>
                <a:latin typeface="TheSans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3E0-AA6F-4B76-A4E8-A9CD39039108}" type="slidenum">
              <a:rPr b="0" lang="en-US" sz="1600" spc="-1" strike="noStrike">
                <a:solidFill>
                  <a:srgbClr val="000099"/>
                </a:solidFill>
                <a:latin typeface="TheSans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8675640" y="0"/>
            <a:ext cx="46836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6705720"/>
            <a:ext cx="457200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05720"/>
            <a:ext cx="4724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heSans Bold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heSans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040" cy="277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2800" y="0"/>
            <a:ext cx="4343400" cy="163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023320" y="228600"/>
            <a:ext cx="112068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4495680" y="655272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99"/>
                </a:solidFill>
                <a:latin typeface="TheSans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F94-808F-450F-958A-00ADB4E3C94F}" type="slidenum">
              <a:rPr b="0" lang="en-US" sz="1600" spc="-1" strike="noStrike">
                <a:solidFill>
                  <a:srgbClr val="000099"/>
                </a:solidFill>
                <a:latin typeface="TheSans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TheSans Bold"/>
              </a:rPr>
              <a:t>Click to edit the outline text format</a:t>
            </a:r>
            <a:endParaRPr b="1" i="1" lang="en-US" sz="3000" spc="-1" strike="noStrike">
              <a:solidFill>
                <a:srgbClr val="000099"/>
              </a:solidFill>
              <a:latin typeface="TheSans Bol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heSans Light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TheSans Light"/>
            </a:endParaRPr>
          </a:p>
          <a:p>
            <a:pPr lvl="2" marL="914400" algn="ctr">
              <a:spcBef>
                <a:spcPts val="451"/>
              </a:spcBef>
              <a:buClr>
                <a:srgbClr val="000099"/>
              </a:buClr>
              <a:buFont typeface="The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heSans Light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TheSans Light"/>
            </a:endParaRPr>
          </a:p>
          <a:p>
            <a:pPr lvl="3" marL="1371600" algn="ctr">
              <a:spcBef>
                <a:spcPts val="400"/>
              </a:spcBef>
              <a:buClr>
                <a:srgbClr val="000099"/>
              </a:buClr>
              <a:buFont typeface="TheSans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heSans Light"/>
              </a:rPr>
              <a:t>Fourth Outline Level</a:t>
            </a:r>
            <a:endParaRPr b="0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TheSans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heSans Light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he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heSans Light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he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heSans Light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The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16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040" cy="2778120"/>
          </a:xfrm>
          <a:prstGeom prst="rect">
            <a:avLst/>
          </a:prstGeom>
          <a:ln w="0">
            <a:noFill/>
          </a:ln>
        </p:spPr>
      </p:pic>
      <p:pic>
        <p:nvPicPr>
          <p:cNvPr id="93" name="logonm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2362320" cy="52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42800" y="0"/>
            <a:ext cx="4343400" cy="163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023320" y="228600"/>
            <a:ext cx="112068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9520" y="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heSans Bold"/>
              </a:rPr>
              <a:t>4ème Forum de l’eau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heSans Bold"/>
              </a:rPr>
              <a:t>Mexico 16 au 22 mars</a:t>
            </a:r>
            <a:endParaRPr b="0" lang="en-US" sz="3600" spc="-1" strike="noStrike">
              <a:solidFill>
                <a:srgbClr val="000099"/>
              </a:solidFill>
              <a:latin typeface="TheSans Bol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09680" y="1523880"/>
            <a:ext cx="601992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9840D-57F2-444F-886D-995EB3BA82D4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INDICATEURS </a:t>
            </a:r>
            <a:br>
              <a:rPr sz="2400"/>
            </a:b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-34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Pour la qualité du produit et des services eau : des indicateurs précis avec un objectif à atteindr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	</a:t>
            </a: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exemples :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lvl="1" marL="74160" indent="-28440" algn="just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Réalisation du branchement sous 4 semaines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lvl="1" marL="74160" indent="-28440" algn="just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Respect du délai d’information préalable à une coupure programmée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-34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Qualité du service : plusieurs indicateurs pour tous les opérateurs publics ou privés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	</a:t>
            </a: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exemples : 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lvl="1" marL="74160" indent="-28440" algn="just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intervention urgente – sur place dans l’heure qui suit l’appel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lvl="1" marL="74160" indent="-28440" algn="just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heSans Light"/>
              </a:rPr>
              <a:t>accueil téléphonique – prise en charge des appels au bout de 3 sonneries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TheSans Light"/>
            </a:endParaRPr>
          </a:p>
          <a:p>
            <a:pPr marL="34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D9C-EEDE-47A2-9484-1167C1B44697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LA CHARTE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225440"/>
            <a:ext cx="7696440" cy="54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7FA-28C0-48A5-A6B3-89E2CC7B5F91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LES PREMIERS ENSEIGNEMENTS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heSans Bold"/>
              </a:rPr>
              <a:t>La complémentarité des opérateurs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7920" y="12952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TheSans Light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Opérateurs privé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Champ d’expérience, recherche de développement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Capacité à mobiliser des moyens important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Opérateurs public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Connaissance métier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Equilibre entre les partenaires : autorité organisatrice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et opérateurs public et privé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pic>
        <p:nvPicPr>
          <p:cNvPr id="181" name="wasserhahn03%20controle%20de%20l'eau" descr=""/>
          <p:cNvPicPr/>
          <p:nvPr/>
        </p:nvPicPr>
        <p:blipFill>
          <a:blip r:embed="rId6"/>
          <a:stretch/>
        </p:blipFill>
        <p:spPr>
          <a:xfrm>
            <a:off x="152280" y="2057400"/>
            <a:ext cx="2103480" cy="2182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876920" y="2743200"/>
            <a:ext cx="247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0200" y="4800600"/>
            <a:ext cx="68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343400"/>
            <a:ext cx="6095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C1C-322B-4D6E-B563-0095FC07D3FE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heSans Bold"/>
              </a:rPr>
              <a:t>AUTORITE ORGANISATRICE ET OPERATEURS PRIVES </a:t>
            </a:r>
            <a:r>
              <a:rPr b="0" lang="en-US" sz="1800" spc="-1" strike="noStrike">
                <a:solidFill>
                  <a:srgbClr val="000099"/>
                </a:solidFill>
                <a:latin typeface="TheSans Bold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99"/>
                </a:solidFill>
                <a:uFillTx/>
                <a:latin typeface="TheSans Bold"/>
              </a:rPr>
              <a:t>UN PARTENARIAT GAGNANT - GAGNANT</a:t>
            </a:r>
            <a:endParaRPr b="0" lang="en-US" sz="20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La régulation politique : affirmation du rôle de l’autorité organisatrice 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Le libre choix du mode de gestion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Le territoire pertinent d’organisation du service public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</p:txBody>
      </p:sp>
      <p:pic>
        <p:nvPicPr>
          <p:cNvPr id="187" name="j0078837" descr=""/>
          <p:cNvPicPr/>
          <p:nvPr/>
        </p:nvPicPr>
        <p:blipFill>
          <a:blip r:embed="rId4"/>
          <a:stretch/>
        </p:blipFill>
        <p:spPr>
          <a:xfrm>
            <a:off x="5943600" y="3962520"/>
            <a:ext cx="2895480" cy="27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F60-1860-4E9D-8702-B4BBC12999E1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TheSans Bold"/>
              </a:rPr>
              <a:t>L’ENJEU ESSENTIEL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6781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Permettre à chaque autorité organisatric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lvl="1" marL="713160" indent="-2743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D’exercer librement ses choix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lvl="1" marL="713160" indent="-2743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De maîtriser l’organisation et l’exécution des services publics locaux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29040" indent="-32904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La coopération intercommunal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lvl="1" marL="713160" indent="-27432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Donne une capacité de négociation par son poids de population et son organisation uniqu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</p:txBody>
      </p:sp>
      <p:pic>
        <p:nvPicPr>
          <p:cNvPr id="190" name="BD04964_" descr=""/>
          <p:cNvPicPr/>
          <p:nvPr/>
        </p:nvPicPr>
        <p:blipFill>
          <a:blip r:embed="rId6"/>
          <a:stretch/>
        </p:blipFill>
        <p:spPr>
          <a:xfrm>
            <a:off x="6243480" y="4191120"/>
            <a:ext cx="242280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4572000"/>
            <a:ext cx="5562360" cy="1981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heSans Bold"/>
              </a:rPr>
              <a:t>Son développement est un des facteurs majeurs de la maîtrise des services publics locaux par les collectivité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BC3-1889-4DAD-8352-A9314350EA16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543320" cy="1249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91520" y="4876920"/>
            <a:ext cx="1425600" cy="1676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543800" y="152280"/>
            <a:ext cx="1185840" cy="1362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1577880" cy="216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05120" y="2514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heSans Bold"/>
              </a:rPr>
              <a:t>Ce document a a été réalisé par la Direction de l’Eau de Nantes Métropole – mars 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A99-F0D0-42EF-9A29-0D2A90A06952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heSans Bold"/>
              </a:rPr>
              <a:t>NANTES METROPOLE</a:t>
            </a:r>
            <a:br>
              <a:rPr sz="3200"/>
            </a:br>
            <a:r>
              <a:rPr b="0" lang="en-US" sz="2000" spc="-1" strike="noStrike">
                <a:solidFill>
                  <a:srgbClr val="000099"/>
                </a:solidFill>
                <a:latin typeface="TheSans Bold"/>
              </a:rPr>
              <a:t>Une communauté urbaine qui regroupe :</a:t>
            </a:r>
            <a:endParaRPr b="0" lang="en-US" sz="20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403884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24 communes – 580 000 hab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1 exécutif de 113 élus commun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TheSans Light"/>
              </a:rPr>
              <a:t>Les compétenc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Déplacements – voi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Urbanisme – 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Développement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Développement écon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Enseignement sup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International  - Tour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Déch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907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heSans Light"/>
              </a:rPr>
              <a:t>Eau - assain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heSans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676520"/>
            <a:ext cx="0" cy="396216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ntes%20en%20europe" descr=""/>
          <p:cNvPicPr/>
          <p:nvPr/>
        </p:nvPicPr>
        <p:blipFill>
          <a:blip r:embed="rId12"/>
          <a:stretch/>
        </p:blipFill>
        <p:spPr>
          <a:xfrm>
            <a:off x="4648320" y="1881360"/>
            <a:ext cx="4190760" cy="37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04E-933A-4169-A3D4-EAFB273284B6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33920" y="1066680"/>
            <a:ext cx="2819160" cy="69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heSans Light"/>
              </a:rPr>
              <a:t>Autorité organis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xemple  : Nantes Métrop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143000" cy="1280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Citoy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Us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038480"/>
            <a:ext cx="1523880" cy="16970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Opérateur de ré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xemple : régie communautaire eau 300 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67080" y="3581280"/>
            <a:ext cx="1836720" cy="1219320"/>
            <a:chOff x="4267080" y="3581280"/>
            <a:chExt cx="1836720" cy="1219320"/>
          </a:xfrm>
        </p:grpSpPr>
        <p:sp>
          <p:nvSpPr>
            <p:cNvPr id="106" name=""/>
            <p:cNvSpPr/>
            <p:nvPr/>
          </p:nvSpPr>
          <p:spPr>
            <a:xfrm>
              <a:off x="4343400" y="3581280"/>
              <a:ext cx="176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7080" y="4495680"/>
              <a:ext cx="182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02080" y="4114800"/>
              <a:ext cx="1490760" cy="0"/>
            </a:xfrm>
            <a:prstGeom prst="line">
              <a:avLst/>
            </a:prstGeom>
            <a:ln w="316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2080" y="4343400"/>
              <a:ext cx="1490760" cy="0"/>
            </a:xfrm>
            <a:prstGeom prst="line">
              <a:avLst/>
            </a:prstGeom>
            <a:ln w="3168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752480" y="3200400"/>
            <a:ext cx="1143000" cy="520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Élu commu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05120" y="1828800"/>
            <a:ext cx="1600200" cy="1295280"/>
            <a:chOff x="1905120" y="1828800"/>
            <a:chExt cx="1600200" cy="1295280"/>
          </a:xfrm>
        </p:grpSpPr>
        <p:sp>
          <p:nvSpPr>
            <p:cNvPr id="112" name=""/>
            <p:cNvSpPr/>
            <p:nvPr/>
          </p:nvSpPr>
          <p:spPr>
            <a:xfrm>
              <a:off x="1905120" y="1828800"/>
              <a:ext cx="990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133360" y="1828800"/>
              <a:ext cx="1066680" cy="1143000"/>
            </a:xfrm>
            <a:prstGeom prst="line">
              <a:avLst/>
            </a:prstGeom>
            <a:ln w="316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438280" y="1981080"/>
              <a:ext cx="1067040" cy="1143000"/>
            </a:xfrm>
            <a:prstGeom prst="line">
              <a:avLst/>
            </a:prstGeom>
            <a:ln w="3168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50532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heSans Light"/>
              </a:rPr>
              <a:t>Le modèle français du servic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124080" y="2057400"/>
            <a:ext cx="2210040" cy="1676520"/>
            <a:chOff x="3124080" y="2057400"/>
            <a:chExt cx="2210040" cy="1676520"/>
          </a:xfrm>
        </p:grpSpPr>
        <p:sp>
          <p:nvSpPr>
            <p:cNvPr id="117" name=""/>
            <p:cNvSpPr/>
            <p:nvPr/>
          </p:nvSpPr>
          <p:spPr>
            <a:xfrm>
              <a:off x="3124080" y="2590920"/>
              <a:ext cx="838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581280" y="2057400"/>
              <a:ext cx="1752840" cy="1676520"/>
              <a:chOff x="3581280" y="2057400"/>
              <a:chExt cx="1752840" cy="167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4419720" y="2666880"/>
                <a:ext cx="914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581280" y="2057400"/>
                <a:ext cx="533520" cy="1676520"/>
              </a:xfrm>
              <a:prstGeom prst="line">
                <a:avLst/>
              </a:prstGeom>
              <a:ln w="3168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962520" y="2209680"/>
                <a:ext cx="457200" cy="1524240"/>
              </a:xfrm>
              <a:prstGeom prst="line">
                <a:avLst/>
              </a:prstGeom>
              <a:ln w="3168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1828800" y="4800600"/>
            <a:ext cx="1523880" cy="12193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Au cœu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l’action publ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t son 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ssent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724280"/>
            <a:ext cx="1447920" cy="1371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Servic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qualité, proxim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t forc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pro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2193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Légitime et  ga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du  service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562720" y="2133720"/>
            <a:ext cx="2361960" cy="1600200"/>
            <a:chOff x="5562720" y="2133720"/>
            <a:chExt cx="2361960" cy="1600200"/>
          </a:xfrm>
        </p:grpSpPr>
        <p:grpSp>
          <p:nvGrpSpPr>
            <p:cNvPr id="126" name=""/>
            <p:cNvGrpSpPr/>
            <p:nvPr/>
          </p:nvGrpSpPr>
          <p:grpSpPr>
            <a:xfrm>
              <a:off x="6019920" y="2133720"/>
              <a:ext cx="1904760" cy="1600200"/>
              <a:chOff x="6019920" y="2133720"/>
              <a:chExt cx="1904760" cy="160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6934320" y="259092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2133720"/>
                <a:ext cx="685800" cy="1600200"/>
              </a:xfrm>
              <a:prstGeom prst="line">
                <a:avLst/>
              </a:prstGeom>
              <a:ln w="3168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19920" y="2209680"/>
                <a:ext cx="685800" cy="1524240"/>
              </a:xfrm>
              <a:prstGeom prst="line">
                <a:avLst/>
              </a:prstGeom>
              <a:ln w="3168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562720" y="289548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480" y="1752480"/>
            <a:ext cx="0" cy="4038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4290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Conc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E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142-3C96-4566-90FC-C389F54CCFA8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33920" y="1066680"/>
            <a:ext cx="2819160" cy="1017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heSans Light"/>
              </a:rPr>
              <a:t>Autorité organis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heSans Light"/>
              </a:rPr>
              <a:t>NANTES METROP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heSans Light"/>
              </a:rPr>
              <a:t>DIRECTION DE L’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886200"/>
            <a:ext cx="1295640" cy="1493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heSans Light"/>
              </a:rPr>
              <a:t>SAUR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heSans Light"/>
              </a:rPr>
              <a:t>COMPETENCE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362320"/>
            <a:ext cx="1523880" cy="1218960"/>
          </a:xfrm>
          <a:prstGeom prst="ellipse">
            <a:avLst/>
          </a:prstGeom>
          <a:solidFill>
            <a:srgbClr val="33cccc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3 OPERATEU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828800"/>
            <a:ext cx="0" cy="4038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886200"/>
            <a:ext cx="1143000" cy="1493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VEOLIA 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886200"/>
            <a:ext cx="1676520" cy="13820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REGIE COMMUNAU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4952880"/>
            <a:ext cx="1600200" cy="12193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OPERATEUR 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952880"/>
            <a:ext cx="1523880" cy="1219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66ff66"/>
              </a:gs>
            </a:gsLst>
            <a:lin ang="5400000"/>
          </a:gradFill>
          <a:ln w="316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OPERATEUR P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447920"/>
            <a:ext cx="1828800" cy="12952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heSans Light"/>
              </a:rPr>
              <a:t>150 000 abonn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heSans Light"/>
              </a:rPr>
              <a:t>3 oo0 km de rése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1337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2971800"/>
            <a:ext cx="190512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429000"/>
            <a:ext cx="53316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2971800"/>
            <a:ext cx="198144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4952880"/>
            <a:ext cx="1523880" cy="1219320"/>
          </a:xfrm>
          <a:prstGeom prst="ellipse">
            <a:avLst/>
          </a:prstGeom>
          <a:gradFill rotWithShape="0">
            <a:gsLst>
              <a:gs pos="0">
                <a:srgbClr val="66ff66"/>
              </a:gs>
              <a:gs pos="100000">
                <a:srgbClr val="33ccff"/>
              </a:gs>
            </a:gsLst>
            <a:lin ang="5400000"/>
          </a:gra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heSans Light"/>
              </a:rPr>
              <a:t>OPERATEUR P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logonm" descr=""/>
          <p:cNvPicPr/>
          <p:nvPr/>
        </p:nvPicPr>
        <p:blipFill>
          <a:blip r:embed="rId1"/>
          <a:stretch/>
        </p:blipFill>
        <p:spPr>
          <a:xfrm>
            <a:off x="1676520" y="44197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80028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467480" y="4419720"/>
            <a:ext cx="838440" cy="25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8FE-0F5E-4A8A-B21F-D88064E0CD0C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4288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228600"/>
            <a:ext cx="4419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eSans Bold"/>
              </a:rPr>
              <a:t>REPARTITION DES OPERA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eSans Bold"/>
              </a:rPr>
              <a:t>SUR LE TERRITOIRE DE NANTES METRO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CARTE%20cun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1CD-2EF2-48CE-BCE5-D2628754BB21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52120" y="21333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Organise et définit les missions de service public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Met en œuvre les moyens spécifiques et définit la politique tarifair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Détermine les conditions d’exercice du service public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Est propriétaire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Contrôle l’exécution des missions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457200"/>
            <a:ext cx="4419360" cy="1752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838080"/>
            <a:ext cx="4190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heSans Bold"/>
              </a:rPr>
              <a:t>LES MISSION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heSans Bold"/>
              </a:rPr>
              <a:t>L’AUTORITE ORGANIS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BD05060_" descr=""/>
          <p:cNvPicPr/>
          <p:nvPr/>
        </p:nvPicPr>
        <p:blipFill>
          <a:blip r:embed="rId6"/>
          <a:stretch/>
        </p:blipFill>
        <p:spPr>
          <a:xfrm>
            <a:off x="152280" y="1752480"/>
            <a:ext cx="1616040" cy="34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D9B-4CB0-4905-B399-2912C834E20D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09320" y="30481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Entretient les biens mis à disposition</a:t>
            </a: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par la collectivité</a:t>
            </a: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heSans Light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33520"/>
            <a:ext cx="4114800" cy="1676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14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heSans Bold"/>
              </a:rPr>
              <a:t>LES MISSIONS DE L’OPERATEUR DE RES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752480"/>
            <a:ext cx="4724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heSans Light"/>
              </a:rPr>
              <a:t>Produit un service à l’u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9568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heSans Light"/>
              </a:rPr>
              <a:t>Rend compte à l’autorité organis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heSans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E01874_" descr=""/>
          <p:cNvPicPr/>
          <p:nvPr/>
        </p:nvPicPr>
        <p:blipFill>
          <a:blip r:embed="rId5"/>
          <a:stretch/>
        </p:blipFill>
        <p:spPr>
          <a:xfrm>
            <a:off x="6858000" y="3505320"/>
            <a:ext cx="1828800" cy="1441440"/>
          </a:xfrm>
          <a:prstGeom prst="rect">
            <a:avLst/>
          </a:prstGeom>
          <a:ln w="0">
            <a:noFill/>
          </a:ln>
        </p:spPr>
      </p:pic>
      <p:pic>
        <p:nvPicPr>
          <p:cNvPr id="165" name="pic_pomme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171440" cy="2301840"/>
          </a:xfrm>
          <a:prstGeom prst="rect">
            <a:avLst/>
          </a:prstGeom>
          <a:ln w="0">
            <a:noFill/>
          </a:ln>
        </p:spPr>
      </p:pic>
      <p:pic>
        <p:nvPicPr>
          <p:cNvPr id="166" name="BD07160_" descr=""/>
          <p:cNvPicPr/>
          <p:nvPr/>
        </p:nvPicPr>
        <p:blipFill>
          <a:blip r:embed="rId7"/>
          <a:stretch/>
        </p:blipFill>
        <p:spPr>
          <a:xfrm>
            <a:off x="2819520" y="4876920"/>
            <a:ext cx="1833480" cy="17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AC0-5B61-4A45-8D03-0A64E3C60EA2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OBJECTIFS A ATTEINDRE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Garantir la qualité de l’eau potable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Assurer la continuité et la sécurité du service public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Garantir un service d’eau durable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Garantir l’efficacité du service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Assurer une prestation qui réponde à l’intérêt général et à l’usager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  <a:p>
            <a:pPr marL="298440" indent="-298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heSans Light"/>
              </a:rPr>
              <a:t>Assurer la maîtrise tarifaire</a:t>
            </a:r>
            <a:endParaRPr b="1" lang="en-US" sz="2200" spc="-1" strike="noStrike">
              <a:solidFill>
                <a:srgbClr val="000099"/>
              </a:solidFill>
              <a:latin typeface="TheSans Ligh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6477120" y="4952880"/>
            <a:ext cx="1904760" cy="160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152280" y="1905120"/>
            <a:ext cx="2189160" cy="30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7391520" y="2514600"/>
            <a:ext cx="1212840" cy="15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205-AB70-4E9D-94A6-658612804E68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heSans Bold"/>
              </a:rPr>
              <a:t>Des outils pour mesurer la performance</a:t>
            </a:r>
            <a:endParaRPr b="0" lang="en-US" sz="2400" spc="-1" strike="noStrike" u="sng">
              <a:solidFill>
                <a:srgbClr val="000099"/>
              </a:solidFill>
              <a:uFillTx/>
              <a:latin typeface="TheSans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Les normes ISO 9000 (2001) et OHSAS 18001 et leurs indicateur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-33948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Le référentiel AFNOR (Association Française de Normalisation) P 15-900 et ses indicateurs clientèle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-33948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FNCCR (Fédération Nationale des Collectivités Concédantes et Régies)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  <a:p>
            <a:pPr marL="339480" indent="-33948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heSans Light"/>
              </a:rPr>
              <a:t>Les chartes de services publics de l’eau et leurs indicateurs</a:t>
            </a:r>
            <a:endParaRPr b="1" lang="en-US" sz="2000" spc="-1" strike="noStrike">
              <a:solidFill>
                <a:srgbClr val="000099"/>
              </a:solidFill>
              <a:latin typeface="TheSans Ligh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04920" y="2590920"/>
            <a:ext cx="1447560" cy="19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A2C-90C9-49BA-B5D9-1B822413E916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4:09:15Z</dcterms:created>
  <dc:creator>AARPO002</dc:creator>
  <dc:description/>
  <dc:language>en-US</dc:language>
  <cp:lastModifiedBy>AAEAU203</cp:lastModifiedBy>
  <dcterms:modified xsi:type="dcterms:W3CDTF">2006-03-10T10:58:24Z</dcterms:modified>
  <cp:revision>86</cp:revision>
  <dc:subject/>
  <dc:title>Présentation PowerPoint</dc:title>
</cp:coreProperties>
</file>