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C022-9A2C-4AD6-8D79-472909767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BA9A-9518-4C1B-855A-031F6E4F1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6680-B1DC-4459-9F5D-BD9D87E55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18BA-CFE5-4D78-9F31-9A31F846B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2EBBC-7AE0-41A3-B2DD-48F3FAB13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F87AE-2746-4F9A-AA56-D19D55366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9DEF5-0F61-4AFA-B229-5F5906088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B5B99-E739-46FF-9550-061681D09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AE636-471B-4E9B-97EE-7391EE052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404AB-9A61-4A15-BCD0-1F26FFD91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12610-BD54-4FF9-8C0E-C3A6F504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916E-85CC-47AE-9DA5-80B778179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86BAA-2EF1-440F-A7B8-DFC613CC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DC0E6-38A0-4B5A-8A59-F031A77A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BD93C-851C-462A-B3AE-6A5776DA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AC92E-C472-4F95-A4EA-7AA409B4D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01F53-4E2C-4D75-9068-BF20B6F04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5EDD-2F2B-494B-AD54-9622BF735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0526-CED9-4D3C-BF18-073D4465B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E62A-F9BB-4C84-AB2F-777791FCF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682E-8260-40B3-AE89-A57821B1F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E9A4-2C0C-4C8E-BA67-39353F97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6FC5-1926-482C-99B0-F2A6DA6C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53E8-3D88-4EAE-87C3-C1646C75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1D51F-4790-4C8B-AC01-D77893A8ED3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71F00-0CCB-4812-9C01-DB47EC4FA9E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3600" spc="-1" strike="noStrike">
                <a:solidFill>
                  <a:srgbClr val="333399"/>
                </a:solidFill>
                <a:latin typeface="Georgia"/>
              </a:rPr>
              <a:t>World Water Forum IV</a:t>
            </a:r>
            <a:br>
              <a:rPr sz="32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37720" y="15998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Civil Society Engageme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i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Kathmandu Water Supply R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Nepal Experien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NGO Forum for Urban Water and Sani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19</a:t>
            </a:r>
            <a:r>
              <a:rPr b="1" lang="en-US" sz="2400" spc="-1" strike="noStrike" baseline="30000">
                <a:solidFill>
                  <a:srgbClr val="000000"/>
                </a:solidFill>
                <a:latin typeface="Georgia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March 200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ter Stres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974960" y="2017800"/>
            <a:ext cx="6261120" cy="40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Georgia"/>
              </a:rPr>
              <a:t>Kathmandu Water Refor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 Institutional R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611280" y="2743200"/>
            <a:ext cx="8532360" cy="4114440"/>
            <a:chOff x="611280" y="2743200"/>
            <a:chExt cx="8532360" cy="4114440"/>
          </a:xfrm>
        </p:grpSpPr>
        <p:grpSp>
          <p:nvGrpSpPr>
            <p:cNvPr id="106" name=""/>
            <p:cNvGrpSpPr/>
            <p:nvPr/>
          </p:nvGrpSpPr>
          <p:grpSpPr>
            <a:xfrm>
              <a:off x="883440" y="2864160"/>
              <a:ext cx="8004600" cy="3737520"/>
              <a:chOff x="883440" y="2864160"/>
              <a:chExt cx="8004600" cy="3737520"/>
            </a:xfrm>
          </p:grpSpPr>
          <p:sp>
            <p:nvSpPr>
              <p:cNvPr id="107" name=""/>
              <p:cNvSpPr/>
              <p:nvPr/>
            </p:nvSpPr>
            <p:spPr>
              <a:xfrm>
                <a:off x="883440" y="2864160"/>
                <a:ext cx="3954240" cy="6426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Kathmandu Valle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Water Supply  Management Boar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945760" y="3940560"/>
                <a:ext cx="2942280" cy="1088640"/>
              </a:xfrm>
              <a:prstGeom prst="ellipse">
                <a:avLst/>
              </a:prstGeom>
              <a:solidFill>
                <a:srgbClr val="33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Regulatory commiss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949680" y="5346720"/>
                <a:ext cx="3921120" cy="9169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Water Utility Compan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054080" y="5951880"/>
                <a:ext cx="3714480" cy="6498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Management Contracto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813400" y="3894840"/>
                <a:ext cx="0" cy="133128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911680" y="4500000"/>
                <a:ext cx="3039840" cy="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611280" y="2743200"/>
              <a:ext cx="8532360" cy="41144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Georgia"/>
              </a:rPr>
              <a:t>2.  Melamchi Water Supply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431800"/>
            <a:ext cx="77724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elamchi Diversion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ater treatment pla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ulk distribut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istribution network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astewater syste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mprov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715000" y="428616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Georgia"/>
              </a:rPr>
              <a:t>Context for Civil Society Engagement in the Reform Proces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570040"/>
            <a:ext cx="77724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A policy analysis g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Gap between the governme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and the  civil socie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No mechanism fo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ommunities to make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ir voice hea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943600" y="4206960"/>
            <a:ext cx="320040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Georgia"/>
              </a:rPr>
              <a:t>Impact made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nsured availability of minimum water at an affordable pr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duction in connection charge and inclusion of provisions for payment on an installmen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stitutionalisation of the arrangement for community standpi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stablishment of Low Income Customers Support Un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clusion of an achievement indicator for ‘increasing coverage to unserved poor’ as an incentive for management contrac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Georgia"/>
              </a:rPr>
              <a:t>Long Term Commit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ontinue to engage in the debate and document the process to try to ensure that the reform process meets the needs of the poor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819520" y="3657600"/>
            <a:ext cx="39621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Georgia"/>
              </a:rPr>
              <a:t>Outcom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30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ink with govt., donors and the civil society organis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apping / data base created to help support the policy refor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aunch of ‘Call to Action’ to take immediate measur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epresentation at KV Water Supply Management Board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rmation of National Steering Committee for Rain Water Harvesting Campa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eview of implementation of ADB Water Policy in ADB supported other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Georgia"/>
              </a:rPr>
              <a:t>Lessons Lear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vidence based mapping / documentation is crucial to influence policy decis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pacity building of the civil society organisations is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uilding positive relationship with the actors involved in the process help ease the wor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Keep the ball rolling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324480" y="4800600"/>
            <a:ext cx="28195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umanti</cp:lastModifiedBy>
  <dcterms:modified xsi:type="dcterms:W3CDTF">2006-03-17T12:29:21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