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752-849F-4B4A-817D-B32278B8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58B-21B9-4620-92E9-44262731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775-C7FB-4C93-A13F-4BA4E34D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872-9309-4E72-B352-4E40139B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030-897D-43EF-8A8C-3946D447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CB2-9861-4D06-BC67-46BECAB3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0DE-04AA-4EE9-8E8A-3A666A25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80A-5E95-45EF-9DC1-19A6B02E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CE2-D28E-4161-B626-9A11CDD3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4DD-98DD-4845-A9E5-F61519C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E25-BB60-45BF-90B5-D4C1970B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A2F-0780-4391-A916-DCC64530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3339-61A0-4136-89A9-2A5DD5560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lidarity and decentralisation forms of North-South and South-South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3573000"/>
            <a:ext cx="793116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Local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Creating sustainable links between North &amp; South finance, to access to water &amp; sanitation for all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3756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Taking Action in Africa &amp;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3887640" cy="247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887640" cy="253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3660840" cy="521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4000" y="47628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Sustaining access through solidarity?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complementary; can challenge orthodoxy; and champion the unserved, poor and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ignificant fund and profile base in UK, Australia and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o national and local government in developing community-focused policies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o improving service providers in their ability to suppl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o communities to articulate their right to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516720" y="6013440"/>
            <a:ext cx="24512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04360" cy="698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476280"/>
            <a:ext cx="8496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Raising £25 million in 2005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781360"/>
            <a:ext cx="3672000" cy="3456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4076640"/>
            <a:ext cx="259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£10.7m 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s generated from water industry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2565360"/>
            <a:ext cx="2376360" cy="2305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306864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£2.8m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industry employees and organis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789360"/>
            <a:ext cx="2376720" cy="230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508640"/>
            <a:ext cx="194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£3.5m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usts and compan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2133720"/>
            <a:ext cx="1800000" cy="1728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2492280"/>
            <a:ext cx="165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£1.3m 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t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1052640"/>
            <a:ext cx="2808360" cy="27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155736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£6.7m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vernment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476280"/>
            <a:ext cx="8496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Raising the profile of water &amp;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2781360"/>
            <a:ext cx="3672000" cy="3456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3860640"/>
            <a:ext cx="259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rculation of 150,000 copies of  WaterAid’s  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mpaigning by suppo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565360"/>
            <a:ext cx="2376360" cy="2305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292428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tivities by employees of public and private water indus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789360"/>
            <a:ext cx="2376720" cy="2305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436572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ks to corporate social responsibil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2133720"/>
            <a:ext cx="1800000" cy="1728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249228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r features in Rotary 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1052640"/>
            <a:ext cx="2808360" cy="27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1557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e Partnership Agreement with DF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973240" cy="417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3098880" cy="439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435640" y="1197000"/>
            <a:ext cx="3021120" cy="431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24000" y="476280"/>
            <a:ext cx="8496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Taking Action in the U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476280"/>
            <a:ext cx="8496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Working through country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4800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476280"/>
            <a:ext cx="8496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Delivering water and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00280"/>
            <a:ext cx="597672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red project work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 and advise local partners on their use of other organisations’ expenditure on water and sanitation work. At least 500,000 water and 500,000 sanitation beneficiaries annually by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3860640"/>
            <a:ext cx="583416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terAid-funded project work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ly funded local partner organisations to implement water, sanitation and hygiene education provision.  At least 1 million water and 1 million sanitation beneficiaries annually by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68360" y="1413000"/>
            <a:ext cx="6624720" cy="439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6360" y="2060640"/>
            <a:ext cx="1944720" cy="1727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076640"/>
            <a:ext cx="1368360" cy="1150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4292640"/>
            <a:ext cx="1224000" cy="1152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429264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4149720"/>
            <a:ext cx="1368720" cy="1150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3645000"/>
            <a:ext cx="1368360" cy="1150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1480" y="270828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45705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844640"/>
            <a:ext cx="1368720" cy="1150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1773360"/>
            <a:ext cx="1368360" cy="1150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2276640"/>
            <a:ext cx="1368360" cy="1150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2276640"/>
            <a:ext cx="1368360" cy="1150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263700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84360" y="2997360"/>
            <a:ext cx="1008360" cy="57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3068640"/>
            <a:ext cx="151272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88000" y="4149720"/>
            <a:ext cx="79200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300720" y="4149360"/>
            <a:ext cx="93528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07040" y="3645000"/>
            <a:ext cx="28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ater and sanitation for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orting supply and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6021360"/>
            <a:ext cx="6696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6021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district-wide programme and policy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763640" y="1628640"/>
            <a:ext cx="0" cy="432144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4365720"/>
            <a:ext cx="12236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628640"/>
            <a:ext cx="12236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997360"/>
            <a:ext cx="122364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1296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 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141720"/>
            <a:ext cx="122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4508640"/>
            <a:ext cx="136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eds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Supporting district-wide programme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5797440"/>
            <a:ext cx="2451240" cy="70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476280"/>
            <a:ext cx="8496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"/>
              </a:rPr>
              <a:t>Influencing servic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700280"/>
            <a:ext cx="597672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ing up partnerships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rking in long-term partnerships to help improve the capacity of major donors or government agencies to deliver more sustainable and equitable water and sanitation service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3860640"/>
            <a:ext cx="583416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advocacy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luencing and changing donor and government policies, particularly of those countries in which WaterAid has long term programmes, to favour pro-poor, sustainable and cost effective water and sanitation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6:31:43Z</dcterms:created>
  <dc:creator>WaterAid</dc:creator>
  <dc:description/>
  <dc:language>en-US</dc:language>
  <cp:lastModifiedBy>WaterAid</cp:lastModifiedBy>
  <dcterms:modified xsi:type="dcterms:W3CDTF">2006-03-09T11:48:34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6201160</vt:r8>
  </property>
  <property fmtid="{D5CDD505-2E9C-101B-9397-08002B2CF9AE}" pid="3" name="_AuthorEmail">
    <vt:lpwstr>StephenTurner@wateraid.org</vt:lpwstr>
  </property>
  <property fmtid="{D5CDD505-2E9C-101B-9397-08002B2CF9AE}" pid="4" name="_AuthorEmailDisplayName">
    <vt:lpwstr>Stephen Turner</vt:lpwstr>
  </property>
  <property fmtid="{D5CDD505-2E9C-101B-9397-08002B2CF9AE}" pid="5" name="_EmailSubject">
    <vt:lpwstr>WaterAid presentation for Mexico</vt:lpwstr>
  </property>
</Properties>
</file>