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0E4-8667-41E4-AC41-3B190753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A11-E304-4836-A57A-48CF864C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0CE-9346-4166-9296-763FE7CB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615-B492-4481-8C5A-8B1156C3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67A-AACD-4FC5-826C-FEAB0088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061-BD06-4919-B509-14D75399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DEC-CBAE-4D97-974B-28F84718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3CC-AD57-4FCD-90D0-7B6DCBAD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52F-D977-4BD3-94E7-70C4DAEA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E5A-BF0C-4B9E-A90F-FF735989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B7D-9744-49D2-97EE-349D17A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B9C-1CE1-4158-A911-E1CFB32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1BBD-4409-45F0-B1FB-22CB832DD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6983280" cy="90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iver Orge valley’s Syndicate (SIVOA)</a:t>
            </a:r>
            <a:br>
              <a:rPr sz="2800"/>
            </a:b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dicato de la valle del río Orge (SIVO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5445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mechanism of solidarity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mecanismo de financiación solid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90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740720" y="6485040"/>
            <a:ext cx="844560" cy="3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663040" y="6346800"/>
            <a:ext cx="4809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6981840" cy="90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istory of an involvement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storia de un 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VOA : local authority of 32 municipalities created in 1955                                                                   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der local de 32 municipios creado en 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7 : mobilisation of 0.15 cent€ per wastewater m3 invoiced to users (0,2% of the budget)         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bilización de 0.15 cent€ por m3 de agua residual facturado a los usuarios (0,2% del presupue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001 : Cooperation commision, engineer commitement, yearly assessment mission  (0,4% of the budget)                                                            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sión Cooperación, implicación del ingeniero, mision añual de evaluación (0,4% del presupue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mits : no communication, lack of links between north and south local representatives                                          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 comunicacion, falta de vinculos entre elegidos locales del sur y del 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90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906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740720" y="6485040"/>
            <a:ext cx="844560" cy="31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8663040" y="6346800"/>
            <a:ext cx="4809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056360" cy="90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ecificities of the present funding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icularidades del financiacion de h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verage effect (Ministry of foreign affairs),                                                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cceso a otros modos de financiación (Ministerio de asuntos ext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eation of a debate about development concerns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                Creación de un debate a proposito de la preocupacion respeto al desaroll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volvement of other local authorities (municipalities, local authorities in charge of water supply, general councils)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           Implicación de otros poderes locales (municipios, sindicato de abastecimiento de agua potable, consejos gener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90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906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0720" y="6485040"/>
            <a:ext cx="844560" cy="318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8663040" y="6346800"/>
            <a:ext cx="4809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053120" cy="90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sent perspectiv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erspectivas pres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ess legalization by the application of the Oudin-Santini Law (increase of the possible budget up to 1%)                                                                          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egalización del proceso por la aplicación de la ley Oudin-Santini (aumento del presupuesto posible hasta 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nked process of decentralisation either in the North or in the South that binds local representatives and strengthend their political responsibility                                                 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roceso conyuge de decentralisación que acerca los elegidos locales y afirma sus responsabilidades poli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ormation-mobilisation of the North’s citizens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a sustainable management of water resources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               Informacion-mobilizacion de los ciudadanos del norte para una gestión sostenible de los recursos hyd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inforcement of the subsidiarity and additionnality principle,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Refuerzo del principe de subsidiarite y sum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90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90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740720" y="6485040"/>
            <a:ext cx="844560" cy="31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663040" y="6346800"/>
            <a:ext cx="4809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59120" y="4652640"/>
            <a:ext cx="4484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0"/>
            <a:ext cx="6983280" cy="90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iver Orge valley’s Syndicate (SIVOA)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ndicato de la valle del río Orge (SIVO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90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907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740720" y="6485040"/>
            <a:ext cx="844560" cy="318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8663040" y="6346800"/>
            <a:ext cx="4809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8:06:45Z</dcterms:created>
  <dc:creator>SIVOA SIVOA</dc:creator>
  <dc:description/>
  <dc:language>en-US</dc:language>
  <cp:lastModifiedBy>Administrator</cp:lastModifiedBy>
  <dcterms:modified xsi:type="dcterms:W3CDTF">2006-03-19T18:37:43Z</dcterms:modified>
  <cp:revision>22</cp:revision>
  <dc:subject/>
  <dc:title>River Orge valley’s Syndicate Sindicato de la vale del rio Orge</dc:title>
</cp:coreProperties>
</file>