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gif" ContentType="image/gif"/>
  <Override PartName="/ppt/media/image22.wmf" ContentType="image/x-wmf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0063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08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882960" y="-360"/>
            <a:ext cx="29685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00944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4c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2600" y="4592160"/>
            <a:ext cx="50259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0" y="9183240"/>
            <a:ext cx="2968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882960" y="9183240"/>
            <a:ext cx="29685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6AB-3286-400A-B2BC-03C55A9527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19160" y="73188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2600" y="4592160"/>
            <a:ext cx="5025960" cy="43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s un 1er temps, des compteurs en pied d’immeubles ont été install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ans le quartier A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 y a relevé des consommations au-delà de 1000 lpc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 enquêtes dans les immeubles ont montré que les fuites provenaient de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omberie inter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re temps, la réglementation arménienne a rendu possible la facturation a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teur. Il fallait d ’abord faire diminuer les consommations sous un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uil pour que les gens puissent payer l ’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39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1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39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1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685800"/>
            <a:ext cx="5791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639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7120" y="1447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639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7120" y="37162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37920" y="685800"/>
            <a:ext cx="57913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9400" y="37162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9400" y="1447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7162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4475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70040" indent="-285840">
              <a:spcBef>
                <a:spcPts val="451"/>
              </a:spcBef>
              <a:buClr>
                <a:srgbClr val="ff7f00"/>
              </a:buClr>
              <a:buFont typeface="Arial bol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9480" indent="-189000">
              <a:spcBef>
                <a:spcPts val="451"/>
              </a:spcBef>
              <a:buClr>
                <a:srgbClr val="386cb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60812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014c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97480" y="56577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5f4f7"/>
                </a:solidFill>
                <a:latin typeface="Arial"/>
              </a:rPr>
              <a:t>22 décembr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1722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cc99"/>
                </a:solidFill>
                <a:latin typeface="Arial"/>
              </a:rPr>
              <a:t>C.Després, L. Provencher, G. Chakmishian, March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22860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5715000"/>
            <a:ext cx="990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19320" y="6019920"/>
            <a:ext cx="647676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8763120" cy="9144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72320" y="685800"/>
            <a:ext cx="52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Supply Management in Gyumri, Arm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463320" cy="4557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914400" y="6172200"/>
            <a:ext cx="10666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14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5638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7FC5-0BD1-4606-925E-6FB66B982746}" type="slidenum">
              <a:rPr b="1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860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178760" y="380880"/>
            <a:ext cx="1507680" cy="509760"/>
            <a:chOff x="7178760" y="380880"/>
            <a:chExt cx="1507680" cy="509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0" t="0" r="32911" b="0"/>
            <a:stretch/>
          </p:blipFill>
          <p:spPr>
            <a:xfrm>
              <a:off x="8199720" y="380880"/>
              <a:ext cx="48672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rcRect l="0" t="0" r="0" b="2976"/>
            <a:stretch/>
          </p:blipFill>
          <p:spPr>
            <a:xfrm>
              <a:off x="7178760" y="434520"/>
              <a:ext cx="1014480" cy="41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f00"/>
                </a:solidFill>
                <a:latin typeface="Arial bold"/>
              </a:rPr>
              <a:t>Second Outline Level</a:t>
            </a: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2" marL="914400" indent="46080" algn="ctr">
              <a:spcBef>
                <a:spcPts val="349"/>
              </a:spcBef>
              <a:buClr>
                <a:srgbClr val="386cb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792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562720" y="4876920"/>
            <a:ext cx="304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ff9100"/>
                </a:solidFill>
                <a:latin typeface="Arial"/>
              </a:rPr>
              <a:t>Date :</a:t>
            </a:r>
            <a:r>
              <a:rPr b="1" sz="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9195"/>
                </a:solidFill>
                <a:latin typeface="Arial"/>
              </a:rPr>
              <a:t>19 March</a:t>
            </a:r>
            <a:r>
              <a:rPr b="1" sz="800" spc="-1" strike="noStrike">
                <a:solidFill>
                  <a:srgbClr val="009195"/>
                </a:solidFill>
                <a:latin typeface="Arial"/>
              </a:rPr>
              <a:t> 2006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ff9100"/>
                </a:solidFill>
                <a:latin typeface="Arial"/>
              </a:rPr>
              <a:t>Thematic Session :</a:t>
            </a:r>
            <a:r>
              <a:rPr b="1" lang="en-GB" sz="800" spc="-1" strike="noStrike">
                <a:solidFill>
                  <a:srgbClr val="009195"/>
                </a:solidFill>
                <a:latin typeface="Arial"/>
              </a:rPr>
              <a:t>Solidarity and decentralized forms of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9195"/>
                </a:solidFill>
                <a:latin typeface="Arial"/>
              </a:rPr>
              <a:t>North/South and South/South funding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ff9100"/>
                </a:solidFill>
                <a:latin typeface="Arial"/>
              </a:rPr>
              <a:t>Convener :</a:t>
            </a:r>
            <a:r>
              <a:rPr b="1" sz="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sz="800" spc="-1" strike="noStrike">
                <a:solidFill>
                  <a:srgbClr val="009195"/>
                </a:solidFill>
                <a:latin typeface="Arial"/>
              </a:rPr>
              <a:t>pS-Eau</a:t>
            </a:r>
            <a:endParaRPr b="0" lang="en-US" sz="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892160"/>
            <a:ext cx="68580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humanitarian to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hristian DESPRES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PFA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Lisette PROVENCHE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qu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Gevork CHAKMISHIAN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, SPFA Arme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71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Supply Management in Gyumri, Arm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638680"/>
            <a:ext cx="2210040" cy="86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952560" cy="9446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3657600" y="5715000"/>
            <a:ext cx="2708280" cy="819000"/>
            <a:chOff x="3657600" y="5715000"/>
            <a:chExt cx="2708280" cy="819000"/>
          </a:xfrm>
        </p:grpSpPr>
        <p:pic>
          <p:nvPicPr>
            <p:cNvPr id="104" name="drapeau_francais" descr=""/>
            <p:cNvPicPr/>
            <p:nvPr/>
          </p:nvPicPr>
          <p:blipFill>
            <a:blip r:embed="rId3"/>
            <a:stretch/>
          </p:blipFill>
          <p:spPr>
            <a:xfrm>
              <a:off x="3657600" y="5715000"/>
              <a:ext cx="12715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Armenie" descr=""/>
            <p:cNvPicPr/>
            <p:nvPr/>
          </p:nvPicPr>
          <p:blipFill>
            <a:blip r:embed="rId4"/>
            <a:stretch/>
          </p:blipFill>
          <p:spPr>
            <a:xfrm>
              <a:off x="5333760" y="5786280"/>
              <a:ext cx="1032120" cy="69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523880" y="501804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05440" y="5754600"/>
            <a:ext cx="512640" cy="227160"/>
          </a:xfrm>
          <a:prstGeom prst="roundRect">
            <a:avLst>
              <a:gd name="adj" fmla="val 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7480" y="6095880"/>
            <a:ext cx="636840" cy="227160"/>
          </a:xfrm>
          <a:prstGeom prst="roundRect">
            <a:avLst>
              <a:gd name="adj" fmla="val 7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7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1523880"/>
            <a:ext cx="9144000" cy="76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Arial"/>
              </a:rPr>
              <a:t>Decrease in wat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9528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Arial Black"/>
              </a:rPr>
              <a:t>C &gt; 1000 l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00"/>
                </a:solidFill>
                <a:latin typeface="Arial Black"/>
              </a:rPr>
              <a:t>C &lt; 500 l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31240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 Black"/>
              </a:rPr>
              <a:t>C &lt; 200 l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960640" cy="1922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15912" r="0" b="6816"/>
          <a:stretch/>
        </p:blipFill>
        <p:spPr>
          <a:xfrm>
            <a:off x="533520" y="3657600"/>
            <a:ext cx="1893600" cy="2133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2209680"/>
            <a:ext cx="53341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of 10 000 water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&amp; installation costs t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harge for the low income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371600"/>
            <a:ext cx="7156440" cy="55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rom general meters to individual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4343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ining of surveyors to control the plu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vices in each a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lling based on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1371600"/>
            <a:ext cx="1981080" cy="55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057400"/>
            <a:ext cx="807732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day, Ani Neighbourhood (20,000 inhab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is supplied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4 h/d compared to 2 h/d previ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equir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,000 cu.m./d compared to 14,000 cu.m.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ation of advanced methods of managemen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yumri’s water supply compan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billing based on me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follow-up of unpaid 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leak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ehabilitation of chlorination systems : improve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905120"/>
            <a:ext cx="3505320" cy="3929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lean Water for Healthy Life” educational project organised between French and Armenian sch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eaflets to inform the population about their wat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16096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1371600"/>
            <a:ext cx="380988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1447920"/>
            <a:ext cx="36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pulation 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46784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sation with the meters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of service quality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the population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e of cost recovery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istic infrastructure programme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vironmentally friendly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s (NGOs and water utility) deeply involved</a:t>
            </a:r>
            <a:endParaRPr b="0" lang="en-US" sz="24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8108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itical success factor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stainable development becomes realit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71600"/>
            <a:ext cx="3259080" cy="47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1371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ur project is the result of synergy between :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charity NGO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professional NGO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 French Water Agency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rench Embassy in Armenia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rench Department of Equipment and Environment (technical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nd institutional support)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European Union (public funding enhanced by solidarity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inancing : leverage)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-218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rporate sponsorship triggered by the credibility of the project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  <a:p>
            <a:pPr marL="218880" indent="0">
              <a:spcBef>
                <a:spcPts val="524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371600"/>
            <a:ext cx="5715000" cy="47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371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ed value of solidarity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3917" t="23565" r="7162" b="19320"/>
          <a:stretch/>
        </p:blipFill>
        <p:spPr>
          <a:xfrm>
            <a:off x="3051000" y="1447920"/>
            <a:ext cx="4284720" cy="4343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drop of hope...</a:t>
            </a:r>
            <a:endParaRPr b="0" lang="en-US" sz="36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685800"/>
            <a:ext cx="5791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9014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9000"/>
          </a:blip>
          <a:stretch/>
        </p:blipFill>
        <p:spPr>
          <a:xfrm>
            <a:off x="1752480" y="2362320"/>
            <a:ext cx="2952720" cy="304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34120" y="2362320"/>
            <a:ext cx="1600200" cy="15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20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014c"/>
                </a:solidFill>
                <a:latin typeface="Arial"/>
              </a:rPr>
              <a:t>Armenia</a:t>
            </a:r>
            <a:br>
              <a:rPr sz="3200"/>
            </a:br>
            <a:r>
              <a:rPr b="0" lang="en-GB" sz="3200" spc="-1" strike="noStrike">
                <a:solidFill>
                  <a:srgbClr val="89014c"/>
                </a:solidFill>
                <a:latin typeface="Arial"/>
              </a:rPr>
              <a:t>in the </a:t>
            </a:r>
            <a:br>
              <a:rPr sz="3200"/>
            </a:br>
            <a:r>
              <a:rPr b="0" lang="en-GB" sz="3200" spc="-1" strike="noStrike">
                <a:solidFill>
                  <a:srgbClr val="89014c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0720" y="4295880"/>
            <a:ext cx="3251160" cy="1343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5 000 k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million inhabi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DP/inh &lt; 1000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38280" y="2895480"/>
            <a:ext cx="2742480" cy="533520"/>
            <a:chOff x="2438280" y="2895480"/>
            <a:chExt cx="2742480" cy="533520"/>
          </a:xfrm>
        </p:grpSpPr>
        <p:sp>
          <p:nvSpPr>
            <p:cNvPr id="112" name=""/>
            <p:cNvSpPr/>
            <p:nvPr/>
          </p:nvSpPr>
          <p:spPr>
            <a:xfrm>
              <a:off x="2438280" y="3191760"/>
              <a:ext cx="486360" cy="237240"/>
            </a:xfrm>
            <a:prstGeom prst="ellipse">
              <a:avLst/>
            </a:prstGeom>
            <a:noFill/>
            <a:ln w="36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08800" y="2895480"/>
              <a:ext cx="2271960" cy="378000"/>
            </a:xfrm>
            <a:prstGeom prst="line">
              <a:avLst/>
            </a:prstGeom>
            <a:ln w="720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7927" t="20075" r="8192" b="3329"/>
          <a:stretch/>
        </p:blipFill>
        <p:spPr>
          <a:xfrm>
            <a:off x="1676520" y="1828800"/>
            <a:ext cx="5045040" cy="4122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9880" y="1981080"/>
            <a:ext cx="204948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GEO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267080"/>
            <a:ext cx="21337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AZERBAIDJ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90920" y="1371600"/>
            <a:ext cx="3200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207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menia in the Caucasus</a:t>
            </a:r>
            <a:endParaRPr b="0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581280"/>
            <a:ext cx="2133720" cy="2210040"/>
          </a:xfrm>
          <a:prstGeom prst="ellipse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4267080"/>
            <a:ext cx="20145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562720"/>
            <a:ext cx="19047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Times New Roman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4332240" cy="39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/>
          <p:nvPr/>
        </p:nvSpPr>
        <p:spPr>
          <a:xfrm>
            <a:off x="1447920" y="1371600"/>
            <a:ext cx="586728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33"/>
                </a:solidFill>
                <a:latin typeface="Arial Black"/>
              </a:rPr>
              <a:t>1988, Earthquak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29280" y="2276640"/>
            <a:ext cx="4014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3000" indent="-3330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 000 ki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0 000 hom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3000" indent="-33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 million m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destructed 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800600"/>
            <a:ext cx="39625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tal destruction of infra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2666880" cy="1432080"/>
          </a:xfrm>
          <a:prstGeom prst="irregularSeal1">
            <a:avLst/>
          </a:prstGeom>
          <a:gradFill rotWithShape="0">
            <a:gsLst>
              <a:gs pos="0">
                <a:srgbClr val="ff9900">
                  <a:alpha val="0"/>
                </a:srgbClr>
              </a:gs>
              <a:gs pos="100000">
                <a:srgbClr val="feeed7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752480"/>
            <a:ext cx="5162760" cy="38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6800" y="2311560"/>
            <a:ext cx="3732120" cy="2690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4114800"/>
            <a:ext cx="22860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mergency he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dic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elief to disadvant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upport to 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44960" y="3786120"/>
            <a:ext cx="6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44960" y="3979800"/>
            <a:ext cx="6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480" y="4538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00640" y="3646440"/>
            <a:ext cx="124776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676520"/>
            <a:ext cx="4572000" cy="387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7840" y="1676520"/>
            <a:ext cx="423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PFA started its humanitarian 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10080" y="2895480"/>
            <a:ext cx="19908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89280" y="1592280"/>
            <a:ext cx="5162400" cy="38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1600200"/>
            <a:ext cx="3259080" cy="473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1880" y="1676520"/>
            <a:ext cx="2448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Times New Roman"/>
              </a:rPr>
              <a:t>Water and Heal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1000" y="2270160"/>
            <a:ext cx="3592800" cy="2247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62320" y="4495680"/>
            <a:ext cx="57150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635200"/>
            <a:ext cx="1687680" cy="155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79280" y="30481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5440" y="3429000"/>
            <a:ext cx="148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572000"/>
            <a:ext cx="5486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reation of a water ultrafiltration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Gyumri’s hospital (1998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sp>
        <p:nvSpPr>
          <p:cNvPr id="152" name=""/>
          <p:cNvSpPr/>
          <p:nvPr/>
        </p:nvSpPr>
        <p:spPr>
          <a:xfrm>
            <a:off x="2297160" y="1727280"/>
            <a:ext cx="4572000" cy="34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5440" y="2222640"/>
            <a:ext cx="2674800" cy="356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64240" y="2432160"/>
            <a:ext cx="2379600" cy="3359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438280" y="1523880"/>
            <a:ext cx="4105440" cy="505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97880" y="1600200"/>
            <a:ext cx="263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te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349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cc99"/>
              </a:solidFill>
              <a:latin typeface="Arial"/>
            </a:endParaRPr>
          </a:p>
          <a:p>
            <a:pPr marL="291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cc99"/>
              </a:solidFill>
              <a:latin typeface="Arial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2363760"/>
            <a:ext cx="4572000" cy="311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45434" t="48403" r="12195" b="7024"/>
          <a:stretch/>
        </p:blipFill>
        <p:spPr>
          <a:xfrm>
            <a:off x="5334120" y="1676520"/>
            <a:ext cx="2844720" cy="4190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6760" y="1665360"/>
            <a:ext cx="37209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ater avail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6880" y="5486400"/>
            <a:ext cx="4022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 and cold water 24h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8901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592280"/>
            <a:ext cx="693396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  <a:p>
            <a:pPr lvl="1" marL="647640" indent="0">
              <a:spcBef>
                <a:spcPts val="400"/>
              </a:spcBef>
              <a:buNone/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7f00"/>
              </a:solidFill>
              <a:latin typeface="Arial bol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2151000" cy="3352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203040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14400" y="1295280"/>
            <a:ext cx="7156440" cy="554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wards sustainabl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257800"/>
            <a:ext cx="2895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257800"/>
            <a:ext cx="304776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k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36:06Z</dcterms:created>
  <dc:creator>Florence Besnard</dc:creator>
  <dc:description/>
  <dc:language>en-US</dc:language>
  <cp:lastModifiedBy>DDE91</cp:lastModifiedBy>
  <dcterms:modified xsi:type="dcterms:W3CDTF">2006-03-16T06:58:12Z</dcterms:modified>
  <cp:revision>131</cp:revision>
  <dc:subject/>
  <dc:title>Présentation PowerPoint</dc:title>
</cp:coreProperties>
</file>