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1.wmf" ContentType="image/x-wmf"/>
  <Override PartName="/ppt/media/image19.jpeg" ContentType="image/jpeg"/>
  <Override PartName="/ppt/media/image1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B25-2A60-4031-B17C-E3EE3301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763-BF8C-44D7-8D2C-64085C04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527-BA96-463D-B2B0-5FADE96E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DDF6-D72F-4241-A24B-9F371DC9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5FF-3FC3-462F-8673-0CC6E3CC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B55-59A2-4D0C-9319-A81BDFB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B5E-AAA2-4E4D-9DB2-EBDBBD58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533-ED4E-41EE-9E43-39D74C8A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1DB-7026-40D4-97EF-D83F504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50A-B0C1-4F2B-8A21-CDD64EC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25F-4F05-4AC0-B2E4-B58ADCF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405-4691-4EC8-B237-78CF35B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CC08-DEB8-4A1F-9E2C-0FC9489E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64008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180000">
            <a:off x="2133720" y="609552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94560" y="60958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400800" y="59436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63244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038480" y="152280"/>
            <a:ext cx="221148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077320" y="586728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Cudl_c" descr=""/>
          <p:cNvPicPr/>
          <p:nvPr/>
        </p:nvPicPr>
        <p:blipFill>
          <a:blip r:embed="rId10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1143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ernhardMod BT"/>
                <a:ea typeface="Arial"/>
              </a:rPr>
              <a:t>Stratégies innovantes pour le financement de projets par les autorités locales :</a:t>
            </a:r>
            <a:r>
              <a:rPr b="0" lang="fr-FR" sz="1800" spc="-1" strike="noStrike">
                <a:solidFill>
                  <a:srgbClr val="000000"/>
                </a:solidFill>
                <a:latin typeface="BernhardMod BT"/>
                <a:ea typeface="Arial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BernhardMod BT"/>
                <a:ea typeface="Arial"/>
              </a:rPr>
              <a:t>Comment les mettre en place de façon éthique, transparente et responsab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79440" y="1847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286000"/>
            <a:ext cx="769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BernhardMod BT"/>
                <a:ea typeface="Arial"/>
              </a:rPr>
              <a:t>Programme de coopération décentr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BernhardMod BT"/>
                <a:ea typeface="Arial"/>
              </a:rPr>
              <a:t>avec deux collectivités libanais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BernhardMod BT"/>
                <a:ea typeface="Arial"/>
              </a:rPr>
              <a:t>Elaboration d ’un schéma directeur d ’assainissement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BernhardMod BT"/>
                <a:ea typeface="Arial"/>
              </a:rPr>
              <a:t>construction d ’infrastructures de collecte et traitement des eaux u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657600"/>
            <a:ext cx="784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BernhardMod BT"/>
                <a:ea typeface="Arial"/>
              </a:rPr>
              <a:t>Madame Danièle Defontaine</a:t>
            </a:r>
            <a:r>
              <a:rPr b="0" lang="fr-FR" sz="1600" spc="-1" strike="noStrike">
                <a:solidFill>
                  <a:srgbClr val="333399"/>
                </a:solidFill>
                <a:latin typeface="BernhardMod BT"/>
                <a:ea typeface="Arial"/>
              </a:rPr>
              <a:t> (Vice-Présidente de  Lille Métropole Communauté urba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BernhardMod BT"/>
                <a:ea typeface="Arial"/>
              </a:rPr>
              <a:t>Madame Nouha Ghosseiny</a:t>
            </a:r>
            <a:r>
              <a:rPr b="0" lang="fr-FR" sz="1600" spc="-1" strike="noStrike">
                <a:solidFill>
                  <a:srgbClr val="333399"/>
                </a:solidFill>
                <a:latin typeface="BernhardMod BT"/>
                <a:ea typeface="Arial"/>
              </a:rPr>
              <a:t> (Présidente Fédération des Municipalités du Chouf-Es-Souayja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BernhardMod BT"/>
                <a:ea typeface="Arial"/>
              </a:rPr>
              <a:t>Monsieur Georges Youssef Nammour</a:t>
            </a:r>
            <a:r>
              <a:rPr b="0" lang="fr-FR" sz="1600" spc="-1" strike="noStrike">
                <a:solidFill>
                  <a:srgbClr val="333399"/>
                </a:solidFill>
                <a:latin typeface="BernhardMod BT"/>
                <a:ea typeface="Arial"/>
              </a:rPr>
              <a:t> (Adjoint au maire de Bkass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518148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BernhardMod BT"/>
                <a:ea typeface="Arial"/>
              </a:rPr>
              <a:t>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BernhardMod BT"/>
                <a:ea typeface="Arial"/>
              </a:rPr>
              <a:t>March 18, 20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59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172200" y="914400"/>
            <a:ext cx="2808360" cy="449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4038480"/>
            <a:ext cx="449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BernhardMod BT"/>
              </a:rPr>
              <a:t>Lille Métropole Communauté Urbaine entretient des relations de coopération depuis 1999 avec le Liban, accompagnant ainsi le processus de retour à la démocratie au niveau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lan%20(2)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273672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295280" y="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Entre Lille Métropole et le Lib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une histoire d’amitié et des partenariats techniques depuis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66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33720" y="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152280"/>
            <a:ext cx="754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e programme de coopération décentralisé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 </a:t>
            </a: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a Fédération des Municipalités du Chouf-Es-Souayjani (FM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1447920"/>
            <a:ext cx="3094200" cy="3657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800600" y="144792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BernhardMod BT"/>
              </a:rPr>
              <a:t>Réalisation d ’un schéma directeur de collecte et traitement des eaux usées, dont plusieurs des préconisations sont aujourd ’hui reprises par l ’Etat et la FMCES (Travaux en c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60_6024" descr=""/>
          <p:cNvPicPr/>
          <p:nvPr/>
        </p:nvPicPr>
        <p:blipFill>
          <a:blip r:embed="rId5"/>
          <a:stretch/>
        </p:blipFill>
        <p:spPr>
          <a:xfrm>
            <a:off x="4495680" y="320040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0" t="13827" r="0" b="9203"/>
          <a:stretch/>
        </p:blipFill>
        <p:spPr>
          <a:xfrm>
            <a:off x="5867280" y="3200400"/>
            <a:ext cx="3124440" cy="19051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75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33720" y="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e programme de coopération décentralisée av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a Fédération des Municipalités du Chouf-Es-Souayjani (FM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1600200"/>
            <a:ext cx="5105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APPORTS DE LA COOPERATION AU NIVEAU LOC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- Création d’une Agence de Développement Muni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- Assistance technique de Lille Métropole : élaboration des documents d’appel d’offre et suivi des pre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- Missions d’élus et d’experts / 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1Z170059" descr=""/>
          <p:cNvPicPr/>
          <p:nvPr/>
        </p:nvPicPr>
        <p:blipFill>
          <a:blip r:embed="rId4"/>
          <a:stretch/>
        </p:blipFill>
        <p:spPr>
          <a:xfrm>
            <a:off x="129528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10" descr=""/>
          <p:cNvPicPr/>
          <p:nvPr/>
        </p:nvPicPr>
        <p:blipFill>
          <a:blip r:embed="rId5"/>
          <a:stretch/>
        </p:blipFill>
        <p:spPr>
          <a:xfrm>
            <a:off x="1295280" y="33526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83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33720" y="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28600"/>
            <a:ext cx="7010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e programme de coopération décentralisée av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a Fédération des Municipalités du Chouf-Es-Souayjani (FM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6705720" cy="727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205740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BernhardMod BT"/>
              </a:rPr>
              <a:t>Une coopération rendue possible par le soutien de l ’Etat Français, et la contribution partagée des deux partenai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e programme de coopération décentralisée av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a municipalité de Bkas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371600"/>
            <a:ext cx="5105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2004 : Signature d’une convention de coopération avec la Municipalité de Bkas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2004/2005 : Réalisation d’une étude d’assainissement concernant le quartier de Dhour à Bkas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BernhardMod BT"/>
              </a:rPr>
              <a:t>2006 : Réalisation des travaux d’assain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59_5991" descr=""/>
          <p:cNvPicPr/>
          <p:nvPr/>
        </p:nvPicPr>
        <p:blipFill>
          <a:blip r:embed="rId4"/>
          <a:stretch/>
        </p:blipFill>
        <p:spPr>
          <a:xfrm>
            <a:off x="1295280" y="13716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B10" descr=""/>
          <p:cNvPicPr/>
          <p:nvPr/>
        </p:nvPicPr>
        <p:blipFill>
          <a:blip r:embed="rId5"/>
          <a:stretch/>
        </p:blipFill>
        <p:spPr>
          <a:xfrm>
            <a:off x="1295280" y="32767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33720" y="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28600"/>
            <a:ext cx="7010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e programme de coopération décentralisée av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la Municipalité de Bkas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05740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BernhardMod BT"/>
              </a:rPr>
              <a:t>Des financements partagés et un soutien massif de l ’Etat Franç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68295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510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990720" cy="1057320"/>
          </a:xfrm>
          <a:prstGeom prst="rect">
            <a:avLst/>
          </a:prstGeom>
          <a:ln w="0">
            <a:noFill/>
          </a:ln>
        </p:spPr>
      </p:pic>
      <p:pic>
        <p:nvPicPr>
          <p:cNvPr id="105" name="Cudl_c" descr=""/>
          <p:cNvPicPr/>
          <p:nvPr/>
        </p:nvPicPr>
        <p:blipFill>
          <a:blip r:embed="rId3"/>
          <a:stretch/>
        </p:blipFill>
        <p:spPr>
          <a:xfrm>
            <a:off x="6095880" y="6324480"/>
            <a:ext cx="2667240" cy="37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33720" y="0"/>
            <a:ext cx="662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28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BernhardMod BT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1371600"/>
            <a:ext cx="739152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L’approche privilégiée est celle de </a:t>
            </a:r>
            <a:r>
              <a:rPr b="0" lang="en-GB" sz="2000" spc="-1" strike="noStrike">
                <a:solidFill>
                  <a:srgbClr val="ff3300"/>
                </a:solidFill>
                <a:latin typeface="BernhardMod BT"/>
              </a:rPr>
              <a:t>l’appui institutionnel</a:t>
            </a: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, de </a:t>
            </a:r>
            <a:r>
              <a:rPr b="0" lang="en-GB" sz="2000" spc="-1" strike="noStrike">
                <a:solidFill>
                  <a:srgbClr val="ff3300"/>
                </a:solidFill>
                <a:latin typeface="BernhardMod BT"/>
              </a:rPr>
              <a:t>l’assistance à maîtrise d’ouvrage</a:t>
            </a: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 auprès des parten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Elle n’exclut pas pour autant la </a:t>
            </a:r>
            <a:r>
              <a:rPr b="0" lang="en-GB" sz="2000" spc="-1" strike="noStrike">
                <a:solidFill>
                  <a:srgbClr val="ff3300"/>
                </a:solidFill>
                <a:latin typeface="BernhardMod BT"/>
              </a:rPr>
              <a:t>réalisation d’infrastructures</a:t>
            </a: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, dans la mesure où leur mise en place a une </a:t>
            </a:r>
            <a:r>
              <a:rPr b="0" lang="en-GB" sz="2000" spc="-1" strike="noStrike">
                <a:solidFill>
                  <a:srgbClr val="ff3300"/>
                </a:solidFill>
                <a:latin typeface="BernhardMod BT"/>
              </a:rPr>
              <a:t>valeur de démonstration et d’expérimentation de nouveaux modes de gestion</a:t>
            </a: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Cette démarche est rendue possible par la </a:t>
            </a:r>
            <a:r>
              <a:rPr b="0" lang="en-GB" sz="2000" spc="-1" strike="noStrike">
                <a:solidFill>
                  <a:srgbClr val="ff3300"/>
                </a:solidFill>
                <a:latin typeface="BernhardMod BT"/>
              </a:rPr>
              <a:t>durée </a:t>
            </a: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dans laquelle s’inscrit la coopération décentralisée, qui privilégie par ailleurs les valeurs d’</a:t>
            </a:r>
            <a:r>
              <a:rPr b="0" lang="en-GB" sz="2000" spc="-1" strike="noStrike">
                <a:solidFill>
                  <a:srgbClr val="ff3300"/>
                </a:solidFill>
                <a:latin typeface="BernhardMod BT"/>
              </a:rPr>
              <a:t>amitié</a:t>
            </a:r>
            <a:r>
              <a:rPr b="0" lang="en-GB" sz="2000" spc="-1" strike="noStrike">
                <a:solidFill>
                  <a:srgbClr val="333399"/>
                </a:solidFill>
                <a:latin typeface="BernhardMod B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7:16:59Z</dcterms:created>
  <dc:creator>Denis FOURMEAU</dc:creator>
  <dc:description/>
  <dc:language>en-US</dc:language>
  <cp:lastModifiedBy>lmcu</cp:lastModifiedBy>
  <dcterms:modified xsi:type="dcterms:W3CDTF">2006-03-13T08:55:06Z</dcterms:modified>
  <cp:revision>33</cp:revision>
  <dc:subject/>
  <dc:title>Slide 1</dc:title>
</cp:coreProperties>
</file>