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0E5-7E99-4EBF-8B1C-D49782A3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EF5-6876-4486-8744-29A38203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53F-33E9-49CF-953B-4CAC3B99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EB2-5ACD-4272-9B82-079220E4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933-0FD0-4D46-BC3F-F9DC8EF5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F4C4-9E6F-4328-8A93-2A925A9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E09-6AE0-4025-8B56-D76C687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F249-310F-44FF-A46A-C3445263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D24A-103B-410A-94A8-4F3E7DC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8BE-EEB6-47FE-9A7E-1844C25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5850-96DC-42EC-9AFF-DDB56AF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E6A-ADD6-4C0F-AB23-548652A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F07-E0F7-43D1-8C21-B21E1CB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2124-FEC4-48F6-BE7D-9F7D4C0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A30-0894-4FC6-9347-20260F26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731-F5E5-4CA7-9392-19B62D56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D1DB-BC8B-4332-983A-92802525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1DD-C658-4E22-BF72-8A3E24A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083-6393-477F-90EA-2C8DE69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C9D-A24E-4899-A3D2-701E56A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BB-6732-4EF8-AEFA-0A07024F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32C-E86C-49AB-8BC7-0B9046D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39C-F3E9-414A-8BAB-EAB896C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6B5-6111-4838-AD12-FCE9499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85A-C5B8-4D60-AA8F-8081EB0E99C1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CEAE-BD65-4148-9637-DAC6244B6C23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97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FACILITE EAU ACP-UE</a:t>
            </a: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0000"/>
                </a:solidFill>
                <a:latin typeface="Arial Black"/>
              </a:rPr>
              <a:t>« Point de vue d’Acteur de terrain»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52560" y="5950080"/>
            <a:ext cx="358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senté par Jean Bosco BA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onseiller Principal – Eau Vive Ni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2349000"/>
            <a:ext cx="81788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Malgré cela, nous disons BRAVO à la Commission Européenne qui a pu en 4 ans, joindre l’acte à la parole et invitons les autres financeurs à faire « PLUS » et « MIEUX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ahoma"/>
              </a:rPr>
              <a:t>La Facilité E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2997000"/>
            <a:ext cx="8178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erci de votre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52560" y="5950080"/>
            <a:ext cx="358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senté par Jean Bosco BA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onseiller Principal – Eau Vive Ni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498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Black"/>
              </a:rPr>
              <a:t>Petit rappel de situation en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981080"/>
            <a:ext cx="82105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s grand changement depuis 2000 vers OM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Afrique, près de 400 millions de personnes n’ont pas l’eau potable et un assainissement dé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u Niger, sur 11 millions d’habitants, à peine 50%  peut être satisfait en eau potable et 80% ne disposent pas de système d’assainissement adéqu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Pour y répond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35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l faut à la foi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 la reconnaissance de l’initiative lo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 la responsabilisation du niveau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 bonnes politiques au niveau national inclu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choix techniques et méthodolog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s ressources humaines et financières adapt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L’action d’Eau Vive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outenir des initiatives loc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 en apportant un appui technique et financier à des actions concrètes (eau, santé, éducation, formation, économie locale,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 en fondant l’action sur la responsabilité et la mobilisation locale complétées et soutenues par l’appui extéri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sidérer l’autonomie locale comme un élément de base à prendre en compte dans la préparation et la réalisation de l’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’assurer de la cohérence « objective » avec l’environnement institutionnel local et 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tre en place et animer des synergies avec d’autres ac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ider à la mobilisation des ressources locales et extérieures pour l’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136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 ce qui est de la mobilisation des ressour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064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ssources locales sont en croissance avec de nouvelles sources (budgets communaux, apports de ressortissants, mécénats locaux, …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ssources extérieures sont en diminution depuis 28 ans (donateurs privés, fonds publics français et européens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4360" y="1773360"/>
            <a:ext cx="8208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 compos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ui à la structuration du mili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mélioration des services sociaux de base (eau, santé, éducation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mélioration de la production et appui aux activités économiqu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ontant total en Euro : 2,1 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% de ressources locales cash (local et n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8,4 de ressources divers financeurs (privés y compris les fonds solidaires eau, publ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9,6% de subvention de la Commission Europé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2060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64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Programme d’Appui au Développement Local Kornaka/Niger – Cofinancement ONG PV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ahoma"/>
              </a:rPr>
              <a:t>La Facilité E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78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s acquis et la « valeur ajoutée » du mécanis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mécanisme supplémentaire à l’exi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mécanisme complémentaire à l’exi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démarche de mise en place itérative et participative avec les acteurs de ter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reconnaissance de la responsabilité locale (place et rôle grandissant des collectivités locales reconn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effet de levier pour des partenariats techniques, méthodologiques et financ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’eau et l’assainissement élargis au développement local (planification, gestion, outils de monitoring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81788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s insuffisances du mécanis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 jeunesse, la faiblesse de son ancrage en terme de stratégie de financement du développement à partir de l’eau et de l’assainis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 durée limitée dans le temps et sa faible capacité de financement face aux besoins et au temps nécessaire à l’action et à sa durabi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relative longue durée d’instruction des doss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ahoma"/>
              </a:rPr>
              <a:t>La Facilité E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2:04:17Z</dcterms:created>
  <dc:creator>BAZIE JEAN BOSCO</dc:creator>
  <dc:description/>
  <dc:language>en-US</dc:language>
  <cp:lastModifiedBy>Christophe Le Jallé</cp:lastModifiedBy>
  <dcterms:modified xsi:type="dcterms:W3CDTF">2006-03-18T23:20:49Z</dcterms:modified>
  <cp:revision>41</cp:revision>
  <dc:subject/>
  <dc:title>Aucun titre de diapositive</dc:title>
</cp:coreProperties>
</file>