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70D-A181-4458-83C1-1C24F940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A94-8A88-4FA2-BECE-759A5C6F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4BD-AB9B-40C9-9DEC-CBE6E29C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B1A-65E6-457E-BDB8-87A5FAAC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A81B6-B77B-4A87-A318-72EA8FCC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22A6B-FCB1-401A-9530-74096817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3A7F-35C6-4163-8D08-C10013A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E3B38-D5AD-4D5D-8AE1-51F2A61B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7797A-0A7D-4B67-9B0E-DCEA6BC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B94A8-D615-4322-AF65-A466A7A6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380E0-71B2-4A27-93CE-E08E47E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AED-184D-4CB5-B047-4F3E0267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DD788-7BFD-46E7-A2B3-18ABBE8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C0B7A-715D-44E1-8A1F-FF1067D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43CF8-6E46-4B02-BC11-5FA1DFD5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9C143-ABC9-43AF-9077-E8FA439C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30FBF-6818-4E21-817D-96F64C1C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A8B-DB8F-47B1-BCF7-12D0FDF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1FE-18D5-4E12-9B01-6ED2A945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D0F-8DC4-415B-91ED-F13795A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84E-ABF5-4BA2-9205-F490DE72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563-0DD6-4F14-8D31-5A6DEAF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5EC-AB86-434D-B339-35ACFD5B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D2D-2DA7-49E2-96DD-7F33E5C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D915-1E1F-4F14-A5EE-4225F816B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D5D-86D2-46D3-BAFF-B89D3E05E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-27360"/>
            <a:ext cx="64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90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1760" y="2117880"/>
            <a:ext cx="79984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nnées socio-économique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tion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0.000 hab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1.000.000 hab  (100 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fici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.000 hect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es activités industriell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Courier Ne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ile d’olives      20 % production nati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Courier Ne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ile                  25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Courier Ne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du cuir 40 %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19640" y="3141720"/>
            <a:ext cx="433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920" y="1330200"/>
            <a:ext cx="2665080" cy="2314080"/>
            <a:chOff x="34920" y="1330200"/>
            <a:chExt cx="2665080" cy="2314080"/>
          </a:xfrm>
        </p:grpSpPr>
        <p:grpSp>
          <p:nvGrpSpPr>
            <p:cNvPr id="90" name=""/>
            <p:cNvGrpSpPr/>
            <p:nvPr/>
          </p:nvGrpSpPr>
          <p:grpSpPr>
            <a:xfrm>
              <a:off x="34920" y="1844640"/>
              <a:ext cx="934920" cy="576360"/>
              <a:chOff x="34920" y="1844640"/>
              <a:chExt cx="934920" cy="576360"/>
            </a:xfrm>
          </p:grpSpPr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1844640"/>
                <a:ext cx="934920" cy="57636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86640" y="1855080"/>
                <a:ext cx="464760" cy="259560"/>
              </a:xfrm>
              <a:custGeom>
                <a:avLst/>
                <a:gdLst/>
                <a:ahLst/>
                <a:rect l="l" t="t" r="r" b="b"/>
                <a:pathLst>
                  <a:path w="1790" h="1176">
                    <a:moveTo>
                      <a:pt x="218" y="383"/>
                    </a:moveTo>
                    <a:lnTo>
                      <a:pt x="0" y="711"/>
                    </a:lnTo>
                    <a:lnTo>
                      <a:pt x="0" y="811"/>
                    </a:lnTo>
                    <a:lnTo>
                      <a:pt x="109" y="874"/>
                    </a:lnTo>
                    <a:lnTo>
                      <a:pt x="200" y="1020"/>
                    </a:lnTo>
                    <a:lnTo>
                      <a:pt x="336" y="1011"/>
                    </a:lnTo>
                    <a:lnTo>
                      <a:pt x="582" y="974"/>
                    </a:lnTo>
                    <a:lnTo>
                      <a:pt x="746" y="1068"/>
                    </a:lnTo>
                    <a:lnTo>
                      <a:pt x="818" y="1116"/>
                    </a:lnTo>
                    <a:lnTo>
                      <a:pt x="890" y="1176"/>
                    </a:lnTo>
                    <a:lnTo>
                      <a:pt x="1046" y="1152"/>
                    </a:lnTo>
                    <a:lnTo>
                      <a:pt x="1232" y="1050"/>
                    </a:lnTo>
                    <a:lnTo>
                      <a:pt x="1532" y="990"/>
                    </a:lnTo>
                    <a:lnTo>
                      <a:pt x="1778" y="984"/>
                    </a:lnTo>
                    <a:lnTo>
                      <a:pt x="1790" y="612"/>
                    </a:lnTo>
                    <a:lnTo>
                      <a:pt x="1778" y="504"/>
                    </a:lnTo>
                    <a:lnTo>
                      <a:pt x="1772" y="444"/>
                    </a:lnTo>
                    <a:lnTo>
                      <a:pt x="1730" y="408"/>
                    </a:lnTo>
                    <a:lnTo>
                      <a:pt x="1600" y="302"/>
                    </a:lnTo>
                    <a:lnTo>
                      <a:pt x="902" y="0"/>
                    </a:lnTo>
                    <a:lnTo>
                      <a:pt x="374" y="0"/>
                    </a:lnTo>
                    <a:lnTo>
                      <a:pt x="218" y="383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640" y="2075040"/>
                <a:ext cx="395640" cy="341640"/>
              </a:xfrm>
              <a:custGeom>
                <a:avLst/>
                <a:gdLst/>
                <a:ahLst/>
                <a:rect l="l" t="t" r="r" b="b"/>
                <a:pathLst>
                  <a:path w="1524" h="1548">
                    <a:moveTo>
                      <a:pt x="192" y="1404"/>
                    </a:moveTo>
                    <a:lnTo>
                      <a:pt x="144" y="1164"/>
                    </a:lnTo>
                    <a:lnTo>
                      <a:pt x="0" y="852"/>
                    </a:lnTo>
                    <a:lnTo>
                      <a:pt x="72" y="720"/>
                    </a:lnTo>
                    <a:lnTo>
                      <a:pt x="192" y="540"/>
                    </a:lnTo>
                    <a:lnTo>
                      <a:pt x="480" y="492"/>
                    </a:lnTo>
                    <a:lnTo>
                      <a:pt x="594" y="354"/>
                    </a:lnTo>
                    <a:lnTo>
                      <a:pt x="624" y="204"/>
                    </a:lnTo>
                    <a:lnTo>
                      <a:pt x="768" y="156"/>
                    </a:lnTo>
                    <a:lnTo>
                      <a:pt x="960" y="60"/>
                    </a:lnTo>
                    <a:lnTo>
                      <a:pt x="1248" y="12"/>
                    </a:lnTo>
                    <a:lnTo>
                      <a:pt x="1524" y="0"/>
                    </a:lnTo>
                    <a:lnTo>
                      <a:pt x="1374" y="432"/>
                    </a:lnTo>
                    <a:lnTo>
                      <a:pt x="1344" y="828"/>
                    </a:lnTo>
                    <a:lnTo>
                      <a:pt x="1218" y="1170"/>
                    </a:lnTo>
                    <a:lnTo>
                      <a:pt x="888" y="1272"/>
                    </a:lnTo>
                    <a:lnTo>
                      <a:pt x="624" y="1500"/>
                    </a:lnTo>
                    <a:lnTo>
                      <a:pt x="384" y="1548"/>
                    </a:lnTo>
                    <a:lnTo>
                      <a:pt x="240" y="1500"/>
                    </a:lnTo>
                    <a:lnTo>
                      <a:pt x="192" y="1404"/>
                    </a:ln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0360" y="2074680"/>
                <a:ext cx="260280" cy="187200"/>
              </a:xfrm>
              <a:custGeom>
                <a:avLst/>
                <a:gdLst/>
                <a:ahLst/>
                <a:rect l="l" t="t" r="r" b="b"/>
                <a:pathLst>
                  <a:path w="1002" h="849">
                    <a:moveTo>
                      <a:pt x="1002" y="303"/>
                    </a:moveTo>
                    <a:lnTo>
                      <a:pt x="996" y="201"/>
                    </a:lnTo>
                    <a:lnTo>
                      <a:pt x="827" y="81"/>
                    </a:lnTo>
                    <a:lnTo>
                      <a:pt x="663" y="0"/>
                    </a:lnTo>
                    <a:lnTo>
                      <a:pt x="291" y="45"/>
                    </a:lnTo>
                    <a:lnTo>
                      <a:pt x="91" y="209"/>
                    </a:lnTo>
                    <a:lnTo>
                      <a:pt x="0" y="273"/>
                    </a:lnTo>
                    <a:lnTo>
                      <a:pt x="36" y="375"/>
                    </a:lnTo>
                    <a:lnTo>
                      <a:pt x="82" y="481"/>
                    </a:lnTo>
                    <a:lnTo>
                      <a:pt x="78" y="645"/>
                    </a:lnTo>
                    <a:lnTo>
                      <a:pt x="138" y="741"/>
                    </a:lnTo>
                    <a:lnTo>
                      <a:pt x="252" y="831"/>
                    </a:lnTo>
                    <a:lnTo>
                      <a:pt x="378" y="849"/>
                    </a:lnTo>
                    <a:lnTo>
                      <a:pt x="492" y="687"/>
                    </a:lnTo>
                    <a:lnTo>
                      <a:pt x="570" y="543"/>
                    </a:lnTo>
                    <a:lnTo>
                      <a:pt x="858" y="495"/>
                    </a:lnTo>
                    <a:lnTo>
                      <a:pt x="1002" y="303"/>
                    </a:ln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3080" y="2130840"/>
                <a:ext cx="255600" cy="262440"/>
              </a:xfrm>
              <a:custGeom>
                <a:avLst/>
                <a:gdLst/>
                <a:ahLst/>
                <a:rect l="l" t="t" r="r" b="b"/>
                <a:pathLst>
                  <a:path w="984" h="1188">
                    <a:moveTo>
                      <a:pt x="984" y="1056"/>
                    </a:moveTo>
                    <a:lnTo>
                      <a:pt x="972" y="1176"/>
                    </a:lnTo>
                    <a:lnTo>
                      <a:pt x="744" y="1188"/>
                    </a:lnTo>
                    <a:lnTo>
                      <a:pt x="396" y="1086"/>
                    </a:lnTo>
                    <a:lnTo>
                      <a:pt x="96" y="726"/>
                    </a:lnTo>
                    <a:lnTo>
                      <a:pt x="0" y="414"/>
                    </a:lnTo>
                    <a:lnTo>
                      <a:pt x="24" y="144"/>
                    </a:lnTo>
                    <a:lnTo>
                      <a:pt x="90" y="90"/>
                    </a:lnTo>
                    <a:lnTo>
                      <a:pt x="228" y="12"/>
                    </a:lnTo>
                    <a:lnTo>
                      <a:pt x="312" y="0"/>
                    </a:lnTo>
                    <a:lnTo>
                      <a:pt x="360" y="0"/>
                    </a:lnTo>
                    <a:lnTo>
                      <a:pt x="456" y="144"/>
                    </a:lnTo>
                    <a:lnTo>
                      <a:pt x="504" y="240"/>
                    </a:lnTo>
                    <a:lnTo>
                      <a:pt x="492" y="396"/>
                    </a:lnTo>
                    <a:lnTo>
                      <a:pt x="546" y="480"/>
                    </a:lnTo>
                    <a:lnTo>
                      <a:pt x="696" y="588"/>
                    </a:lnTo>
                    <a:lnTo>
                      <a:pt x="792" y="594"/>
                    </a:lnTo>
                    <a:lnTo>
                      <a:pt x="888" y="780"/>
                    </a:lnTo>
                    <a:lnTo>
                      <a:pt x="936" y="912"/>
                    </a:lnTo>
                    <a:lnTo>
                      <a:pt x="984" y="1056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2040" y="1886760"/>
                <a:ext cx="324000" cy="337680"/>
              </a:xfrm>
              <a:custGeom>
                <a:avLst/>
                <a:gdLst/>
                <a:ahLst/>
                <a:rect l="l" t="t" r="r" b="b"/>
                <a:pathLst>
                  <a:path w="1248" h="1530">
                    <a:moveTo>
                      <a:pt x="528" y="1440"/>
                    </a:moveTo>
                    <a:lnTo>
                      <a:pt x="504" y="1530"/>
                    </a:lnTo>
                    <a:lnTo>
                      <a:pt x="312" y="1434"/>
                    </a:lnTo>
                    <a:lnTo>
                      <a:pt x="168" y="1326"/>
                    </a:lnTo>
                    <a:lnTo>
                      <a:pt x="0" y="1104"/>
                    </a:lnTo>
                    <a:lnTo>
                      <a:pt x="288" y="576"/>
                    </a:lnTo>
                    <a:lnTo>
                      <a:pt x="432" y="240"/>
                    </a:lnTo>
                    <a:lnTo>
                      <a:pt x="528" y="0"/>
                    </a:lnTo>
                    <a:lnTo>
                      <a:pt x="816" y="48"/>
                    </a:lnTo>
                    <a:lnTo>
                      <a:pt x="1056" y="192"/>
                    </a:lnTo>
                    <a:lnTo>
                      <a:pt x="1248" y="240"/>
                    </a:lnTo>
                    <a:lnTo>
                      <a:pt x="1152" y="384"/>
                    </a:lnTo>
                    <a:lnTo>
                      <a:pt x="1104" y="480"/>
                    </a:lnTo>
                    <a:lnTo>
                      <a:pt x="1008" y="576"/>
                    </a:lnTo>
                    <a:lnTo>
                      <a:pt x="1008" y="672"/>
                    </a:lnTo>
                    <a:lnTo>
                      <a:pt x="1152" y="768"/>
                    </a:lnTo>
                    <a:lnTo>
                      <a:pt x="1200" y="864"/>
                    </a:lnTo>
                    <a:lnTo>
                      <a:pt x="1152" y="960"/>
                    </a:lnTo>
                    <a:lnTo>
                      <a:pt x="1056" y="1008"/>
                    </a:lnTo>
                    <a:lnTo>
                      <a:pt x="978" y="1080"/>
                    </a:lnTo>
                    <a:lnTo>
                      <a:pt x="900" y="1134"/>
                    </a:lnTo>
                    <a:lnTo>
                      <a:pt x="756" y="1134"/>
                    </a:lnTo>
                    <a:lnTo>
                      <a:pt x="576" y="1200"/>
                    </a:lnTo>
                    <a:lnTo>
                      <a:pt x="528" y="1248"/>
                    </a:lnTo>
                    <a:lnTo>
                      <a:pt x="528" y="1440"/>
                    </a:lnTo>
                    <a:close/>
                  </a:path>
                </a:pathLst>
              </a:custGeom>
              <a:solidFill>
                <a:srgbClr val="bdf6b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50920" y="1989000"/>
              <a:ext cx="627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a50021"/>
                  </a:solidFill>
                  <a:latin typeface="Times New Roman"/>
                </a:rPr>
                <a:t>Fè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46160" y="1330200"/>
              <a:ext cx="2553840" cy="2314080"/>
              <a:chOff x="146160" y="1330200"/>
              <a:chExt cx="2553840" cy="2314080"/>
            </a:xfrm>
          </p:grpSpPr>
          <p:sp>
            <p:nvSpPr>
              <p:cNvPr id="99" name=""/>
              <p:cNvSpPr/>
              <p:nvPr/>
            </p:nvSpPr>
            <p:spPr>
              <a:xfrm>
                <a:off x="2143440" y="1427400"/>
                <a:ext cx="189360" cy="99000"/>
              </a:xfrm>
              <a:custGeom>
                <a:avLst/>
                <a:gdLst/>
                <a:ahLst/>
                <a:rect l="l" t="t" r="r" b="b"/>
                <a:pathLst>
                  <a:path w="579" h="351">
                    <a:moveTo>
                      <a:pt x="5" y="53"/>
                    </a:moveTo>
                    <a:lnTo>
                      <a:pt x="12" y="53"/>
                    </a:lnTo>
                    <a:lnTo>
                      <a:pt x="18" y="53"/>
                    </a:lnTo>
                    <a:lnTo>
                      <a:pt x="29" y="58"/>
                    </a:lnTo>
                    <a:lnTo>
                      <a:pt x="34" y="58"/>
                    </a:lnTo>
                    <a:lnTo>
                      <a:pt x="57" y="69"/>
                    </a:lnTo>
                    <a:lnTo>
                      <a:pt x="60" y="69"/>
                    </a:lnTo>
                    <a:lnTo>
                      <a:pt x="80" y="69"/>
                    </a:lnTo>
                    <a:lnTo>
                      <a:pt x="91" y="69"/>
                    </a:lnTo>
                    <a:lnTo>
                      <a:pt x="99" y="78"/>
                    </a:lnTo>
                    <a:lnTo>
                      <a:pt x="105" y="78"/>
                    </a:lnTo>
                    <a:lnTo>
                      <a:pt x="109" y="78"/>
                    </a:lnTo>
                    <a:lnTo>
                      <a:pt x="112" y="78"/>
                    </a:lnTo>
                    <a:lnTo>
                      <a:pt x="119" y="78"/>
                    </a:lnTo>
                    <a:lnTo>
                      <a:pt x="128" y="78"/>
                    </a:lnTo>
                    <a:lnTo>
                      <a:pt x="132" y="78"/>
                    </a:lnTo>
                    <a:lnTo>
                      <a:pt x="135" y="82"/>
                    </a:lnTo>
                    <a:lnTo>
                      <a:pt x="142" y="87"/>
                    </a:lnTo>
                    <a:lnTo>
                      <a:pt x="147" y="87"/>
                    </a:lnTo>
                    <a:lnTo>
                      <a:pt x="154" y="82"/>
                    </a:lnTo>
                    <a:lnTo>
                      <a:pt x="158" y="82"/>
                    </a:lnTo>
                    <a:lnTo>
                      <a:pt x="167" y="78"/>
                    </a:lnTo>
                    <a:lnTo>
                      <a:pt x="174" y="78"/>
                    </a:lnTo>
                    <a:lnTo>
                      <a:pt x="177" y="74"/>
                    </a:lnTo>
                    <a:lnTo>
                      <a:pt x="181" y="74"/>
                    </a:lnTo>
                    <a:lnTo>
                      <a:pt x="189" y="69"/>
                    </a:lnTo>
                    <a:lnTo>
                      <a:pt x="206" y="64"/>
                    </a:lnTo>
                    <a:lnTo>
                      <a:pt x="214" y="64"/>
                    </a:lnTo>
                    <a:lnTo>
                      <a:pt x="229" y="58"/>
                    </a:lnTo>
                    <a:lnTo>
                      <a:pt x="238" y="58"/>
                    </a:lnTo>
                    <a:lnTo>
                      <a:pt x="252" y="49"/>
                    </a:lnTo>
                    <a:lnTo>
                      <a:pt x="256" y="40"/>
                    </a:lnTo>
                    <a:lnTo>
                      <a:pt x="264" y="35"/>
                    </a:lnTo>
                    <a:lnTo>
                      <a:pt x="271" y="31"/>
                    </a:lnTo>
                    <a:lnTo>
                      <a:pt x="285" y="27"/>
                    </a:lnTo>
                    <a:lnTo>
                      <a:pt x="290" y="27"/>
                    </a:lnTo>
                    <a:lnTo>
                      <a:pt x="312" y="27"/>
                    </a:lnTo>
                    <a:lnTo>
                      <a:pt x="316" y="22"/>
                    </a:lnTo>
                    <a:lnTo>
                      <a:pt x="323" y="22"/>
                    </a:lnTo>
                    <a:lnTo>
                      <a:pt x="327" y="22"/>
                    </a:lnTo>
                    <a:lnTo>
                      <a:pt x="339" y="22"/>
                    </a:lnTo>
                    <a:lnTo>
                      <a:pt x="339" y="27"/>
                    </a:lnTo>
                    <a:lnTo>
                      <a:pt x="339" y="35"/>
                    </a:lnTo>
                    <a:lnTo>
                      <a:pt x="339" y="40"/>
                    </a:lnTo>
                    <a:lnTo>
                      <a:pt x="346" y="49"/>
                    </a:lnTo>
                    <a:lnTo>
                      <a:pt x="358" y="53"/>
                    </a:lnTo>
                    <a:lnTo>
                      <a:pt x="365" y="53"/>
                    </a:lnTo>
                    <a:lnTo>
                      <a:pt x="371" y="53"/>
                    </a:lnTo>
                    <a:lnTo>
                      <a:pt x="379" y="53"/>
                    </a:lnTo>
                    <a:lnTo>
                      <a:pt x="379" y="49"/>
                    </a:lnTo>
                    <a:lnTo>
                      <a:pt x="384" y="49"/>
                    </a:lnTo>
                    <a:lnTo>
                      <a:pt x="387" y="45"/>
                    </a:lnTo>
                    <a:lnTo>
                      <a:pt x="391" y="45"/>
                    </a:lnTo>
                    <a:lnTo>
                      <a:pt x="394" y="35"/>
                    </a:lnTo>
                    <a:lnTo>
                      <a:pt x="398" y="27"/>
                    </a:lnTo>
                    <a:lnTo>
                      <a:pt x="398" y="22"/>
                    </a:lnTo>
                    <a:lnTo>
                      <a:pt x="403" y="17"/>
                    </a:lnTo>
                    <a:lnTo>
                      <a:pt x="417" y="4"/>
                    </a:lnTo>
                    <a:lnTo>
                      <a:pt x="422" y="0"/>
                    </a:lnTo>
                    <a:lnTo>
                      <a:pt x="426" y="4"/>
                    </a:lnTo>
                    <a:lnTo>
                      <a:pt x="437" y="4"/>
                    </a:lnTo>
                    <a:lnTo>
                      <a:pt x="440" y="4"/>
                    </a:lnTo>
                    <a:lnTo>
                      <a:pt x="445" y="9"/>
                    </a:lnTo>
                    <a:lnTo>
                      <a:pt x="445" y="14"/>
                    </a:lnTo>
                    <a:lnTo>
                      <a:pt x="449" y="17"/>
                    </a:lnTo>
                    <a:lnTo>
                      <a:pt x="456" y="22"/>
                    </a:lnTo>
                    <a:lnTo>
                      <a:pt x="462" y="22"/>
                    </a:lnTo>
                    <a:lnTo>
                      <a:pt x="462" y="27"/>
                    </a:lnTo>
                    <a:lnTo>
                      <a:pt x="466" y="27"/>
                    </a:lnTo>
                    <a:lnTo>
                      <a:pt x="469" y="31"/>
                    </a:lnTo>
                    <a:lnTo>
                      <a:pt x="474" y="35"/>
                    </a:lnTo>
                    <a:lnTo>
                      <a:pt x="488" y="45"/>
                    </a:lnTo>
                    <a:lnTo>
                      <a:pt x="493" y="45"/>
                    </a:lnTo>
                    <a:lnTo>
                      <a:pt x="501" y="45"/>
                    </a:lnTo>
                    <a:lnTo>
                      <a:pt x="511" y="49"/>
                    </a:lnTo>
                    <a:lnTo>
                      <a:pt x="516" y="49"/>
                    </a:lnTo>
                    <a:lnTo>
                      <a:pt x="520" y="53"/>
                    </a:lnTo>
                    <a:lnTo>
                      <a:pt x="527" y="53"/>
                    </a:lnTo>
                    <a:lnTo>
                      <a:pt x="535" y="53"/>
                    </a:lnTo>
                    <a:lnTo>
                      <a:pt x="546" y="58"/>
                    </a:lnTo>
                    <a:lnTo>
                      <a:pt x="552" y="58"/>
                    </a:lnTo>
                    <a:lnTo>
                      <a:pt x="560" y="58"/>
                    </a:lnTo>
                    <a:lnTo>
                      <a:pt x="568" y="58"/>
                    </a:lnTo>
                    <a:lnTo>
                      <a:pt x="572" y="58"/>
                    </a:lnTo>
                    <a:lnTo>
                      <a:pt x="579" y="58"/>
                    </a:lnTo>
                    <a:lnTo>
                      <a:pt x="579" y="78"/>
                    </a:lnTo>
                    <a:lnTo>
                      <a:pt x="579" y="91"/>
                    </a:lnTo>
                    <a:lnTo>
                      <a:pt x="572" y="104"/>
                    </a:lnTo>
                    <a:lnTo>
                      <a:pt x="563" y="109"/>
                    </a:lnTo>
                    <a:lnTo>
                      <a:pt x="563" y="114"/>
                    </a:lnTo>
                    <a:lnTo>
                      <a:pt x="546" y="131"/>
                    </a:lnTo>
                    <a:lnTo>
                      <a:pt x="552" y="143"/>
                    </a:lnTo>
                    <a:lnTo>
                      <a:pt x="552" y="156"/>
                    </a:lnTo>
                    <a:lnTo>
                      <a:pt x="543" y="169"/>
                    </a:lnTo>
                    <a:lnTo>
                      <a:pt x="539" y="173"/>
                    </a:lnTo>
                    <a:lnTo>
                      <a:pt x="535" y="178"/>
                    </a:lnTo>
                    <a:lnTo>
                      <a:pt x="523" y="178"/>
                    </a:lnTo>
                    <a:lnTo>
                      <a:pt x="520" y="187"/>
                    </a:lnTo>
                    <a:lnTo>
                      <a:pt x="516" y="201"/>
                    </a:lnTo>
                    <a:lnTo>
                      <a:pt x="520" y="209"/>
                    </a:lnTo>
                    <a:lnTo>
                      <a:pt x="493" y="220"/>
                    </a:lnTo>
                    <a:lnTo>
                      <a:pt x="488" y="225"/>
                    </a:lnTo>
                    <a:lnTo>
                      <a:pt x="493" y="238"/>
                    </a:lnTo>
                    <a:lnTo>
                      <a:pt x="488" y="246"/>
                    </a:lnTo>
                    <a:lnTo>
                      <a:pt x="481" y="246"/>
                    </a:lnTo>
                    <a:lnTo>
                      <a:pt x="462" y="246"/>
                    </a:lnTo>
                    <a:lnTo>
                      <a:pt x="452" y="246"/>
                    </a:lnTo>
                    <a:lnTo>
                      <a:pt x="449" y="251"/>
                    </a:lnTo>
                    <a:lnTo>
                      <a:pt x="445" y="251"/>
                    </a:lnTo>
                    <a:lnTo>
                      <a:pt x="426" y="251"/>
                    </a:lnTo>
                    <a:lnTo>
                      <a:pt x="417" y="260"/>
                    </a:lnTo>
                    <a:lnTo>
                      <a:pt x="410" y="269"/>
                    </a:lnTo>
                    <a:lnTo>
                      <a:pt x="406" y="273"/>
                    </a:lnTo>
                    <a:lnTo>
                      <a:pt x="398" y="283"/>
                    </a:lnTo>
                    <a:lnTo>
                      <a:pt x="387" y="291"/>
                    </a:lnTo>
                    <a:lnTo>
                      <a:pt x="379" y="307"/>
                    </a:lnTo>
                    <a:lnTo>
                      <a:pt x="375" y="302"/>
                    </a:lnTo>
                    <a:lnTo>
                      <a:pt x="371" y="302"/>
                    </a:lnTo>
                    <a:lnTo>
                      <a:pt x="365" y="302"/>
                    </a:lnTo>
                    <a:lnTo>
                      <a:pt x="362" y="307"/>
                    </a:lnTo>
                    <a:lnTo>
                      <a:pt x="358" y="307"/>
                    </a:lnTo>
                    <a:lnTo>
                      <a:pt x="351" y="311"/>
                    </a:lnTo>
                    <a:lnTo>
                      <a:pt x="351" y="315"/>
                    </a:lnTo>
                    <a:lnTo>
                      <a:pt x="358" y="320"/>
                    </a:lnTo>
                    <a:lnTo>
                      <a:pt x="362" y="320"/>
                    </a:lnTo>
                    <a:lnTo>
                      <a:pt x="358" y="325"/>
                    </a:lnTo>
                    <a:lnTo>
                      <a:pt x="358" y="330"/>
                    </a:lnTo>
                    <a:lnTo>
                      <a:pt x="355" y="330"/>
                    </a:lnTo>
                    <a:lnTo>
                      <a:pt x="351" y="333"/>
                    </a:lnTo>
                    <a:lnTo>
                      <a:pt x="346" y="333"/>
                    </a:lnTo>
                    <a:lnTo>
                      <a:pt x="343" y="333"/>
                    </a:lnTo>
                    <a:lnTo>
                      <a:pt x="339" y="333"/>
                    </a:lnTo>
                    <a:lnTo>
                      <a:pt x="335" y="333"/>
                    </a:lnTo>
                    <a:lnTo>
                      <a:pt x="335" y="338"/>
                    </a:lnTo>
                    <a:lnTo>
                      <a:pt x="332" y="343"/>
                    </a:lnTo>
                    <a:lnTo>
                      <a:pt x="327" y="343"/>
                    </a:lnTo>
                    <a:lnTo>
                      <a:pt x="327" y="346"/>
                    </a:lnTo>
                    <a:lnTo>
                      <a:pt x="323" y="346"/>
                    </a:lnTo>
                    <a:lnTo>
                      <a:pt x="320" y="346"/>
                    </a:lnTo>
                    <a:lnTo>
                      <a:pt x="316" y="346"/>
                    </a:lnTo>
                    <a:lnTo>
                      <a:pt x="312" y="346"/>
                    </a:lnTo>
                    <a:lnTo>
                      <a:pt x="309" y="346"/>
                    </a:lnTo>
                    <a:lnTo>
                      <a:pt x="304" y="346"/>
                    </a:lnTo>
                    <a:lnTo>
                      <a:pt x="304" y="351"/>
                    </a:lnTo>
                    <a:lnTo>
                      <a:pt x="300" y="346"/>
                    </a:lnTo>
                    <a:lnTo>
                      <a:pt x="297" y="346"/>
                    </a:lnTo>
                    <a:lnTo>
                      <a:pt x="293" y="346"/>
                    </a:lnTo>
                    <a:lnTo>
                      <a:pt x="293" y="343"/>
                    </a:lnTo>
                    <a:lnTo>
                      <a:pt x="293" y="338"/>
                    </a:lnTo>
                    <a:lnTo>
                      <a:pt x="293" y="333"/>
                    </a:lnTo>
                    <a:lnTo>
                      <a:pt x="293" y="330"/>
                    </a:lnTo>
                    <a:lnTo>
                      <a:pt x="293" y="325"/>
                    </a:lnTo>
                    <a:lnTo>
                      <a:pt x="293" y="320"/>
                    </a:lnTo>
                    <a:lnTo>
                      <a:pt x="297" y="320"/>
                    </a:lnTo>
                    <a:lnTo>
                      <a:pt x="297" y="315"/>
                    </a:lnTo>
                    <a:lnTo>
                      <a:pt x="297" y="311"/>
                    </a:lnTo>
                    <a:lnTo>
                      <a:pt x="297" y="307"/>
                    </a:lnTo>
                    <a:lnTo>
                      <a:pt x="297" y="302"/>
                    </a:lnTo>
                    <a:lnTo>
                      <a:pt x="293" y="298"/>
                    </a:lnTo>
                    <a:lnTo>
                      <a:pt x="290" y="298"/>
                    </a:lnTo>
                    <a:lnTo>
                      <a:pt x="285" y="298"/>
                    </a:lnTo>
                    <a:lnTo>
                      <a:pt x="285" y="291"/>
                    </a:lnTo>
                    <a:lnTo>
                      <a:pt x="285" y="286"/>
                    </a:lnTo>
                    <a:lnTo>
                      <a:pt x="280" y="286"/>
                    </a:lnTo>
                    <a:lnTo>
                      <a:pt x="275" y="286"/>
                    </a:lnTo>
                    <a:lnTo>
                      <a:pt x="271" y="286"/>
                    </a:lnTo>
                    <a:lnTo>
                      <a:pt x="271" y="283"/>
                    </a:lnTo>
                    <a:lnTo>
                      <a:pt x="275" y="283"/>
                    </a:lnTo>
                    <a:lnTo>
                      <a:pt x="280" y="278"/>
                    </a:lnTo>
                    <a:lnTo>
                      <a:pt x="280" y="273"/>
                    </a:lnTo>
                    <a:lnTo>
                      <a:pt x="280" y="269"/>
                    </a:lnTo>
                    <a:lnTo>
                      <a:pt x="280" y="264"/>
                    </a:lnTo>
                    <a:lnTo>
                      <a:pt x="275" y="260"/>
                    </a:lnTo>
                    <a:lnTo>
                      <a:pt x="275" y="256"/>
                    </a:lnTo>
                    <a:lnTo>
                      <a:pt x="275" y="251"/>
                    </a:lnTo>
                    <a:lnTo>
                      <a:pt x="271" y="251"/>
                    </a:lnTo>
                    <a:lnTo>
                      <a:pt x="271" y="246"/>
                    </a:lnTo>
                    <a:lnTo>
                      <a:pt x="268" y="246"/>
                    </a:lnTo>
                    <a:lnTo>
                      <a:pt x="268" y="243"/>
                    </a:lnTo>
                    <a:lnTo>
                      <a:pt x="268" y="246"/>
                    </a:lnTo>
                    <a:lnTo>
                      <a:pt x="264" y="246"/>
                    </a:lnTo>
                    <a:lnTo>
                      <a:pt x="264" y="251"/>
                    </a:lnTo>
                    <a:lnTo>
                      <a:pt x="261" y="251"/>
                    </a:lnTo>
                    <a:lnTo>
                      <a:pt x="256" y="256"/>
                    </a:lnTo>
                    <a:lnTo>
                      <a:pt x="252" y="260"/>
                    </a:lnTo>
                    <a:lnTo>
                      <a:pt x="252" y="264"/>
                    </a:lnTo>
                    <a:lnTo>
                      <a:pt x="249" y="264"/>
                    </a:lnTo>
                    <a:lnTo>
                      <a:pt x="245" y="264"/>
                    </a:lnTo>
                    <a:lnTo>
                      <a:pt x="245" y="269"/>
                    </a:lnTo>
                    <a:lnTo>
                      <a:pt x="241" y="269"/>
                    </a:lnTo>
                    <a:lnTo>
                      <a:pt x="241" y="273"/>
                    </a:lnTo>
                    <a:lnTo>
                      <a:pt x="241" y="278"/>
                    </a:lnTo>
                    <a:lnTo>
                      <a:pt x="238" y="278"/>
                    </a:lnTo>
                    <a:lnTo>
                      <a:pt x="238" y="283"/>
                    </a:lnTo>
                    <a:lnTo>
                      <a:pt x="233" y="283"/>
                    </a:lnTo>
                    <a:lnTo>
                      <a:pt x="229" y="283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8" y="283"/>
                    </a:lnTo>
                    <a:lnTo>
                      <a:pt x="214" y="278"/>
                    </a:lnTo>
                    <a:lnTo>
                      <a:pt x="206" y="273"/>
                    </a:lnTo>
                    <a:lnTo>
                      <a:pt x="203" y="269"/>
                    </a:lnTo>
                    <a:lnTo>
                      <a:pt x="199" y="269"/>
                    </a:lnTo>
                    <a:lnTo>
                      <a:pt x="189" y="269"/>
                    </a:lnTo>
                    <a:lnTo>
                      <a:pt x="185" y="269"/>
                    </a:lnTo>
                    <a:lnTo>
                      <a:pt x="181" y="269"/>
                    </a:lnTo>
                    <a:lnTo>
                      <a:pt x="177" y="269"/>
                    </a:lnTo>
                    <a:lnTo>
                      <a:pt x="174" y="269"/>
                    </a:lnTo>
                    <a:lnTo>
                      <a:pt x="170" y="269"/>
                    </a:lnTo>
                    <a:lnTo>
                      <a:pt x="167" y="269"/>
                    </a:lnTo>
                    <a:lnTo>
                      <a:pt x="162" y="269"/>
                    </a:lnTo>
                    <a:lnTo>
                      <a:pt x="158" y="269"/>
                    </a:lnTo>
                    <a:lnTo>
                      <a:pt x="154" y="269"/>
                    </a:lnTo>
                    <a:lnTo>
                      <a:pt x="151" y="264"/>
                    </a:lnTo>
                    <a:lnTo>
                      <a:pt x="147" y="264"/>
                    </a:lnTo>
                    <a:lnTo>
                      <a:pt x="147" y="260"/>
                    </a:lnTo>
                    <a:lnTo>
                      <a:pt x="147" y="256"/>
                    </a:lnTo>
                    <a:lnTo>
                      <a:pt x="147" y="251"/>
                    </a:lnTo>
                    <a:lnTo>
                      <a:pt x="142" y="251"/>
                    </a:lnTo>
                    <a:lnTo>
                      <a:pt x="139" y="251"/>
                    </a:lnTo>
                    <a:lnTo>
                      <a:pt x="135" y="256"/>
                    </a:lnTo>
                    <a:lnTo>
                      <a:pt x="132" y="256"/>
                    </a:lnTo>
                    <a:lnTo>
                      <a:pt x="128" y="256"/>
                    </a:lnTo>
                    <a:lnTo>
                      <a:pt x="128" y="251"/>
                    </a:lnTo>
                    <a:lnTo>
                      <a:pt x="128" y="246"/>
                    </a:lnTo>
                    <a:lnTo>
                      <a:pt x="123" y="246"/>
                    </a:lnTo>
                    <a:lnTo>
                      <a:pt x="128" y="243"/>
                    </a:lnTo>
                    <a:lnTo>
                      <a:pt x="123" y="243"/>
                    </a:lnTo>
                    <a:lnTo>
                      <a:pt x="123" y="238"/>
                    </a:lnTo>
                    <a:lnTo>
                      <a:pt x="119" y="238"/>
                    </a:lnTo>
                    <a:lnTo>
                      <a:pt x="119" y="233"/>
                    </a:lnTo>
                    <a:lnTo>
                      <a:pt x="119" y="229"/>
                    </a:lnTo>
                    <a:lnTo>
                      <a:pt x="123" y="229"/>
                    </a:lnTo>
                    <a:lnTo>
                      <a:pt x="119" y="229"/>
                    </a:lnTo>
                    <a:lnTo>
                      <a:pt x="119" y="225"/>
                    </a:lnTo>
                    <a:lnTo>
                      <a:pt x="116" y="225"/>
                    </a:lnTo>
                    <a:lnTo>
                      <a:pt x="116" y="220"/>
                    </a:lnTo>
                    <a:lnTo>
                      <a:pt x="112" y="220"/>
                    </a:lnTo>
                    <a:lnTo>
                      <a:pt x="112" y="214"/>
                    </a:lnTo>
                    <a:lnTo>
                      <a:pt x="109" y="214"/>
                    </a:lnTo>
                    <a:lnTo>
                      <a:pt x="109" y="209"/>
                    </a:lnTo>
                    <a:lnTo>
                      <a:pt x="105" y="204"/>
                    </a:lnTo>
                    <a:lnTo>
                      <a:pt x="99" y="204"/>
                    </a:lnTo>
                    <a:lnTo>
                      <a:pt x="95" y="204"/>
                    </a:lnTo>
                    <a:lnTo>
                      <a:pt x="91" y="209"/>
                    </a:lnTo>
                    <a:lnTo>
                      <a:pt x="91" y="214"/>
                    </a:lnTo>
                    <a:lnTo>
                      <a:pt x="87" y="214"/>
                    </a:lnTo>
                    <a:lnTo>
                      <a:pt x="83" y="220"/>
                    </a:lnTo>
                    <a:lnTo>
                      <a:pt x="80" y="220"/>
                    </a:lnTo>
                    <a:lnTo>
                      <a:pt x="80" y="225"/>
                    </a:lnTo>
                    <a:lnTo>
                      <a:pt x="80" y="229"/>
                    </a:lnTo>
                    <a:lnTo>
                      <a:pt x="76" y="229"/>
                    </a:lnTo>
                    <a:lnTo>
                      <a:pt x="71" y="229"/>
                    </a:lnTo>
                    <a:lnTo>
                      <a:pt x="76" y="233"/>
                    </a:lnTo>
                    <a:lnTo>
                      <a:pt x="71" y="233"/>
                    </a:lnTo>
                    <a:lnTo>
                      <a:pt x="71" y="238"/>
                    </a:lnTo>
                    <a:lnTo>
                      <a:pt x="71" y="243"/>
                    </a:lnTo>
                    <a:lnTo>
                      <a:pt x="68" y="243"/>
                    </a:lnTo>
                    <a:lnTo>
                      <a:pt x="64" y="243"/>
                    </a:lnTo>
                    <a:lnTo>
                      <a:pt x="60" y="243"/>
                    </a:lnTo>
                    <a:lnTo>
                      <a:pt x="57" y="243"/>
                    </a:lnTo>
                    <a:lnTo>
                      <a:pt x="57" y="238"/>
                    </a:lnTo>
                    <a:lnTo>
                      <a:pt x="57" y="233"/>
                    </a:lnTo>
                    <a:lnTo>
                      <a:pt x="57" y="229"/>
                    </a:lnTo>
                    <a:lnTo>
                      <a:pt x="57" y="225"/>
                    </a:lnTo>
                    <a:lnTo>
                      <a:pt x="53" y="225"/>
                    </a:lnTo>
                    <a:lnTo>
                      <a:pt x="48" y="225"/>
                    </a:lnTo>
                    <a:lnTo>
                      <a:pt x="48" y="229"/>
                    </a:lnTo>
                    <a:lnTo>
                      <a:pt x="45" y="229"/>
                    </a:lnTo>
                    <a:lnTo>
                      <a:pt x="45" y="233"/>
                    </a:lnTo>
                    <a:lnTo>
                      <a:pt x="41" y="233"/>
                    </a:lnTo>
                    <a:lnTo>
                      <a:pt x="37" y="233"/>
                    </a:lnTo>
                    <a:lnTo>
                      <a:pt x="37" y="238"/>
                    </a:lnTo>
                    <a:lnTo>
                      <a:pt x="34" y="238"/>
                    </a:lnTo>
                    <a:lnTo>
                      <a:pt x="29" y="238"/>
                    </a:lnTo>
                    <a:lnTo>
                      <a:pt x="34" y="225"/>
                    </a:lnTo>
                    <a:lnTo>
                      <a:pt x="34" y="204"/>
                    </a:lnTo>
                    <a:lnTo>
                      <a:pt x="25" y="196"/>
                    </a:lnTo>
                    <a:lnTo>
                      <a:pt x="25" y="187"/>
                    </a:lnTo>
                    <a:lnTo>
                      <a:pt x="12" y="169"/>
                    </a:lnTo>
                    <a:lnTo>
                      <a:pt x="0" y="143"/>
                    </a:lnTo>
                    <a:lnTo>
                      <a:pt x="0" y="122"/>
                    </a:lnTo>
                    <a:lnTo>
                      <a:pt x="0" y="114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  <a:effectLst>
                <a:outerShdw dist="17819" dir="2700000" blurRad="0" rotWithShape="0">
                  <a:srgbClr val="1e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146160" y="1330200"/>
                <a:ext cx="2553840" cy="2314080"/>
                <a:chOff x="146160" y="1330200"/>
                <a:chExt cx="2553840" cy="2314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46160" y="2493000"/>
                  <a:ext cx="1424160" cy="1151280"/>
                </a:xfrm>
                <a:custGeom>
                  <a:avLst/>
                  <a:gdLst/>
                  <a:ahLst/>
                  <a:rect l="l" t="t" r="r" b="b"/>
                  <a:pathLst>
                    <a:path w="4321" h="4072">
                      <a:moveTo>
                        <a:pt x="3173" y="287"/>
                      </a:moveTo>
                      <a:lnTo>
                        <a:pt x="3169" y="283"/>
                      </a:lnTo>
                      <a:lnTo>
                        <a:pt x="3173" y="274"/>
                      </a:lnTo>
                      <a:lnTo>
                        <a:pt x="3179" y="256"/>
                      </a:lnTo>
                      <a:lnTo>
                        <a:pt x="3186" y="248"/>
                      </a:lnTo>
                      <a:lnTo>
                        <a:pt x="3186" y="243"/>
                      </a:lnTo>
                      <a:lnTo>
                        <a:pt x="3186" y="233"/>
                      </a:lnTo>
                      <a:lnTo>
                        <a:pt x="3191" y="222"/>
                      </a:lnTo>
                      <a:lnTo>
                        <a:pt x="3191" y="219"/>
                      </a:lnTo>
                      <a:lnTo>
                        <a:pt x="3195" y="219"/>
                      </a:lnTo>
                      <a:lnTo>
                        <a:pt x="3198" y="209"/>
                      </a:lnTo>
                      <a:lnTo>
                        <a:pt x="3198" y="205"/>
                      </a:lnTo>
                      <a:lnTo>
                        <a:pt x="3198" y="201"/>
                      </a:lnTo>
                      <a:lnTo>
                        <a:pt x="3198" y="196"/>
                      </a:lnTo>
                      <a:lnTo>
                        <a:pt x="3198" y="191"/>
                      </a:lnTo>
                      <a:lnTo>
                        <a:pt x="3198" y="187"/>
                      </a:lnTo>
                      <a:lnTo>
                        <a:pt x="3202" y="174"/>
                      </a:lnTo>
                      <a:lnTo>
                        <a:pt x="3205" y="161"/>
                      </a:lnTo>
                      <a:lnTo>
                        <a:pt x="3210" y="156"/>
                      </a:lnTo>
                      <a:lnTo>
                        <a:pt x="3210" y="151"/>
                      </a:lnTo>
                      <a:lnTo>
                        <a:pt x="3210" y="145"/>
                      </a:lnTo>
                      <a:lnTo>
                        <a:pt x="3214" y="140"/>
                      </a:lnTo>
                      <a:lnTo>
                        <a:pt x="3214" y="135"/>
                      </a:lnTo>
                      <a:lnTo>
                        <a:pt x="3217" y="135"/>
                      </a:lnTo>
                      <a:lnTo>
                        <a:pt x="3217" y="119"/>
                      </a:lnTo>
                      <a:lnTo>
                        <a:pt x="3221" y="114"/>
                      </a:lnTo>
                      <a:lnTo>
                        <a:pt x="3221" y="109"/>
                      </a:lnTo>
                      <a:lnTo>
                        <a:pt x="3221" y="105"/>
                      </a:lnTo>
                      <a:lnTo>
                        <a:pt x="3225" y="100"/>
                      </a:lnTo>
                      <a:lnTo>
                        <a:pt x="3225" y="96"/>
                      </a:lnTo>
                      <a:lnTo>
                        <a:pt x="3225" y="91"/>
                      </a:lnTo>
                      <a:lnTo>
                        <a:pt x="3225" y="87"/>
                      </a:lnTo>
                      <a:lnTo>
                        <a:pt x="3225" y="82"/>
                      </a:lnTo>
                      <a:lnTo>
                        <a:pt x="3228" y="78"/>
                      </a:lnTo>
                      <a:lnTo>
                        <a:pt x="3225" y="63"/>
                      </a:lnTo>
                      <a:lnTo>
                        <a:pt x="3210" y="40"/>
                      </a:lnTo>
                      <a:lnTo>
                        <a:pt x="3195" y="14"/>
                      </a:lnTo>
                      <a:lnTo>
                        <a:pt x="3191" y="0"/>
                      </a:lnTo>
                      <a:lnTo>
                        <a:pt x="3179" y="14"/>
                      </a:lnTo>
                      <a:lnTo>
                        <a:pt x="3162" y="32"/>
                      </a:lnTo>
                      <a:lnTo>
                        <a:pt x="3157" y="40"/>
                      </a:lnTo>
                      <a:lnTo>
                        <a:pt x="3143" y="63"/>
                      </a:lnTo>
                      <a:lnTo>
                        <a:pt x="3127" y="82"/>
                      </a:lnTo>
                      <a:lnTo>
                        <a:pt x="3123" y="82"/>
                      </a:lnTo>
                      <a:lnTo>
                        <a:pt x="3100" y="105"/>
                      </a:lnTo>
                      <a:lnTo>
                        <a:pt x="3082" y="127"/>
                      </a:lnTo>
                      <a:lnTo>
                        <a:pt x="3072" y="135"/>
                      </a:lnTo>
                      <a:lnTo>
                        <a:pt x="3068" y="140"/>
                      </a:lnTo>
                      <a:lnTo>
                        <a:pt x="3063" y="145"/>
                      </a:lnTo>
                      <a:lnTo>
                        <a:pt x="3049" y="164"/>
                      </a:lnTo>
                      <a:lnTo>
                        <a:pt x="3033" y="178"/>
                      </a:lnTo>
                      <a:lnTo>
                        <a:pt x="3017" y="187"/>
                      </a:lnTo>
                      <a:lnTo>
                        <a:pt x="2992" y="201"/>
                      </a:lnTo>
                      <a:lnTo>
                        <a:pt x="2943" y="222"/>
                      </a:lnTo>
                      <a:lnTo>
                        <a:pt x="2906" y="238"/>
                      </a:lnTo>
                      <a:lnTo>
                        <a:pt x="2887" y="243"/>
                      </a:lnTo>
                      <a:lnTo>
                        <a:pt x="2871" y="248"/>
                      </a:lnTo>
                      <a:lnTo>
                        <a:pt x="2868" y="248"/>
                      </a:lnTo>
                      <a:lnTo>
                        <a:pt x="2852" y="256"/>
                      </a:lnTo>
                      <a:lnTo>
                        <a:pt x="2840" y="256"/>
                      </a:lnTo>
                      <a:lnTo>
                        <a:pt x="2833" y="256"/>
                      </a:lnTo>
                      <a:lnTo>
                        <a:pt x="2829" y="261"/>
                      </a:lnTo>
                      <a:lnTo>
                        <a:pt x="2812" y="264"/>
                      </a:lnTo>
                      <a:lnTo>
                        <a:pt x="2793" y="274"/>
                      </a:lnTo>
                      <a:lnTo>
                        <a:pt x="2781" y="278"/>
                      </a:lnTo>
                      <a:lnTo>
                        <a:pt x="2770" y="283"/>
                      </a:lnTo>
                      <a:lnTo>
                        <a:pt x="2742" y="296"/>
                      </a:lnTo>
                      <a:lnTo>
                        <a:pt x="2735" y="301"/>
                      </a:lnTo>
                      <a:lnTo>
                        <a:pt x="2732" y="307"/>
                      </a:lnTo>
                      <a:lnTo>
                        <a:pt x="2722" y="307"/>
                      </a:lnTo>
                      <a:lnTo>
                        <a:pt x="2713" y="307"/>
                      </a:lnTo>
                      <a:lnTo>
                        <a:pt x="2703" y="311"/>
                      </a:lnTo>
                      <a:lnTo>
                        <a:pt x="2691" y="311"/>
                      </a:lnTo>
                      <a:lnTo>
                        <a:pt x="2691" y="320"/>
                      </a:lnTo>
                      <a:lnTo>
                        <a:pt x="2691" y="325"/>
                      </a:lnTo>
                      <a:lnTo>
                        <a:pt x="2687" y="330"/>
                      </a:lnTo>
                      <a:lnTo>
                        <a:pt x="2680" y="330"/>
                      </a:lnTo>
                      <a:lnTo>
                        <a:pt x="2675" y="330"/>
                      </a:lnTo>
                      <a:lnTo>
                        <a:pt x="2671" y="330"/>
                      </a:lnTo>
                      <a:lnTo>
                        <a:pt x="2668" y="330"/>
                      </a:lnTo>
                      <a:lnTo>
                        <a:pt x="2668" y="338"/>
                      </a:lnTo>
                      <a:lnTo>
                        <a:pt x="2656" y="343"/>
                      </a:lnTo>
                      <a:lnTo>
                        <a:pt x="2652" y="343"/>
                      </a:lnTo>
                      <a:lnTo>
                        <a:pt x="2648" y="338"/>
                      </a:lnTo>
                      <a:lnTo>
                        <a:pt x="2652" y="330"/>
                      </a:lnTo>
                      <a:lnTo>
                        <a:pt x="2656" y="320"/>
                      </a:lnTo>
                      <a:lnTo>
                        <a:pt x="2671" y="316"/>
                      </a:lnTo>
                      <a:lnTo>
                        <a:pt x="2675" y="316"/>
                      </a:lnTo>
                      <a:lnTo>
                        <a:pt x="2675" y="311"/>
                      </a:lnTo>
                      <a:lnTo>
                        <a:pt x="2671" y="311"/>
                      </a:lnTo>
                      <a:lnTo>
                        <a:pt x="2668" y="311"/>
                      </a:lnTo>
                      <a:lnTo>
                        <a:pt x="2668" y="307"/>
                      </a:lnTo>
                      <a:lnTo>
                        <a:pt x="2660" y="311"/>
                      </a:lnTo>
                      <a:lnTo>
                        <a:pt x="2656" y="311"/>
                      </a:lnTo>
                      <a:lnTo>
                        <a:pt x="2645" y="316"/>
                      </a:lnTo>
                      <a:lnTo>
                        <a:pt x="2631" y="325"/>
                      </a:lnTo>
                      <a:lnTo>
                        <a:pt x="2623" y="325"/>
                      </a:lnTo>
                      <a:lnTo>
                        <a:pt x="2609" y="325"/>
                      </a:lnTo>
                      <a:lnTo>
                        <a:pt x="2589" y="320"/>
                      </a:lnTo>
                      <a:lnTo>
                        <a:pt x="2574" y="320"/>
                      </a:lnTo>
                      <a:lnTo>
                        <a:pt x="2558" y="325"/>
                      </a:lnTo>
                      <a:lnTo>
                        <a:pt x="2545" y="325"/>
                      </a:lnTo>
                      <a:lnTo>
                        <a:pt x="2525" y="333"/>
                      </a:lnTo>
                      <a:lnTo>
                        <a:pt x="2518" y="333"/>
                      </a:lnTo>
                      <a:lnTo>
                        <a:pt x="2518" y="338"/>
                      </a:lnTo>
                      <a:lnTo>
                        <a:pt x="2506" y="346"/>
                      </a:lnTo>
                      <a:lnTo>
                        <a:pt x="2499" y="346"/>
                      </a:lnTo>
                      <a:lnTo>
                        <a:pt x="2483" y="346"/>
                      </a:lnTo>
                      <a:lnTo>
                        <a:pt x="2479" y="346"/>
                      </a:lnTo>
                      <a:lnTo>
                        <a:pt x="2471" y="346"/>
                      </a:lnTo>
                      <a:lnTo>
                        <a:pt x="2467" y="346"/>
                      </a:lnTo>
                      <a:lnTo>
                        <a:pt x="2451" y="346"/>
                      </a:lnTo>
                      <a:lnTo>
                        <a:pt x="2447" y="346"/>
                      </a:lnTo>
                      <a:lnTo>
                        <a:pt x="2431" y="346"/>
                      </a:lnTo>
                      <a:lnTo>
                        <a:pt x="2424" y="351"/>
                      </a:lnTo>
                      <a:lnTo>
                        <a:pt x="2416" y="351"/>
                      </a:lnTo>
                      <a:lnTo>
                        <a:pt x="2412" y="351"/>
                      </a:lnTo>
                      <a:lnTo>
                        <a:pt x="2405" y="346"/>
                      </a:lnTo>
                      <a:lnTo>
                        <a:pt x="2393" y="346"/>
                      </a:lnTo>
                      <a:lnTo>
                        <a:pt x="2367" y="356"/>
                      </a:lnTo>
                      <a:lnTo>
                        <a:pt x="2353" y="361"/>
                      </a:lnTo>
                      <a:lnTo>
                        <a:pt x="2344" y="369"/>
                      </a:lnTo>
                      <a:lnTo>
                        <a:pt x="2341" y="369"/>
                      </a:lnTo>
                      <a:lnTo>
                        <a:pt x="2337" y="374"/>
                      </a:lnTo>
                      <a:lnTo>
                        <a:pt x="2334" y="374"/>
                      </a:lnTo>
                      <a:lnTo>
                        <a:pt x="2330" y="385"/>
                      </a:lnTo>
                      <a:lnTo>
                        <a:pt x="2325" y="403"/>
                      </a:lnTo>
                      <a:lnTo>
                        <a:pt x="2311" y="430"/>
                      </a:lnTo>
                      <a:lnTo>
                        <a:pt x="2302" y="443"/>
                      </a:lnTo>
                      <a:lnTo>
                        <a:pt x="2262" y="472"/>
                      </a:lnTo>
                      <a:lnTo>
                        <a:pt x="2259" y="480"/>
                      </a:lnTo>
                      <a:lnTo>
                        <a:pt x="2250" y="485"/>
                      </a:lnTo>
                      <a:lnTo>
                        <a:pt x="2231" y="498"/>
                      </a:lnTo>
                      <a:lnTo>
                        <a:pt x="2227" y="503"/>
                      </a:lnTo>
                      <a:lnTo>
                        <a:pt x="2215" y="516"/>
                      </a:lnTo>
                      <a:lnTo>
                        <a:pt x="2215" y="530"/>
                      </a:lnTo>
                      <a:lnTo>
                        <a:pt x="2205" y="554"/>
                      </a:lnTo>
                      <a:lnTo>
                        <a:pt x="2205" y="562"/>
                      </a:lnTo>
                      <a:lnTo>
                        <a:pt x="2191" y="594"/>
                      </a:lnTo>
                      <a:lnTo>
                        <a:pt x="2156" y="667"/>
                      </a:lnTo>
                      <a:lnTo>
                        <a:pt x="2153" y="676"/>
                      </a:lnTo>
                      <a:lnTo>
                        <a:pt x="2145" y="696"/>
                      </a:lnTo>
                      <a:lnTo>
                        <a:pt x="2137" y="709"/>
                      </a:lnTo>
                      <a:lnTo>
                        <a:pt x="2118" y="741"/>
                      </a:lnTo>
                      <a:lnTo>
                        <a:pt x="2114" y="746"/>
                      </a:lnTo>
                      <a:lnTo>
                        <a:pt x="2111" y="754"/>
                      </a:lnTo>
                      <a:lnTo>
                        <a:pt x="2078" y="814"/>
                      </a:lnTo>
                      <a:lnTo>
                        <a:pt x="2074" y="823"/>
                      </a:lnTo>
                      <a:lnTo>
                        <a:pt x="2066" y="841"/>
                      </a:lnTo>
                      <a:lnTo>
                        <a:pt x="2066" y="847"/>
                      </a:lnTo>
                      <a:lnTo>
                        <a:pt x="2059" y="878"/>
                      </a:lnTo>
                      <a:lnTo>
                        <a:pt x="2050" y="887"/>
                      </a:lnTo>
                      <a:lnTo>
                        <a:pt x="2043" y="905"/>
                      </a:lnTo>
                      <a:lnTo>
                        <a:pt x="2039" y="914"/>
                      </a:lnTo>
                      <a:lnTo>
                        <a:pt x="2024" y="943"/>
                      </a:lnTo>
                      <a:lnTo>
                        <a:pt x="2007" y="965"/>
                      </a:lnTo>
                      <a:lnTo>
                        <a:pt x="2003" y="970"/>
                      </a:lnTo>
                      <a:lnTo>
                        <a:pt x="1995" y="983"/>
                      </a:lnTo>
                      <a:lnTo>
                        <a:pt x="1972" y="1012"/>
                      </a:lnTo>
                      <a:lnTo>
                        <a:pt x="1937" y="1039"/>
                      </a:lnTo>
                      <a:lnTo>
                        <a:pt x="1933" y="1039"/>
                      </a:lnTo>
                      <a:lnTo>
                        <a:pt x="1916" y="1052"/>
                      </a:lnTo>
                      <a:lnTo>
                        <a:pt x="1908" y="1057"/>
                      </a:lnTo>
                      <a:lnTo>
                        <a:pt x="1904" y="1060"/>
                      </a:lnTo>
                      <a:lnTo>
                        <a:pt x="1897" y="1060"/>
                      </a:lnTo>
                      <a:lnTo>
                        <a:pt x="1885" y="1065"/>
                      </a:lnTo>
                      <a:lnTo>
                        <a:pt x="1878" y="1065"/>
                      </a:lnTo>
                      <a:lnTo>
                        <a:pt x="1874" y="1076"/>
                      </a:lnTo>
                      <a:lnTo>
                        <a:pt x="1859" y="1081"/>
                      </a:lnTo>
                      <a:lnTo>
                        <a:pt x="1851" y="1086"/>
                      </a:lnTo>
                      <a:lnTo>
                        <a:pt x="1846" y="1089"/>
                      </a:lnTo>
                      <a:lnTo>
                        <a:pt x="1843" y="1089"/>
                      </a:lnTo>
                      <a:lnTo>
                        <a:pt x="1830" y="1099"/>
                      </a:lnTo>
                      <a:lnTo>
                        <a:pt x="1826" y="1102"/>
                      </a:lnTo>
                      <a:lnTo>
                        <a:pt x="1810" y="1112"/>
                      </a:lnTo>
                      <a:lnTo>
                        <a:pt x="1807" y="1116"/>
                      </a:lnTo>
                      <a:lnTo>
                        <a:pt x="1799" y="1116"/>
                      </a:lnTo>
                      <a:lnTo>
                        <a:pt x="1791" y="1125"/>
                      </a:lnTo>
                      <a:lnTo>
                        <a:pt x="1784" y="1134"/>
                      </a:lnTo>
                      <a:lnTo>
                        <a:pt x="1775" y="1139"/>
                      </a:lnTo>
                      <a:lnTo>
                        <a:pt x="1772" y="1139"/>
                      </a:lnTo>
                      <a:lnTo>
                        <a:pt x="1764" y="1143"/>
                      </a:lnTo>
                      <a:lnTo>
                        <a:pt x="1757" y="1147"/>
                      </a:lnTo>
                      <a:lnTo>
                        <a:pt x="1752" y="1147"/>
                      </a:lnTo>
                      <a:lnTo>
                        <a:pt x="1743" y="1154"/>
                      </a:lnTo>
                      <a:lnTo>
                        <a:pt x="1739" y="1154"/>
                      </a:lnTo>
                      <a:lnTo>
                        <a:pt x="1732" y="1147"/>
                      </a:lnTo>
                      <a:lnTo>
                        <a:pt x="1728" y="1147"/>
                      </a:lnTo>
                      <a:lnTo>
                        <a:pt x="1716" y="1147"/>
                      </a:lnTo>
                      <a:lnTo>
                        <a:pt x="1713" y="1147"/>
                      </a:lnTo>
                      <a:lnTo>
                        <a:pt x="1709" y="1147"/>
                      </a:lnTo>
                      <a:lnTo>
                        <a:pt x="1705" y="1147"/>
                      </a:lnTo>
                      <a:lnTo>
                        <a:pt x="1697" y="1147"/>
                      </a:lnTo>
                      <a:lnTo>
                        <a:pt x="1693" y="1147"/>
                      </a:lnTo>
                      <a:lnTo>
                        <a:pt x="1690" y="1154"/>
                      </a:lnTo>
                      <a:lnTo>
                        <a:pt x="1686" y="1158"/>
                      </a:lnTo>
                      <a:lnTo>
                        <a:pt x="1681" y="1163"/>
                      </a:lnTo>
                      <a:lnTo>
                        <a:pt x="1674" y="1171"/>
                      </a:lnTo>
                      <a:lnTo>
                        <a:pt x="1670" y="1176"/>
                      </a:lnTo>
                      <a:lnTo>
                        <a:pt x="1667" y="1181"/>
                      </a:lnTo>
                      <a:lnTo>
                        <a:pt x="1661" y="1186"/>
                      </a:lnTo>
                      <a:lnTo>
                        <a:pt x="1657" y="1189"/>
                      </a:lnTo>
                      <a:lnTo>
                        <a:pt x="1652" y="1189"/>
                      </a:lnTo>
                      <a:lnTo>
                        <a:pt x="1649" y="1189"/>
                      </a:lnTo>
                      <a:lnTo>
                        <a:pt x="1641" y="1194"/>
                      </a:lnTo>
                      <a:lnTo>
                        <a:pt x="1638" y="1199"/>
                      </a:lnTo>
                      <a:lnTo>
                        <a:pt x="1634" y="1202"/>
                      </a:lnTo>
                      <a:lnTo>
                        <a:pt x="1629" y="1207"/>
                      </a:lnTo>
                      <a:lnTo>
                        <a:pt x="1622" y="1212"/>
                      </a:lnTo>
                      <a:lnTo>
                        <a:pt x="1610" y="1216"/>
                      </a:lnTo>
                      <a:lnTo>
                        <a:pt x="1607" y="1216"/>
                      </a:lnTo>
                      <a:lnTo>
                        <a:pt x="1599" y="1221"/>
                      </a:lnTo>
                      <a:lnTo>
                        <a:pt x="1596" y="1225"/>
                      </a:lnTo>
                      <a:lnTo>
                        <a:pt x="1587" y="1231"/>
                      </a:lnTo>
                      <a:lnTo>
                        <a:pt x="1587" y="1236"/>
                      </a:lnTo>
                      <a:lnTo>
                        <a:pt x="1584" y="1236"/>
                      </a:lnTo>
                      <a:lnTo>
                        <a:pt x="1580" y="1241"/>
                      </a:lnTo>
                      <a:lnTo>
                        <a:pt x="1576" y="1245"/>
                      </a:lnTo>
                      <a:lnTo>
                        <a:pt x="1570" y="1254"/>
                      </a:lnTo>
                      <a:lnTo>
                        <a:pt x="1567" y="1258"/>
                      </a:lnTo>
                      <a:lnTo>
                        <a:pt x="1563" y="1263"/>
                      </a:lnTo>
                      <a:lnTo>
                        <a:pt x="1555" y="1276"/>
                      </a:lnTo>
                      <a:lnTo>
                        <a:pt x="1551" y="1281"/>
                      </a:lnTo>
                      <a:lnTo>
                        <a:pt x="1544" y="1294"/>
                      </a:lnTo>
                      <a:lnTo>
                        <a:pt x="1544" y="1299"/>
                      </a:lnTo>
                      <a:lnTo>
                        <a:pt x="1544" y="1303"/>
                      </a:lnTo>
                      <a:lnTo>
                        <a:pt x="1544" y="1310"/>
                      </a:lnTo>
                      <a:lnTo>
                        <a:pt x="1539" y="1323"/>
                      </a:lnTo>
                      <a:lnTo>
                        <a:pt x="1539" y="1328"/>
                      </a:lnTo>
                      <a:lnTo>
                        <a:pt x="1539" y="1331"/>
                      </a:lnTo>
                      <a:lnTo>
                        <a:pt x="1539" y="1336"/>
                      </a:lnTo>
                      <a:lnTo>
                        <a:pt x="1539" y="1341"/>
                      </a:lnTo>
                      <a:lnTo>
                        <a:pt x="1539" y="1345"/>
                      </a:lnTo>
                      <a:lnTo>
                        <a:pt x="1535" y="1354"/>
                      </a:lnTo>
                      <a:lnTo>
                        <a:pt x="1532" y="1358"/>
                      </a:lnTo>
                      <a:lnTo>
                        <a:pt x="1532" y="1363"/>
                      </a:lnTo>
                      <a:lnTo>
                        <a:pt x="1528" y="1363"/>
                      </a:lnTo>
                      <a:lnTo>
                        <a:pt x="1528" y="1368"/>
                      </a:lnTo>
                      <a:lnTo>
                        <a:pt x="1520" y="1383"/>
                      </a:lnTo>
                      <a:lnTo>
                        <a:pt x="1520" y="1387"/>
                      </a:lnTo>
                      <a:lnTo>
                        <a:pt x="1512" y="1410"/>
                      </a:lnTo>
                      <a:lnTo>
                        <a:pt x="1509" y="1413"/>
                      </a:lnTo>
                      <a:lnTo>
                        <a:pt x="1502" y="1418"/>
                      </a:lnTo>
                      <a:lnTo>
                        <a:pt x="1497" y="1423"/>
                      </a:lnTo>
                      <a:lnTo>
                        <a:pt x="1497" y="1427"/>
                      </a:lnTo>
                      <a:lnTo>
                        <a:pt x="1486" y="1436"/>
                      </a:lnTo>
                      <a:lnTo>
                        <a:pt x="1480" y="1450"/>
                      </a:lnTo>
                      <a:lnTo>
                        <a:pt x="1476" y="1461"/>
                      </a:lnTo>
                      <a:lnTo>
                        <a:pt x="1461" y="1492"/>
                      </a:lnTo>
                      <a:lnTo>
                        <a:pt x="1457" y="1500"/>
                      </a:lnTo>
                      <a:lnTo>
                        <a:pt x="1450" y="1510"/>
                      </a:lnTo>
                      <a:lnTo>
                        <a:pt x="1445" y="1518"/>
                      </a:lnTo>
                      <a:lnTo>
                        <a:pt x="1438" y="1542"/>
                      </a:lnTo>
                      <a:lnTo>
                        <a:pt x="1434" y="1547"/>
                      </a:lnTo>
                      <a:lnTo>
                        <a:pt x="1430" y="1552"/>
                      </a:lnTo>
                      <a:lnTo>
                        <a:pt x="1422" y="1565"/>
                      </a:lnTo>
                      <a:lnTo>
                        <a:pt x="1422" y="1574"/>
                      </a:lnTo>
                      <a:lnTo>
                        <a:pt x="1411" y="1597"/>
                      </a:lnTo>
                      <a:lnTo>
                        <a:pt x="1393" y="1643"/>
                      </a:lnTo>
                      <a:lnTo>
                        <a:pt x="1386" y="1652"/>
                      </a:lnTo>
                      <a:lnTo>
                        <a:pt x="1379" y="1665"/>
                      </a:lnTo>
                      <a:lnTo>
                        <a:pt x="1374" y="1679"/>
                      </a:lnTo>
                      <a:lnTo>
                        <a:pt x="1367" y="1694"/>
                      </a:lnTo>
                      <a:lnTo>
                        <a:pt x="1363" y="1698"/>
                      </a:lnTo>
                      <a:lnTo>
                        <a:pt x="1354" y="1721"/>
                      </a:lnTo>
                      <a:lnTo>
                        <a:pt x="1347" y="1739"/>
                      </a:lnTo>
                      <a:lnTo>
                        <a:pt x="1340" y="1752"/>
                      </a:lnTo>
                      <a:lnTo>
                        <a:pt x="1340" y="1768"/>
                      </a:lnTo>
                      <a:lnTo>
                        <a:pt x="1328" y="1790"/>
                      </a:lnTo>
                      <a:lnTo>
                        <a:pt x="1328" y="1803"/>
                      </a:lnTo>
                      <a:lnTo>
                        <a:pt x="1324" y="1811"/>
                      </a:lnTo>
                      <a:lnTo>
                        <a:pt x="1324" y="1825"/>
                      </a:lnTo>
                      <a:lnTo>
                        <a:pt x="1324" y="1834"/>
                      </a:lnTo>
                      <a:lnTo>
                        <a:pt x="1328" y="1839"/>
                      </a:lnTo>
                      <a:lnTo>
                        <a:pt x="1328" y="1845"/>
                      </a:lnTo>
                      <a:lnTo>
                        <a:pt x="1328" y="1850"/>
                      </a:lnTo>
                      <a:lnTo>
                        <a:pt x="1332" y="1854"/>
                      </a:lnTo>
                      <a:lnTo>
                        <a:pt x="1335" y="1858"/>
                      </a:lnTo>
                      <a:lnTo>
                        <a:pt x="1340" y="1863"/>
                      </a:lnTo>
                      <a:lnTo>
                        <a:pt x="1340" y="1868"/>
                      </a:lnTo>
                      <a:lnTo>
                        <a:pt x="1335" y="1876"/>
                      </a:lnTo>
                      <a:lnTo>
                        <a:pt x="1332" y="1903"/>
                      </a:lnTo>
                      <a:lnTo>
                        <a:pt x="1332" y="1908"/>
                      </a:lnTo>
                      <a:lnTo>
                        <a:pt x="1328" y="1932"/>
                      </a:lnTo>
                      <a:lnTo>
                        <a:pt x="1321" y="1940"/>
                      </a:lnTo>
                      <a:lnTo>
                        <a:pt x="1321" y="1945"/>
                      </a:lnTo>
                      <a:lnTo>
                        <a:pt x="1309" y="1967"/>
                      </a:lnTo>
                      <a:lnTo>
                        <a:pt x="1309" y="1972"/>
                      </a:lnTo>
                      <a:lnTo>
                        <a:pt x="1303" y="1977"/>
                      </a:lnTo>
                      <a:lnTo>
                        <a:pt x="1295" y="1985"/>
                      </a:lnTo>
                      <a:lnTo>
                        <a:pt x="1292" y="1995"/>
                      </a:lnTo>
                      <a:lnTo>
                        <a:pt x="1288" y="2005"/>
                      </a:lnTo>
                      <a:lnTo>
                        <a:pt x="1288" y="2010"/>
                      </a:lnTo>
                      <a:lnTo>
                        <a:pt x="1288" y="2014"/>
                      </a:lnTo>
                      <a:lnTo>
                        <a:pt x="1288" y="2024"/>
                      </a:lnTo>
                      <a:lnTo>
                        <a:pt x="1283" y="2032"/>
                      </a:lnTo>
                      <a:lnTo>
                        <a:pt x="1280" y="2037"/>
                      </a:lnTo>
                      <a:lnTo>
                        <a:pt x="1272" y="2050"/>
                      </a:lnTo>
                      <a:lnTo>
                        <a:pt x="1264" y="2059"/>
                      </a:lnTo>
                      <a:lnTo>
                        <a:pt x="1250" y="2079"/>
                      </a:lnTo>
                      <a:lnTo>
                        <a:pt x="1241" y="2083"/>
                      </a:lnTo>
                      <a:lnTo>
                        <a:pt x="1234" y="2087"/>
                      </a:lnTo>
                      <a:lnTo>
                        <a:pt x="1230" y="2092"/>
                      </a:lnTo>
                      <a:lnTo>
                        <a:pt x="1227" y="2096"/>
                      </a:lnTo>
                      <a:lnTo>
                        <a:pt x="1222" y="2101"/>
                      </a:lnTo>
                      <a:lnTo>
                        <a:pt x="1212" y="2109"/>
                      </a:lnTo>
                      <a:lnTo>
                        <a:pt x="1209" y="2114"/>
                      </a:lnTo>
                      <a:lnTo>
                        <a:pt x="1205" y="2114"/>
                      </a:lnTo>
                      <a:lnTo>
                        <a:pt x="1205" y="2119"/>
                      </a:lnTo>
                      <a:lnTo>
                        <a:pt x="1186" y="2127"/>
                      </a:lnTo>
                      <a:lnTo>
                        <a:pt x="1182" y="2132"/>
                      </a:lnTo>
                      <a:lnTo>
                        <a:pt x="1175" y="2137"/>
                      </a:lnTo>
                      <a:lnTo>
                        <a:pt x="1163" y="2141"/>
                      </a:lnTo>
                      <a:lnTo>
                        <a:pt x="1151" y="2150"/>
                      </a:lnTo>
                      <a:lnTo>
                        <a:pt x="1140" y="2156"/>
                      </a:lnTo>
                      <a:lnTo>
                        <a:pt x="1118" y="2169"/>
                      </a:lnTo>
                      <a:lnTo>
                        <a:pt x="1118" y="2174"/>
                      </a:lnTo>
                      <a:lnTo>
                        <a:pt x="1115" y="2174"/>
                      </a:lnTo>
                      <a:lnTo>
                        <a:pt x="1107" y="2183"/>
                      </a:lnTo>
                      <a:lnTo>
                        <a:pt x="1092" y="2192"/>
                      </a:lnTo>
                      <a:lnTo>
                        <a:pt x="1088" y="2201"/>
                      </a:lnTo>
                      <a:lnTo>
                        <a:pt x="1080" y="2209"/>
                      </a:lnTo>
                      <a:lnTo>
                        <a:pt x="1076" y="2219"/>
                      </a:lnTo>
                      <a:lnTo>
                        <a:pt x="1065" y="2224"/>
                      </a:lnTo>
                      <a:lnTo>
                        <a:pt x="1057" y="2230"/>
                      </a:lnTo>
                      <a:lnTo>
                        <a:pt x="1046" y="2243"/>
                      </a:lnTo>
                      <a:lnTo>
                        <a:pt x="1042" y="2248"/>
                      </a:lnTo>
                      <a:lnTo>
                        <a:pt x="1036" y="2248"/>
                      </a:lnTo>
                      <a:lnTo>
                        <a:pt x="1033" y="2256"/>
                      </a:lnTo>
                      <a:lnTo>
                        <a:pt x="1017" y="2266"/>
                      </a:lnTo>
                      <a:lnTo>
                        <a:pt x="1010" y="2274"/>
                      </a:lnTo>
                      <a:lnTo>
                        <a:pt x="1005" y="2279"/>
                      </a:lnTo>
                      <a:lnTo>
                        <a:pt x="994" y="2292"/>
                      </a:lnTo>
                      <a:lnTo>
                        <a:pt x="990" y="2292"/>
                      </a:lnTo>
                      <a:lnTo>
                        <a:pt x="990" y="2296"/>
                      </a:lnTo>
                      <a:lnTo>
                        <a:pt x="986" y="2296"/>
                      </a:lnTo>
                      <a:lnTo>
                        <a:pt x="975" y="2308"/>
                      </a:lnTo>
                      <a:lnTo>
                        <a:pt x="971" y="2312"/>
                      </a:lnTo>
                      <a:lnTo>
                        <a:pt x="963" y="2321"/>
                      </a:lnTo>
                      <a:lnTo>
                        <a:pt x="959" y="2325"/>
                      </a:lnTo>
                      <a:lnTo>
                        <a:pt x="955" y="2330"/>
                      </a:lnTo>
                      <a:lnTo>
                        <a:pt x="919" y="2348"/>
                      </a:lnTo>
                      <a:lnTo>
                        <a:pt x="914" y="2352"/>
                      </a:lnTo>
                      <a:lnTo>
                        <a:pt x="911" y="2361"/>
                      </a:lnTo>
                      <a:lnTo>
                        <a:pt x="907" y="2361"/>
                      </a:lnTo>
                      <a:lnTo>
                        <a:pt x="904" y="2361"/>
                      </a:lnTo>
                      <a:lnTo>
                        <a:pt x="900" y="2365"/>
                      </a:lnTo>
                      <a:lnTo>
                        <a:pt x="900" y="2370"/>
                      </a:lnTo>
                      <a:lnTo>
                        <a:pt x="888" y="2379"/>
                      </a:lnTo>
                      <a:lnTo>
                        <a:pt x="884" y="2385"/>
                      </a:lnTo>
                      <a:lnTo>
                        <a:pt x="881" y="2390"/>
                      </a:lnTo>
                      <a:lnTo>
                        <a:pt x="872" y="2394"/>
                      </a:lnTo>
                      <a:lnTo>
                        <a:pt x="869" y="2394"/>
                      </a:lnTo>
                      <a:lnTo>
                        <a:pt x="855" y="2399"/>
                      </a:lnTo>
                      <a:lnTo>
                        <a:pt x="852" y="2403"/>
                      </a:lnTo>
                      <a:lnTo>
                        <a:pt x="843" y="2408"/>
                      </a:lnTo>
                      <a:lnTo>
                        <a:pt x="836" y="2408"/>
                      </a:lnTo>
                      <a:lnTo>
                        <a:pt x="832" y="2412"/>
                      </a:lnTo>
                      <a:lnTo>
                        <a:pt x="820" y="2417"/>
                      </a:lnTo>
                      <a:lnTo>
                        <a:pt x="809" y="2425"/>
                      </a:lnTo>
                      <a:lnTo>
                        <a:pt x="806" y="2425"/>
                      </a:lnTo>
                      <a:lnTo>
                        <a:pt x="806" y="2430"/>
                      </a:lnTo>
                      <a:lnTo>
                        <a:pt x="801" y="2430"/>
                      </a:lnTo>
                      <a:lnTo>
                        <a:pt x="801" y="2435"/>
                      </a:lnTo>
                      <a:lnTo>
                        <a:pt x="794" y="2435"/>
                      </a:lnTo>
                      <a:lnTo>
                        <a:pt x="790" y="2438"/>
                      </a:lnTo>
                      <a:lnTo>
                        <a:pt x="782" y="2443"/>
                      </a:lnTo>
                      <a:lnTo>
                        <a:pt x="778" y="2448"/>
                      </a:lnTo>
                      <a:lnTo>
                        <a:pt x="768" y="2456"/>
                      </a:lnTo>
                      <a:lnTo>
                        <a:pt x="765" y="2464"/>
                      </a:lnTo>
                      <a:lnTo>
                        <a:pt x="758" y="2467"/>
                      </a:lnTo>
                      <a:lnTo>
                        <a:pt x="749" y="2481"/>
                      </a:lnTo>
                      <a:lnTo>
                        <a:pt x="746" y="2481"/>
                      </a:lnTo>
                      <a:lnTo>
                        <a:pt x="742" y="2490"/>
                      </a:lnTo>
                      <a:lnTo>
                        <a:pt x="735" y="2499"/>
                      </a:lnTo>
                      <a:lnTo>
                        <a:pt x="726" y="2507"/>
                      </a:lnTo>
                      <a:lnTo>
                        <a:pt x="723" y="2517"/>
                      </a:lnTo>
                      <a:lnTo>
                        <a:pt x="715" y="2525"/>
                      </a:lnTo>
                      <a:lnTo>
                        <a:pt x="711" y="2530"/>
                      </a:lnTo>
                      <a:lnTo>
                        <a:pt x="703" y="2546"/>
                      </a:lnTo>
                      <a:lnTo>
                        <a:pt x="696" y="2559"/>
                      </a:lnTo>
                      <a:lnTo>
                        <a:pt x="693" y="2572"/>
                      </a:lnTo>
                      <a:lnTo>
                        <a:pt x="688" y="2577"/>
                      </a:lnTo>
                      <a:lnTo>
                        <a:pt x="688" y="2581"/>
                      </a:lnTo>
                      <a:lnTo>
                        <a:pt x="688" y="2585"/>
                      </a:lnTo>
                      <a:lnTo>
                        <a:pt x="693" y="2590"/>
                      </a:lnTo>
                      <a:lnTo>
                        <a:pt x="696" y="2590"/>
                      </a:lnTo>
                      <a:lnTo>
                        <a:pt x="700" y="2585"/>
                      </a:lnTo>
                      <a:lnTo>
                        <a:pt x="703" y="2581"/>
                      </a:lnTo>
                      <a:lnTo>
                        <a:pt x="703" y="2577"/>
                      </a:lnTo>
                      <a:lnTo>
                        <a:pt x="715" y="2567"/>
                      </a:lnTo>
                      <a:lnTo>
                        <a:pt x="723" y="2564"/>
                      </a:lnTo>
                      <a:lnTo>
                        <a:pt x="730" y="2559"/>
                      </a:lnTo>
                      <a:lnTo>
                        <a:pt x="735" y="2554"/>
                      </a:lnTo>
                      <a:lnTo>
                        <a:pt x="738" y="2554"/>
                      </a:lnTo>
                      <a:lnTo>
                        <a:pt x="742" y="2550"/>
                      </a:lnTo>
                      <a:lnTo>
                        <a:pt x="746" y="2535"/>
                      </a:lnTo>
                      <a:lnTo>
                        <a:pt x="746" y="2525"/>
                      </a:lnTo>
                      <a:lnTo>
                        <a:pt x="749" y="2517"/>
                      </a:lnTo>
                      <a:lnTo>
                        <a:pt x="749" y="2507"/>
                      </a:lnTo>
                      <a:lnTo>
                        <a:pt x="754" y="2507"/>
                      </a:lnTo>
                      <a:lnTo>
                        <a:pt x="754" y="2499"/>
                      </a:lnTo>
                      <a:lnTo>
                        <a:pt x="758" y="2499"/>
                      </a:lnTo>
                      <a:lnTo>
                        <a:pt x="758" y="2494"/>
                      </a:lnTo>
                      <a:lnTo>
                        <a:pt x="758" y="2490"/>
                      </a:lnTo>
                      <a:lnTo>
                        <a:pt x="761" y="2485"/>
                      </a:lnTo>
                      <a:lnTo>
                        <a:pt x="778" y="2467"/>
                      </a:lnTo>
                      <a:lnTo>
                        <a:pt x="790" y="2456"/>
                      </a:lnTo>
                      <a:lnTo>
                        <a:pt x="790" y="2452"/>
                      </a:lnTo>
                      <a:lnTo>
                        <a:pt x="797" y="2448"/>
                      </a:lnTo>
                      <a:lnTo>
                        <a:pt x="806" y="2438"/>
                      </a:lnTo>
                      <a:lnTo>
                        <a:pt x="813" y="2435"/>
                      </a:lnTo>
                      <a:lnTo>
                        <a:pt x="817" y="2438"/>
                      </a:lnTo>
                      <a:lnTo>
                        <a:pt x="820" y="2443"/>
                      </a:lnTo>
                      <a:lnTo>
                        <a:pt x="824" y="2448"/>
                      </a:lnTo>
                      <a:lnTo>
                        <a:pt x="824" y="2443"/>
                      </a:lnTo>
                      <a:lnTo>
                        <a:pt x="829" y="2435"/>
                      </a:lnTo>
                      <a:lnTo>
                        <a:pt x="832" y="2430"/>
                      </a:lnTo>
                      <a:lnTo>
                        <a:pt x="840" y="2425"/>
                      </a:lnTo>
                      <a:lnTo>
                        <a:pt x="840" y="2430"/>
                      </a:lnTo>
                      <a:lnTo>
                        <a:pt x="843" y="2430"/>
                      </a:lnTo>
                      <a:lnTo>
                        <a:pt x="843" y="2435"/>
                      </a:lnTo>
                      <a:lnTo>
                        <a:pt x="836" y="2452"/>
                      </a:lnTo>
                      <a:lnTo>
                        <a:pt x="832" y="2456"/>
                      </a:lnTo>
                      <a:lnTo>
                        <a:pt x="824" y="2467"/>
                      </a:lnTo>
                      <a:lnTo>
                        <a:pt x="824" y="2481"/>
                      </a:lnTo>
                      <a:lnTo>
                        <a:pt x="832" y="2485"/>
                      </a:lnTo>
                      <a:lnTo>
                        <a:pt x="832" y="2490"/>
                      </a:lnTo>
                      <a:lnTo>
                        <a:pt x="824" y="2499"/>
                      </a:lnTo>
                      <a:lnTo>
                        <a:pt x="817" y="2512"/>
                      </a:lnTo>
                      <a:lnTo>
                        <a:pt x="813" y="2517"/>
                      </a:lnTo>
                      <a:lnTo>
                        <a:pt x="809" y="2517"/>
                      </a:lnTo>
                      <a:lnTo>
                        <a:pt x="806" y="2517"/>
                      </a:lnTo>
                      <a:lnTo>
                        <a:pt x="801" y="2530"/>
                      </a:lnTo>
                      <a:lnTo>
                        <a:pt x="797" y="2541"/>
                      </a:lnTo>
                      <a:lnTo>
                        <a:pt x="790" y="2546"/>
                      </a:lnTo>
                      <a:lnTo>
                        <a:pt x="778" y="2559"/>
                      </a:lnTo>
                      <a:lnTo>
                        <a:pt x="768" y="2567"/>
                      </a:lnTo>
                      <a:lnTo>
                        <a:pt x="758" y="2581"/>
                      </a:lnTo>
                      <a:lnTo>
                        <a:pt x="754" y="2590"/>
                      </a:lnTo>
                      <a:lnTo>
                        <a:pt x="723" y="2628"/>
                      </a:lnTo>
                      <a:lnTo>
                        <a:pt x="715" y="2632"/>
                      </a:lnTo>
                      <a:lnTo>
                        <a:pt x="715" y="2636"/>
                      </a:lnTo>
                      <a:lnTo>
                        <a:pt x="711" y="2641"/>
                      </a:lnTo>
                      <a:lnTo>
                        <a:pt x="700" y="2664"/>
                      </a:lnTo>
                      <a:lnTo>
                        <a:pt x="693" y="2672"/>
                      </a:lnTo>
                      <a:lnTo>
                        <a:pt x="684" y="2686"/>
                      </a:lnTo>
                      <a:lnTo>
                        <a:pt x="678" y="2701"/>
                      </a:lnTo>
                      <a:lnTo>
                        <a:pt x="659" y="2733"/>
                      </a:lnTo>
                      <a:lnTo>
                        <a:pt x="655" y="2741"/>
                      </a:lnTo>
                      <a:lnTo>
                        <a:pt x="648" y="2749"/>
                      </a:lnTo>
                      <a:lnTo>
                        <a:pt x="644" y="2754"/>
                      </a:lnTo>
                      <a:lnTo>
                        <a:pt x="639" y="2759"/>
                      </a:lnTo>
                      <a:lnTo>
                        <a:pt x="636" y="2763"/>
                      </a:lnTo>
                      <a:lnTo>
                        <a:pt x="625" y="2778"/>
                      </a:lnTo>
                      <a:lnTo>
                        <a:pt x="621" y="2788"/>
                      </a:lnTo>
                      <a:lnTo>
                        <a:pt x="613" y="2801"/>
                      </a:lnTo>
                      <a:lnTo>
                        <a:pt x="609" y="2810"/>
                      </a:lnTo>
                      <a:lnTo>
                        <a:pt x="602" y="2819"/>
                      </a:lnTo>
                      <a:lnTo>
                        <a:pt x="592" y="2833"/>
                      </a:lnTo>
                      <a:lnTo>
                        <a:pt x="584" y="2836"/>
                      </a:lnTo>
                      <a:lnTo>
                        <a:pt x="580" y="2848"/>
                      </a:lnTo>
                      <a:lnTo>
                        <a:pt x="577" y="2852"/>
                      </a:lnTo>
                      <a:lnTo>
                        <a:pt x="565" y="2862"/>
                      </a:lnTo>
                      <a:lnTo>
                        <a:pt x="565" y="2865"/>
                      </a:lnTo>
                      <a:lnTo>
                        <a:pt x="565" y="2870"/>
                      </a:lnTo>
                      <a:lnTo>
                        <a:pt x="573" y="2870"/>
                      </a:lnTo>
                      <a:lnTo>
                        <a:pt x="580" y="2870"/>
                      </a:lnTo>
                      <a:lnTo>
                        <a:pt x="584" y="2870"/>
                      </a:lnTo>
                      <a:lnTo>
                        <a:pt x="584" y="2875"/>
                      </a:lnTo>
                      <a:lnTo>
                        <a:pt x="588" y="2883"/>
                      </a:lnTo>
                      <a:lnTo>
                        <a:pt x="588" y="2892"/>
                      </a:lnTo>
                      <a:lnTo>
                        <a:pt x="584" y="2901"/>
                      </a:lnTo>
                      <a:lnTo>
                        <a:pt x="584" y="2905"/>
                      </a:lnTo>
                      <a:lnTo>
                        <a:pt x="577" y="2919"/>
                      </a:lnTo>
                      <a:lnTo>
                        <a:pt x="577" y="2925"/>
                      </a:lnTo>
                      <a:lnTo>
                        <a:pt x="573" y="2930"/>
                      </a:lnTo>
                      <a:lnTo>
                        <a:pt x="570" y="2939"/>
                      </a:lnTo>
                      <a:lnTo>
                        <a:pt x="565" y="2944"/>
                      </a:lnTo>
                      <a:lnTo>
                        <a:pt x="565" y="2948"/>
                      </a:lnTo>
                      <a:lnTo>
                        <a:pt x="561" y="2948"/>
                      </a:lnTo>
                      <a:lnTo>
                        <a:pt x="557" y="2952"/>
                      </a:lnTo>
                      <a:lnTo>
                        <a:pt x="545" y="2957"/>
                      </a:lnTo>
                      <a:lnTo>
                        <a:pt x="538" y="2957"/>
                      </a:lnTo>
                      <a:lnTo>
                        <a:pt x="526" y="2965"/>
                      </a:lnTo>
                      <a:lnTo>
                        <a:pt x="515" y="2975"/>
                      </a:lnTo>
                      <a:lnTo>
                        <a:pt x="515" y="2978"/>
                      </a:lnTo>
                      <a:lnTo>
                        <a:pt x="512" y="2983"/>
                      </a:lnTo>
                      <a:lnTo>
                        <a:pt x="508" y="2992"/>
                      </a:lnTo>
                      <a:lnTo>
                        <a:pt x="498" y="3012"/>
                      </a:lnTo>
                      <a:lnTo>
                        <a:pt x="498" y="3017"/>
                      </a:lnTo>
                      <a:lnTo>
                        <a:pt x="490" y="3030"/>
                      </a:lnTo>
                      <a:lnTo>
                        <a:pt x="490" y="3034"/>
                      </a:lnTo>
                      <a:lnTo>
                        <a:pt x="483" y="3047"/>
                      </a:lnTo>
                      <a:lnTo>
                        <a:pt x="479" y="3057"/>
                      </a:lnTo>
                      <a:lnTo>
                        <a:pt x="479" y="3065"/>
                      </a:lnTo>
                      <a:lnTo>
                        <a:pt x="479" y="3076"/>
                      </a:lnTo>
                      <a:lnTo>
                        <a:pt x="474" y="3081"/>
                      </a:lnTo>
                      <a:lnTo>
                        <a:pt x="471" y="3091"/>
                      </a:lnTo>
                      <a:lnTo>
                        <a:pt x="471" y="3094"/>
                      </a:lnTo>
                      <a:lnTo>
                        <a:pt x="471" y="3099"/>
                      </a:lnTo>
                      <a:lnTo>
                        <a:pt x="463" y="3121"/>
                      </a:lnTo>
                      <a:lnTo>
                        <a:pt x="460" y="3139"/>
                      </a:lnTo>
                      <a:lnTo>
                        <a:pt x="455" y="3144"/>
                      </a:lnTo>
                      <a:lnTo>
                        <a:pt x="448" y="3147"/>
                      </a:lnTo>
                      <a:lnTo>
                        <a:pt x="444" y="3155"/>
                      </a:lnTo>
                      <a:lnTo>
                        <a:pt x="432" y="3163"/>
                      </a:lnTo>
                      <a:lnTo>
                        <a:pt x="432" y="3168"/>
                      </a:lnTo>
                      <a:lnTo>
                        <a:pt x="425" y="3176"/>
                      </a:lnTo>
                      <a:lnTo>
                        <a:pt x="415" y="3181"/>
                      </a:lnTo>
                      <a:lnTo>
                        <a:pt x="412" y="3189"/>
                      </a:lnTo>
                      <a:lnTo>
                        <a:pt x="408" y="3204"/>
                      </a:lnTo>
                      <a:lnTo>
                        <a:pt x="403" y="3208"/>
                      </a:lnTo>
                      <a:lnTo>
                        <a:pt x="400" y="3232"/>
                      </a:lnTo>
                      <a:lnTo>
                        <a:pt x="389" y="3246"/>
                      </a:lnTo>
                      <a:lnTo>
                        <a:pt x="380" y="3263"/>
                      </a:lnTo>
                      <a:lnTo>
                        <a:pt x="377" y="3263"/>
                      </a:lnTo>
                      <a:lnTo>
                        <a:pt x="369" y="3273"/>
                      </a:lnTo>
                      <a:lnTo>
                        <a:pt x="357" y="3281"/>
                      </a:lnTo>
                      <a:lnTo>
                        <a:pt x="346" y="3290"/>
                      </a:lnTo>
                      <a:lnTo>
                        <a:pt x="342" y="3290"/>
                      </a:lnTo>
                      <a:lnTo>
                        <a:pt x="338" y="3294"/>
                      </a:lnTo>
                      <a:lnTo>
                        <a:pt x="331" y="3294"/>
                      </a:lnTo>
                      <a:lnTo>
                        <a:pt x="325" y="3294"/>
                      </a:lnTo>
                      <a:lnTo>
                        <a:pt x="321" y="3290"/>
                      </a:lnTo>
                      <a:lnTo>
                        <a:pt x="302" y="3273"/>
                      </a:lnTo>
                      <a:lnTo>
                        <a:pt x="302" y="3276"/>
                      </a:lnTo>
                      <a:lnTo>
                        <a:pt x="298" y="3276"/>
                      </a:lnTo>
                      <a:lnTo>
                        <a:pt x="283" y="3294"/>
                      </a:lnTo>
                      <a:lnTo>
                        <a:pt x="270" y="3299"/>
                      </a:lnTo>
                      <a:lnTo>
                        <a:pt x="248" y="3310"/>
                      </a:lnTo>
                      <a:lnTo>
                        <a:pt x="248" y="3315"/>
                      </a:lnTo>
                      <a:lnTo>
                        <a:pt x="240" y="3315"/>
                      </a:lnTo>
                      <a:lnTo>
                        <a:pt x="234" y="3323"/>
                      </a:lnTo>
                      <a:lnTo>
                        <a:pt x="240" y="3323"/>
                      </a:lnTo>
                      <a:lnTo>
                        <a:pt x="240" y="3328"/>
                      </a:lnTo>
                      <a:lnTo>
                        <a:pt x="244" y="3328"/>
                      </a:lnTo>
                      <a:lnTo>
                        <a:pt x="234" y="3337"/>
                      </a:lnTo>
                      <a:lnTo>
                        <a:pt x="231" y="3341"/>
                      </a:lnTo>
                      <a:lnTo>
                        <a:pt x="219" y="3350"/>
                      </a:lnTo>
                      <a:lnTo>
                        <a:pt x="219" y="3355"/>
                      </a:lnTo>
                      <a:lnTo>
                        <a:pt x="215" y="3359"/>
                      </a:lnTo>
                      <a:lnTo>
                        <a:pt x="204" y="3368"/>
                      </a:lnTo>
                      <a:lnTo>
                        <a:pt x="199" y="3381"/>
                      </a:lnTo>
                      <a:lnTo>
                        <a:pt x="192" y="3392"/>
                      </a:lnTo>
                      <a:lnTo>
                        <a:pt x="188" y="3402"/>
                      </a:lnTo>
                      <a:lnTo>
                        <a:pt x="181" y="3419"/>
                      </a:lnTo>
                      <a:lnTo>
                        <a:pt x="181" y="3423"/>
                      </a:lnTo>
                      <a:lnTo>
                        <a:pt x="176" y="3432"/>
                      </a:lnTo>
                      <a:lnTo>
                        <a:pt x="173" y="3445"/>
                      </a:lnTo>
                      <a:lnTo>
                        <a:pt x="166" y="3466"/>
                      </a:lnTo>
                      <a:lnTo>
                        <a:pt x="166" y="3470"/>
                      </a:lnTo>
                      <a:lnTo>
                        <a:pt x="166" y="3474"/>
                      </a:lnTo>
                      <a:lnTo>
                        <a:pt x="162" y="3484"/>
                      </a:lnTo>
                      <a:lnTo>
                        <a:pt x="162" y="3489"/>
                      </a:lnTo>
                      <a:lnTo>
                        <a:pt x="157" y="3492"/>
                      </a:lnTo>
                      <a:lnTo>
                        <a:pt x="147" y="3492"/>
                      </a:lnTo>
                      <a:lnTo>
                        <a:pt x="144" y="3497"/>
                      </a:lnTo>
                      <a:lnTo>
                        <a:pt x="144" y="3502"/>
                      </a:lnTo>
                      <a:lnTo>
                        <a:pt x="140" y="3505"/>
                      </a:lnTo>
                      <a:lnTo>
                        <a:pt x="137" y="3505"/>
                      </a:lnTo>
                      <a:lnTo>
                        <a:pt x="137" y="3515"/>
                      </a:lnTo>
                      <a:lnTo>
                        <a:pt x="137" y="3519"/>
                      </a:lnTo>
                      <a:lnTo>
                        <a:pt x="133" y="3523"/>
                      </a:lnTo>
                      <a:lnTo>
                        <a:pt x="125" y="3528"/>
                      </a:lnTo>
                      <a:lnTo>
                        <a:pt x="125" y="3532"/>
                      </a:lnTo>
                      <a:lnTo>
                        <a:pt x="125" y="3539"/>
                      </a:lnTo>
                      <a:lnTo>
                        <a:pt x="129" y="3552"/>
                      </a:lnTo>
                      <a:lnTo>
                        <a:pt x="129" y="3561"/>
                      </a:lnTo>
                      <a:lnTo>
                        <a:pt x="129" y="3566"/>
                      </a:lnTo>
                      <a:lnTo>
                        <a:pt x="125" y="3570"/>
                      </a:lnTo>
                      <a:lnTo>
                        <a:pt x="125" y="3574"/>
                      </a:lnTo>
                      <a:lnTo>
                        <a:pt x="117" y="3579"/>
                      </a:lnTo>
                      <a:lnTo>
                        <a:pt x="114" y="3584"/>
                      </a:lnTo>
                      <a:lnTo>
                        <a:pt x="114" y="3592"/>
                      </a:lnTo>
                      <a:lnTo>
                        <a:pt x="114" y="3597"/>
                      </a:lnTo>
                      <a:lnTo>
                        <a:pt x="110" y="3610"/>
                      </a:lnTo>
                      <a:lnTo>
                        <a:pt x="110" y="3616"/>
                      </a:lnTo>
                      <a:lnTo>
                        <a:pt x="105" y="3626"/>
                      </a:lnTo>
                      <a:lnTo>
                        <a:pt x="105" y="3648"/>
                      </a:lnTo>
                      <a:lnTo>
                        <a:pt x="105" y="3661"/>
                      </a:lnTo>
                      <a:lnTo>
                        <a:pt x="102" y="3679"/>
                      </a:lnTo>
                      <a:lnTo>
                        <a:pt x="98" y="3695"/>
                      </a:lnTo>
                      <a:lnTo>
                        <a:pt x="91" y="3713"/>
                      </a:lnTo>
                      <a:lnTo>
                        <a:pt x="86" y="3716"/>
                      </a:lnTo>
                      <a:lnTo>
                        <a:pt x="82" y="3730"/>
                      </a:lnTo>
                      <a:lnTo>
                        <a:pt x="82" y="3734"/>
                      </a:lnTo>
                      <a:lnTo>
                        <a:pt x="79" y="3748"/>
                      </a:lnTo>
                      <a:lnTo>
                        <a:pt x="75" y="3757"/>
                      </a:lnTo>
                      <a:lnTo>
                        <a:pt x="72" y="3790"/>
                      </a:lnTo>
                      <a:lnTo>
                        <a:pt x="67" y="3795"/>
                      </a:lnTo>
                      <a:lnTo>
                        <a:pt x="63" y="3813"/>
                      </a:lnTo>
                      <a:lnTo>
                        <a:pt x="63" y="3821"/>
                      </a:lnTo>
                      <a:lnTo>
                        <a:pt x="53" y="3835"/>
                      </a:lnTo>
                      <a:lnTo>
                        <a:pt x="50" y="3855"/>
                      </a:lnTo>
                      <a:lnTo>
                        <a:pt x="46" y="3859"/>
                      </a:lnTo>
                      <a:lnTo>
                        <a:pt x="43" y="3868"/>
                      </a:lnTo>
                      <a:lnTo>
                        <a:pt x="39" y="3877"/>
                      </a:lnTo>
                      <a:lnTo>
                        <a:pt x="39" y="3890"/>
                      </a:lnTo>
                      <a:lnTo>
                        <a:pt x="39" y="3913"/>
                      </a:lnTo>
                      <a:lnTo>
                        <a:pt x="34" y="3924"/>
                      </a:lnTo>
                      <a:lnTo>
                        <a:pt x="31" y="3932"/>
                      </a:lnTo>
                      <a:lnTo>
                        <a:pt x="27" y="3942"/>
                      </a:lnTo>
                      <a:lnTo>
                        <a:pt x="27" y="3945"/>
                      </a:lnTo>
                      <a:lnTo>
                        <a:pt x="23" y="3968"/>
                      </a:lnTo>
                      <a:lnTo>
                        <a:pt x="20" y="3972"/>
                      </a:lnTo>
                      <a:lnTo>
                        <a:pt x="15" y="3985"/>
                      </a:lnTo>
                      <a:lnTo>
                        <a:pt x="15" y="3990"/>
                      </a:lnTo>
                      <a:lnTo>
                        <a:pt x="15" y="3995"/>
                      </a:lnTo>
                      <a:lnTo>
                        <a:pt x="11" y="4001"/>
                      </a:lnTo>
                      <a:lnTo>
                        <a:pt x="8" y="4014"/>
                      </a:lnTo>
                      <a:lnTo>
                        <a:pt x="4" y="4029"/>
                      </a:lnTo>
                      <a:lnTo>
                        <a:pt x="0" y="4032"/>
                      </a:lnTo>
                      <a:lnTo>
                        <a:pt x="0" y="4037"/>
                      </a:lnTo>
                      <a:lnTo>
                        <a:pt x="0" y="4042"/>
                      </a:lnTo>
                      <a:lnTo>
                        <a:pt x="0" y="4046"/>
                      </a:lnTo>
                      <a:lnTo>
                        <a:pt x="4" y="4050"/>
                      </a:lnTo>
                      <a:lnTo>
                        <a:pt x="11" y="4055"/>
                      </a:lnTo>
                      <a:lnTo>
                        <a:pt x="11" y="4064"/>
                      </a:lnTo>
                      <a:lnTo>
                        <a:pt x="15" y="4072"/>
                      </a:lnTo>
                      <a:lnTo>
                        <a:pt x="15" y="4064"/>
                      </a:lnTo>
                      <a:lnTo>
                        <a:pt x="15" y="4050"/>
                      </a:lnTo>
                      <a:lnTo>
                        <a:pt x="15" y="4042"/>
                      </a:lnTo>
                      <a:lnTo>
                        <a:pt x="20" y="4037"/>
                      </a:lnTo>
                      <a:lnTo>
                        <a:pt x="23" y="4024"/>
                      </a:lnTo>
                      <a:lnTo>
                        <a:pt x="23" y="4019"/>
                      </a:lnTo>
                      <a:lnTo>
                        <a:pt x="27" y="4011"/>
                      </a:lnTo>
                      <a:lnTo>
                        <a:pt x="27" y="4001"/>
                      </a:lnTo>
                      <a:lnTo>
                        <a:pt x="31" y="3990"/>
                      </a:lnTo>
                      <a:lnTo>
                        <a:pt x="34" y="3977"/>
                      </a:lnTo>
                      <a:lnTo>
                        <a:pt x="39" y="3972"/>
                      </a:lnTo>
                      <a:lnTo>
                        <a:pt x="39" y="3968"/>
                      </a:lnTo>
                      <a:lnTo>
                        <a:pt x="43" y="3955"/>
                      </a:lnTo>
                      <a:lnTo>
                        <a:pt x="43" y="3950"/>
                      </a:lnTo>
                      <a:lnTo>
                        <a:pt x="46" y="3942"/>
                      </a:lnTo>
                      <a:lnTo>
                        <a:pt x="46" y="3929"/>
                      </a:lnTo>
                      <a:lnTo>
                        <a:pt x="72" y="3855"/>
                      </a:lnTo>
                      <a:lnTo>
                        <a:pt x="79" y="3839"/>
                      </a:lnTo>
                      <a:lnTo>
                        <a:pt x="82" y="3821"/>
                      </a:lnTo>
                      <a:lnTo>
                        <a:pt x="105" y="3790"/>
                      </a:lnTo>
                      <a:lnTo>
                        <a:pt x="137" y="3790"/>
                      </a:lnTo>
                      <a:lnTo>
                        <a:pt x="227" y="3790"/>
                      </a:lnTo>
                      <a:lnTo>
                        <a:pt x="321" y="3803"/>
                      </a:lnTo>
                      <a:lnTo>
                        <a:pt x="508" y="3803"/>
                      </a:lnTo>
                      <a:lnTo>
                        <a:pt x="836" y="3816"/>
                      </a:lnTo>
                      <a:lnTo>
                        <a:pt x="1118" y="3830"/>
                      </a:lnTo>
                      <a:lnTo>
                        <a:pt x="1374" y="3839"/>
                      </a:lnTo>
                      <a:lnTo>
                        <a:pt x="1591" y="3855"/>
                      </a:lnTo>
                      <a:lnTo>
                        <a:pt x="1784" y="3859"/>
                      </a:lnTo>
                      <a:lnTo>
                        <a:pt x="1979" y="3868"/>
                      </a:lnTo>
                      <a:lnTo>
                        <a:pt x="1984" y="3855"/>
                      </a:lnTo>
                      <a:lnTo>
                        <a:pt x="1991" y="3721"/>
                      </a:lnTo>
                      <a:lnTo>
                        <a:pt x="1988" y="3644"/>
                      </a:lnTo>
                      <a:lnTo>
                        <a:pt x="1995" y="3544"/>
                      </a:lnTo>
                      <a:lnTo>
                        <a:pt x="2014" y="3315"/>
                      </a:lnTo>
                      <a:lnTo>
                        <a:pt x="2020" y="3199"/>
                      </a:lnTo>
                      <a:lnTo>
                        <a:pt x="2055" y="3091"/>
                      </a:lnTo>
                      <a:lnTo>
                        <a:pt x="2082" y="2978"/>
                      </a:lnTo>
                      <a:lnTo>
                        <a:pt x="2164" y="2930"/>
                      </a:lnTo>
                      <a:lnTo>
                        <a:pt x="2205" y="2905"/>
                      </a:lnTo>
                      <a:lnTo>
                        <a:pt x="2240" y="2883"/>
                      </a:lnTo>
                      <a:lnTo>
                        <a:pt x="2259" y="2865"/>
                      </a:lnTo>
                      <a:lnTo>
                        <a:pt x="2325" y="2836"/>
                      </a:lnTo>
                      <a:lnTo>
                        <a:pt x="2360" y="2828"/>
                      </a:lnTo>
                      <a:lnTo>
                        <a:pt x="2396" y="2819"/>
                      </a:lnTo>
                      <a:lnTo>
                        <a:pt x="2416" y="2819"/>
                      </a:lnTo>
                      <a:lnTo>
                        <a:pt x="2464" y="2819"/>
                      </a:lnTo>
                      <a:lnTo>
                        <a:pt x="2476" y="2801"/>
                      </a:lnTo>
                      <a:lnTo>
                        <a:pt x="2495" y="2788"/>
                      </a:lnTo>
                      <a:lnTo>
                        <a:pt x="2518" y="2770"/>
                      </a:lnTo>
                      <a:lnTo>
                        <a:pt x="2548" y="2759"/>
                      </a:lnTo>
                      <a:lnTo>
                        <a:pt x="2561" y="2759"/>
                      </a:lnTo>
                      <a:lnTo>
                        <a:pt x="2577" y="2754"/>
                      </a:lnTo>
                      <a:lnTo>
                        <a:pt x="2589" y="2628"/>
                      </a:lnTo>
                      <a:lnTo>
                        <a:pt x="2628" y="2201"/>
                      </a:lnTo>
                      <a:lnTo>
                        <a:pt x="2648" y="1977"/>
                      </a:lnTo>
                      <a:lnTo>
                        <a:pt x="2694" y="1423"/>
                      </a:lnTo>
                      <a:lnTo>
                        <a:pt x="2691" y="1418"/>
                      </a:lnTo>
                      <a:lnTo>
                        <a:pt x="4251" y="1432"/>
                      </a:lnTo>
                      <a:lnTo>
                        <a:pt x="4279" y="934"/>
                      </a:lnTo>
                      <a:lnTo>
                        <a:pt x="4289" y="741"/>
                      </a:lnTo>
                      <a:lnTo>
                        <a:pt x="4321" y="205"/>
                      </a:lnTo>
                      <a:lnTo>
                        <a:pt x="4321" y="209"/>
                      </a:lnTo>
                      <a:lnTo>
                        <a:pt x="4317" y="209"/>
                      </a:lnTo>
                      <a:lnTo>
                        <a:pt x="4312" y="214"/>
                      </a:lnTo>
                      <a:lnTo>
                        <a:pt x="4312" y="219"/>
                      </a:lnTo>
                      <a:lnTo>
                        <a:pt x="4309" y="222"/>
                      </a:lnTo>
                      <a:lnTo>
                        <a:pt x="4305" y="222"/>
                      </a:lnTo>
                      <a:lnTo>
                        <a:pt x="4305" y="229"/>
                      </a:lnTo>
                      <a:lnTo>
                        <a:pt x="4305" y="233"/>
                      </a:lnTo>
                      <a:lnTo>
                        <a:pt x="4301" y="233"/>
                      </a:lnTo>
                      <a:lnTo>
                        <a:pt x="4298" y="238"/>
                      </a:lnTo>
                      <a:lnTo>
                        <a:pt x="4293" y="243"/>
                      </a:lnTo>
                      <a:lnTo>
                        <a:pt x="4289" y="243"/>
                      </a:lnTo>
                      <a:lnTo>
                        <a:pt x="4289" y="248"/>
                      </a:lnTo>
                      <a:lnTo>
                        <a:pt x="4286" y="248"/>
                      </a:lnTo>
                      <a:lnTo>
                        <a:pt x="4282" y="248"/>
                      </a:lnTo>
                      <a:lnTo>
                        <a:pt x="4279" y="248"/>
                      </a:lnTo>
                      <a:lnTo>
                        <a:pt x="4279" y="251"/>
                      </a:lnTo>
                      <a:lnTo>
                        <a:pt x="4279" y="256"/>
                      </a:lnTo>
                      <a:lnTo>
                        <a:pt x="4275" y="256"/>
                      </a:lnTo>
                      <a:lnTo>
                        <a:pt x="4270" y="256"/>
                      </a:lnTo>
                      <a:lnTo>
                        <a:pt x="4266" y="256"/>
                      </a:lnTo>
                      <a:lnTo>
                        <a:pt x="4263" y="261"/>
                      </a:lnTo>
                      <a:lnTo>
                        <a:pt x="4266" y="261"/>
                      </a:lnTo>
                      <a:lnTo>
                        <a:pt x="4270" y="261"/>
                      </a:lnTo>
                      <a:lnTo>
                        <a:pt x="4270" y="264"/>
                      </a:lnTo>
                      <a:lnTo>
                        <a:pt x="4270" y="269"/>
                      </a:lnTo>
                      <a:lnTo>
                        <a:pt x="4275" y="274"/>
                      </a:lnTo>
                      <a:lnTo>
                        <a:pt x="4275" y="269"/>
                      </a:lnTo>
                      <a:lnTo>
                        <a:pt x="4279" y="264"/>
                      </a:lnTo>
                      <a:lnTo>
                        <a:pt x="4279" y="274"/>
                      </a:lnTo>
                      <a:lnTo>
                        <a:pt x="4279" y="278"/>
                      </a:lnTo>
                      <a:lnTo>
                        <a:pt x="4275" y="287"/>
                      </a:lnTo>
                      <a:lnTo>
                        <a:pt x="4266" y="291"/>
                      </a:lnTo>
                      <a:lnTo>
                        <a:pt x="4263" y="296"/>
                      </a:lnTo>
                      <a:lnTo>
                        <a:pt x="4259" y="296"/>
                      </a:lnTo>
                      <a:lnTo>
                        <a:pt x="4259" y="301"/>
                      </a:lnTo>
                      <a:lnTo>
                        <a:pt x="4256" y="301"/>
                      </a:lnTo>
                      <a:lnTo>
                        <a:pt x="4259" y="307"/>
                      </a:lnTo>
                      <a:lnTo>
                        <a:pt x="4259" y="311"/>
                      </a:lnTo>
                      <a:lnTo>
                        <a:pt x="4259" y="316"/>
                      </a:lnTo>
                      <a:lnTo>
                        <a:pt x="4259" y="320"/>
                      </a:lnTo>
                      <a:lnTo>
                        <a:pt x="4259" y="325"/>
                      </a:lnTo>
                      <a:lnTo>
                        <a:pt x="4259" y="330"/>
                      </a:lnTo>
                      <a:lnTo>
                        <a:pt x="4256" y="330"/>
                      </a:lnTo>
                      <a:lnTo>
                        <a:pt x="4256" y="333"/>
                      </a:lnTo>
                      <a:lnTo>
                        <a:pt x="4251" y="338"/>
                      </a:lnTo>
                      <a:lnTo>
                        <a:pt x="4238" y="343"/>
                      </a:lnTo>
                      <a:lnTo>
                        <a:pt x="4234" y="346"/>
                      </a:lnTo>
                      <a:lnTo>
                        <a:pt x="4230" y="351"/>
                      </a:lnTo>
                      <a:lnTo>
                        <a:pt x="4230" y="356"/>
                      </a:lnTo>
                      <a:lnTo>
                        <a:pt x="4230" y="361"/>
                      </a:lnTo>
                      <a:lnTo>
                        <a:pt x="4227" y="361"/>
                      </a:lnTo>
                      <a:lnTo>
                        <a:pt x="4223" y="361"/>
                      </a:lnTo>
                      <a:lnTo>
                        <a:pt x="4218" y="361"/>
                      </a:lnTo>
                      <a:lnTo>
                        <a:pt x="4218" y="356"/>
                      </a:lnTo>
                      <a:lnTo>
                        <a:pt x="4218" y="351"/>
                      </a:lnTo>
                      <a:lnTo>
                        <a:pt x="4215" y="351"/>
                      </a:lnTo>
                      <a:lnTo>
                        <a:pt x="4211" y="356"/>
                      </a:lnTo>
                      <a:lnTo>
                        <a:pt x="4211" y="351"/>
                      </a:lnTo>
                      <a:lnTo>
                        <a:pt x="4211" y="356"/>
                      </a:lnTo>
                      <a:lnTo>
                        <a:pt x="4207" y="361"/>
                      </a:lnTo>
                      <a:lnTo>
                        <a:pt x="4204" y="361"/>
                      </a:lnTo>
                      <a:lnTo>
                        <a:pt x="4199" y="361"/>
                      </a:lnTo>
                      <a:lnTo>
                        <a:pt x="4195" y="361"/>
                      </a:lnTo>
                      <a:lnTo>
                        <a:pt x="4192" y="361"/>
                      </a:lnTo>
                      <a:lnTo>
                        <a:pt x="4188" y="361"/>
                      </a:lnTo>
                      <a:lnTo>
                        <a:pt x="4188" y="365"/>
                      </a:lnTo>
                      <a:lnTo>
                        <a:pt x="4184" y="365"/>
                      </a:lnTo>
                      <a:lnTo>
                        <a:pt x="4180" y="365"/>
                      </a:lnTo>
                      <a:lnTo>
                        <a:pt x="4176" y="365"/>
                      </a:lnTo>
                      <a:lnTo>
                        <a:pt x="4176" y="369"/>
                      </a:lnTo>
                      <a:lnTo>
                        <a:pt x="4172" y="369"/>
                      </a:lnTo>
                      <a:lnTo>
                        <a:pt x="4169" y="369"/>
                      </a:lnTo>
                      <a:lnTo>
                        <a:pt x="4165" y="369"/>
                      </a:lnTo>
                      <a:lnTo>
                        <a:pt x="4165" y="374"/>
                      </a:lnTo>
                      <a:lnTo>
                        <a:pt x="4162" y="374"/>
                      </a:lnTo>
                      <a:lnTo>
                        <a:pt x="4157" y="374"/>
                      </a:lnTo>
                      <a:lnTo>
                        <a:pt x="4157" y="369"/>
                      </a:lnTo>
                      <a:lnTo>
                        <a:pt x="4152" y="369"/>
                      </a:lnTo>
                      <a:lnTo>
                        <a:pt x="4152" y="374"/>
                      </a:lnTo>
                      <a:lnTo>
                        <a:pt x="4147" y="374"/>
                      </a:lnTo>
                      <a:lnTo>
                        <a:pt x="4143" y="374"/>
                      </a:lnTo>
                      <a:lnTo>
                        <a:pt x="4140" y="374"/>
                      </a:lnTo>
                      <a:lnTo>
                        <a:pt x="4136" y="374"/>
                      </a:lnTo>
                      <a:lnTo>
                        <a:pt x="4136" y="378"/>
                      </a:lnTo>
                      <a:lnTo>
                        <a:pt x="4133" y="378"/>
                      </a:lnTo>
                      <a:lnTo>
                        <a:pt x="4133" y="385"/>
                      </a:lnTo>
                      <a:lnTo>
                        <a:pt x="4128" y="390"/>
                      </a:lnTo>
                      <a:lnTo>
                        <a:pt x="4124" y="390"/>
                      </a:lnTo>
                      <a:lnTo>
                        <a:pt x="4124" y="393"/>
                      </a:lnTo>
                      <a:lnTo>
                        <a:pt x="4128" y="393"/>
                      </a:lnTo>
                      <a:lnTo>
                        <a:pt x="4133" y="398"/>
                      </a:lnTo>
                      <a:lnTo>
                        <a:pt x="4133" y="403"/>
                      </a:lnTo>
                      <a:lnTo>
                        <a:pt x="4133" y="407"/>
                      </a:lnTo>
                      <a:lnTo>
                        <a:pt x="4128" y="412"/>
                      </a:lnTo>
                      <a:lnTo>
                        <a:pt x="4124" y="412"/>
                      </a:lnTo>
                      <a:lnTo>
                        <a:pt x="4121" y="412"/>
                      </a:lnTo>
                      <a:lnTo>
                        <a:pt x="4117" y="412"/>
                      </a:lnTo>
                      <a:lnTo>
                        <a:pt x="4113" y="412"/>
                      </a:lnTo>
                      <a:lnTo>
                        <a:pt x="4113" y="416"/>
                      </a:lnTo>
                      <a:lnTo>
                        <a:pt x="4109" y="416"/>
                      </a:lnTo>
                      <a:lnTo>
                        <a:pt x="4105" y="416"/>
                      </a:lnTo>
                      <a:lnTo>
                        <a:pt x="4101" y="416"/>
                      </a:lnTo>
                      <a:lnTo>
                        <a:pt x="4101" y="420"/>
                      </a:lnTo>
                      <a:lnTo>
                        <a:pt x="4098" y="420"/>
                      </a:lnTo>
                      <a:lnTo>
                        <a:pt x="4090" y="425"/>
                      </a:lnTo>
                      <a:lnTo>
                        <a:pt x="4086" y="430"/>
                      </a:lnTo>
                      <a:lnTo>
                        <a:pt x="4082" y="430"/>
                      </a:lnTo>
                      <a:lnTo>
                        <a:pt x="4078" y="430"/>
                      </a:lnTo>
                      <a:lnTo>
                        <a:pt x="4075" y="433"/>
                      </a:lnTo>
                      <a:lnTo>
                        <a:pt x="4075" y="438"/>
                      </a:lnTo>
                      <a:lnTo>
                        <a:pt x="4071" y="443"/>
                      </a:lnTo>
                      <a:lnTo>
                        <a:pt x="4071" y="447"/>
                      </a:lnTo>
                      <a:lnTo>
                        <a:pt x="4071" y="451"/>
                      </a:lnTo>
                      <a:lnTo>
                        <a:pt x="3924" y="485"/>
                      </a:lnTo>
                      <a:lnTo>
                        <a:pt x="3794" y="516"/>
                      </a:lnTo>
                      <a:lnTo>
                        <a:pt x="3736" y="485"/>
                      </a:lnTo>
                      <a:lnTo>
                        <a:pt x="3693" y="467"/>
                      </a:lnTo>
                      <a:lnTo>
                        <a:pt x="3635" y="433"/>
                      </a:lnTo>
                      <a:lnTo>
                        <a:pt x="3564" y="425"/>
                      </a:lnTo>
                      <a:lnTo>
                        <a:pt x="3551" y="425"/>
                      </a:lnTo>
                      <a:lnTo>
                        <a:pt x="3548" y="420"/>
                      </a:lnTo>
                      <a:lnTo>
                        <a:pt x="3544" y="420"/>
                      </a:lnTo>
                      <a:lnTo>
                        <a:pt x="3541" y="420"/>
                      </a:lnTo>
                      <a:lnTo>
                        <a:pt x="3536" y="416"/>
                      </a:lnTo>
                      <a:lnTo>
                        <a:pt x="3532" y="416"/>
                      </a:lnTo>
                      <a:lnTo>
                        <a:pt x="3532" y="412"/>
                      </a:lnTo>
                      <a:lnTo>
                        <a:pt x="3532" y="407"/>
                      </a:lnTo>
                      <a:lnTo>
                        <a:pt x="3527" y="407"/>
                      </a:lnTo>
                      <a:lnTo>
                        <a:pt x="3527" y="403"/>
                      </a:lnTo>
                      <a:lnTo>
                        <a:pt x="3523" y="403"/>
                      </a:lnTo>
                      <a:lnTo>
                        <a:pt x="3519" y="403"/>
                      </a:lnTo>
                      <a:lnTo>
                        <a:pt x="3515" y="403"/>
                      </a:lnTo>
                      <a:lnTo>
                        <a:pt x="3512" y="398"/>
                      </a:lnTo>
                      <a:lnTo>
                        <a:pt x="3515" y="398"/>
                      </a:lnTo>
                      <a:lnTo>
                        <a:pt x="3515" y="393"/>
                      </a:lnTo>
                      <a:lnTo>
                        <a:pt x="3515" y="390"/>
                      </a:lnTo>
                      <a:lnTo>
                        <a:pt x="3515" y="385"/>
                      </a:lnTo>
                      <a:lnTo>
                        <a:pt x="3515" y="378"/>
                      </a:lnTo>
                      <a:lnTo>
                        <a:pt x="3519" y="378"/>
                      </a:lnTo>
                      <a:lnTo>
                        <a:pt x="3519" y="374"/>
                      </a:lnTo>
                      <a:lnTo>
                        <a:pt x="3523" y="374"/>
                      </a:lnTo>
                      <a:lnTo>
                        <a:pt x="3523" y="369"/>
                      </a:lnTo>
                      <a:lnTo>
                        <a:pt x="3527" y="369"/>
                      </a:lnTo>
                      <a:lnTo>
                        <a:pt x="3527" y="365"/>
                      </a:lnTo>
                      <a:lnTo>
                        <a:pt x="3523" y="361"/>
                      </a:lnTo>
                      <a:lnTo>
                        <a:pt x="3523" y="356"/>
                      </a:lnTo>
                      <a:lnTo>
                        <a:pt x="3527" y="351"/>
                      </a:lnTo>
                      <a:lnTo>
                        <a:pt x="3527" y="346"/>
                      </a:lnTo>
                      <a:lnTo>
                        <a:pt x="3527" y="343"/>
                      </a:lnTo>
                      <a:lnTo>
                        <a:pt x="3523" y="343"/>
                      </a:lnTo>
                      <a:lnTo>
                        <a:pt x="3523" y="338"/>
                      </a:lnTo>
                      <a:lnTo>
                        <a:pt x="3519" y="338"/>
                      </a:lnTo>
                      <a:lnTo>
                        <a:pt x="3519" y="333"/>
                      </a:lnTo>
                      <a:lnTo>
                        <a:pt x="3515" y="330"/>
                      </a:lnTo>
                      <a:lnTo>
                        <a:pt x="3515" y="325"/>
                      </a:lnTo>
                      <a:lnTo>
                        <a:pt x="3512" y="320"/>
                      </a:lnTo>
                      <a:lnTo>
                        <a:pt x="3515" y="320"/>
                      </a:lnTo>
                      <a:lnTo>
                        <a:pt x="3515" y="316"/>
                      </a:lnTo>
                      <a:lnTo>
                        <a:pt x="3515" y="311"/>
                      </a:lnTo>
                      <a:lnTo>
                        <a:pt x="3512" y="311"/>
                      </a:lnTo>
                      <a:lnTo>
                        <a:pt x="3508" y="311"/>
                      </a:lnTo>
                      <a:lnTo>
                        <a:pt x="3503" y="311"/>
                      </a:lnTo>
                      <a:lnTo>
                        <a:pt x="3500" y="311"/>
                      </a:lnTo>
                      <a:lnTo>
                        <a:pt x="3496" y="316"/>
                      </a:lnTo>
                      <a:lnTo>
                        <a:pt x="3492" y="316"/>
                      </a:lnTo>
                      <a:lnTo>
                        <a:pt x="3489" y="320"/>
                      </a:lnTo>
                      <a:lnTo>
                        <a:pt x="3484" y="325"/>
                      </a:lnTo>
                      <a:lnTo>
                        <a:pt x="3484" y="320"/>
                      </a:lnTo>
                      <a:lnTo>
                        <a:pt x="3484" y="311"/>
                      </a:lnTo>
                      <a:lnTo>
                        <a:pt x="3484" y="296"/>
                      </a:lnTo>
                      <a:lnTo>
                        <a:pt x="3484" y="278"/>
                      </a:lnTo>
                      <a:lnTo>
                        <a:pt x="3484" y="274"/>
                      </a:lnTo>
                      <a:lnTo>
                        <a:pt x="3484" y="269"/>
                      </a:lnTo>
                      <a:lnTo>
                        <a:pt x="3484" y="264"/>
                      </a:lnTo>
                      <a:lnTo>
                        <a:pt x="3484" y="261"/>
                      </a:lnTo>
                      <a:lnTo>
                        <a:pt x="3489" y="261"/>
                      </a:lnTo>
                      <a:lnTo>
                        <a:pt x="3492" y="261"/>
                      </a:lnTo>
                      <a:lnTo>
                        <a:pt x="3496" y="261"/>
                      </a:lnTo>
                      <a:lnTo>
                        <a:pt x="3496" y="256"/>
                      </a:lnTo>
                      <a:lnTo>
                        <a:pt x="3492" y="256"/>
                      </a:lnTo>
                      <a:lnTo>
                        <a:pt x="3484" y="256"/>
                      </a:lnTo>
                      <a:lnTo>
                        <a:pt x="3484" y="251"/>
                      </a:lnTo>
                      <a:lnTo>
                        <a:pt x="3484" y="248"/>
                      </a:lnTo>
                      <a:lnTo>
                        <a:pt x="3477" y="248"/>
                      </a:lnTo>
                      <a:lnTo>
                        <a:pt x="3477" y="243"/>
                      </a:lnTo>
                      <a:lnTo>
                        <a:pt x="3484" y="238"/>
                      </a:lnTo>
                      <a:lnTo>
                        <a:pt x="3477" y="233"/>
                      </a:lnTo>
                      <a:lnTo>
                        <a:pt x="3473" y="233"/>
                      </a:lnTo>
                      <a:lnTo>
                        <a:pt x="3469" y="233"/>
                      </a:lnTo>
                      <a:lnTo>
                        <a:pt x="3466" y="233"/>
                      </a:lnTo>
                      <a:lnTo>
                        <a:pt x="3461" y="233"/>
                      </a:lnTo>
                      <a:lnTo>
                        <a:pt x="3457" y="233"/>
                      </a:lnTo>
                      <a:lnTo>
                        <a:pt x="3454" y="233"/>
                      </a:lnTo>
                      <a:lnTo>
                        <a:pt x="3450" y="233"/>
                      </a:lnTo>
                      <a:lnTo>
                        <a:pt x="3441" y="233"/>
                      </a:lnTo>
                      <a:lnTo>
                        <a:pt x="3437" y="233"/>
                      </a:lnTo>
                      <a:lnTo>
                        <a:pt x="3432" y="233"/>
                      </a:lnTo>
                      <a:lnTo>
                        <a:pt x="3428" y="238"/>
                      </a:lnTo>
                      <a:lnTo>
                        <a:pt x="3425" y="238"/>
                      </a:lnTo>
                      <a:lnTo>
                        <a:pt x="3421" y="238"/>
                      </a:lnTo>
                      <a:lnTo>
                        <a:pt x="3418" y="238"/>
                      </a:lnTo>
                      <a:lnTo>
                        <a:pt x="3413" y="238"/>
                      </a:lnTo>
                      <a:lnTo>
                        <a:pt x="3413" y="243"/>
                      </a:lnTo>
                      <a:lnTo>
                        <a:pt x="3409" y="243"/>
                      </a:lnTo>
                      <a:lnTo>
                        <a:pt x="3409" y="248"/>
                      </a:lnTo>
                      <a:lnTo>
                        <a:pt x="3406" y="248"/>
                      </a:lnTo>
                      <a:lnTo>
                        <a:pt x="3402" y="248"/>
                      </a:lnTo>
                      <a:lnTo>
                        <a:pt x="3402" y="243"/>
                      </a:lnTo>
                      <a:lnTo>
                        <a:pt x="3402" y="238"/>
                      </a:lnTo>
                      <a:lnTo>
                        <a:pt x="3398" y="238"/>
                      </a:lnTo>
                      <a:lnTo>
                        <a:pt x="3395" y="243"/>
                      </a:lnTo>
                      <a:lnTo>
                        <a:pt x="3390" y="248"/>
                      </a:lnTo>
                      <a:lnTo>
                        <a:pt x="3386" y="248"/>
                      </a:lnTo>
                      <a:lnTo>
                        <a:pt x="3383" y="248"/>
                      </a:lnTo>
                      <a:lnTo>
                        <a:pt x="3383" y="251"/>
                      </a:lnTo>
                      <a:lnTo>
                        <a:pt x="3379" y="256"/>
                      </a:lnTo>
                      <a:lnTo>
                        <a:pt x="3375" y="256"/>
                      </a:lnTo>
                      <a:lnTo>
                        <a:pt x="3375" y="261"/>
                      </a:lnTo>
                      <a:lnTo>
                        <a:pt x="3371" y="261"/>
                      </a:lnTo>
                      <a:lnTo>
                        <a:pt x="3367" y="261"/>
                      </a:lnTo>
                      <a:lnTo>
                        <a:pt x="3367" y="264"/>
                      </a:lnTo>
                      <a:lnTo>
                        <a:pt x="3363" y="264"/>
                      </a:lnTo>
                      <a:lnTo>
                        <a:pt x="3363" y="269"/>
                      </a:lnTo>
                      <a:lnTo>
                        <a:pt x="3356" y="269"/>
                      </a:lnTo>
                      <a:lnTo>
                        <a:pt x="3356" y="274"/>
                      </a:lnTo>
                      <a:lnTo>
                        <a:pt x="3346" y="274"/>
                      </a:lnTo>
                      <a:lnTo>
                        <a:pt x="3346" y="278"/>
                      </a:lnTo>
                      <a:lnTo>
                        <a:pt x="3343" y="283"/>
                      </a:lnTo>
                      <a:lnTo>
                        <a:pt x="3338" y="283"/>
                      </a:lnTo>
                      <a:lnTo>
                        <a:pt x="3334" y="287"/>
                      </a:lnTo>
                      <a:lnTo>
                        <a:pt x="3331" y="287"/>
                      </a:lnTo>
                      <a:lnTo>
                        <a:pt x="3331" y="291"/>
                      </a:lnTo>
                      <a:lnTo>
                        <a:pt x="3327" y="291"/>
                      </a:lnTo>
                      <a:lnTo>
                        <a:pt x="3324" y="296"/>
                      </a:lnTo>
                      <a:lnTo>
                        <a:pt x="3319" y="296"/>
                      </a:lnTo>
                      <a:lnTo>
                        <a:pt x="3319" y="301"/>
                      </a:lnTo>
                      <a:lnTo>
                        <a:pt x="3315" y="307"/>
                      </a:lnTo>
                      <a:lnTo>
                        <a:pt x="3315" y="301"/>
                      </a:lnTo>
                      <a:lnTo>
                        <a:pt x="3308" y="301"/>
                      </a:lnTo>
                      <a:lnTo>
                        <a:pt x="3296" y="307"/>
                      </a:lnTo>
                      <a:lnTo>
                        <a:pt x="3292" y="311"/>
                      </a:lnTo>
                      <a:lnTo>
                        <a:pt x="3289" y="311"/>
                      </a:lnTo>
                      <a:lnTo>
                        <a:pt x="3285" y="316"/>
                      </a:lnTo>
                      <a:lnTo>
                        <a:pt x="3285" y="320"/>
                      </a:lnTo>
                      <a:lnTo>
                        <a:pt x="3281" y="325"/>
                      </a:lnTo>
                      <a:lnTo>
                        <a:pt x="3281" y="333"/>
                      </a:lnTo>
                      <a:lnTo>
                        <a:pt x="3281" y="338"/>
                      </a:lnTo>
                      <a:lnTo>
                        <a:pt x="3277" y="343"/>
                      </a:lnTo>
                      <a:lnTo>
                        <a:pt x="3266" y="351"/>
                      </a:lnTo>
                      <a:lnTo>
                        <a:pt x="3260" y="356"/>
                      </a:lnTo>
                      <a:lnTo>
                        <a:pt x="3260" y="361"/>
                      </a:lnTo>
                      <a:lnTo>
                        <a:pt x="3260" y="356"/>
                      </a:lnTo>
                      <a:lnTo>
                        <a:pt x="3256" y="351"/>
                      </a:lnTo>
                      <a:lnTo>
                        <a:pt x="3252" y="351"/>
                      </a:lnTo>
                      <a:lnTo>
                        <a:pt x="3252" y="346"/>
                      </a:lnTo>
                      <a:lnTo>
                        <a:pt x="3248" y="346"/>
                      </a:lnTo>
                      <a:lnTo>
                        <a:pt x="3240" y="343"/>
                      </a:lnTo>
                      <a:lnTo>
                        <a:pt x="3237" y="343"/>
                      </a:lnTo>
                      <a:lnTo>
                        <a:pt x="3233" y="343"/>
                      </a:lnTo>
                      <a:lnTo>
                        <a:pt x="3228" y="343"/>
                      </a:lnTo>
                      <a:lnTo>
                        <a:pt x="3221" y="343"/>
                      </a:lnTo>
                      <a:lnTo>
                        <a:pt x="3221" y="338"/>
                      </a:lnTo>
                      <a:lnTo>
                        <a:pt x="3221" y="333"/>
                      </a:lnTo>
                      <a:lnTo>
                        <a:pt x="3217" y="333"/>
                      </a:lnTo>
                      <a:lnTo>
                        <a:pt x="3214" y="333"/>
                      </a:lnTo>
                      <a:lnTo>
                        <a:pt x="3210" y="320"/>
                      </a:lnTo>
                      <a:lnTo>
                        <a:pt x="3210" y="316"/>
                      </a:lnTo>
                      <a:lnTo>
                        <a:pt x="3198" y="311"/>
                      </a:lnTo>
                      <a:lnTo>
                        <a:pt x="3198" y="307"/>
                      </a:lnTo>
                      <a:lnTo>
                        <a:pt x="3195" y="301"/>
                      </a:lnTo>
                      <a:lnTo>
                        <a:pt x="3191" y="296"/>
                      </a:lnTo>
                      <a:lnTo>
                        <a:pt x="3191" y="291"/>
                      </a:lnTo>
                      <a:lnTo>
                        <a:pt x="3173" y="287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  <a:effectLst>
                  <a:outerShdw dist="17819" dir="2700000" blurRad="0" rotWithShape="0">
                    <a:srgbClr val="9898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1164600" y="1330200"/>
                  <a:ext cx="1535400" cy="1306800"/>
                  <a:chOff x="1164600" y="1330200"/>
                  <a:chExt cx="1535400" cy="13068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23920" y="1400760"/>
                    <a:ext cx="572040" cy="5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1" h="1845">
                        <a:moveTo>
                          <a:pt x="667" y="1188"/>
                        </a:moveTo>
                        <a:lnTo>
                          <a:pt x="667" y="1192"/>
                        </a:lnTo>
                        <a:lnTo>
                          <a:pt x="663" y="1192"/>
                        </a:lnTo>
                        <a:lnTo>
                          <a:pt x="663" y="1196"/>
                        </a:lnTo>
                        <a:lnTo>
                          <a:pt x="663" y="1201"/>
                        </a:lnTo>
                        <a:lnTo>
                          <a:pt x="667" y="1201"/>
                        </a:lnTo>
                        <a:lnTo>
                          <a:pt x="667" y="1205"/>
                        </a:lnTo>
                        <a:lnTo>
                          <a:pt x="663" y="1205"/>
                        </a:lnTo>
                        <a:lnTo>
                          <a:pt x="660" y="1205"/>
                        </a:lnTo>
                        <a:lnTo>
                          <a:pt x="652" y="1205"/>
                        </a:lnTo>
                        <a:lnTo>
                          <a:pt x="652" y="1210"/>
                        </a:lnTo>
                        <a:lnTo>
                          <a:pt x="649" y="1210"/>
                        </a:lnTo>
                        <a:lnTo>
                          <a:pt x="652" y="1210"/>
                        </a:lnTo>
                        <a:lnTo>
                          <a:pt x="649" y="1214"/>
                        </a:lnTo>
                        <a:lnTo>
                          <a:pt x="649" y="1219"/>
                        </a:lnTo>
                        <a:lnTo>
                          <a:pt x="644" y="1214"/>
                        </a:lnTo>
                        <a:lnTo>
                          <a:pt x="640" y="1214"/>
                        </a:lnTo>
                        <a:lnTo>
                          <a:pt x="640" y="1219"/>
                        </a:lnTo>
                        <a:lnTo>
                          <a:pt x="637" y="1219"/>
                        </a:lnTo>
                        <a:lnTo>
                          <a:pt x="633" y="1219"/>
                        </a:lnTo>
                        <a:lnTo>
                          <a:pt x="629" y="1219"/>
                        </a:lnTo>
                        <a:lnTo>
                          <a:pt x="625" y="1219"/>
                        </a:lnTo>
                        <a:lnTo>
                          <a:pt x="617" y="1223"/>
                        </a:lnTo>
                        <a:lnTo>
                          <a:pt x="617" y="1228"/>
                        </a:lnTo>
                        <a:lnTo>
                          <a:pt x="614" y="1228"/>
                        </a:lnTo>
                        <a:lnTo>
                          <a:pt x="614" y="1233"/>
                        </a:lnTo>
                        <a:lnTo>
                          <a:pt x="610" y="1233"/>
                        </a:lnTo>
                        <a:lnTo>
                          <a:pt x="605" y="1233"/>
                        </a:lnTo>
                        <a:lnTo>
                          <a:pt x="600" y="1233"/>
                        </a:lnTo>
                        <a:lnTo>
                          <a:pt x="596" y="1233"/>
                        </a:lnTo>
                        <a:lnTo>
                          <a:pt x="592" y="1233"/>
                        </a:lnTo>
                        <a:lnTo>
                          <a:pt x="588" y="1233"/>
                        </a:lnTo>
                        <a:lnTo>
                          <a:pt x="585" y="1233"/>
                        </a:lnTo>
                        <a:lnTo>
                          <a:pt x="581" y="1233"/>
                        </a:lnTo>
                        <a:lnTo>
                          <a:pt x="581" y="1239"/>
                        </a:lnTo>
                        <a:lnTo>
                          <a:pt x="578" y="1239"/>
                        </a:lnTo>
                        <a:lnTo>
                          <a:pt x="578" y="1233"/>
                        </a:lnTo>
                        <a:lnTo>
                          <a:pt x="573" y="1233"/>
                        </a:lnTo>
                        <a:lnTo>
                          <a:pt x="569" y="1233"/>
                        </a:lnTo>
                        <a:lnTo>
                          <a:pt x="565" y="1233"/>
                        </a:lnTo>
                        <a:lnTo>
                          <a:pt x="565" y="1239"/>
                        </a:lnTo>
                        <a:lnTo>
                          <a:pt x="562" y="1239"/>
                        </a:lnTo>
                        <a:lnTo>
                          <a:pt x="558" y="1243"/>
                        </a:lnTo>
                        <a:lnTo>
                          <a:pt x="553" y="1247"/>
                        </a:lnTo>
                        <a:lnTo>
                          <a:pt x="550" y="1247"/>
                        </a:lnTo>
                        <a:lnTo>
                          <a:pt x="546" y="1252"/>
                        </a:lnTo>
                        <a:lnTo>
                          <a:pt x="546" y="1257"/>
                        </a:lnTo>
                        <a:lnTo>
                          <a:pt x="543" y="1257"/>
                        </a:lnTo>
                        <a:lnTo>
                          <a:pt x="539" y="1257"/>
                        </a:lnTo>
                        <a:lnTo>
                          <a:pt x="539" y="1262"/>
                        </a:lnTo>
                        <a:lnTo>
                          <a:pt x="534" y="1262"/>
                        </a:lnTo>
                        <a:lnTo>
                          <a:pt x="534" y="1265"/>
                        </a:lnTo>
                        <a:lnTo>
                          <a:pt x="530" y="1265"/>
                        </a:lnTo>
                        <a:lnTo>
                          <a:pt x="527" y="1265"/>
                        </a:lnTo>
                        <a:lnTo>
                          <a:pt x="527" y="1270"/>
                        </a:lnTo>
                        <a:lnTo>
                          <a:pt x="523" y="1270"/>
                        </a:lnTo>
                        <a:lnTo>
                          <a:pt x="516" y="1275"/>
                        </a:lnTo>
                        <a:lnTo>
                          <a:pt x="510" y="1275"/>
                        </a:lnTo>
                        <a:lnTo>
                          <a:pt x="510" y="1270"/>
                        </a:lnTo>
                        <a:lnTo>
                          <a:pt x="516" y="1270"/>
                        </a:lnTo>
                        <a:lnTo>
                          <a:pt x="516" y="1265"/>
                        </a:lnTo>
                        <a:lnTo>
                          <a:pt x="510" y="1265"/>
                        </a:lnTo>
                        <a:lnTo>
                          <a:pt x="510" y="1262"/>
                        </a:lnTo>
                        <a:lnTo>
                          <a:pt x="506" y="1262"/>
                        </a:lnTo>
                        <a:lnTo>
                          <a:pt x="502" y="1262"/>
                        </a:lnTo>
                        <a:lnTo>
                          <a:pt x="498" y="1265"/>
                        </a:lnTo>
                        <a:lnTo>
                          <a:pt x="494" y="1265"/>
                        </a:lnTo>
                        <a:lnTo>
                          <a:pt x="491" y="1265"/>
                        </a:lnTo>
                        <a:lnTo>
                          <a:pt x="487" y="1265"/>
                        </a:lnTo>
                        <a:lnTo>
                          <a:pt x="487" y="1262"/>
                        </a:lnTo>
                        <a:lnTo>
                          <a:pt x="482" y="1257"/>
                        </a:lnTo>
                        <a:lnTo>
                          <a:pt x="482" y="1262"/>
                        </a:lnTo>
                        <a:lnTo>
                          <a:pt x="479" y="1262"/>
                        </a:lnTo>
                        <a:lnTo>
                          <a:pt x="475" y="1262"/>
                        </a:lnTo>
                        <a:lnTo>
                          <a:pt x="471" y="1265"/>
                        </a:lnTo>
                        <a:lnTo>
                          <a:pt x="468" y="1265"/>
                        </a:lnTo>
                        <a:lnTo>
                          <a:pt x="464" y="1265"/>
                        </a:lnTo>
                        <a:lnTo>
                          <a:pt x="464" y="1270"/>
                        </a:lnTo>
                        <a:lnTo>
                          <a:pt x="459" y="1270"/>
                        </a:lnTo>
                        <a:lnTo>
                          <a:pt x="456" y="1270"/>
                        </a:lnTo>
                        <a:lnTo>
                          <a:pt x="452" y="1270"/>
                        </a:lnTo>
                        <a:lnTo>
                          <a:pt x="448" y="1270"/>
                        </a:lnTo>
                        <a:lnTo>
                          <a:pt x="445" y="1275"/>
                        </a:lnTo>
                        <a:lnTo>
                          <a:pt x="440" y="1278"/>
                        </a:lnTo>
                        <a:lnTo>
                          <a:pt x="436" y="1278"/>
                        </a:lnTo>
                        <a:lnTo>
                          <a:pt x="436" y="1283"/>
                        </a:lnTo>
                        <a:lnTo>
                          <a:pt x="433" y="1283"/>
                        </a:lnTo>
                        <a:lnTo>
                          <a:pt x="429" y="1283"/>
                        </a:lnTo>
                        <a:lnTo>
                          <a:pt x="423" y="1283"/>
                        </a:lnTo>
                        <a:lnTo>
                          <a:pt x="423" y="1278"/>
                        </a:lnTo>
                        <a:lnTo>
                          <a:pt x="420" y="1278"/>
                        </a:lnTo>
                        <a:lnTo>
                          <a:pt x="416" y="1275"/>
                        </a:lnTo>
                        <a:lnTo>
                          <a:pt x="411" y="1270"/>
                        </a:lnTo>
                        <a:lnTo>
                          <a:pt x="411" y="1265"/>
                        </a:lnTo>
                        <a:lnTo>
                          <a:pt x="407" y="1265"/>
                        </a:lnTo>
                        <a:lnTo>
                          <a:pt x="407" y="1262"/>
                        </a:lnTo>
                        <a:lnTo>
                          <a:pt x="404" y="1262"/>
                        </a:lnTo>
                        <a:lnTo>
                          <a:pt x="400" y="1262"/>
                        </a:lnTo>
                        <a:lnTo>
                          <a:pt x="397" y="1262"/>
                        </a:lnTo>
                        <a:lnTo>
                          <a:pt x="393" y="1265"/>
                        </a:lnTo>
                        <a:lnTo>
                          <a:pt x="388" y="1265"/>
                        </a:lnTo>
                        <a:lnTo>
                          <a:pt x="385" y="1265"/>
                        </a:lnTo>
                        <a:lnTo>
                          <a:pt x="381" y="1265"/>
                        </a:lnTo>
                        <a:lnTo>
                          <a:pt x="374" y="1265"/>
                        </a:lnTo>
                        <a:lnTo>
                          <a:pt x="374" y="1270"/>
                        </a:lnTo>
                        <a:lnTo>
                          <a:pt x="369" y="1270"/>
                        </a:lnTo>
                        <a:lnTo>
                          <a:pt x="365" y="1270"/>
                        </a:lnTo>
                        <a:lnTo>
                          <a:pt x="362" y="1270"/>
                        </a:lnTo>
                        <a:lnTo>
                          <a:pt x="362" y="1275"/>
                        </a:lnTo>
                        <a:lnTo>
                          <a:pt x="358" y="1275"/>
                        </a:lnTo>
                        <a:lnTo>
                          <a:pt x="358" y="1278"/>
                        </a:lnTo>
                        <a:lnTo>
                          <a:pt x="354" y="1278"/>
                        </a:lnTo>
                        <a:lnTo>
                          <a:pt x="354" y="1283"/>
                        </a:lnTo>
                        <a:lnTo>
                          <a:pt x="350" y="1283"/>
                        </a:lnTo>
                        <a:lnTo>
                          <a:pt x="350" y="1288"/>
                        </a:lnTo>
                        <a:lnTo>
                          <a:pt x="350" y="1292"/>
                        </a:lnTo>
                        <a:lnTo>
                          <a:pt x="346" y="1292"/>
                        </a:lnTo>
                        <a:lnTo>
                          <a:pt x="346" y="1296"/>
                        </a:lnTo>
                        <a:lnTo>
                          <a:pt x="342" y="1296"/>
                        </a:lnTo>
                        <a:lnTo>
                          <a:pt x="339" y="1296"/>
                        </a:lnTo>
                        <a:lnTo>
                          <a:pt x="339" y="1301"/>
                        </a:lnTo>
                        <a:lnTo>
                          <a:pt x="333" y="1305"/>
                        </a:lnTo>
                        <a:lnTo>
                          <a:pt x="333" y="1310"/>
                        </a:lnTo>
                        <a:lnTo>
                          <a:pt x="333" y="1317"/>
                        </a:lnTo>
                        <a:lnTo>
                          <a:pt x="333" y="1321"/>
                        </a:lnTo>
                        <a:lnTo>
                          <a:pt x="339" y="1325"/>
                        </a:lnTo>
                        <a:lnTo>
                          <a:pt x="339" y="1330"/>
                        </a:lnTo>
                        <a:lnTo>
                          <a:pt x="339" y="1334"/>
                        </a:lnTo>
                        <a:lnTo>
                          <a:pt x="339" y="1339"/>
                        </a:lnTo>
                        <a:lnTo>
                          <a:pt x="333" y="1339"/>
                        </a:lnTo>
                        <a:lnTo>
                          <a:pt x="333" y="1344"/>
                        </a:lnTo>
                        <a:lnTo>
                          <a:pt x="329" y="1344"/>
                        </a:lnTo>
                        <a:lnTo>
                          <a:pt x="329" y="1347"/>
                        </a:lnTo>
                        <a:lnTo>
                          <a:pt x="326" y="1347"/>
                        </a:lnTo>
                        <a:lnTo>
                          <a:pt x="326" y="1352"/>
                        </a:lnTo>
                        <a:lnTo>
                          <a:pt x="326" y="1357"/>
                        </a:lnTo>
                        <a:lnTo>
                          <a:pt x="322" y="1357"/>
                        </a:lnTo>
                        <a:lnTo>
                          <a:pt x="317" y="1362"/>
                        </a:lnTo>
                        <a:lnTo>
                          <a:pt x="313" y="1362"/>
                        </a:lnTo>
                        <a:lnTo>
                          <a:pt x="313" y="1365"/>
                        </a:lnTo>
                        <a:lnTo>
                          <a:pt x="310" y="1365"/>
                        </a:lnTo>
                        <a:lnTo>
                          <a:pt x="306" y="1365"/>
                        </a:lnTo>
                        <a:lnTo>
                          <a:pt x="306" y="1370"/>
                        </a:lnTo>
                        <a:lnTo>
                          <a:pt x="306" y="1375"/>
                        </a:lnTo>
                        <a:lnTo>
                          <a:pt x="310" y="1378"/>
                        </a:lnTo>
                        <a:lnTo>
                          <a:pt x="310" y="1383"/>
                        </a:lnTo>
                        <a:lnTo>
                          <a:pt x="306" y="1383"/>
                        </a:lnTo>
                        <a:lnTo>
                          <a:pt x="303" y="1383"/>
                        </a:lnTo>
                        <a:lnTo>
                          <a:pt x="298" y="1383"/>
                        </a:lnTo>
                        <a:lnTo>
                          <a:pt x="298" y="1389"/>
                        </a:lnTo>
                        <a:lnTo>
                          <a:pt x="294" y="1389"/>
                        </a:lnTo>
                        <a:lnTo>
                          <a:pt x="291" y="1389"/>
                        </a:lnTo>
                        <a:lnTo>
                          <a:pt x="291" y="1394"/>
                        </a:lnTo>
                        <a:lnTo>
                          <a:pt x="287" y="1394"/>
                        </a:lnTo>
                        <a:lnTo>
                          <a:pt x="283" y="1399"/>
                        </a:lnTo>
                        <a:lnTo>
                          <a:pt x="283" y="1404"/>
                        </a:lnTo>
                        <a:lnTo>
                          <a:pt x="283" y="1407"/>
                        </a:lnTo>
                        <a:lnTo>
                          <a:pt x="280" y="1407"/>
                        </a:lnTo>
                        <a:lnTo>
                          <a:pt x="280" y="1412"/>
                        </a:lnTo>
                        <a:lnTo>
                          <a:pt x="275" y="1412"/>
                        </a:lnTo>
                        <a:lnTo>
                          <a:pt x="271" y="1412"/>
                        </a:lnTo>
                        <a:lnTo>
                          <a:pt x="271" y="1417"/>
                        </a:lnTo>
                        <a:lnTo>
                          <a:pt x="268" y="1417"/>
                        </a:lnTo>
                        <a:lnTo>
                          <a:pt x="264" y="1417"/>
                        </a:lnTo>
                        <a:lnTo>
                          <a:pt x="260" y="1421"/>
                        </a:lnTo>
                        <a:lnTo>
                          <a:pt x="252" y="1425"/>
                        </a:lnTo>
                        <a:lnTo>
                          <a:pt x="248" y="1425"/>
                        </a:lnTo>
                        <a:lnTo>
                          <a:pt x="248" y="1421"/>
                        </a:lnTo>
                        <a:lnTo>
                          <a:pt x="242" y="1421"/>
                        </a:lnTo>
                        <a:lnTo>
                          <a:pt x="242" y="1425"/>
                        </a:lnTo>
                        <a:lnTo>
                          <a:pt x="242" y="1430"/>
                        </a:lnTo>
                        <a:lnTo>
                          <a:pt x="248" y="1430"/>
                        </a:lnTo>
                        <a:lnTo>
                          <a:pt x="248" y="1434"/>
                        </a:lnTo>
                        <a:lnTo>
                          <a:pt x="242" y="1434"/>
                        </a:lnTo>
                        <a:lnTo>
                          <a:pt x="239" y="1434"/>
                        </a:lnTo>
                        <a:lnTo>
                          <a:pt x="235" y="1434"/>
                        </a:lnTo>
                        <a:lnTo>
                          <a:pt x="231" y="1434"/>
                        </a:lnTo>
                        <a:lnTo>
                          <a:pt x="231" y="1439"/>
                        </a:lnTo>
                        <a:lnTo>
                          <a:pt x="227" y="1439"/>
                        </a:lnTo>
                        <a:lnTo>
                          <a:pt x="227" y="1444"/>
                        </a:lnTo>
                        <a:lnTo>
                          <a:pt x="227" y="1447"/>
                        </a:lnTo>
                        <a:lnTo>
                          <a:pt x="227" y="1452"/>
                        </a:lnTo>
                        <a:lnTo>
                          <a:pt x="227" y="1457"/>
                        </a:lnTo>
                        <a:lnTo>
                          <a:pt x="223" y="1457"/>
                        </a:lnTo>
                        <a:lnTo>
                          <a:pt x="223" y="1460"/>
                        </a:lnTo>
                        <a:lnTo>
                          <a:pt x="219" y="1468"/>
                        </a:lnTo>
                        <a:lnTo>
                          <a:pt x="216" y="1468"/>
                        </a:lnTo>
                        <a:lnTo>
                          <a:pt x="216" y="1473"/>
                        </a:lnTo>
                        <a:lnTo>
                          <a:pt x="212" y="1473"/>
                        </a:lnTo>
                        <a:lnTo>
                          <a:pt x="209" y="1473"/>
                        </a:lnTo>
                        <a:lnTo>
                          <a:pt x="204" y="1476"/>
                        </a:lnTo>
                        <a:lnTo>
                          <a:pt x="204" y="1481"/>
                        </a:lnTo>
                        <a:lnTo>
                          <a:pt x="200" y="1481"/>
                        </a:lnTo>
                        <a:lnTo>
                          <a:pt x="196" y="1481"/>
                        </a:lnTo>
                        <a:lnTo>
                          <a:pt x="196" y="1486"/>
                        </a:lnTo>
                        <a:lnTo>
                          <a:pt x="193" y="1486"/>
                        </a:lnTo>
                        <a:lnTo>
                          <a:pt x="193" y="1489"/>
                        </a:lnTo>
                        <a:lnTo>
                          <a:pt x="189" y="1489"/>
                        </a:lnTo>
                        <a:lnTo>
                          <a:pt x="184" y="1489"/>
                        </a:lnTo>
                        <a:lnTo>
                          <a:pt x="184" y="1494"/>
                        </a:lnTo>
                        <a:lnTo>
                          <a:pt x="193" y="1494"/>
                        </a:lnTo>
                        <a:lnTo>
                          <a:pt x="193" y="1499"/>
                        </a:lnTo>
                        <a:lnTo>
                          <a:pt x="193" y="1504"/>
                        </a:lnTo>
                        <a:lnTo>
                          <a:pt x="189" y="1507"/>
                        </a:lnTo>
                        <a:lnTo>
                          <a:pt x="193" y="1512"/>
                        </a:lnTo>
                        <a:lnTo>
                          <a:pt x="189" y="1512"/>
                        </a:lnTo>
                        <a:lnTo>
                          <a:pt x="184" y="1512"/>
                        </a:lnTo>
                        <a:lnTo>
                          <a:pt x="181" y="1512"/>
                        </a:lnTo>
                        <a:lnTo>
                          <a:pt x="177" y="1512"/>
                        </a:lnTo>
                        <a:lnTo>
                          <a:pt x="174" y="1512"/>
                        </a:lnTo>
                        <a:lnTo>
                          <a:pt x="170" y="1512"/>
                        </a:lnTo>
                        <a:lnTo>
                          <a:pt x="170" y="1517"/>
                        </a:lnTo>
                        <a:lnTo>
                          <a:pt x="165" y="1517"/>
                        </a:lnTo>
                        <a:lnTo>
                          <a:pt x="165" y="1521"/>
                        </a:lnTo>
                        <a:lnTo>
                          <a:pt x="165" y="1526"/>
                        </a:lnTo>
                        <a:lnTo>
                          <a:pt x="170" y="1530"/>
                        </a:lnTo>
                        <a:lnTo>
                          <a:pt x="170" y="1534"/>
                        </a:lnTo>
                        <a:lnTo>
                          <a:pt x="165" y="1534"/>
                        </a:lnTo>
                        <a:lnTo>
                          <a:pt x="162" y="1534"/>
                        </a:lnTo>
                        <a:lnTo>
                          <a:pt x="162" y="1539"/>
                        </a:lnTo>
                        <a:lnTo>
                          <a:pt x="162" y="1546"/>
                        </a:lnTo>
                        <a:lnTo>
                          <a:pt x="165" y="1546"/>
                        </a:lnTo>
                        <a:lnTo>
                          <a:pt x="170" y="1546"/>
                        </a:lnTo>
                        <a:lnTo>
                          <a:pt x="170" y="1550"/>
                        </a:lnTo>
                        <a:lnTo>
                          <a:pt x="170" y="1555"/>
                        </a:lnTo>
                        <a:lnTo>
                          <a:pt x="165" y="1555"/>
                        </a:lnTo>
                        <a:lnTo>
                          <a:pt x="165" y="1559"/>
                        </a:lnTo>
                        <a:lnTo>
                          <a:pt x="165" y="1563"/>
                        </a:lnTo>
                        <a:lnTo>
                          <a:pt x="162" y="1563"/>
                        </a:lnTo>
                        <a:lnTo>
                          <a:pt x="162" y="1568"/>
                        </a:lnTo>
                        <a:lnTo>
                          <a:pt x="155" y="1568"/>
                        </a:lnTo>
                        <a:lnTo>
                          <a:pt x="155" y="1573"/>
                        </a:lnTo>
                        <a:lnTo>
                          <a:pt x="152" y="1573"/>
                        </a:lnTo>
                        <a:lnTo>
                          <a:pt x="148" y="1573"/>
                        </a:lnTo>
                        <a:lnTo>
                          <a:pt x="148" y="1576"/>
                        </a:lnTo>
                        <a:lnTo>
                          <a:pt x="145" y="1576"/>
                        </a:lnTo>
                        <a:lnTo>
                          <a:pt x="141" y="1576"/>
                        </a:lnTo>
                        <a:lnTo>
                          <a:pt x="137" y="1576"/>
                        </a:lnTo>
                        <a:lnTo>
                          <a:pt x="137" y="1581"/>
                        </a:lnTo>
                        <a:lnTo>
                          <a:pt x="137" y="1586"/>
                        </a:lnTo>
                        <a:lnTo>
                          <a:pt x="133" y="1586"/>
                        </a:lnTo>
                        <a:lnTo>
                          <a:pt x="129" y="1586"/>
                        </a:lnTo>
                        <a:lnTo>
                          <a:pt x="129" y="1589"/>
                        </a:lnTo>
                        <a:lnTo>
                          <a:pt x="129" y="1594"/>
                        </a:lnTo>
                        <a:lnTo>
                          <a:pt x="129" y="1599"/>
                        </a:lnTo>
                        <a:lnTo>
                          <a:pt x="125" y="1599"/>
                        </a:lnTo>
                        <a:lnTo>
                          <a:pt x="122" y="1599"/>
                        </a:lnTo>
                        <a:lnTo>
                          <a:pt x="118" y="1599"/>
                        </a:lnTo>
                        <a:lnTo>
                          <a:pt x="118" y="1603"/>
                        </a:lnTo>
                        <a:lnTo>
                          <a:pt x="113" y="1603"/>
                        </a:lnTo>
                        <a:lnTo>
                          <a:pt x="110" y="1603"/>
                        </a:lnTo>
                        <a:lnTo>
                          <a:pt x="106" y="1608"/>
                        </a:lnTo>
                        <a:lnTo>
                          <a:pt x="106" y="1612"/>
                        </a:lnTo>
                        <a:lnTo>
                          <a:pt x="102" y="1612"/>
                        </a:lnTo>
                        <a:lnTo>
                          <a:pt x="99" y="1612"/>
                        </a:lnTo>
                        <a:lnTo>
                          <a:pt x="99" y="1617"/>
                        </a:lnTo>
                        <a:lnTo>
                          <a:pt x="94" y="1617"/>
                        </a:lnTo>
                        <a:lnTo>
                          <a:pt x="90" y="1617"/>
                        </a:lnTo>
                        <a:lnTo>
                          <a:pt x="90" y="1623"/>
                        </a:lnTo>
                        <a:lnTo>
                          <a:pt x="87" y="1623"/>
                        </a:lnTo>
                        <a:lnTo>
                          <a:pt x="83" y="1628"/>
                        </a:lnTo>
                        <a:lnTo>
                          <a:pt x="83" y="1632"/>
                        </a:lnTo>
                        <a:lnTo>
                          <a:pt x="80" y="1632"/>
                        </a:lnTo>
                        <a:lnTo>
                          <a:pt x="76" y="1632"/>
                        </a:lnTo>
                        <a:lnTo>
                          <a:pt x="71" y="1636"/>
                        </a:lnTo>
                        <a:lnTo>
                          <a:pt x="66" y="1636"/>
                        </a:lnTo>
                        <a:lnTo>
                          <a:pt x="61" y="1641"/>
                        </a:lnTo>
                        <a:lnTo>
                          <a:pt x="58" y="1641"/>
                        </a:lnTo>
                        <a:lnTo>
                          <a:pt x="58" y="1646"/>
                        </a:lnTo>
                        <a:lnTo>
                          <a:pt x="54" y="1646"/>
                        </a:lnTo>
                        <a:lnTo>
                          <a:pt x="54" y="1650"/>
                        </a:lnTo>
                        <a:lnTo>
                          <a:pt x="54" y="1655"/>
                        </a:lnTo>
                        <a:lnTo>
                          <a:pt x="51" y="1659"/>
                        </a:lnTo>
                        <a:lnTo>
                          <a:pt x="47" y="1659"/>
                        </a:lnTo>
                        <a:lnTo>
                          <a:pt x="42" y="1663"/>
                        </a:lnTo>
                        <a:lnTo>
                          <a:pt x="39" y="1663"/>
                        </a:lnTo>
                        <a:lnTo>
                          <a:pt x="35" y="1663"/>
                        </a:lnTo>
                        <a:lnTo>
                          <a:pt x="28" y="1668"/>
                        </a:lnTo>
                        <a:lnTo>
                          <a:pt x="24" y="1668"/>
                        </a:lnTo>
                        <a:lnTo>
                          <a:pt x="19" y="1668"/>
                        </a:lnTo>
                        <a:lnTo>
                          <a:pt x="16" y="1668"/>
                        </a:lnTo>
                        <a:lnTo>
                          <a:pt x="12" y="1668"/>
                        </a:lnTo>
                        <a:lnTo>
                          <a:pt x="8" y="1668"/>
                        </a:lnTo>
                        <a:lnTo>
                          <a:pt x="5" y="1668"/>
                        </a:lnTo>
                        <a:lnTo>
                          <a:pt x="0" y="1668"/>
                        </a:lnTo>
                        <a:lnTo>
                          <a:pt x="5" y="1673"/>
                        </a:lnTo>
                        <a:lnTo>
                          <a:pt x="8" y="1676"/>
                        </a:lnTo>
                        <a:lnTo>
                          <a:pt x="12" y="1681"/>
                        </a:lnTo>
                        <a:lnTo>
                          <a:pt x="16" y="1686"/>
                        </a:lnTo>
                        <a:lnTo>
                          <a:pt x="16" y="1690"/>
                        </a:lnTo>
                        <a:lnTo>
                          <a:pt x="12" y="1690"/>
                        </a:lnTo>
                        <a:lnTo>
                          <a:pt x="8" y="1694"/>
                        </a:lnTo>
                        <a:lnTo>
                          <a:pt x="8" y="1702"/>
                        </a:lnTo>
                        <a:lnTo>
                          <a:pt x="12" y="1702"/>
                        </a:lnTo>
                        <a:lnTo>
                          <a:pt x="16" y="1702"/>
                        </a:lnTo>
                        <a:lnTo>
                          <a:pt x="19" y="1702"/>
                        </a:lnTo>
                        <a:lnTo>
                          <a:pt x="19" y="1705"/>
                        </a:lnTo>
                        <a:lnTo>
                          <a:pt x="24" y="1705"/>
                        </a:lnTo>
                        <a:lnTo>
                          <a:pt x="24" y="1710"/>
                        </a:lnTo>
                        <a:lnTo>
                          <a:pt x="28" y="1710"/>
                        </a:lnTo>
                        <a:lnTo>
                          <a:pt x="28" y="1715"/>
                        </a:lnTo>
                        <a:lnTo>
                          <a:pt x="31" y="1715"/>
                        </a:lnTo>
                        <a:lnTo>
                          <a:pt x="35" y="1715"/>
                        </a:lnTo>
                        <a:lnTo>
                          <a:pt x="31" y="1715"/>
                        </a:lnTo>
                        <a:lnTo>
                          <a:pt x="28" y="1715"/>
                        </a:lnTo>
                        <a:lnTo>
                          <a:pt x="28" y="1718"/>
                        </a:lnTo>
                        <a:lnTo>
                          <a:pt x="24" y="1718"/>
                        </a:lnTo>
                        <a:lnTo>
                          <a:pt x="19" y="1723"/>
                        </a:lnTo>
                        <a:lnTo>
                          <a:pt x="19" y="1728"/>
                        </a:lnTo>
                        <a:lnTo>
                          <a:pt x="19" y="1732"/>
                        </a:lnTo>
                        <a:lnTo>
                          <a:pt x="16" y="1732"/>
                        </a:lnTo>
                        <a:lnTo>
                          <a:pt x="16" y="1737"/>
                        </a:lnTo>
                        <a:lnTo>
                          <a:pt x="12" y="1737"/>
                        </a:lnTo>
                        <a:lnTo>
                          <a:pt x="12" y="1741"/>
                        </a:lnTo>
                        <a:lnTo>
                          <a:pt x="8" y="1741"/>
                        </a:lnTo>
                        <a:lnTo>
                          <a:pt x="5" y="1745"/>
                        </a:lnTo>
                        <a:lnTo>
                          <a:pt x="5" y="1750"/>
                        </a:lnTo>
                        <a:lnTo>
                          <a:pt x="8" y="1750"/>
                        </a:lnTo>
                        <a:lnTo>
                          <a:pt x="12" y="1750"/>
                        </a:lnTo>
                        <a:lnTo>
                          <a:pt x="12" y="1755"/>
                        </a:lnTo>
                        <a:lnTo>
                          <a:pt x="12" y="1759"/>
                        </a:lnTo>
                        <a:lnTo>
                          <a:pt x="16" y="1759"/>
                        </a:lnTo>
                        <a:lnTo>
                          <a:pt x="19" y="1759"/>
                        </a:lnTo>
                        <a:lnTo>
                          <a:pt x="24" y="1759"/>
                        </a:lnTo>
                        <a:lnTo>
                          <a:pt x="28" y="1759"/>
                        </a:lnTo>
                        <a:lnTo>
                          <a:pt x="31" y="1759"/>
                        </a:lnTo>
                        <a:lnTo>
                          <a:pt x="35" y="1759"/>
                        </a:lnTo>
                        <a:lnTo>
                          <a:pt x="39" y="1759"/>
                        </a:lnTo>
                        <a:lnTo>
                          <a:pt x="42" y="1759"/>
                        </a:lnTo>
                        <a:lnTo>
                          <a:pt x="51" y="1759"/>
                        </a:lnTo>
                        <a:lnTo>
                          <a:pt x="54" y="1759"/>
                        </a:lnTo>
                        <a:lnTo>
                          <a:pt x="58" y="1759"/>
                        </a:lnTo>
                        <a:lnTo>
                          <a:pt x="58" y="1755"/>
                        </a:lnTo>
                        <a:lnTo>
                          <a:pt x="61" y="1755"/>
                        </a:lnTo>
                        <a:lnTo>
                          <a:pt x="61" y="1750"/>
                        </a:lnTo>
                        <a:lnTo>
                          <a:pt x="71" y="1750"/>
                        </a:lnTo>
                        <a:lnTo>
                          <a:pt x="71" y="1745"/>
                        </a:lnTo>
                        <a:lnTo>
                          <a:pt x="76" y="1750"/>
                        </a:lnTo>
                        <a:lnTo>
                          <a:pt x="80" y="1750"/>
                        </a:lnTo>
                        <a:lnTo>
                          <a:pt x="83" y="1750"/>
                        </a:lnTo>
                        <a:lnTo>
                          <a:pt x="87" y="1745"/>
                        </a:lnTo>
                        <a:lnTo>
                          <a:pt x="90" y="1745"/>
                        </a:lnTo>
                        <a:lnTo>
                          <a:pt x="94" y="1745"/>
                        </a:lnTo>
                        <a:lnTo>
                          <a:pt x="94" y="1741"/>
                        </a:lnTo>
                        <a:lnTo>
                          <a:pt x="99" y="1741"/>
                        </a:lnTo>
                        <a:lnTo>
                          <a:pt x="102" y="1741"/>
                        </a:lnTo>
                        <a:lnTo>
                          <a:pt x="113" y="1741"/>
                        </a:lnTo>
                        <a:lnTo>
                          <a:pt x="118" y="1741"/>
                        </a:lnTo>
                        <a:lnTo>
                          <a:pt x="118" y="1745"/>
                        </a:lnTo>
                        <a:lnTo>
                          <a:pt x="122" y="1745"/>
                        </a:lnTo>
                        <a:lnTo>
                          <a:pt x="125" y="1750"/>
                        </a:lnTo>
                        <a:lnTo>
                          <a:pt x="129" y="1759"/>
                        </a:lnTo>
                        <a:lnTo>
                          <a:pt x="129" y="1763"/>
                        </a:lnTo>
                        <a:lnTo>
                          <a:pt x="133" y="1763"/>
                        </a:lnTo>
                        <a:lnTo>
                          <a:pt x="137" y="1763"/>
                        </a:lnTo>
                        <a:lnTo>
                          <a:pt x="141" y="1763"/>
                        </a:lnTo>
                        <a:lnTo>
                          <a:pt x="145" y="1763"/>
                        </a:lnTo>
                        <a:lnTo>
                          <a:pt x="148" y="1768"/>
                        </a:lnTo>
                        <a:lnTo>
                          <a:pt x="148" y="1773"/>
                        </a:lnTo>
                        <a:lnTo>
                          <a:pt x="148" y="1779"/>
                        </a:lnTo>
                        <a:lnTo>
                          <a:pt x="155" y="1784"/>
                        </a:lnTo>
                        <a:lnTo>
                          <a:pt x="155" y="1787"/>
                        </a:lnTo>
                        <a:lnTo>
                          <a:pt x="162" y="1787"/>
                        </a:lnTo>
                        <a:lnTo>
                          <a:pt x="162" y="1792"/>
                        </a:lnTo>
                        <a:lnTo>
                          <a:pt x="155" y="1792"/>
                        </a:lnTo>
                        <a:lnTo>
                          <a:pt x="148" y="1797"/>
                        </a:lnTo>
                        <a:lnTo>
                          <a:pt x="145" y="1797"/>
                        </a:lnTo>
                        <a:lnTo>
                          <a:pt x="145" y="1802"/>
                        </a:lnTo>
                        <a:lnTo>
                          <a:pt x="141" y="1802"/>
                        </a:lnTo>
                        <a:lnTo>
                          <a:pt x="141" y="1805"/>
                        </a:lnTo>
                        <a:lnTo>
                          <a:pt x="141" y="1810"/>
                        </a:lnTo>
                        <a:lnTo>
                          <a:pt x="145" y="1810"/>
                        </a:lnTo>
                        <a:lnTo>
                          <a:pt x="145" y="1815"/>
                        </a:lnTo>
                        <a:lnTo>
                          <a:pt x="145" y="1819"/>
                        </a:lnTo>
                        <a:lnTo>
                          <a:pt x="148" y="1819"/>
                        </a:lnTo>
                        <a:lnTo>
                          <a:pt x="152" y="1819"/>
                        </a:lnTo>
                        <a:lnTo>
                          <a:pt x="155" y="1823"/>
                        </a:lnTo>
                        <a:lnTo>
                          <a:pt x="162" y="1828"/>
                        </a:lnTo>
                        <a:lnTo>
                          <a:pt x="162" y="1832"/>
                        </a:lnTo>
                        <a:lnTo>
                          <a:pt x="165" y="1832"/>
                        </a:lnTo>
                        <a:lnTo>
                          <a:pt x="165" y="1837"/>
                        </a:lnTo>
                        <a:lnTo>
                          <a:pt x="170" y="1841"/>
                        </a:lnTo>
                        <a:lnTo>
                          <a:pt x="174" y="1845"/>
                        </a:lnTo>
                        <a:lnTo>
                          <a:pt x="177" y="1841"/>
                        </a:lnTo>
                        <a:lnTo>
                          <a:pt x="181" y="1837"/>
                        </a:lnTo>
                        <a:lnTo>
                          <a:pt x="184" y="1832"/>
                        </a:lnTo>
                        <a:lnTo>
                          <a:pt x="193" y="1832"/>
                        </a:lnTo>
                        <a:lnTo>
                          <a:pt x="196" y="1832"/>
                        </a:lnTo>
                        <a:lnTo>
                          <a:pt x="200" y="1832"/>
                        </a:lnTo>
                        <a:lnTo>
                          <a:pt x="204" y="1828"/>
                        </a:lnTo>
                        <a:lnTo>
                          <a:pt x="212" y="1828"/>
                        </a:lnTo>
                        <a:lnTo>
                          <a:pt x="216" y="1828"/>
                        </a:lnTo>
                        <a:lnTo>
                          <a:pt x="219" y="1828"/>
                        </a:lnTo>
                        <a:lnTo>
                          <a:pt x="219" y="1823"/>
                        </a:lnTo>
                        <a:lnTo>
                          <a:pt x="223" y="1823"/>
                        </a:lnTo>
                        <a:lnTo>
                          <a:pt x="227" y="1823"/>
                        </a:lnTo>
                        <a:lnTo>
                          <a:pt x="227" y="1819"/>
                        </a:lnTo>
                        <a:lnTo>
                          <a:pt x="231" y="1819"/>
                        </a:lnTo>
                        <a:lnTo>
                          <a:pt x="231" y="1815"/>
                        </a:lnTo>
                        <a:lnTo>
                          <a:pt x="235" y="1815"/>
                        </a:lnTo>
                        <a:lnTo>
                          <a:pt x="239" y="1815"/>
                        </a:lnTo>
                        <a:lnTo>
                          <a:pt x="248" y="1815"/>
                        </a:lnTo>
                        <a:lnTo>
                          <a:pt x="252" y="1815"/>
                        </a:lnTo>
                        <a:lnTo>
                          <a:pt x="260" y="1810"/>
                        </a:lnTo>
                        <a:lnTo>
                          <a:pt x="260" y="1805"/>
                        </a:lnTo>
                        <a:lnTo>
                          <a:pt x="264" y="1805"/>
                        </a:lnTo>
                        <a:lnTo>
                          <a:pt x="268" y="1805"/>
                        </a:lnTo>
                        <a:lnTo>
                          <a:pt x="271" y="1805"/>
                        </a:lnTo>
                        <a:lnTo>
                          <a:pt x="271" y="1802"/>
                        </a:lnTo>
                        <a:lnTo>
                          <a:pt x="275" y="1802"/>
                        </a:lnTo>
                        <a:lnTo>
                          <a:pt x="280" y="1802"/>
                        </a:lnTo>
                        <a:lnTo>
                          <a:pt x="283" y="1802"/>
                        </a:lnTo>
                        <a:lnTo>
                          <a:pt x="287" y="1802"/>
                        </a:lnTo>
                        <a:lnTo>
                          <a:pt x="291" y="1802"/>
                        </a:lnTo>
                        <a:lnTo>
                          <a:pt x="291" y="1797"/>
                        </a:lnTo>
                        <a:lnTo>
                          <a:pt x="294" y="1797"/>
                        </a:lnTo>
                        <a:lnTo>
                          <a:pt x="298" y="1797"/>
                        </a:lnTo>
                        <a:lnTo>
                          <a:pt x="298" y="1792"/>
                        </a:lnTo>
                        <a:lnTo>
                          <a:pt x="306" y="1792"/>
                        </a:lnTo>
                        <a:lnTo>
                          <a:pt x="306" y="1787"/>
                        </a:lnTo>
                        <a:lnTo>
                          <a:pt x="313" y="1787"/>
                        </a:lnTo>
                        <a:lnTo>
                          <a:pt x="317" y="1784"/>
                        </a:lnTo>
                        <a:lnTo>
                          <a:pt x="322" y="1784"/>
                        </a:lnTo>
                        <a:lnTo>
                          <a:pt x="326" y="1784"/>
                        </a:lnTo>
                        <a:lnTo>
                          <a:pt x="329" y="1784"/>
                        </a:lnTo>
                        <a:lnTo>
                          <a:pt x="333" y="1779"/>
                        </a:lnTo>
                        <a:lnTo>
                          <a:pt x="339" y="1779"/>
                        </a:lnTo>
                        <a:lnTo>
                          <a:pt x="342" y="1779"/>
                        </a:lnTo>
                        <a:lnTo>
                          <a:pt x="342" y="1773"/>
                        </a:lnTo>
                        <a:lnTo>
                          <a:pt x="346" y="1768"/>
                        </a:lnTo>
                        <a:lnTo>
                          <a:pt x="350" y="1768"/>
                        </a:lnTo>
                        <a:lnTo>
                          <a:pt x="350" y="1763"/>
                        </a:lnTo>
                        <a:lnTo>
                          <a:pt x="354" y="1763"/>
                        </a:lnTo>
                        <a:lnTo>
                          <a:pt x="358" y="1763"/>
                        </a:lnTo>
                        <a:lnTo>
                          <a:pt x="362" y="1763"/>
                        </a:lnTo>
                        <a:lnTo>
                          <a:pt x="362" y="1759"/>
                        </a:lnTo>
                        <a:lnTo>
                          <a:pt x="358" y="1759"/>
                        </a:lnTo>
                        <a:lnTo>
                          <a:pt x="358" y="1755"/>
                        </a:lnTo>
                        <a:lnTo>
                          <a:pt x="358" y="1750"/>
                        </a:lnTo>
                        <a:lnTo>
                          <a:pt x="354" y="1750"/>
                        </a:lnTo>
                        <a:lnTo>
                          <a:pt x="354" y="1745"/>
                        </a:lnTo>
                        <a:lnTo>
                          <a:pt x="350" y="1745"/>
                        </a:lnTo>
                        <a:lnTo>
                          <a:pt x="350" y="1741"/>
                        </a:lnTo>
                        <a:lnTo>
                          <a:pt x="346" y="1741"/>
                        </a:lnTo>
                        <a:lnTo>
                          <a:pt x="342" y="1741"/>
                        </a:lnTo>
                        <a:lnTo>
                          <a:pt x="339" y="1741"/>
                        </a:lnTo>
                        <a:lnTo>
                          <a:pt x="333" y="1741"/>
                        </a:lnTo>
                        <a:lnTo>
                          <a:pt x="329" y="1741"/>
                        </a:lnTo>
                        <a:lnTo>
                          <a:pt x="326" y="1741"/>
                        </a:lnTo>
                        <a:lnTo>
                          <a:pt x="322" y="1737"/>
                        </a:lnTo>
                        <a:lnTo>
                          <a:pt x="317" y="1737"/>
                        </a:lnTo>
                        <a:lnTo>
                          <a:pt x="313" y="1737"/>
                        </a:lnTo>
                        <a:lnTo>
                          <a:pt x="313" y="1732"/>
                        </a:lnTo>
                        <a:lnTo>
                          <a:pt x="322" y="1732"/>
                        </a:lnTo>
                        <a:lnTo>
                          <a:pt x="326" y="1732"/>
                        </a:lnTo>
                        <a:lnTo>
                          <a:pt x="329" y="1728"/>
                        </a:lnTo>
                        <a:lnTo>
                          <a:pt x="333" y="1728"/>
                        </a:lnTo>
                        <a:lnTo>
                          <a:pt x="339" y="1728"/>
                        </a:lnTo>
                        <a:lnTo>
                          <a:pt x="339" y="1723"/>
                        </a:lnTo>
                        <a:lnTo>
                          <a:pt x="342" y="1723"/>
                        </a:lnTo>
                        <a:lnTo>
                          <a:pt x="346" y="1723"/>
                        </a:lnTo>
                        <a:lnTo>
                          <a:pt x="350" y="1718"/>
                        </a:lnTo>
                        <a:lnTo>
                          <a:pt x="354" y="1715"/>
                        </a:lnTo>
                        <a:lnTo>
                          <a:pt x="358" y="1715"/>
                        </a:lnTo>
                        <a:lnTo>
                          <a:pt x="362" y="1715"/>
                        </a:lnTo>
                        <a:lnTo>
                          <a:pt x="365" y="1715"/>
                        </a:lnTo>
                        <a:lnTo>
                          <a:pt x="365" y="1710"/>
                        </a:lnTo>
                        <a:lnTo>
                          <a:pt x="369" y="1710"/>
                        </a:lnTo>
                        <a:lnTo>
                          <a:pt x="374" y="1710"/>
                        </a:lnTo>
                        <a:lnTo>
                          <a:pt x="381" y="1705"/>
                        </a:lnTo>
                        <a:lnTo>
                          <a:pt x="385" y="1702"/>
                        </a:lnTo>
                        <a:lnTo>
                          <a:pt x="388" y="1702"/>
                        </a:lnTo>
                        <a:lnTo>
                          <a:pt x="393" y="1702"/>
                        </a:lnTo>
                        <a:lnTo>
                          <a:pt x="397" y="1694"/>
                        </a:lnTo>
                        <a:lnTo>
                          <a:pt x="400" y="1694"/>
                        </a:lnTo>
                        <a:lnTo>
                          <a:pt x="400" y="1702"/>
                        </a:lnTo>
                        <a:lnTo>
                          <a:pt x="400" y="1705"/>
                        </a:lnTo>
                        <a:lnTo>
                          <a:pt x="404" y="1705"/>
                        </a:lnTo>
                        <a:lnTo>
                          <a:pt x="407" y="1710"/>
                        </a:lnTo>
                        <a:lnTo>
                          <a:pt x="411" y="1710"/>
                        </a:lnTo>
                        <a:lnTo>
                          <a:pt x="416" y="1705"/>
                        </a:lnTo>
                        <a:lnTo>
                          <a:pt x="420" y="1702"/>
                        </a:lnTo>
                        <a:lnTo>
                          <a:pt x="423" y="1702"/>
                        </a:lnTo>
                        <a:lnTo>
                          <a:pt x="429" y="1694"/>
                        </a:lnTo>
                        <a:lnTo>
                          <a:pt x="436" y="1694"/>
                        </a:lnTo>
                        <a:lnTo>
                          <a:pt x="440" y="1694"/>
                        </a:lnTo>
                        <a:lnTo>
                          <a:pt x="445" y="1694"/>
                        </a:lnTo>
                        <a:lnTo>
                          <a:pt x="445" y="1690"/>
                        </a:lnTo>
                        <a:lnTo>
                          <a:pt x="448" y="1690"/>
                        </a:lnTo>
                        <a:lnTo>
                          <a:pt x="452" y="1686"/>
                        </a:lnTo>
                        <a:lnTo>
                          <a:pt x="456" y="1686"/>
                        </a:lnTo>
                        <a:lnTo>
                          <a:pt x="456" y="1681"/>
                        </a:lnTo>
                        <a:lnTo>
                          <a:pt x="459" y="1681"/>
                        </a:lnTo>
                        <a:lnTo>
                          <a:pt x="464" y="1681"/>
                        </a:lnTo>
                        <a:lnTo>
                          <a:pt x="468" y="1681"/>
                        </a:lnTo>
                        <a:lnTo>
                          <a:pt x="471" y="1676"/>
                        </a:lnTo>
                        <a:lnTo>
                          <a:pt x="471" y="1673"/>
                        </a:lnTo>
                        <a:lnTo>
                          <a:pt x="475" y="1673"/>
                        </a:lnTo>
                        <a:lnTo>
                          <a:pt x="479" y="1673"/>
                        </a:lnTo>
                        <a:lnTo>
                          <a:pt x="482" y="1673"/>
                        </a:lnTo>
                        <a:lnTo>
                          <a:pt x="487" y="1673"/>
                        </a:lnTo>
                        <a:lnTo>
                          <a:pt x="491" y="1673"/>
                        </a:lnTo>
                        <a:lnTo>
                          <a:pt x="491" y="1668"/>
                        </a:lnTo>
                        <a:lnTo>
                          <a:pt x="494" y="1668"/>
                        </a:lnTo>
                        <a:lnTo>
                          <a:pt x="498" y="1673"/>
                        </a:lnTo>
                        <a:lnTo>
                          <a:pt x="502" y="1676"/>
                        </a:lnTo>
                        <a:lnTo>
                          <a:pt x="510" y="1676"/>
                        </a:lnTo>
                        <a:lnTo>
                          <a:pt x="510" y="1681"/>
                        </a:lnTo>
                        <a:lnTo>
                          <a:pt x="516" y="1681"/>
                        </a:lnTo>
                        <a:lnTo>
                          <a:pt x="516" y="1676"/>
                        </a:lnTo>
                        <a:lnTo>
                          <a:pt x="520" y="1676"/>
                        </a:lnTo>
                        <a:lnTo>
                          <a:pt x="520" y="1673"/>
                        </a:lnTo>
                        <a:lnTo>
                          <a:pt x="523" y="1673"/>
                        </a:lnTo>
                        <a:lnTo>
                          <a:pt x="527" y="1673"/>
                        </a:lnTo>
                        <a:lnTo>
                          <a:pt x="534" y="1668"/>
                        </a:lnTo>
                        <a:lnTo>
                          <a:pt x="534" y="1663"/>
                        </a:lnTo>
                        <a:lnTo>
                          <a:pt x="539" y="1659"/>
                        </a:lnTo>
                        <a:lnTo>
                          <a:pt x="543" y="1659"/>
                        </a:lnTo>
                        <a:lnTo>
                          <a:pt x="546" y="1659"/>
                        </a:lnTo>
                        <a:lnTo>
                          <a:pt x="546" y="1663"/>
                        </a:lnTo>
                        <a:lnTo>
                          <a:pt x="546" y="1668"/>
                        </a:lnTo>
                        <a:lnTo>
                          <a:pt x="550" y="1673"/>
                        </a:lnTo>
                        <a:lnTo>
                          <a:pt x="550" y="1676"/>
                        </a:lnTo>
                        <a:lnTo>
                          <a:pt x="550" y="1681"/>
                        </a:lnTo>
                        <a:lnTo>
                          <a:pt x="550" y="1686"/>
                        </a:lnTo>
                        <a:lnTo>
                          <a:pt x="553" y="1690"/>
                        </a:lnTo>
                        <a:lnTo>
                          <a:pt x="558" y="1690"/>
                        </a:lnTo>
                        <a:lnTo>
                          <a:pt x="565" y="1690"/>
                        </a:lnTo>
                        <a:lnTo>
                          <a:pt x="569" y="1690"/>
                        </a:lnTo>
                        <a:lnTo>
                          <a:pt x="569" y="1686"/>
                        </a:lnTo>
                        <a:lnTo>
                          <a:pt x="573" y="1686"/>
                        </a:lnTo>
                        <a:lnTo>
                          <a:pt x="578" y="1686"/>
                        </a:lnTo>
                        <a:lnTo>
                          <a:pt x="581" y="1686"/>
                        </a:lnTo>
                        <a:lnTo>
                          <a:pt x="585" y="1686"/>
                        </a:lnTo>
                        <a:lnTo>
                          <a:pt x="585" y="1690"/>
                        </a:lnTo>
                        <a:lnTo>
                          <a:pt x="588" y="1690"/>
                        </a:lnTo>
                        <a:lnTo>
                          <a:pt x="588" y="1694"/>
                        </a:lnTo>
                        <a:lnTo>
                          <a:pt x="592" y="1694"/>
                        </a:lnTo>
                        <a:lnTo>
                          <a:pt x="596" y="1694"/>
                        </a:lnTo>
                        <a:lnTo>
                          <a:pt x="600" y="1694"/>
                        </a:lnTo>
                        <a:lnTo>
                          <a:pt x="605" y="1694"/>
                        </a:lnTo>
                        <a:lnTo>
                          <a:pt x="610" y="1694"/>
                        </a:lnTo>
                        <a:lnTo>
                          <a:pt x="614" y="1694"/>
                        </a:lnTo>
                        <a:lnTo>
                          <a:pt x="617" y="1694"/>
                        </a:lnTo>
                        <a:lnTo>
                          <a:pt x="617" y="1702"/>
                        </a:lnTo>
                        <a:lnTo>
                          <a:pt x="621" y="1702"/>
                        </a:lnTo>
                        <a:lnTo>
                          <a:pt x="621" y="1705"/>
                        </a:lnTo>
                        <a:lnTo>
                          <a:pt x="625" y="1705"/>
                        </a:lnTo>
                        <a:lnTo>
                          <a:pt x="625" y="1710"/>
                        </a:lnTo>
                        <a:lnTo>
                          <a:pt x="629" y="1710"/>
                        </a:lnTo>
                        <a:lnTo>
                          <a:pt x="629" y="1705"/>
                        </a:lnTo>
                        <a:lnTo>
                          <a:pt x="633" y="1705"/>
                        </a:lnTo>
                        <a:lnTo>
                          <a:pt x="637" y="1705"/>
                        </a:lnTo>
                        <a:lnTo>
                          <a:pt x="640" y="1705"/>
                        </a:lnTo>
                        <a:lnTo>
                          <a:pt x="644" y="1705"/>
                        </a:lnTo>
                        <a:lnTo>
                          <a:pt x="649" y="1705"/>
                        </a:lnTo>
                        <a:lnTo>
                          <a:pt x="652" y="1702"/>
                        </a:lnTo>
                        <a:lnTo>
                          <a:pt x="656" y="1702"/>
                        </a:lnTo>
                        <a:lnTo>
                          <a:pt x="660" y="1702"/>
                        </a:lnTo>
                        <a:lnTo>
                          <a:pt x="663" y="1694"/>
                        </a:lnTo>
                        <a:lnTo>
                          <a:pt x="667" y="1694"/>
                        </a:lnTo>
                        <a:lnTo>
                          <a:pt x="672" y="1694"/>
                        </a:lnTo>
                        <a:lnTo>
                          <a:pt x="675" y="1694"/>
                        </a:lnTo>
                        <a:lnTo>
                          <a:pt x="679" y="1694"/>
                        </a:lnTo>
                        <a:lnTo>
                          <a:pt x="679" y="1690"/>
                        </a:lnTo>
                        <a:lnTo>
                          <a:pt x="682" y="1690"/>
                        </a:lnTo>
                        <a:lnTo>
                          <a:pt x="686" y="1690"/>
                        </a:lnTo>
                        <a:lnTo>
                          <a:pt x="691" y="1690"/>
                        </a:lnTo>
                        <a:lnTo>
                          <a:pt x="696" y="1690"/>
                        </a:lnTo>
                        <a:lnTo>
                          <a:pt x="701" y="1690"/>
                        </a:lnTo>
                        <a:lnTo>
                          <a:pt x="704" y="1690"/>
                        </a:lnTo>
                        <a:lnTo>
                          <a:pt x="704" y="1694"/>
                        </a:lnTo>
                        <a:lnTo>
                          <a:pt x="708" y="1694"/>
                        </a:lnTo>
                        <a:lnTo>
                          <a:pt x="711" y="1694"/>
                        </a:lnTo>
                        <a:lnTo>
                          <a:pt x="715" y="1694"/>
                        </a:lnTo>
                        <a:lnTo>
                          <a:pt x="723" y="1694"/>
                        </a:lnTo>
                        <a:lnTo>
                          <a:pt x="727" y="1686"/>
                        </a:lnTo>
                        <a:lnTo>
                          <a:pt x="723" y="1681"/>
                        </a:lnTo>
                        <a:lnTo>
                          <a:pt x="723" y="1676"/>
                        </a:lnTo>
                        <a:lnTo>
                          <a:pt x="723" y="1673"/>
                        </a:lnTo>
                        <a:lnTo>
                          <a:pt x="723" y="1668"/>
                        </a:lnTo>
                        <a:lnTo>
                          <a:pt x="727" y="1663"/>
                        </a:lnTo>
                        <a:lnTo>
                          <a:pt x="734" y="1663"/>
                        </a:lnTo>
                        <a:lnTo>
                          <a:pt x="738" y="1663"/>
                        </a:lnTo>
                        <a:lnTo>
                          <a:pt x="743" y="1663"/>
                        </a:lnTo>
                        <a:lnTo>
                          <a:pt x="746" y="1659"/>
                        </a:lnTo>
                        <a:lnTo>
                          <a:pt x="750" y="1659"/>
                        </a:lnTo>
                        <a:lnTo>
                          <a:pt x="754" y="1659"/>
                        </a:lnTo>
                        <a:lnTo>
                          <a:pt x="757" y="1659"/>
                        </a:lnTo>
                        <a:lnTo>
                          <a:pt x="762" y="1659"/>
                        </a:lnTo>
                        <a:lnTo>
                          <a:pt x="766" y="1659"/>
                        </a:lnTo>
                        <a:lnTo>
                          <a:pt x="769" y="1659"/>
                        </a:lnTo>
                        <a:lnTo>
                          <a:pt x="773" y="1659"/>
                        </a:lnTo>
                        <a:lnTo>
                          <a:pt x="776" y="1659"/>
                        </a:lnTo>
                        <a:lnTo>
                          <a:pt x="782" y="1659"/>
                        </a:lnTo>
                        <a:lnTo>
                          <a:pt x="786" y="1659"/>
                        </a:lnTo>
                        <a:lnTo>
                          <a:pt x="790" y="1659"/>
                        </a:lnTo>
                        <a:lnTo>
                          <a:pt x="790" y="1663"/>
                        </a:lnTo>
                        <a:lnTo>
                          <a:pt x="795" y="1663"/>
                        </a:lnTo>
                        <a:lnTo>
                          <a:pt x="798" y="1663"/>
                        </a:lnTo>
                        <a:lnTo>
                          <a:pt x="798" y="1659"/>
                        </a:lnTo>
                        <a:lnTo>
                          <a:pt x="802" y="1659"/>
                        </a:lnTo>
                        <a:lnTo>
                          <a:pt x="805" y="1659"/>
                        </a:lnTo>
                        <a:lnTo>
                          <a:pt x="809" y="1659"/>
                        </a:lnTo>
                        <a:lnTo>
                          <a:pt x="814" y="1659"/>
                        </a:lnTo>
                        <a:lnTo>
                          <a:pt x="817" y="1659"/>
                        </a:lnTo>
                        <a:lnTo>
                          <a:pt x="821" y="1659"/>
                        </a:lnTo>
                        <a:lnTo>
                          <a:pt x="825" y="1659"/>
                        </a:lnTo>
                        <a:lnTo>
                          <a:pt x="828" y="1659"/>
                        </a:lnTo>
                        <a:lnTo>
                          <a:pt x="833" y="1659"/>
                        </a:lnTo>
                        <a:lnTo>
                          <a:pt x="837" y="1659"/>
                        </a:lnTo>
                        <a:lnTo>
                          <a:pt x="840" y="1659"/>
                        </a:lnTo>
                        <a:lnTo>
                          <a:pt x="844" y="1659"/>
                        </a:lnTo>
                        <a:lnTo>
                          <a:pt x="851" y="1659"/>
                        </a:lnTo>
                        <a:lnTo>
                          <a:pt x="856" y="1659"/>
                        </a:lnTo>
                        <a:lnTo>
                          <a:pt x="860" y="1659"/>
                        </a:lnTo>
                        <a:lnTo>
                          <a:pt x="863" y="1659"/>
                        </a:lnTo>
                        <a:lnTo>
                          <a:pt x="867" y="1659"/>
                        </a:lnTo>
                        <a:lnTo>
                          <a:pt x="873" y="1655"/>
                        </a:lnTo>
                        <a:lnTo>
                          <a:pt x="877" y="1655"/>
                        </a:lnTo>
                        <a:lnTo>
                          <a:pt x="877" y="1659"/>
                        </a:lnTo>
                        <a:lnTo>
                          <a:pt x="880" y="1659"/>
                        </a:lnTo>
                        <a:lnTo>
                          <a:pt x="880" y="1655"/>
                        </a:lnTo>
                        <a:lnTo>
                          <a:pt x="885" y="1655"/>
                        </a:lnTo>
                        <a:lnTo>
                          <a:pt x="885" y="1650"/>
                        </a:lnTo>
                        <a:lnTo>
                          <a:pt x="885" y="1646"/>
                        </a:lnTo>
                        <a:lnTo>
                          <a:pt x="885" y="1641"/>
                        </a:lnTo>
                        <a:lnTo>
                          <a:pt x="885" y="1636"/>
                        </a:lnTo>
                        <a:lnTo>
                          <a:pt x="880" y="1636"/>
                        </a:lnTo>
                        <a:lnTo>
                          <a:pt x="885" y="1632"/>
                        </a:lnTo>
                        <a:lnTo>
                          <a:pt x="889" y="1636"/>
                        </a:lnTo>
                        <a:lnTo>
                          <a:pt x="892" y="1636"/>
                        </a:lnTo>
                        <a:lnTo>
                          <a:pt x="896" y="1636"/>
                        </a:lnTo>
                        <a:lnTo>
                          <a:pt x="899" y="1636"/>
                        </a:lnTo>
                        <a:lnTo>
                          <a:pt x="899" y="1632"/>
                        </a:lnTo>
                        <a:lnTo>
                          <a:pt x="904" y="1632"/>
                        </a:lnTo>
                        <a:lnTo>
                          <a:pt x="908" y="1632"/>
                        </a:lnTo>
                        <a:lnTo>
                          <a:pt x="915" y="1636"/>
                        </a:lnTo>
                        <a:lnTo>
                          <a:pt x="919" y="1636"/>
                        </a:lnTo>
                        <a:lnTo>
                          <a:pt x="922" y="1636"/>
                        </a:lnTo>
                        <a:lnTo>
                          <a:pt x="927" y="1636"/>
                        </a:lnTo>
                        <a:lnTo>
                          <a:pt x="931" y="1636"/>
                        </a:lnTo>
                        <a:lnTo>
                          <a:pt x="934" y="1636"/>
                        </a:lnTo>
                        <a:lnTo>
                          <a:pt x="938" y="1636"/>
                        </a:lnTo>
                        <a:lnTo>
                          <a:pt x="938" y="1641"/>
                        </a:lnTo>
                        <a:lnTo>
                          <a:pt x="942" y="1646"/>
                        </a:lnTo>
                        <a:lnTo>
                          <a:pt x="946" y="1650"/>
                        </a:lnTo>
                        <a:lnTo>
                          <a:pt x="954" y="1646"/>
                        </a:lnTo>
                        <a:lnTo>
                          <a:pt x="954" y="1636"/>
                        </a:lnTo>
                        <a:lnTo>
                          <a:pt x="954" y="1628"/>
                        </a:lnTo>
                        <a:lnTo>
                          <a:pt x="957" y="1628"/>
                        </a:lnTo>
                        <a:lnTo>
                          <a:pt x="957" y="1623"/>
                        </a:lnTo>
                        <a:lnTo>
                          <a:pt x="963" y="1617"/>
                        </a:lnTo>
                        <a:lnTo>
                          <a:pt x="967" y="1617"/>
                        </a:lnTo>
                        <a:lnTo>
                          <a:pt x="967" y="1612"/>
                        </a:lnTo>
                        <a:lnTo>
                          <a:pt x="971" y="1612"/>
                        </a:lnTo>
                        <a:lnTo>
                          <a:pt x="974" y="1612"/>
                        </a:lnTo>
                        <a:lnTo>
                          <a:pt x="979" y="1612"/>
                        </a:lnTo>
                        <a:lnTo>
                          <a:pt x="983" y="1608"/>
                        </a:lnTo>
                        <a:lnTo>
                          <a:pt x="986" y="1603"/>
                        </a:lnTo>
                        <a:lnTo>
                          <a:pt x="990" y="1599"/>
                        </a:lnTo>
                        <a:lnTo>
                          <a:pt x="994" y="1599"/>
                        </a:lnTo>
                        <a:lnTo>
                          <a:pt x="998" y="1603"/>
                        </a:lnTo>
                        <a:lnTo>
                          <a:pt x="1002" y="1603"/>
                        </a:lnTo>
                        <a:lnTo>
                          <a:pt x="1006" y="1599"/>
                        </a:lnTo>
                        <a:lnTo>
                          <a:pt x="1009" y="1599"/>
                        </a:lnTo>
                        <a:lnTo>
                          <a:pt x="1013" y="1589"/>
                        </a:lnTo>
                        <a:lnTo>
                          <a:pt x="1013" y="1586"/>
                        </a:lnTo>
                        <a:lnTo>
                          <a:pt x="1018" y="1586"/>
                        </a:lnTo>
                        <a:lnTo>
                          <a:pt x="1021" y="1581"/>
                        </a:lnTo>
                        <a:lnTo>
                          <a:pt x="1018" y="1581"/>
                        </a:lnTo>
                        <a:lnTo>
                          <a:pt x="1013" y="1581"/>
                        </a:lnTo>
                        <a:lnTo>
                          <a:pt x="1013" y="1576"/>
                        </a:lnTo>
                        <a:lnTo>
                          <a:pt x="1009" y="1576"/>
                        </a:lnTo>
                        <a:lnTo>
                          <a:pt x="1009" y="1573"/>
                        </a:lnTo>
                        <a:lnTo>
                          <a:pt x="1006" y="1573"/>
                        </a:lnTo>
                        <a:lnTo>
                          <a:pt x="1002" y="1568"/>
                        </a:lnTo>
                        <a:lnTo>
                          <a:pt x="1002" y="1563"/>
                        </a:lnTo>
                        <a:lnTo>
                          <a:pt x="1006" y="1563"/>
                        </a:lnTo>
                        <a:lnTo>
                          <a:pt x="1006" y="1559"/>
                        </a:lnTo>
                        <a:lnTo>
                          <a:pt x="1006" y="1555"/>
                        </a:lnTo>
                        <a:lnTo>
                          <a:pt x="1006" y="1550"/>
                        </a:lnTo>
                        <a:lnTo>
                          <a:pt x="1006" y="1546"/>
                        </a:lnTo>
                        <a:lnTo>
                          <a:pt x="1009" y="1550"/>
                        </a:lnTo>
                        <a:lnTo>
                          <a:pt x="1013" y="1546"/>
                        </a:lnTo>
                        <a:lnTo>
                          <a:pt x="1018" y="1546"/>
                        </a:lnTo>
                        <a:lnTo>
                          <a:pt x="1021" y="1546"/>
                        </a:lnTo>
                        <a:lnTo>
                          <a:pt x="1025" y="1539"/>
                        </a:lnTo>
                        <a:lnTo>
                          <a:pt x="1028" y="1539"/>
                        </a:lnTo>
                        <a:lnTo>
                          <a:pt x="1028" y="1534"/>
                        </a:lnTo>
                        <a:lnTo>
                          <a:pt x="1032" y="1534"/>
                        </a:lnTo>
                        <a:lnTo>
                          <a:pt x="1032" y="1530"/>
                        </a:lnTo>
                        <a:lnTo>
                          <a:pt x="1036" y="1530"/>
                        </a:lnTo>
                        <a:lnTo>
                          <a:pt x="1032" y="1526"/>
                        </a:lnTo>
                        <a:lnTo>
                          <a:pt x="1032" y="1521"/>
                        </a:lnTo>
                        <a:lnTo>
                          <a:pt x="1036" y="1521"/>
                        </a:lnTo>
                        <a:lnTo>
                          <a:pt x="1041" y="1521"/>
                        </a:lnTo>
                        <a:lnTo>
                          <a:pt x="1041" y="1517"/>
                        </a:lnTo>
                        <a:lnTo>
                          <a:pt x="1044" y="1517"/>
                        </a:lnTo>
                        <a:lnTo>
                          <a:pt x="1044" y="1512"/>
                        </a:lnTo>
                        <a:lnTo>
                          <a:pt x="1050" y="1512"/>
                        </a:lnTo>
                        <a:lnTo>
                          <a:pt x="1054" y="1512"/>
                        </a:lnTo>
                        <a:lnTo>
                          <a:pt x="1054" y="1507"/>
                        </a:lnTo>
                        <a:lnTo>
                          <a:pt x="1057" y="1504"/>
                        </a:lnTo>
                        <a:lnTo>
                          <a:pt x="1061" y="1504"/>
                        </a:lnTo>
                        <a:lnTo>
                          <a:pt x="1065" y="1499"/>
                        </a:lnTo>
                        <a:lnTo>
                          <a:pt x="1069" y="1504"/>
                        </a:lnTo>
                        <a:lnTo>
                          <a:pt x="1077" y="1499"/>
                        </a:lnTo>
                        <a:lnTo>
                          <a:pt x="1080" y="1499"/>
                        </a:lnTo>
                        <a:lnTo>
                          <a:pt x="1089" y="1499"/>
                        </a:lnTo>
                        <a:lnTo>
                          <a:pt x="1092" y="1499"/>
                        </a:lnTo>
                        <a:lnTo>
                          <a:pt x="1092" y="1494"/>
                        </a:lnTo>
                        <a:lnTo>
                          <a:pt x="1096" y="1494"/>
                        </a:lnTo>
                        <a:lnTo>
                          <a:pt x="1096" y="1489"/>
                        </a:lnTo>
                        <a:lnTo>
                          <a:pt x="1096" y="1486"/>
                        </a:lnTo>
                        <a:lnTo>
                          <a:pt x="1100" y="1486"/>
                        </a:lnTo>
                        <a:lnTo>
                          <a:pt x="1103" y="1489"/>
                        </a:lnTo>
                        <a:lnTo>
                          <a:pt x="1107" y="1494"/>
                        </a:lnTo>
                        <a:lnTo>
                          <a:pt x="1107" y="1499"/>
                        </a:lnTo>
                        <a:lnTo>
                          <a:pt x="1112" y="1504"/>
                        </a:lnTo>
                        <a:lnTo>
                          <a:pt x="1112" y="1499"/>
                        </a:lnTo>
                        <a:lnTo>
                          <a:pt x="1115" y="1499"/>
                        </a:lnTo>
                        <a:lnTo>
                          <a:pt x="1119" y="1494"/>
                        </a:lnTo>
                        <a:lnTo>
                          <a:pt x="1123" y="1489"/>
                        </a:lnTo>
                        <a:lnTo>
                          <a:pt x="1126" y="1486"/>
                        </a:lnTo>
                        <a:lnTo>
                          <a:pt x="1131" y="1486"/>
                        </a:lnTo>
                        <a:lnTo>
                          <a:pt x="1135" y="1486"/>
                        </a:lnTo>
                        <a:lnTo>
                          <a:pt x="1141" y="1486"/>
                        </a:lnTo>
                        <a:lnTo>
                          <a:pt x="1144" y="1486"/>
                        </a:lnTo>
                        <a:lnTo>
                          <a:pt x="1144" y="1481"/>
                        </a:lnTo>
                        <a:lnTo>
                          <a:pt x="1148" y="1473"/>
                        </a:lnTo>
                        <a:lnTo>
                          <a:pt x="1151" y="1473"/>
                        </a:lnTo>
                        <a:lnTo>
                          <a:pt x="1151" y="1468"/>
                        </a:lnTo>
                        <a:lnTo>
                          <a:pt x="1151" y="1460"/>
                        </a:lnTo>
                        <a:lnTo>
                          <a:pt x="1155" y="1460"/>
                        </a:lnTo>
                        <a:lnTo>
                          <a:pt x="1155" y="1457"/>
                        </a:lnTo>
                        <a:lnTo>
                          <a:pt x="1160" y="1457"/>
                        </a:lnTo>
                        <a:lnTo>
                          <a:pt x="1155" y="1457"/>
                        </a:lnTo>
                        <a:lnTo>
                          <a:pt x="1160" y="1452"/>
                        </a:lnTo>
                        <a:lnTo>
                          <a:pt x="1164" y="1447"/>
                        </a:lnTo>
                        <a:lnTo>
                          <a:pt x="1167" y="1444"/>
                        </a:lnTo>
                        <a:lnTo>
                          <a:pt x="1171" y="1444"/>
                        </a:lnTo>
                        <a:lnTo>
                          <a:pt x="1171" y="1439"/>
                        </a:lnTo>
                        <a:lnTo>
                          <a:pt x="1171" y="1434"/>
                        </a:lnTo>
                        <a:lnTo>
                          <a:pt x="1174" y="1434"/>
                        </a:lnTo>
                        <a:lnTo>
                          <a:pt x="1178" y="1434"/>
                        </a:lnTo>
                        <a:lnTo>
                          <a:pt x="1178" y="1430"/>
                        </a:lnTo>
                        <a:lnTo>
                          <a:pt x="1183" y="1430"/>
                        </a:lnTo>
                        <a:lnTo>
                          <a:pt x="1186" y="1430"/>
                        </a:lnTo>
                        <a:lnTo>
                          <a:pt x="1190" y="1430"/>
                        </a:lnTo>
                        <a:lnTo>
                          <a:pt x="1194" y="1430"/>
                        </a:lnTo>
                        <a:lnTo>
                          <a:pt x="1197" y="1430"/>
                        </a:lnTo>
                        <a:lnTo>
                          <a:pt x="1197" y="1434"/>
                        </a:lnTo>
                        <a:lnTo>
                          <a:pt x="1202" y="1434"/>
                        </a:lnTo>
                        <a:lnTo>
                          <a:pt x="1206" y="1434"/>
                        </a:lnTo>
                        <a:lnTo>
                          <a:pt x="1206" y="1444"/>
                        </a:lnTo>
                        <a:lnTo>
                          <a:pt x="1209" y="1447"/>
                        </a:lnTo>
                        <a:lnTo>
                          <a:pt x="1217" y="1452"/>
                        </a:lnTo>
                        <a:lnTo>
                          <a:pt x="1217" y="1457"/>
                        </a:lnTo>
                        <a:lnTo>
                          <a:pt x="1221" y="1460"/>
                        </a:lnTo>
                        <a:lnTo>
                          <a:pt x="1221" y="1468"/>
                        </a:lnTo>
                        <a:lnTo>
                          <a:pt x="1225" y="1468"/>
                        </a:lnTo>
                        <a:lnTo>
                          <a:pt x="1225" y="1473"/>
                        </a:lnTo>
                        <a:lnTo>
                          <a:pt x="1235" y="1473"/>
                        </a:lnTo>
                        <a:lnTo>
                          <a:pt x="1235" y="1481"/>
                        </a:lnTo>
                        <a:lnTo>
                          <a:pt x="1235" y="1486"/>
                        </a:lnTo>
                        <a:lnTo>
                          <a:pt x="1235" y="1489"/>
                        </a:lnTo>
                        <a:lnTo>
                          <a:pt x="1238" y="1489"/>
                        </a:lnTo>
                        <a:lnTo>
                          <a:pt x="1238" y="1494"/>
                        </a:lnTo>
                        <a:lnTo>
                          <a:pt x="1238" y="1499"/>
                        </a:lnTo>
                        <a:lnTo>
                          <a:pt x="1242" y="1494"/>
                        </a:lnTo>
                        <a:lnTo>
                          <a:pt x="1242" y="1489"/>
                        </a:lnTo>
                        <a:lnTo>
                          <a:pt x="1242" y="1486"/>
                        </a:lnTo>
                        <a:lnTo>
                          <a:pt x="1246" y="1486"/>
                        </a:lnTo>
                        <a:lnTo>
                          <a:pt x="1246" y="1481"/>
                        </a:lnTo>
                        <a:lnTo>
                          <a:pt x="1249" y="1481"/>
                        </a:lnTo>
                        <a:lnTo>
                          <a:pt x="1249" y="1473"/>
                        </a:lnTo>
                        <a:lnTo>
                          <a:pt x="1254" y="1473"/>
                        </a:lnTo>
                        <a:lnTo>
                          <a:pt x="1254" y="1468"/>
                        </a:lnTo>
                        <a:lnTo>
                          <a:pt x="1261" y="1460"/>
                        </a:lnTo>
                        <a:lnTo>
                          <a:pt x="1265" y="1460"/>
                        </a:lnTo>
                        <a:lnTo>
                          <a:pt x="1268" y="1460"/>
                        </a:lnTo>
                        <a:lnTo>
                          <a:pt x="1273" y="1460"/>
                        </a:lnTo>
                        <a:lnTo>
                          <a:pt x="1277" y="1460"/>
                        </a:lnTo>
                        <a:lnTo>
                          <a:pt x="1280" y="1460"/>
                        </a:lnTo>
                        <a:lnTo>
                          <a:pt x="1284" y="1460"/>
                        </a:lnTo>
                        <a:lnTo>
                          <a:pt x="1288" y="1457"/>
                        </a:lnTo>
                        <a:lnTo>
                          <a:pt x="1291" y="1457"/>
                        </a:lnTo>
                        <a:lnTo>
                          <a:pt x="1296" y="1452"/>
                        </a:lnTo>
                        <a:lnTo>
                          <a:pt x="1300" y="1447"/>
                        </a:lnTo>
                        <a:lnTo>
                          <a:pt x="1303" y="1447"/>
                        </a:lnTo>
                        <a:lnTo>
                          <a:pt x="1307" y="1447"/>
                        </a:lnTo>
                        <a:lnTo>
                          <a:pt x="1311" y="1447"/>
                        </a:lnTo>
                        <a:lnTo>
                          <a:pt x="1317" y="1447"/>
                        </a:lnTo>
                        <a:lnTo>
                          <a:pt x="1320" y="1444"/>
                        </a:lnTo>
                        <a:lnTo>
                          <a:pt x="1325" y="1444"/>
                        </a:lnTo>
                        <a:lnTo>
                          <a:pt x="1332" y="1452"/>
                        </a:lnTo>
                        <a:lnTo>
                          <a:pt x="1332" y="1457"/>
                        </a:lnTo>
                        <a:lnTo>
                          <a:pt x="1336" y="1457"/>
                        </a:lnTo>
                        <a:lnTo>
                          <a:pt x="1340" y="1452"/>
                        </a:lnTo>
                        <a:lnTo>
                          <a:pt x="1344" y="1452"/>
                        </a:lnTo>
                        <a:lnTo>
                          <a:pt x="1348" y="1452"/>
                        </a:lnTo>
                        <a:lnTo>
                          <a:pt x="1352" y="1452"/>
                        </a:lnTo>
                        <a:lnTo>
                          <a:pt x="1355" y="1452"/>
                        </a:lnTo>
                        <a:lnTo>
                          <a:pt x="1355" y="1457"/>
                        </a:lnTo>
                        <a:lnTo>
                          <a:pt x="1359" y="1457"/>
                        </a:lnTo>
                        <a:lnTo>
                          <a:pt x="1362" y="1457"/>
                        </a:lnTo>
                        <a:lnTo>
                          <a:pt x="1367" y="1457"/>
                        </a:lnTo>
                        <a:lnTo>
                          <a:pt x="1371" y="1457"/>
                        </a:lnTo>
                        <a:lnTo>
                          <a:pt x="1375" y="1457"/>
                        </a:lnTo>
                        <a:lnTo>
                          <a:pt x="1378" y="1457"/>
                        </a:lnTo>
                        <a:lnTo>
                          <a:pt x="1382" y="1468"/>
                        </a:lnTo>
                        <a:lnTo>
                          <a:pt x="1387" y="1468"/>
                        </a:lnTo>
                        <a:lnTo>
                          <a:pt x="1394" y="1468"/>
                        </a:lnTo>
                        <a:lnTo>
                          <a:pt x="1397" y="1468"/>
                        </a:lnTo>
                        <a:lnTo>
                          <a:pt x="1407" y="1468"/>
                        </a:lnTo>
                        <a:lnTo>
                          <a:pt x="1411" y="1468"/>
                        </a:lnTo>
                        <a:lnTo>
                          <a:pt x="1414" y="1468"/>
                        </a:lnTo>
                        <a:lnTo>
                          <a:pt x="1419" y="1468"/>
                        </a:lnTo>
                        <a:lnTo>
                          <a:pt x="1419" y="1473"/>
                        </a:lnTo>
                        <a:lnTo>
                          <a:pt x="1423" y="1481"/>
                        </a:lnTo>
                        <a:lnTo>
                          <a:pt x="1430" y="1481"/>
                        </a:lnTo>
                        <a:lnTo>
                          <a:pt x="1434" y="1481"/>
                        </a:lnTo>
                        <a:lnTo>
                          <a:pt x="1438" y="1481"/>
                        </a:lnTo>
                        <a:lnTo>
                          <a:pt x="1442" y="1481"/>
                        </a:lnTo>
                        <a:lnTo>
                          <a:pt x="1442" y="1486"/>
                        </a:lnTo>
                        <a:lnTo>
                          <a:pt x="1446" y="1486"/>
                        </a:lnTo>
                        <a:lnTo>
                          <a:pt x="1449" y="1486"/>
                        </a:lnTo>
                        <a:lnTo>
                          <a:pt x="1453" y="1489"/>
                        </a:lnTo>
                        <a:lnTo>
                          <a:pt x="1458" y="1489"/>
                        </a:lnTo>
                        <a:lnTo>
                          <a:pt x="1458" y="1486"/>
                        </a:lnTo>
                        <a:lnTo>
                          <a:pt x="1461" y="1486"/>
                        </a:lnTo>
                        <a:lnTo>
                          <a:pt x="1465" y="1486"/>
                        </a:lnTo>
                        <a:lnTo>
                          <a:pt x="1465" y="1481"/>
                        </a:lnTo>
                        <a:lnTo>
                          <a:pt x="1465" y="1476"/>
                        </a:lnTo>
                        <a:lnTo>
                          <a:pt x="1469" y="1473"/>
                        </a:lnTo>
                        <a:lnTo>
                          <a:pt x="1465" y="1473"/>
                        </a:lnTo>
                        <a:lnTo>
                          <a:pt x="1469" y="1468"/>
                        </a:lnTo>
                        <a:lnTo>
                          <a:pt x="1472" y="1468"/>
                        </a:lnTo>
                        <a:lnTo>
                          <a:pt x="1477" y="1468"/>
                        </a:lnTo>
                        <a:lnTo>
                          <a:pt x="1477" y="1473"/>
                        </a:lnTo>
                        <a:lnTo>
                          <a:pt x="1481" y="1473"/>
                        </a:lnTo>
                        <a:lnTo>
                          <a:pt x="1484" y="1473"/>
                        </a:lnTo>
                        <a:lnTo>
                          <a:pt x="1484" y="1476"/>
                        </a:lnTo>
                        <a:lnTo>
                          <a:pt x="1488" y="1476"/>
                        </a:lnTo>
                        <a:lnTo>
                          <a:pt x="1498" y="1476"/>
                        </a:lnTo>
                        <a:lnTo>
                          <a:pt x="1498" y="1473"/>
                        </a:lnTo>
                        <a:lnTo>
                          <a:pt x="1501" y="1473"/>
                        </a:lnTo>
                        <a:lnTo>
                          <a:pt x="1505" y="1473"/>
                        </a:lnTo>
                        <a:lnTo>
                          <a:pt x="1510" y="1473"/>
                        </a:lnTo>
                        <a:lnTo>
                          <a:pt x="1513" y="1473"/>
                        </a:lnTo>
                        <a:lnTo>
                          <a:pt x="1517" y="1468"/>
                        </a:lnTo>
                        <a:lnTo>
                          <a:pt x="1520" y="1468"/>
                        </a:lnTo>
                        <a:lnTo>
                          <a:pt x="1520" y="1460"/>
                        </a:lnTo>
                        <a:lnTo>
                          <a:pt x="1520" y="1457"/>
                        </a:lnTo>
                        <a:lnTo>
                          <a:pt x="1524" y="1457"/>
                        </a:lnTo>
                        <a:lnTo>
                          <a:pt x="1524" y="1452"/>
                        </a:lnTo>
                        <a:lnTo>
                          <a:pt x="1529" y="1452"/>
                        </a:lnTo>
                        <a:lnTo>
                          <a:pt x="1529" y="1447"/>
                        </a:lnTo>
                        <a:lnTo>
                          <a:pt x="1533" y="1447"/>
                        </a:lnTo>
                        <a:lnTo>
                          <a:pt x="1533" y="1444"/>
                        </a:lnTo>
                        <a:lnTo>
                          <a:pt x="1536" y="1444"/>
                        </a:lnTo>
                        <a:lnTo>
                          <a:pt x="1536" y="1439"/>
                        </a:lnTo>
                        <a:lnTo>
                          <a:pt x="1536" y="1434"/>
                        </a:lnTo>
                        <a:lnTo>
                          <a:pt x="1540" y="1434"/>
                        </a:lnTo>
                        <a:lnTo>
                          <a:pt x="1540" y="1430"/>
                        </a:lnTo>
                        <a:lnTo>
                          <a:pt x="1543" y="1430"/>
                        </a:lnTo>
                        <a:lnTo>
                          <a:pt x="1543" y="1425"/>
                        </a:lnTo>
                        <a:lnTo>
                          <a:pt x="1543" y="1421"/>
                        </a:lnTo>
                        <a:lnTo>
                          <a:pt x="1547" y="1421"/>
                        </a:lnTo>
                        <a:lnTo>
                          <a:pt x="1552" y="1421"/>
                        </a:lnTo>
                        <a:lnTo>
                          <a:pt x="1552" y="1425"/>
                        </a:lnTo>
                        <a:lnTo>
                          <a:pt x="1555" y="1425"/>
                        </a:lnTo>
                        <a:lnTo>
                          <a:pt x="1559" y="1425"/>
                        </a:lnTo>
                        <a:lnTo>
                          <a:pt x="1563" y="1425"/>
                        </a:lnTo>
                        <a:lnTo>
                          <a:pt x="1571" y="1421"/>
                        </a:lnTo>
                        <a:lnTo>
                          <a:pt x="1571" y="1417"/>
                        </a:lnTo>
                        <a:lnTo>
                          <a:pt x="1571" y="1412"/>
                        </a:lnTo>
                        <a:lnTo>
                          <a:pt x="1575" y="1412"/>
                        </a:lnTo>
                        <a:lnTo>
                          <a:pt x="1575" y="1407"/>
                        </a:lnTo>
                        <a:lnTo>
                          <a:pt x="1575" y="1404"/>
                        </a:lnTo>
                        <a:lnTo>
                          <a:pt x="1578" y="1399"/>
                        </a:lnTo>
                        <a:lnTo>
                          <a:pt x="1578" y="1394"/>
                        </a:lnTo>
                        <a:lnTo>
                          <a:pt x="1584" y="1394"/>
                        </a:lnTo>
                        <a:lnTo>
                          <a:pt x="1588" y="1394"/>
                        </a:lnTo>
                        <a:lnTo>
                          <a:pt x="1588" y="1389"/>
                        </a:lnTo>
                        <a:lnTo>
                          <a:pt x="1588" y="1383"/>
                        </a:lnTo>
                        <a:lnTo>
                          <a:pt x="1592" y="1378"/>
                        </a:lnTo>
                        <a:lnTo>
                          <a:pt x="1595" y="1378"/>
                        </a:lnTo>
                        <a:lnTo>
                          <a:pt x="1595" y="1375"/>
                        </a:lnTo>
                        <a:lnTo>
                          <a:pt x="1595" y="1370"/>
                        </a:lnTo>
                        <a:lnTo>
                          <a:pt x="1600" y="1370"/>
                        </a:lnTo>
                        <a:lnTo>
                          <a:pt x="1604" y="1365"/>
                        </a:lnTo>
                        <a:lnTo>
                          <a:pt x="1607" y="1365"/>
                        </a:lnTo>
                        <a:lnTo>
                          <a:pt x="1607" y="1362"/>
                        </a:lnTo>
                        <a:lnTo>
                          <a:pt x="1611" y="1362"/>
                        </a:lnTo>
                        <a:lnTo>
                          <a:pt x="1611" y="1365"/>
                        </a:lnTo>
                        <a:lnTo>
                          <a:pt x="1614" y="1365"/>
                        </a:lnTo>
                        <a:lnTo>
                          <a:pt x="1614" y="1362"/>
                        </a:lnTo>
                        <a:lnTo>
                          <a:pt x="1618" y="1362"/>
                        </a:lnTo>
                        <a:lnTo>
                          <a:pt x="1618" y="1357"/>
                        </a:lnTo>
                        <a:lnTo>
                          <a:pt x="1618" y="1352"/>
                        </a:lnTo>
                        <a:lnTo>
                          <a:pt x="1618" y="1347"/>
                        </a:lnTo>
                        <a:lnTo>
                          <a:pt x="1618" y="1344"/>
                        </a:lnTo>
                        <a:lnTo>
                          <a:pt x="1618" y="1339"/>
                        </a:lnTo>
                        <a:lnTo>
                          <a:pt x="1614" y="1334"/>
                        </a:lnTo>
                        <a:lnTo>
                          <a:pt x="1614" y="1325"/>
                        </a:lnTo>
                        <a:lnTo>
                          <a:pt x="1614" y="1321"/>
                        </a:lnTo>
                        <a:lnTo>
                          <a:pt x="1611" y="1321"/>
                        </a:lnTo>
                        <a:lnTo>
                          <a:pt x="1607" y="1317"/>
                        </a:lnTo>
                        <a:lnTo>
                          <a:pt x="1607" y="1310"/>
                        </a:lnTo>
                        <a:lnTo>
                          <a:pt x="1604" y="1310"/>
                        </a:lnTo>
                        <a:lnTo>
                          <a:pt x="1600" y="1305"/>
                        </a:lnTo>
                        <a:lnTo>
                          <a:pt x="1595" y="1305"/>
                        </a:lnTo>
                        <a:lnTo>
                          <a:pt x="1595" y="1301"/>
                        </a:lnTo>
                        <a:lnTo>
                          <a:pt x="1592" y="1296"/>
                        </a:lnTo>
                        <a:lnTo>
                          <a:pt x="1592" y="1292"/>
                        </a:lnTo>
                        <a:lnTo>
                          <a:pt x="1592" y="1288"/>
                        </a:lnTo>
                        <a:lnTo>
                          <a:pt x="1592" y="1283"/>
                        </a:lnTo>
                        <a:lnTo>
                          <a:pt x="1595" y="1275"/>
                        </a:lnTo>
                        <a:lnTo>
                          <a:pt x="1600" y="1265"/>
                        </a:lnTo>
                        <a:lnTo>
                          <a:pt x="1600" y="1262"/>
                        </a:lnTo>
                        <a:lnTo>
                          <a:pt x="1600" y="1257"/>
                        </a:lnTo>
                        <a:lnTo>
                          <a:pt x="1604" y="1252"/>
                        </a:lnTo>
                        <a:lnTo>
                          <a:pt x="1604" y="1247"/>
                        </a:lnTo>
                        <a:lnTo>
                          <a:pt x="1607" y="1239"/>
                        </a:lnTo>
                        <a:lnTo>
                          <a:pt x="1607" y="1233"/>
                        </a:lnTo>
                        <a:lnTo>
                          <a:pt x="1607" y="1228"/>
                        </a:lnTo>
                        <a:lnTo>
                          <a:pt x="1607" y="1219"/>
                        </a:lnTo>
                        <a:lnTo>
                          <a:pt x="1607" y="1214"/>
                        </a:lnTo>
                        <a:lnTo>
                          <a:pt x="1607" y="1210"/>
                        </a:lnTo>
                        <a:lnTo>
                          <a:pt x="1607" y="1205"/>
                        </a:lnTo>
                        <a:lnTo>
                          <a:pt x="1604" y="1201"/>
                        </a:lnTo>
                        <a:lnTo>
                          <a:pt x="1604" y="1196"/>
                        </a:lnTo>
                        <a:lnTo>
                          <a:pt x="1604" y="1192"/>
                        </a:lnTo>
                        <a:lnTo>
                          <a:pt x="1604" y="1188"/>
                        </a:lnTo>
                        <a:lnTo>
                          <a:pt x="1607" y="1188"/>
                        </a:lnTo>
                        <a:lnTo>
                          <a:pt x="1607" y="1183"/>
                        </a:lnTo>
                        <a:lnTo>
                          <a:pt x="1607" y="1178"/>
                        </a:lnTo>
                        <a:lnTo>
                          <a:pt x="1607" y="1175"/>
                        </a:lnTo>
                        <a:lnTo>
                          <a:pt x="1607" y="1170"/>
                        </a:lnTo>
                        <a:lnTo>
                          <a:pt x="1607" y="1165"/>
                        </a:lnTo>
                        <a:lnTo>
                          <a:pt x="1607" y="1161"/>
                        </a:lnTo>
                        <a:lnTo>
                          <a:pt x="1611" y="1154"/>
                        </a:lnTo>
                        <a:lnTo>
                          <a:pt x="1611" y="1149"/>
                        </a:lnTo>
                        <a:lnTo>
                          <a:pt x="1614" y="1146"/>
                        </a:lnTo>
                        <a:lnTo>
                          <a:pt x="1614" y="1136"/>
                        </a:lnTo>
                        <a:lnTo>
                          <a:pt x="1618" y="1128"/>
                        </a:lnTo>
                        <a:lnTo>
                          <a:pt x="1618" y="1119"/>
                        </a:lnTo>
                        <a:lnTo>
                          <a:pt x="1618" y="1114"/>
                        </a:lnTo>
                        <a:lnTo>
                          <a:pt x="1618" y="1110"/>
                        </a:lnTo>
                        <a:lnTo>
                          <a:pt x="1618" y="1106"/>
                        </a:lnTo>
                        <a:lnTo>
                          <a:pt x="1618" y="1101"/>
                        </a:lnTo>
                        <a:lnTo>
                          <a:pt x="1614" y="1096"/>
                        </a:lnTo>
                        <a:lnTo>
                          <a:pt x="1614" y="1092"/>
                        </a:lnTo>
                        <a:lnTo>
                          <a:pt x="1614" y="1088"/>
                        </a:lnTo>
                        <a:lnTo>
                          <a:pt x="1614" y="1083"/>
                        </a:lnTo>
                        <a:lnTo>
                          <a:pt x="1611" y="1077"/>
                        </a:lnTo>
                        <a:lnTo>
                          <a:pt x="1611" y="1067"/>
                        </a:lnTo>
                        <a:lnTo>
                          <a:pt x="1607" y="1067"/>
                        </a:lnTo>
                        <a:lnTo>
                          <a:pt x="1607" y="1063"/>
                        </a:lnTo>
                        <a:lnTo>
                          <a:pt x="1607" y="1059"/>
                        </a:lnTo>
                        <a:lnTo>
                          <a:pt x="1607" y="1054"/>
                        </a:lnTo>
                        <a:lnTo>
                          <a:pt x="1607" y="1049"/>
                        </a:lnTo>
                        <a:lnTo>
                          <a:pt x="1604" y="1046"/>
                        </a:lnTo>
                        <a:lnTo>
                          <a:pt x="1604" y="1041"/>
                        </a:lnTo>
                        <a:lnTo>
                          <a:pt x="1600" y="1041"/>
                        </a:lnTo>
                        <a:lnTo>
                          <a:pt x="1600" y="1036"/>
                        </a:lnTo>
                        <a:lnTo>
                          <a:pt x="1600" y="1028"/>
                        </a:lnTo>
                        <a:lnTo>
                          <a:pt x="1600" y="1023"/>
                        </a:lnTo>
                        <a:lnTo>
                          <a:pt x="1595" y="1023"/>
                        </a:lnTo>
                        <a:lnTo>
                          <a:pt x="1595" y="1019"/>
                        </a:lnTo>
                        <a:lnTo>
                          <a:pt x="1595" y="1014"/>
                        </a:lnTo>
                        <a:lnTo>
                          <a:pt x="1595" y="1006"/>
                        </a:lnTo>
                        <a:lnTo>
                          <a:pt x="1595" y="999"/>
                        </a:lnTo>
                        <a:lnTo>
                          <a:pt x="1595" y="994"/>
                        </a:lnTo>
                        <a:lnTo>
                          <a:pt x="1595" y="985"/>
                        </a:lnTo>
                        <a:lnTo>
                          <a:pt x="1592" y="981"/>
                        </a:lnTo>
                        <a:lnTo>
                          <a:pt x="1592" y="977"/>
                        </a:lnTo>
                        <a:lnTo>
                          <a:pt x="1592" y="972"/>
                        </a:lnTo>
                        <a:lnTo>
                          <a:pt x="1592" y="967"/>
                        </a:lnTo>
                        <a:lnTo>
                          <a:pt x="1592" y="964"/>
                        </a:lnTo>
                        <a:lnTo>
                          <a:pt x="1592" y="959"/>
                        </a:lnTo>
                        <a:lnTo>
                          <a:pt x="1595" y="954"/>
                        </a:lnTo>
                        <a:lnTo>
                          <a:pt x="1600" y="949"/>
                        </a:lnTo>
                        <a:lnTo>
                          <a:pt x="1600" y="946"/>
                        </a:lnTo>
                        <a:lnTo>
                          <a:pt x="1604" y="946"/>
                        </a:lnTo>
                        <a:lnTo>
                          <a:pt x="1611" y="941"/>
                        </a:lnTo>
                        <a:lnTo>
                          <a:pt x="1614" y="941"/>
                        </a:lnTo>
                        <a:lnTo>
                          <a:pt x="1618" y="941"/>
                        </a:lnTo>
                        <a:lnTo>
                          <a:pt x="1627" y="936"/>
                        </a:lnTo>
                        <a:lnTo>
                          <a:pt x="1630" y="936"/>
                        </a:lnTo>
                        <a:lnTo>
                          <a:pt x="1634" y="936"/>
                        </a:lnTo>
                        <a:lnTo>
                          <a:pt x="1637" y="925"/>
                        </a:lnTo>
                        <a:lnTo>
                          <a:pt x="1646" y="920"/>
                        </a:lnTo>
                        <a:lnTo>
                          <a:pt x="1649" y="920"/>
                        </a:lnTo>
                        <a:lnTo>
                          <a:pt x="1649" y="917"/>
                        </a:lnTo>
                        <a:lnTo>
                          <a:pt x="1657" y="903"/>
                        </a:lnTo>
                        <a:lnTo>
                          <a:pt x="1662" y="899"/>
                        </a:lnTo>
                        <a:lnTo>
                          <a:pt x="1665" y="899"/>
                        </a:lnTo>
                        <a:lnTo>
                          <a:pt x="1669" y="899"/>
                        </a:lnTo>
                        <a:lnTo>
                          <a:pt x="1675" y="894"/>
                        </a:lnTo>
                        <a:lnTo>
                          <a:pt x="1682" y="894"/>
                        </a:lnTo>
                        <a:lnTo>
                          <a:pt x="1686" y="885"/>
                        </a:lnTo>
                        <a:lnTo>
                          <a:pt x="1689" y="885"/>
                        </a:lnTo>
                        <a:lnTo>
                          <a:pt x="1694" y="881"/>
                        </a:lnTo>
                        <a:lnTo>
                          <a:pt x="1705" y="885"/>
                        </a:lnTo>
                        <a:lnTo>
                          <a:pt x="1709" y="890"/>
                        </a:lnTo>
                        <a:lnTo>
                          <a:pt x="1709" y="894"/>
                        </a:lnTo>
                        <a:lnTo>
                          <a:pt x="1717" y="894"/>
                        </a:lnTo>
                        <a:lnTo>
                          <a:pt x="1721" y="894"/>
                        </a:lnTo>
                        <a:lnTo>
                          <a:pt x="1721" y="899"/>
                        </a:lnTo>
                        <a:lnTo>
                          <a:pt x="1724" y="899"/>
                        </a:lnTo>
                        <a:lnTo>
                          <a:pt x="1728" y="867"/>
                        </a:lnTo>
                        <a:lnTo>
                          <a:pt x="1728" y="854"/>
                        </a:lnTo>
                        <a:lnTo>
                          <a:pt x="1728" y="835"/>
                        </a:lnTo>
                        <a:lnTo>
                          <a:pt x="1728" y="830"/>
                        </a:lnTo>
                        <a:lnTo>
                          <a:pt x="1728" y="825"/>
                        </a:lnTo>
                        <a:lnTo>
                          <a:pt x="1728" y="821"/>
                        </a:lnTo>
                        <a:lnTo>
                          <a:pt x="1731" y="799"/>
                        </a:lnTo>
                        <a:lnTo>
                          <a:pt x="1728" y="790"/>
                        </a:lnTo>
                        <a:lnTo>
                          <a:pt x="1728" y="785"/>
                        </a:lnTo>
                        <a:lnTo>
                          <a:pt x="1728" y="777"/>
                        </a:lnTo>
                        <a:lnTo>
                          <a:pt x="1728" y="770"/>
                        </a:lnTo>
                        <a:lnTo>
                          <a:pt x="1728" y="756"/>
                        </a:lnTo>
                        <a:lnTo>
                          <a:pt x="1728" y="748"/>
                        </a:lnTo>
                        <a:lnTo>
                          <a:pt x="1724" y="743"/>
                        </a:lnTo>
                        <a:lnTo>
                          <a:pt x="1717" y="725"/>
                        </a:lnTo>
                        <a:lnTo>
                          <a:pt x="1713" y="708"/>
                        </a:lnTo>
                        <a:lnTo>
                          <a:pt x="1709" y="692"/>
                        </a:lnTo>
                        <a:lnTo>
                          <a:pt x="1705" y="674"/>
                        </a:lnTo>
                        <a:lnTo>
                          <a:pt x="1705" y="670"/>
                        </a:lnTo>
                        <a:lnTo>
                          <a:pt x="1705" y="665"/>
                        </a:lnTo>
                        <a:lnTo>
                          <a:pt x="1701" y="656"/>
                        </a:lnTo>
                        <a:lnTo>
                          <a:pt x="1701" y="651"/>
                        </a:lnTo>
                        <a:lnTo>
                          <a:pt x="1698" y="625"/>
                        </a:lnTo>
                        <a:lnTo>
                          <a:pt x="1698" y="621"/>
                        </a:lnTo>
                        <a:lnTo>
                          <a:pt x="1701" y="601"/>
                        </a:lnTo>
                        <a:lnTo>
                          <a:pt x="1698" y="588"/>
                        </a:lnTo>
                        <a:lnTo>
                          <a:pt x="1698" y="583"/>
                        </a:lnTo>
                        <a:lnTo>
                          <a:pt x="1701" y="574"/>
                        </a:lnTo>
                        <a:lnTo>
                          <a:pt x="1701" y="566"/>
                        </a:lnTo>
                        <a:lnTo>
                          <a:pt x="1701" y="561"/>
                        </a:lnTo>
                        <a:lnTo>
                          <a:pt x="1701" y="548"/>
                        </a:lnTo>
                        <a:lnTo>
                          <a:pt x="1701" y="543"/>
                        </a:lnTo>
                        <a:lnTo>
                          <a:pt x="1698" y="537"/>
                        </a:lnTo>
                        <a:lnTo>
                          <a:pt x="1698" y="532"/>
                        </a:lnTo>
                        <a:lnTo>
                          <a:pt x="1694" y="527"/>
                        </a:lnTo>
                        <a:lnTo>
                          <a:pt x="1689" y="522"/>
                        </a:lnTo>
                        <a:lnTo>
                          <a:pt x="1689" y="519"/>
                        </a:lnTo>
                        <a:lnTo>
                          <a:pt x="1686" y="519"/>
                        </a:lnTo>
                        <a:lnTo>
                          <a:pt x="1669" y="496"/>
                        </a:lnTo>
                        <a:lnTo>
                          <a:pt x="1665" y="496"/>
                        </a:lnTo>
                        <a:lnTo>
                          <a:pt x="1662" y="492"/>
                        </a:lnTo>
                        <a:lnTo>
                          <a:pt x="1662" y="487"/>
                        </a:lnTo>
                        <a:lnTo>
                          <a:pt x="1662" y="483"/>
                        </a:lnTo>
                        <a:lnTo>
                          <a:pt x="1657" y="479"/>
                        </a:lnTo>
                        <a:lnTo>
                          <a:pt x="1653" y="474"/>
                        </a:lnTo>
                        <a:lnTo>
                          <a:pt x="1653" y="469"/>
                        </a:lnTo>
                        <a:lnTo>
                          <a:pt x="1653" y="463"/>
                        </a:lnTo>
                        <a:lnTo>
                          <a:pt x="1657" y="459"/>
                        </a:lnTo>
                        <a:lnTo>
                          <a:pt x="1662" y="454"/>
                        </a:lnTo>
                        <a:lnTo>
                          <a:pt x="1662" y="450"/>
                        </a:lnTo>
                        <a:lnTo>
                          <a:pt x="1665" y="445"/>
                        </a:lnTo>
                        <a:lnTo>
                          <a:pt x="1665" y="440"/>
                        </a:lnTo>
                        <a:lnTo>
                          <a:pt x="1675" y="437"/>
                        </a:lnTo>
                        <a:lnTo>
                          <a:pt x="1675" y="432"/>
                        </a:lnTo>
                        <a:lnTo>
                          <a:pt x="1682" y="427"/>
                        </a:lnTo>
                        <a:lnTo>
                          <a:pt x="1682" y="424"/>
                        </a:lnTo>
                        <a:lnTo>
                          <a:pt x="1686" y="419"/>
                        </a:lnTo>
                        <a:lnTo>
                          <a:pt x="1689" y="414"/>
                        </a:lnTo>
                        <a:lnTo>
                          <a:pt x="1689" y="409"/>
                        </a:lnTo>
                        <a:lnTo>
                          <a:pt x="1694" y="401"/>
                        </a:lnTo>
                        <a:lnTo>
                          <a:pt x="1689" y="396"/>
                        </a:lnTo>
                        <a:lnTo>
                          <a:pt x="1689" y="392"/>
                        </a:lnTo>
                        <a:lnTo>
                          <a:pt x="1686" y="385"/>
                        </a:lnTo>
                        <a:lnTo>
                          <a:pt x="1682" y="380"/>
                        </a:lnTo>
                        <a:lnTo>
                          <a:pt x="1678" y="377"/>
                        </a:lnTo>
                        <a:lnTo>
                          <a:pt x="1675" y="377"/>
                        </a:lnTo>
                        <a:lnTo>
                          <a:pt x="1669" y="372"/>
                        </a:lnTo>
                        <a:lnTo>
                          <a:pt x="1665" y="372"/>
                        </a:lnTo>
                        <a:lnTo>
                          <a:pt x="1662" y="372"/>
                        </a:lnTo>
                        <a:lnTo>
                          <a:pt x="1657" y="372"/>
                        </a:lnTo>
                        <a:lnTo>
                          <a:pt x="1653" y="372"/>
                        </a:lnTo>
                        <a:lnTo>
                          <a:pt x="1649" y="372"/>
                        </a:lnTo>
                        <a:lnTo>
                          <a:pt x="1642" y="372"/>
                        </a:lnTo>
                        <a:lnTo>
                          <a:pt x="1637" y="367"/>
                        </a:lnTo>
                        <a:lnTo>
                          <a:pt x="1634" y="363"/>
                        </a:lnTo>
                        <a:lnTo>
                          <a:pt x="1618" y="345"/>
                        </a:lnTo>
                        <a:lnTo>
                          <a:pt x="1614" y="337"/>
                        </a:lnTo>
                        <a:lnTo>
                          <a:pt x="1607" y="327"/>
                        </a:lnTo>
                        <a:lnTo>
                          <a:pt x="1604" y="327"/>
                        </a:lnTo>
                        <a:lnTo>
                          <a:pt x="1595" y="323"/>
                        </a:lnTo>
                        <a:lnTo>
                          <a:pt x="1592" y="319"/>
                        </a:lnTo>
                        <a:lnTo>
                          <a:pt x="1588" y="314"/>
                        </a:lnTo>
                        <a:lnTo>
                          <a:pt x="1571" y="295"/>
                        </a:lnTo>
                        <a:lnTo>
                          <a:pt x="1563" y="290"/>
                        </a:lnTo>
                        <a:lnTo>
                          <a:pt x="1559" y="290"/>
                        </a:lnTo>
                        <a:lnTo>
                          <a:pt x="1552" y="281"/>
                        </a:lnTo>
                        <a:lnTo>
                          <a:pt x="1547" y="276"/>
                        </a:lnTo>
                        <a:lnTo>
                          <a:pt x="1533" y="263"/>
                        </a:lnTo>
                        <a:lnTo>
                          <a:pt x="1524" y="254"/>
                        </a:lnTo>
                        <a:lnTo>
                          <a:pt x="1520" y="254"/>
                        </a:lnTo>
                        <a:lnTo>
                          <a:pt x="1513" y="250"/>
                        </a:lnTo>
                        <a:lnTo>
                          <a:pt x="1510" y="245"/>
                        </a:lnTo>
                        <a:lnTo>
                          <a:pt x="1505" y="240"/>
                        </a:lnTo>
                        <a:lnTo>
                          <a:pt x="1501" y="237"/>
                        </a:lnTo>
                        <a:lnTo>
                          <a:pt x="1498" y="237"/>
                        </a:lnTo>
                        <a:lnTo>
                          <a:pt x="1488" y="221"/>
                        </a:lnTo>
                        <a:lnTo>
                          <a:pt x="1484" y="221"/>
                        </a:lnTo>
                        <a:lnTo>
                          <a:pt x="1484" y="211"/>
                        </a:lnTo>
                        <a:lnTo>
                          <a:pt x="1484" y="208"/>
                        </a:lnTo>
                        <a:lnTo>
                          <a:pt x="1484" y="198"/>
                        </a:lnTo>
                        <a:lnTo>
                          <a:pt x="1477" y="198"/>
                        </a:lnTo>
                        <a:lnTo>
                          <a:pt x="1472" y="198"/>
                        </a:lnTo>
                        <a:lnTo>
                          <a:pt x="1469" y="194"/>
                        </a:lnTo>
                        <a:lnTo>
                          <a:pt x="1465" y="194"/>
                        </a:lnTo>
                        <a:lnTo>
                          <a:pt x="1461" y="190"/>
                        </a:lnTo>
                        <a:lnTo>
                          <a:pt x="1453" y="190"/>
                        </a:lnTo>
                        <a:lnTo>
                          <a:pt x="1453" y="185"/>
                        </a:lnTo>
                        <a:lnTo>
                          <a:pt x="1449" y="185"/>
                        </a:lnTo>
                        <a:lnTo>
                          <a:pt x="1446" y="185"/>
                        </a:lnTo>
                        <a:lnTo>
                          <a:pt x="1423" y="181"/>
                        </a:lnTo>
                        <a:lnTo>
                          <a:pt x="1414" y="176"/>
                        </a:lnTo>
                        <a:lnTo>
                          <a:pt x="1401" y="172"/>
                        </a:lnTo>
                        <a:lnTo>
                          <a:pt x="1382" y="163"/>
                        </a:lnTo>
                        <a:lnTo>
                          <a:pt x="1378" y="168"/>
                        </a:lnTo>
                        <a:lnTo>
                          <a:pt x="1375" y="172"/>
                        </a:lnTo>
                        <a:lnTo>
                          <a:pt x="1371" y="176"/>
                        </a:lnTo>
                        <a:lnTo>
                          <a:pt x="1371" y="181"/>
                        </a:lnTo>
                        <a:lnTo>
                          <a:pt x="1367" y="185"/>
                        </a:lnTo>
                        <a:lnTo>
                          <a:pt x="1362" y="185"/>
                        </a:lnTo>
                        <a:lnTo>
                          <a:pt x="1352" y="194"/>
                        </a:lnTo>
                        <a:lnTo>
                          <a:pt x="1348" y="194"/>
                        </a:lnTo>
                        <a:lnTo>
                          <a:pt x="1344" y="194"/>
                        </a:lnTo>
                        <a:lnTo>
                          <a:pt x="1340" y="198"/>
                        </a:lnTo>
                        <a:lnTo>
                          <a:pt x="1329" y="198"/>
                        </a:lnTo>
                        <a:lnTo>
                          <a:pt x="1320" y="198"/>
                        </a:lnTo>
                        <a:lnTo>
                          <a:pt x="1296" y="203"/>
                        </a:lnTo>
                        <a:lnTo>
                          <a:pt x="1291" y="198"/>
                        </a:lnTo>
                        <a:lnTo>
                          <a:pt x="1284" y="198"/>
                        </a:lnTo>
                        <a:lnTo>
                          <a:pt x="1280" y="194"/>
                        </a:lnTo>
                        <a:lnTo>
                          <a:pt x="1273" y="194"/>
                        </a:lnTo>
                        <a:lnTo>
                          <a:pt x="1258" y="185"/>
                        </a:lnTo>
                        <a:lnTo>
                          <a:pt x="1254" y="185"/>
                        </a:lnTo>
                        <a:lnTo>
                          <a:pt x="1249" y="185"/>
                        </a:lnTo>
                        <a:lnTo>
                          <a:pt x="1249" y="181"/>
                        </a:lnTo>
                        <a:lnTo>
                          <a:pt x="1246" y="181"/>
                        </a:lnTo>
                        <a:lnTo>
                          <a:pt x="1242" y="176"/>
                        </a:lnTo>
                        <a:lnTo>
                          <a:pt x="1238" y="172"/>
                        </a:lnTo>
                        <a:lnTo>
                          <a:pt x="1235" y="172"/>
                        </a:lnTo>
                        <a:lnTo>
                          <a:pt x="1230" y="168"/>
                        </a:lnTo>
                        <a:lnTo>
                          <a:pt x="1225" y="163"/>
                        </a:lnTo>
                        <a:lnTo>
                          <a:pt x="1221" y="152"/>
                        </a:lnTo>
                        <a:lnTo>
                          <a:pt x="1213" y="152"/>
                        </a:lnTo>
                        <a:lnTo>
                          <a:pt x="1209" y="143"/>
                        </a:lnTo>
                        <a:lnTo>
                          <a:pt x="1206" y="139"/>
                        </a:lnTo>
                        <a:lnTo>
                          <a:pt x="1202" y="134"/>
                        </a:lnTo>
                        <a:lnTo>
                          <a:pt x="1197" y="134"/>
                        </a:lnTo>
                        <a:lnTo>
                          <a:pt x="1194" y="125"/>
                        </a:lnTo>
                        <a:lnTo>
                          <a:pt x="1190" y="121"/>
                        </a:lnTo>
                        <a:lnTo>
                          <a:pt x="1186" y="116"/>
                        </a:lnTo>
                        <a:lnTo>
                          <a:pt x="1183" y="116"/>
                        </a:lnTo>
                        <a:lnTo>
                          <a:pt x="1183" y="111"/>
                        </a:lnTo>
                        <a:lnTo>
                          <a:pt x="1178" y="116"/>
                        </a:lnTo>
                        <a:lnTo>
                          <a:pt x="1178" y="121"/>
                        </a:lnTo>
                        <a:lnTo>
                          <a:pt x="1183" y="125"/>
                        </a:lnTo>
                        <a:lnTo>
                          <a:pt x="1186" y="129"/>
                        </a:lnTo>
                        <a:lnTo>
                          <a:pt x="1190" y="134"/>
                        </a:lnTo>
                        <a:lnTo>
                          <a:pt x="1194" y="139"/>
                        </a:lnTo>
                        <a:lnTo>
                          <a:pt x="1197" y="139"/>
                        </a:lnTo>
                        <a:lnTo>
                          <a:pt x="1197" y="143"/>
                        </a:lnTo>
                        <a:lnTo>
                          <a:pt x="1206" y="147"/>
                        </a:lnTo>
                        <a:lnTo>
                          <a:pt x="1213" y="158"/>
                        </a:lnTo>
                        <a:lnTo>
                          <a:pt x="1217" y="163"/>
                        </a:lnTo>
                        <a:lnTo>
                          <a:pt x="1221" y="168"/>
                        </a:lnTo>
                        <a:lnTo>
                          <a:pt x="1225" y="168"/>
                        </a:lnTo>
                        <a:lnTo>
                          <a:pt x="1230" y="172"/>
                        </a:lnTo>
                        <a:lnTo>
                          <a:pt x="1235" y="176"/>
                        </a:lnTo>
                        <a:lnTo>
                          <a:pt x="1238" y="181"/>
                        </a:lnTo>
                        <a:lnTo>
                          <a:pt x="1238" y="185"/>
                        </a:lnTo>
                        <a:lnTo>
                          <a:pt x="1238" y="190"/>
                        </a:lnTo>
                        <a:lnTo>
                          <a:pt x="1242" y="190"/>
                        </a:lnTo>
                        <a:lnTo>
                          <a:pt x="1246" y="190"/>
                        </a:lnTo>
                        <a:lnTo>
                          <a:pt x="1249" y="190"/>
                        </a:lnTo>
                        <a:lnTo>
                          <a:pt x="1249" y="194"/>
                        </a:lnTo>
                        <a:lnTo>
                          <a:pt x="1249" y="198"/>
                        </a:lnTo>
                        <a:lnTo>
                          <a:pt x="1249" y="203"/>
                        </a:lnTo>
                        <a:lnTo>
                          <a:pt x="1246" y="203"/>
                        </a:lnTo>
                        <a:lnTo>
                          <a:pt x="1225" y="198"/>
                        </a:lnTo>
                        <a:lnTo>
                          <a:pt x="1221" y="194"/>
                        </a:lnTo>
                        <a:lnTo>
                          <a:pt x="1217" y="190"/>
                        </a:lnTo>
                        <a:lnTo>
                          <a:pt x="1209" y="185"/>
                        </a:lnTo>
                        <a:lnTo>
                          <a:pt x="1206" y="185"/>
                        </a:lnTo>
                        <a:lnTo>
                          <a:pt x="1197" y="181"/>
                        </a:lnTo>
                        <a:lnTo>
                          <a:pt x="1194" y="176"/>
                        </a:lnTo>
                        <a:lnTo>
                          <a:pt x="1178" y="158"/>
                        </a:lnTo>
                        <a:lnTo>
                          <a:pt x="1178" y="152"/>
                        </a:lnTo>
                        <a:lnTo>
                          <a:pt x="1174" y="147"/>
                        </a:lnTo>
                        <a:lnTo>
                          <a:pt x="1174" y="143"/>
                        </a:lnTo>
                        <a:lnTo>
                          <a:pt x="1178" y="143"/>
                        </a:lnTo>
                        <a:lnTo>
                          <a:pt x="1183" y="139"/>
                        </a:lnTo>
                        <a:lnTo>
                          <a:pt x="1183" y="134"/>
                        </a:lnTo>
                        <a:lnTo>
                          <a:pt x="1178" y="129"/>
                        </a:lnTo>
                        <a:lnTo>
                          <a:pt x="1174" y="125"/>
                        </a:lnTo>
                        <a:lnTo>
                          <a:pt x="1171" y="121"/>
                        </a:lnTo>
                        <a:lnTo>
                          <a:pt x="1167" y="111"/>
                        </a:lnTo>
                        <a:lnTo>
                          <a:pt x="1174" y="111"/>
                        </a:lnTo>
                        <a:lnTo>
                          <a:pt x="1171" y="98"/>
                        </a:lnTo>
                        <a:lnTo>
                          <a:pt x="1171" y="94"/>
                        </a:lnTo>
                        <a:lnTo>
                          <a:pt x="1160" y="85"/>
                        </a:lnTo>
                        <a:lnTo>
                          <a:pt x="1160" y="79"/>
                        </a:lnTo>
                        <a:lnTo>
                          <a:pt x="1160" y="74"/>
                        </a:lnTo>
                        <a:lnTo>
                          <a:pt x="1160" y="11"/>
                        </a:lnTo>
                        <a:lnTo>
                          <a:pt x="1160" y="8"/>
                        </a:lnTo>
                        <a:lnTo>
                          <a:pt x="1155" y="0"/>
                        </a:lnTo>
                        <a:lnTo>
                          <a:pt x="1151" y="0"/>
                        </a:lnTo>
                        <a:lnTo>
                          <a:pt x="1148" y="0"/>
                        </a:lnTo>
                        <a:lnTo>
                          <a:pt x="1144" y="0"/>
                        </a:lnTo>
                        <a:lnTo>
                          <a:pt x="1135" y="0"/>
                        </a:lnTo>
                        <a:lnTo>
                          <a:pt x="1135" y="8"/>
                        </a:lnTo>
                        <a:lnTo>
                          <a:pt x="1131" y="11"/>
                        </a:lnTo>
                        <a:lnTo>
                          <a:pt x="1131" y="16"/>
                        </a:lnTo>
                        <a:lnTo>
                          <a:pt x="1131" y="21"/>
                        </a:lnTo>
                        <a:lnTo>
                          <a:pt x="1131" y="26"/>
                        </a:lnTo>
                        <a:lnTo>
                          <a:pt x="1131" y="29"/>
                        </a:lnTo>
                        <a:lnTo>
                          <a:pt x="1123" y="47"/>
                        </a:lnTo>
                        <a:lnTo>
                          <a:pt x="1123" y="52"/>
                        </a:lnTo>
                        <a:lnTo>
                          <a:pt x="1119" y="65"/>
                        </a:lnTo>
                        <a:lnTo>
                          <a:pt x="1089" y="98"/>
                        </a:lnTo>
                        <a:lnTo>
                          <a:pt x="1061" y="116"/>
                        </a:lnTo>
                        <a:lnTo>
                          <a:pt x="1057" y="116"/>
                        </a:lnTo>
                        <a:lnTo>
                          <a:pt x="1028" y="134"/>
                        </a:lnTo>
                        <a:lnTo>
                          <a:pt x="1025" y="139"/>
                        </a:lnTo>
                        <a:lnTo>
                          <a:pt x="1021" y="139"/>
                        </a:lnTo>
                        <a:lnTo>
                          <a:pt x="1009" y="139"/>
                        </a:lnTo>
                        <a:lnTo>
                          <a:pt x="1009" y="143"/>
                        </a:lnTo>
                        <a:lnTo>
                          <a:pt x="1006" y="143"/>
                        </a:lnTo>
                        <a:lnTo>
                          <a:pt x="1002" y="143"/>
                        </a:lnTo>
                        <a:lnTo>
                          <a:pt x="998" y="147"/>
                        </a:lnTo>
                        <a:lnTo>
                          <a:pt x="994" y="152"/>
                        </a:lnTo>
                        <a:lnTo>
                          <a:pt x="990" y="152"/>
                        </a:lnTo>
                        <a:lnTo>
                          <a:pt x="990" y="172"/>
                        </a:lnTo>
                        <a:lnTo>
                          <a:pt x="990" y="185"/>
                        </a:lnTo>
                        <a:lnTo>
                          <a:pt x="983" y="198"/>
                        </a:lnTo>
                        <a:lnTo>
                          <a:pt x="974" y="203"/>
                        </a:lnTo>
                        <a:lnTo>
                          <a:pt x="974" y="208"/>
                        </a:lnTo>
                        <a:lnTo>
                          <a:pt x="957" y="225"/>
                        </a:lnTo>
                        <a:lnTo>
                          <a:pt x="963" y="237"/>
                        </a:lnTo>
                        <a:lnTo>
                          <a:pt x="963" y="250"/>
                        </a:lnTo>
                        <a:lnTo>
                          <a:pt x="954" y="263"/>
                        </a:lnTo>
                        <a:lnTo>
                          <a:pt x="950" y="267"/>
                        </a:lnTo>
                        <a:lnTo>
                          <a:pt x="946" y="272"/>
                        </a:lnTo>
                        <a:lnTo>
                          <a:pt x="934" y="272"/>
                        </a:lnTo>
                        <a:lnTo>
                          <a:pt x="931" y="281"/>
                        </a:lnTo>
                        <a:lnTo>
                          <a:pt x="927" y="295"/>
                        </a:lnTo>
                        <a:lnTo>
                          <a:pt x="931" y="303"/>
                        </a:lnTo>
                        <a:lnTo>
                          <a:pt x="904" y="314"/>
                        </a:lnTo>
                        <a:lnTo>
                          <a:pt x="899" y="319"/>
                        </a:lnTo>
                        <a:lnTo>
                          <a:pt x="904" y="332"/>
                        </a:lnTo>
                        <a:lnTo>
                          <a:pt x="899" y="340"/>
                        </a:lnTo>
                        <a:lnTo>
                          <a:pt x="892" y="340"/>
                        </a:lnTo>
                        <a:lnTo>
                          <a:pt x="873" y="340"/>
                        </a:lnTo>
                        <a:lnTo>
                          <a:pt x="863" y="340"/>
                        </a:lnTo>
                        <a:lnTo>
                          <a:pt x="860" y="345"/>
                        </a:lnTo>
                        <a:lnTo>
                          <a:pt x="856" y="345"/>
                        </a:lnTo>
                        <a:lnTo>
                          <a:pt x="837" y="345"/>
                        </a:lnTo>
                        <a:lnTo>
                          <a:pt x="828" y="354"/>
                        </a:lnTo>
                        <a:lnTo>
                          <a:pt x="821" y="363"/>
                        </a:lnTo>
                        <a:lnTo>
                          <a:pt x="817" y="367"/>
                        </a:lnTo>
                        <a:lnTo>
                          <a:pt x="809" y="377"/>
                        </a:lnTo>
                        <a:lnTo>
                          <a:pt x="798" y="385"/>
                        </a:lnTo>
                        <a:lnTo>
                          <a:pt x="790" y="401"/>
                        </a:lnTo>
                        <a:lnTo>
                          <a:pt x="786" y="396"/>
                        </a:lnTo>
                        <a:lnTo>
                          <a:pt x="782" y="396"/>
                        </a:lnTo>
                        <a:lnTo>
                          <a:pt x="776" y="396"/>
                        </a:lnTo>
                        <a:lnTo>
                          <a:pt x="773" y="401"/>
                        </a:lnTo>
                        <a:lnTo>
                          <a:pt x="769" y="401"/>
                        </a:lnTo>
                        <a:lnTo>
                          <a:pt x="762" y="405"/>
                        </a:lnTo>
                        <a:lnTo>
                          <a:pt x="762" y="409"/>
                        </a:lnTo>
                        <a:lnTo>
                          <a:pt x="769" y="414"/>
                        </a:lnTo>
                        <a:lnTo>
                          <a:pt x="773" y="414"/>
                        </a:lnTo>
                        <a:lnTo>
                          <a:pt x="769" y="419"/>
                        </a:lnTo>
                        <a:lnTo>
                          <a:pt x="769" y="424"/>
                        </a:lnTo>
                        <a:lnTo>
                          <a:pt x="766" y="424"/>
                        </a:lnTo>
                        <a:lnTo>
                          <a:pt x="762" y="427"/>
                        </a:lnTo>
                        <a:lnTo>
                          <a:pt x="757" y="427"/>
                        </a:lnTo>
                        <a:lnTo>
                          <a:pt x="754" y="427"/>
                        </a:lnTo>
                        <a:lnTo>
                          <a:pt x="750" y="427"/>
                        </a:lnTo>
                        <a:lnTo>
                          <a:pt x="746" y="427"/>
                        </a:lnTo>
                        <a:lnTo>
                          <a:pt x="746" y="432"/>
                        </a:lnTo>
                        <a:lnTo>
                          <a:pt x="743" y="437"/>
                        </a:lnTo>
                        <a:lnTo>
                          <a:pt x="738" y="437"/>
                        </a:lnTo>
                        <a:lnTo>
                          <a:pt x="738" y="440"/>
                        </a:lnTo>
                        <a:lnTo>
                          <a:pt x="734" y="440"/>
                        </a:lnTo>
                        <a:lnTo>
                          <a:pt x="738" y="440"/>
                        </a:lnTo>
                        <a:lnTo>
                          <a:pt x="738" y="450"/>
                        </a:lnTo>
                        <a:lnTo>
                          <a:pt x="743" y="459"/>
                        </a:lnTo>
                        <a:lnTo>
                          <a:pt x="746" y="463"/>
                        </a:lnTo>
                        <a:lnTo>
                          <a:pt x="743" y="463"/>
                        </a:lnTo>
                        <a:lnTo>
                          <a:pt x="738" y="463"/>
                        </a:lnTo>
                        <a:lnTo>
                          <a:pt x="738" y="469"/>
                        </a:lnTo>
                        <a:lnTo>
                          <a:pt x="743" y="469"/>
                        </a:lnTo>
                        <a:lnTo>
                          <a:pt x="746" y="469"/>
                        </a:lnTo>
                        <a:lnTo>
                          <a:pt x="746" y="474"/>
                        </a:lnTo>
                        <a:lnTo>
                          <a:pt x="746" y="479"/>
                        </a:lnTo>
                        <a:lnTo>
                          <a:pt x="743" y="483"/>
                        </a:lnTo>
                        <a:lnTo>
                          <a:pt x="738" y="483"/>
                        </a:lnTo>
                        <a:lnTo>
                          <a:pt x="738" y="487"/>
                        </a:lnTo>
                        <a:lnTo>
                          <a:pt x="734" y="492"/>
                        </a:lnTo>
                        <a:lnTo>
                          <a:pt x="731" y="492"/>
                        </a:lnTo>
                        <a:lnTo>
                          <a:pt x="727" y="496"/>
                        </a:lnTo>
                        <a:lnTo>
                          <a:pt x="723" y="496"/>
                        </a:lnTo>
                        <a:lnTo>
                          <a:pt x="720" y="506"/>
                        </a:lnTo>
                        <a:lnTo>
                          <a:pt x="720" y="509"/>
                        </a:lnTo>
                        <a:lnTo>
                          <a:pt x="715" y="514"/>
                        </a:lnTo>
                        <a:lnTo>
                          <a:pt x="711" y="514"/>
                        </a:lnTo>
                        <a:lnTo>
                          <a:pt x="711" y="519"/>
                        </a:lnTo>
                        <a:lnTo>
                          <a:pt x="708" y="519"/>
                        </a:lnTo>
                        <a:lnTo>
                          <a:pt x="708" y="522"/>
                        </a:lnTo>
                        <a:lnTo>
                          <a:pt x="704" y="532"/>
                        </a:lnTo>
                        <a:lnTo>
                          <a:pt x="704" y="537"/>
                        </a:lnTo>
                        <a:lnTo>
                          <a:pt x="704" y="543"/>
                        </a:lnTo>
                        <a:lnTo>
                          <a:pt x="704" y="548"/>
                        </a:lnTo>
                        <a:lnTo>
                          <a:pt x="708" y="548"/>
                        </a:lnTo>
                        <a:lnTo>
                          <a:pt x="708" y="551"/>
                        </a:lnTo>
                        <a:lnTo>
                          <a:pt x="711" y="556"/>
                        </a:lnTo>
                        <a:lnTo>
                          <a:pt x="711" y="566"/>
                        </a:lnTo>
                        <a:lnTo>
                          <a:pt x="711" y="574"/>
                        </a:lnTo>
                        <a:lnTo>
                          <a:pt x="715" y="579"/>
                        </a:lnTo>
                        <a:lnTo>
                          <a:pt x="723" y="579"/>
                        </a:lnTo>
                        <a:lnTo>
                          <a:pt x="727" y="579"/>
                        </a:lnTo>
                        <a:lnTo>
                          <a:pt x="734" y="579"/>
                        </a:lnTo>
                        <a:lnTo>
                          <a:pt x="738" y="579"/>
                        </a:lnTo>
                        <a:lnTo>
                          <a:pt x="746" y="583"/>
                        </a:lnTo>
                        <a:lnTo>
                          <a:pt x="750" y="583"/>
                        </a:lnTo>
                        <a:lnTo>
                          <a:pt x="754" y="583"/>
                        </a:lnTo>
                        <a:lnTo>
                          <a:pt x="754" y="588"/>
                        </a:lnTo>
                        <a:lnTo>
                          <a:pt x="757" y="588"/>
                        </a:lnTo>
                        <a:lnTo>
                          <a:pt x="769" y="606"/>
                        </a:lnTo>
                        <a:lnTo>
                          <a:pt x="773" y="609"/>
                        </a:lnTo>
                        <a:lnTo>
                          <a:pt x="773" y="614"/>
                        </a:lnTo>
                        <a:lnTo>
                          <a:pt x="773" y="621"/>
                        </a:lnTo>
                        <a:lnTo>
                          <a:pt x="769" y="630"/>
                        </a:lnTo>
                        <a:lnTo>
                          <a:pt x="773" y="630"/>
                        </a:lnTo>
                        <a:lnTo>
                          <a:pt x="776" y="630"/>
                        </a:lnTo>
                        <a:lnTo>
                          <a:pt x="776" y="635"/>
                        </a:lnTo>
                        <a:lnTo>
                          <a:pt x="776" y="638"/>
                        </a:lnTo>
                        <a:lnTo>
                          <a:pt x="773" y="643"/>
                        </a:lnTo>
                        <a:lnTo>
                          <a:pt x="769" y="651"/>
                        </a:lnTo>
                        <a:lnTo>
                          <a:pt x="766" y="656"/>
                        </a:lnTo>
                        <a:lnTo>
                          <a:pt x="769" y="656"/>
                        </a:lnTo>
                        <a:lnTo>
                          <a:pt x="773" y="661"/>
                        </a:lnTo>
                        <a:lnTo>
                          <a:pt x="782" y="665"/>
                        </a:lnTo>
                        <a:lnTo>
                          <a:pt x="782" y="670"/>
                        </a:lnTo>
                        <a:lnTo>
                          <a:pt x="786" y="674"/>
                        </a:lnTo>
                        <a:lnTo>
                          <a:pt x="790" y="674"/>
                        </a:lnTo>
                        <a:lnTo>
                          <a:pt x="795" y="679"/>
                        </a:lnTo>
                        <a:lnTo>
                          <a:pt x="790" y="683"/>
                        </a:lnTo>
                        <a:lnTo>
                          <a:pt x="786" y="692"/>
                        </a:lnTo>
                        <a:lnTo>
                          <a:pt x="782" y="692"/>
                        </a:lnTo>
                        <a:lnTo>
                          <a:pt x="782" y="698"/>
                        </a:lnTo>
                        <a:lnTo>
                          <a:pt x="782" y="703"/>
                        </a:lnTo>
                        <a:lnTo>
                          <a:pt x="782" y="708"/>
                        </a:lnTo>
                        <a:lnTo>
                          <a:pt x="782" y="712"/>
                        </a:lnTo>
                        <a:lnTo>
                          <a:pt x="786" y="712"/>
                        </a:lnTo>
                        <a:lnTo>
                          <a:pt x="790" y="717"/>
                        </a:lnTo>
                        <a:lnTo>
                          <a:pt x="795" y="717"/>
                        </a:lnTo>
                        <a:lnTo>
                          <a:pt x="798" y="721"/>
                        </a:lnTo>
                        <a:lnTo>
                          <a:pt x="795" y="725"/>
                        </a:lnTo>
                        <a:lnTo>
                          <a:pt x="790" y="730"/>
                        </a:lnTo>
                        <a:lnTo>
                          <a:pt x="790" y="735"/>
                        </a:lnTo>
                        <a:lnTo>
                          <a:pt x="786" y="735"/>
                        </a:lnTo>
                        <a:lnTo>
                          <a:pt x="782" y="738"/>
                        </a:lnTo>
                        <a:lnTo>
                          <a:pt x="782" y="743"/>
                        </a:lnTo>
                        <a:lnTo>
                          <a:pt x="782" y="748"/>
                        </a:lnTo>
                        <a:lnTo>
                          <a:pt x="776" y="748"/>
                        </a:lnTo>
                        <a:lnTo>
                          <a:pt x="773" y="748"/>
                        </a:lnTo>
                        <a:lnTo>
                          <a:pt x="769" y="748"/>
                        </a:lnTo>
                        <a:lnTo>
                          <a:pt x="769" y="752"/>
                        </a:lnTo>
                        <a:lnTo>
                          <a:pt x="769" y="756"/>
                        </a:lnTo>
                        <a:lnTo>
                          <a:pt x="766" y="765"/>
                        </a:lnTo>
                        <a:lnTo>
                          <a:pt x="769" y="770"/>
                        </a:lnTo>
                        <a:lnTo>
                          <a:pt x="773" y="777"/>
                        </a:lnTo>
                        <a:lnTo>
                          <a:pt x="776" y="777"/>
                        </a:lnTo>
                        <a:lnTo>
                          <a:pt x="776" y="780"/>
                        </a:lnTo>
                        <a:lnTo>
                          <a:pt x="773" y="785"/>
                        </a:lnTo>
                        <a:lnTo>
                          <a:pt x="773" y="790"/>
                        </a:lnTo>
                        <a:lnTo>
                          <a:pt x="769" y="794"/>
                        </a:lnTo>
                        <a:lnTo>
                          <a:pt x="769" y="799"/>
                        </a:lnTo>
                        <a:lnTo>
                          <a:pt x="766" y="799"/>
                        </a:lnTo>
                        <a:lnTo>
                          <a:pt x="762" y="803"/>
                        </a:lnTo>
                        <a:lnTo>
                          <a:pt x="762" y="807"/>
                        </a:lnTo>
                        <a:lnTo>
                          <a:pt x="757" y="807"/>
                        </a:lnTo>
                        <a:lnTo>
                          <a:pt x="750" y="803"/>
                        </a:lnTo>
                        <a:lnTo>
                          <a:pt x="746" y="803"/>
                        </a:lnTo>
                        <a:lnTo>
                          <a:pt x="738" y="799"/>
                        </a:lnTo>
                        <a:lnTo>
                          <a:pt x="727" y="799"/>
                        </a:lnTo>
                        <a:lnTo>
                          <a:pt x="723" y="799"/>
                        </a:lnTo>
                        <a:lnTo>
                          <a:pt x="720" y="785"/>
                        </a:lnTo>
                        <a:lnTo>
                          <a:pt x="720" y="780"/>
                        </a:lnTo>
                        <a:lnTo>
                          <a:pt x="715" y="780"/>
                        </a:lnTo>
                        <a:lnTo>
                          <a:pt x="715" y="777"/>
                        </a:lnTo>
                        <a:lnTo>
                          <a:pt x="715" y="780"/>
                        </a:lnTo>
                        <a:lnTo>
                          <a:pt x="708" y="780"/>
                        </a:lnTo>
                        <a:lnTo>
                          <a:pt x="708" y="785"/>
                        </a:lnTo>
                        <a:lnTo>
                          <a:pt x="704" y="785"/>
                        </a:lnTo>
                        <a:lnTo>
                          <a:pt x="701" y="790"/>
                        </a:lnTo>
                        <a:lnTo>
                          <a:pt x="696" y="799"/>
                        </a:lnTo>
                        <a:lnTo>
                          <a:pt x="691" y="799"/>
                        </a:lnTo>
                        <a:lnTo>
                          <a:pt x="691" y="803"/>
                        </a:lnTo>
                        <a:lnTo>
                          <a:pt x="686" y="807"/>
                        </a:lnTo>
                        <a:lnTo>
                          <a:pt x="682" y="807"/>
                        </a:lnTo>
                        <a:lnTo>
                          <a:pt x="679" y="817"/>
                        </a:lnTo>
                        <a:lnTo>
                          <a:pt x="675" y="817"/>
                        </a:lnTo>
                        <a:lnTo>
                          <a:pt x="667" y="817"/>
                        </a:lnTo>
                        <a:lnTo>
                          <a:pt x="660" y="817"/>
                        </a:lnTo>
                        <a:lnTo>
                          <a:pt x="656" y="817"/>
                        </a:lnTo>
                        <a:lnTo>
                          <a:pt x="652" y="817"/>
                        </a:lnTo>
                        <a:lnTo>
                          <a:pt x="649" y="821"/>
                        </a:lnTo>
                        <a:lnTo>
                          <a:pt x="644" y="825"/>
                        </a:lnTo>
                        <a:lnTo>
                          <a:pt x="640" y="830"/>
                        </a:lnTo>
                        <a:lnTo>
                          <a:pt x="640" y="835"/>
                        </a:lnTo>
                        <a:lnTo>
                          <a:pt x="640" y="838"/>
                        </a:lnTo>
                        <a:lnTo>
                          <a:pt x="640" y="843"/>
                        </a:lnTo>
                        <a:lnTo>
                          <a:pt x="637" y="843"/>
                        </a:lnTo>
                        <a:lnTo>
                          <a:pt x="637" y="848"/>
                        </a:lnTo>
                        <a:lnTo>
                          <a:pt x="633" y="854"/>
                        </a:lnTo>
                        <a:lnTo>
                          <a:pt x="633" y="859"/>
                        </a:lnTo>
                        <a:lnTo>
                          <a:pt x="629" y="864"/>
                        </a:lnTo>
                        <a:lnTo>
                          <a:pt x="625" y="864"/>
                        </a:lnTo>
                        <a:lnTo>
                          <a:pt x="625" y="867"/>
                        </a:lnTo>
                        <a:lnTo>
                          <a:pt x="625" y="872"/>
                        </a:lnTo>
                        <a:lnTo>
                          <a:pt x="621" y="872"/>
                        </a:lnTo>
                        <a:lnTo>
                          <a:pt x="617" y="877"/>
                        </a:lnTo>
                        <a:lnTo>
                          <a:pt x="617" y="881"/>
                        </a:lnTo>
                        <a:lnTo>
                          <a:pt x="617" y="885"/>
                        </a:lnTo>
                        <a:lnTo>
                          <a:pt x="614" y="885"/>
                        </a:lnTo>
                        <a:lnTo>
                          <a:pt x="614" y="890"/>
                        </a:lnTo>
                        <a:lnTo>
                          <a:pt x="614" y="894"/>
                        </a:lnTo>
                        <a:lnTo>
                          <a:pt x="614" y="899"/>
                        </a:lnTo>
                        <a:lnTo>
                          <a:pt x="617" y="899"/>
                        </a:lnTo>
                        <a:lnTo>
                          <a:pt x="625" y="899"/>
                        </a:lnTo>
                        <a:lnTo>
                          <a:pt x="625" y="903"/>
                        </a:lnTo>
                        <a:lnTo>
                          <a:pt x="629" y="903"/>
                        </a:lnTo>
                        <a:lnTo>
                          <a:pt x="633" y="903"/>
                        </a:lnTo>
                        <a:lnTo>
                          <a:pt x="637" y="903"/>
                        </a:lnTo>
                        <a:lnTo>
                          <a:pt x="637" y="907"/>
                        </a:lnTo>
                        <a:lnTo>
                          <a:pt x="637" y="912"/>
                        </a:lnTo>
                        <a:lnTo>
                          <a:pt x="637" y="917"/>
                        </a:lnTo>
                        <a:lnTo>
                          <a:pt x="637" y="920"/>
                        </a:lnTo>
                        <a:lnTo>
                          <a:pt x="640" y="920"/>
                        </a:lnTo>
                        <a:lnTo>
                          <a:pt x="640" y="925"/>
                        </a:lnTo>
                        <a:lnTo>
                          <a:pt x="644" y="925"/>
                        </a:lnTo>
                        <a:lnTo>
                          <a:pt x="649" y="925"/>
                        </a:lnTo>
                        <a:lnTo>
                          <a:pt x="649" y="932"/>
                        </a:lnTo>
                        <a:lnTo>
                          <a:pt x="652" y="932"/>
                        </a:lnTo>
                        <a:lnTo>
                          <a:pt x="652" y="936"/>
                        </a:lnTo>
                        <a:lnTo>
                          <a:pt x="660" y="936"/>
                        </a:lnTo>
                        <a:lnTo>
                          <a:pt x="660" y="941"/>
                        </a:lnTo>
                        <a:lnTo>
                          <a:pt x="663" y="946"/>
                        </a:lnTo>
                        <a:lnTo>
                          <a:pt x="667" y="949"/>
                        </a:lnTo>
                        <a:lnTo>
                          <a:pt x="663" y="954"/>
                        </a:lnTo>
                        <a:lnTo>
                          <a:pt x="660" y="954"/>
                        </a:lnTo>
                        <a:lnTo>
                          <a:pt x="656" y="954"/>
                        </a:lnTo>
                        <a:lnTo>
                          <a:pt x="652" y="959"/>
                        </a:lnTo>
                        <a:lnTo>
                          <a:pt x="649" y="964"/>
                        </a:lnTo>
                        <a:lnTo>
                          <a:pt x="644" y="967"/>
                        </a:lnTo>
                        <a:lnTo>
                          <a:pt x="640" y="967"/>
                        </a:lnTo>
                        <a:lnTo>
                          <a:pt x="637" y="967"/>
                        </a:lnTo>
                        <a:lnTo>
                          <a:pt x="637" y="972"/>
                        </a:lnTo>
                        <a:lnTo>
                          <a:pt x="633" y="977"/>
                        </a:lnTo>
                        <a:lnTo>
                          <a:pt x="637" y="977"/>
                        </a:lnTo>
                        <a:lnTo>
                          <a:pt x="637" y="981"/>
                        </a:lnTo>
                        <a:lnTo>
                          <a:pt x="637" y="985"/>
                        </a:lnTo>
                        <a:lnTo>
                          <a:pt x="640" y="985"/>
                        </a:lnTo>
                        <a:lnTo>
                          <a:pt x="640" y="990"/>
                        </a:lnTo>
                        <a:lnTo>
                          <a:pt x="640" y="994"/>
                        </a:lnTo>
                        <a:lnTo>
                          <a:pt x="644" y="994"/>
                        </a:lnTo>
                        <a:lnTo>
                          <a:pt x="649" y="994"/>
                        </a:lnTo>
                        <a:lnTo>
                          <a:pt x="652" y="999"/>
                        </a:lnTo>
                        <a:lnTo>
                          <a:pt x="656" y="999"/>
                        </a:lnTo>
                        <a:lnTo>
                          <a:pt x="660" y="999"/>
                        </a:lnTo>
                        <a:lnTo>
                          <a:pt x="660" y="1006"/>
                        </a:lnTo>
                        <a:lnTo>
                          <a:pt x="656" y="1010"/>
                        </a:lnTo>
                        <a:lnTo>
                          <a:pt x="652" y="1014"/>
                        </a:lnTo>
                        <a:lnTo>
                          <a:pt x="652" y="1019"/>
                        </a:lnTo>
                        <a:lnTo>
                          <a:pt x="652" y="1023"/>
                        </a:lnTo>
                        <a:lnTo>
                          <a:pt x="656" y="1023"/>
                        </a:lnTo>
                        <a:lnTo>
                          <a:pt x="660" y="1023"/>
                        </a:lnTo>
                        <a:lnTo>
                          <a:pt x="660" y="1028"/>
                        </a:lnTo>
                        <a:lnTo>
                          <a:pt x="660" y="1032"/>
                        </a:lnTo>
                        <a:lnTo>
                          <a:pt x="660" y="1036"/>
                        </a:lnTo>
                        <a:lnTo>
                          <a:pt x="660" y="1041"/>
                        </a:lnTo>
                        <a:lnTo>
                          <a:pt x="663" y="1041"/>
                        </a:lnTo>
                        <a:lnTo>
                          <a:pt x="663" y="1046"/>
                        </a:lnTo>
                        <a:lnTo>
                          <a:pt x="667" y="1046"/>
                        </a:lnTo>
                        <a:lnTo>
                          <a:pt x="667" y="1049"/>
                        </a:lnTo>
                        <a:lnTo>
                          <a:pt x="672" y="1059"/>
                        </a:lnTo>
                        <a:lnTo>
                          <a:pt x="675" y="1059"/>
                        </a:lnTo>
                        <a:lnTo>
                          <a:pt x="675" y="1063"/>
                        </a:lnTo>
                        <a:lnTo>
                          <a:pt x="675" y="1067"/>
                        </a:lnTo>
                        <a:lnTo>
                          <a:pt x="679" y="1067"/>
                        </a:lnTo>
                        <a:lnTo>
                          <a:pt x="679" y="1072"/>
                        </a:lnTo>
                        <a:lnTo>
                          <a:pt x="679" y="1077"/>
                        </a:lnTo>
                        <a:lnTo>
                          <a:pt x="675" y="1077"/>
                        </a:lnTo>
                        <a:lnTo>
                          <a:pt x="675" y="1083"/>
                        </a:lnTo>
                        <a:lnTo>
                          <a:pt x="675" y="1088"/>
                        </a:lnTo>
                        <a:lnTo>
                          <a:pt x="679" y="1088"/>
                        </a:lnTo>
                        <a:lnTo>
                          <a:pt x="679" y="1092"/>
                        </a:lnTo>
                        <a:lnTo>
                          <a:pt x="675" y="1092"/>
                        </a:lnTo>
                        <a:lnTo>
                          <a:pt x="672" y="1092"/>
                        </a:lnTo>
                        <a:lnTo>
                          <a:pt x="667" y="1088"/>
                        </a:lnTo>
                        <a:lnTo>
                          <a:pt x="663" y="1088"/>
                        </a:lnTo>
                        <a:lnTo>
                          <a:pt x="663" y="1092"/>
                        </a:lnTo>
                        <a:lnTo>
                          <a:pt x="660" y="1096"/>
                        </a:lnTo>
                        <a:lnTo>
                          <a:pt x="663" y="1096"/>
                        </a:lnTo>
                        <a:lnTo>
                          <a:pt x="667" y="1096"/>
                        </a:lnTo>
                        <a:lnTo>
                          <a:pt x="667" y="1101"/>
                        </a:lnTo>
                        <a:lnTo>
                          <a:pt x="663" y="1101"/>
                        </a:lnTo>
                        <a:lnTo>
                          <a:pt x="660" y="1101"/>
                        </a:lnTo>
                        <a:lnTo>
                          <a:pt x="660" y="1106"/>
                        </a:lnTo>
                        <a:lnTo>
                          <a:pt x="660" y="1110"/>
                        </a:lnTo>
                        <a:lnTo>
                          <a:pt x="656" y="1110"/>
                        </a:lnTo>
                        <a:lnTo>
                          <a:pt x="652" y="1110"/>
                        </a:lnTo>
                        <a:lnTo>
                          <a:pt x="649" y="1110"/>
                        </a:lnTo>
                        <a:lnTo>
                          <a:pt x="649" y="1119"/>
                        </a:lnTo>
                        <a:lnTo>
                          <a:pt x="644" y="1119"/>
                        </a:lnTo>
                        <a:lnTo>
                          <a:pt x="644" y="1123"/>
                        </a:lnTo>
                        <a:lnTo>
                          <a:pt x="640" y="1128"/>
                        </a:lnTo>
                        <a:lnTo>
                          <a:pt x="640" y="1133"/>
                        </a:lnTo>
                        <a:lnTo>
                          <a:pt x="640" y="1136"/>
                        </a:lnTo>
                        <a:lnTo>
                          <a:pt x="637" y="1141"/>
                        </a:lnTo>
                        <a:lnTo>
                          <a:pt x="640" y="1141"/>
                        </a:lnTo>
                        <a:lnTo>
                          <a:pt x="640" y="1146"/>
                        </a:lnTo>
                        <a:lnTo>
                          <a:pt x="649" y="1149"/>
                        </a:lnTo>
                        <a:lnTo>
                          <a:pt x="649" y="1154"/>
                        </a:lnTo>
                        <a:lnTo>
                          <a:pt x="649" y="1161"/>
                        </a:lnTo>
                        <a:lnTo>
                          <a:pt x="652" y="1165"/>
                        </a:lnTo>
                        <a:lnTo>
                          <a:pt x="656" y="1165"/>
                        </a:lnTo>
                        <a:lnTo>
                          <a:pt x="660" y="1165"/>
                        </a:lnTo>
                        <a:lnTo>
                          <a:pt x="660" y="1170"/>
                        </a:lnTo>
                        <a:lnTo>
                          <a:pt x="663" y="1170"/>
                        </a:lnTo>
                        <a:lnTo>
                          <a:pt x="667" y="1170"/>
                        </a:lnTo>
                        <a:lnTo>
                          <a:pt x="667" y="1175"/>
                        </a:lnTo>
                        <a:lnTo>
                          <a:pt x="672" y="1178"/>
                        </a:lnTo>
                        <a:lnTo>
                          <a:pt x="667" y="1178"/>
                        </a:lnTo>
                        <a:lnTo>
                          <a:pt x="667" y="1183"/>
                        </a:lnTo>
                        <a:lnTo>
                          <a:pt x="667" y="1188"/>
                        </a:lnTo>
                        <a:close/>
                      </a:path>
                    </a:pathLst>
                  </a:custGeom>
                  <a:solidFill>
                    <a:srgbClr val="c5be7b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5714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06920" y="1330200"/>
                    <a:ext cx="26388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771">
                        <a:moveTo>
                          <a:pt x="479" y="544"/>
                        </a:moveTo>
                        <a:lnTo>
                          <a:pt x="479" y="539"/>
                        </a:lnTo>
                        <a:lnTo>
                          <a:pt x="479" y="544"/>
                        </a:lnTo>
                        <a:lnTo>
                          <a:pt x="482" y="544"/>
                        </a:lnTo>
                        <a:lnTo>
                          <a:pt x="482" y="547"/>
                        </a:lnTo>
                        <a:lnTo>
                          <a:pt x="486" y="544"/>
                        </a:lnTo>
                        <a:lnTo>
                          <a:pt x="486" y="547"/>
                        </a:lnTo>
                        <a:lnTo>
                          <a:pt x="490" y="547"/>
                        </a:lnTo>
                        <a:lnTo>
                          <a:pt x="490" y="552"/>
                        </a:lnTo>
                        <a:lnTo>
                          <a:pt x="494" y="552"/>
                        </a:lnTo>
                        <a:lnTo>
                          <a:pt x="494" y="557"/>
                        </a:lnTo>
                        <a:lnTo>
                          <a:pt x="498" y="557"/>
                        </a:lnTo>
                        <a:lnTo>
                          <a:pt x="498" y="563"/>
                        </a:lnTo>
                        <a:lnTo>
                          <a:pt x="502" y="563"/>
                        </a:lnTo>
                        <a:lnTo>
                          <a:pt x="502" y="568"/>
                        </a:lnTo>
                        <a:lnTo>
                          <a:pt x="505" y="568"/>
                        </a:lnTo>
                        <a:lnTo>
                          <a:pt x="505" y="563"/>
                        </a:lnTo>
                        <a:lnTo>
                          <a:pt x="509" y="563"/>
                        </a:lnTo>
                        <a:lnTo>
                          <a:pt x="512" y="563"/>
                        </a:lnTo>
                        <a:lnTo>
                          <a:pt x="512" y="557"/>
                        </a:lnTo>
                        <a:lnTo>
                          <a:pt x="512" y="552"/>
                        </a:lnTo>
                        <a:lnTo>
                          <a:pt x="512" y="547"/>
                        </a:lnTo>
                        <a:lnTo>
                          <a:pt x="512" y="544"/>
                        </a:lnTo>
                        <a:lnTo>
                          <a:pt x="512" y="539"/>
                        </a:lnTo>
                        <a:lnTo>
                          <a:pt x="512" y="534"/>
                        </a:lnTo>
                        <a:lnTo>
                          <a:pt x="512" y="530"/>
                        </a:lnTo>
                        <a:lnTo>
                          <a:pt x="519" y="525"/>
                        </a:lnTo>
                        <a:lnTo>
                          <a:pt x="522" y="516"/>
                        </a:lnTo>
                        <a:lnTo>
                          <a:pt x="527" y="516"/>
                        </a:lnTo>
                        <a:lnTo>
                          <a:pt x="531" y="516"/>
                        </a:lnTo>
                        <a:lnTo>
                          <a:pt x="531" y="521"/>
                        </a:lnTo>
                        <a:lnTo>
                          <a:pt x="531" y="516"/>
                        </a:lnTo>
                        <a:lnTo>
                          <a:pt x="531" y="512"/>
                        </a:lnTo>
                        <a:lnTo>
                          <a:pt x="534" y="512"/>
                        </a:lnTo>
                        <a:lnTo>
                          <a:pt x="534" y="507"/>
                        </a:lnTo>
                        <a:lnTo>
                          <a:pt x="534" y="503"/>
                        </a:lnTo>
                        <a:lnTo>
                          <a:pt x="534" y="499"/>
                        </a:lnTo>
                        <a:lnTo>
                          <a:pt x="538" y="494"/>
                        </a:lnTo>
                        <a:lnTo>
                          <a:pt x="538" y="489"/>
                        </a:lnTo>
                        <a:lnTo>
                          <a:pt x="541" y="489"/>
                        </a:lnTo>
                        <a:lnTo>
                          <a:pt x="550" y="489"/>
                        </a:lnTo>
                        <a:lnTo>
                          <a:pt x="550" y="486"/>
                        </a:lnTo>
                        <a:lnTo>
                          <a:pt x="553" y="478"/>
                        </a:lnTo>
                        <a:lnTo>
                          <a:pt x="553" y="474"/>
                        </a:lnTo>
                        <a:lnTo>
                          <a:pt x="557" y="474"/>
                        </a:lnTo>
                        <a:lnTo>
                          <a:pt x="561" y="474"/>
                        </a:lnTo>
                        <a:lnTo>
                          <a:pt x="566" y="474"/>
                        </a:lnTo>
                        <a:lnTo>
                          <a:pt x="569" y="474"/>
                        </a:lnTo>
                        <a:lnTo>
                          <a:pt x="573" y="470"/>
                        </a:lnTo>
                        <a:lnTo>
                          <a:pt x="573" y="465"/>
                        </a:lnTo>
                        <a:lnTo>
                          <a:pt x="573" y="460"/>
                        </a:lnTo>
                        <a:lnTo>
                          <a:pt x="569" y="460"/>
                        </a:lnTo>
                        <a:lnTo>
                          <a:pt x="569" y="457"/>
                        </a:lnTo>
                        <a:lnTo>
                          <a:pt x="566" y="457"/>
                        </a:lnTo>
                        <a:lnTo>
                          <a:pt x="561" y="452"/>
                        </a:lnTo>
                        <a:lnTo>
                          <a:pt x="561" y="447"/>
                        </a:lnTo>
                        <a:lnTo>
                          <a:pt x="569" y="447"/>
                        </a:lnTo>
                        <a:lnTo>
                          <a:pt x="573" y="447"/>
                        </a:lnTo>
                        <a:lnTo>
                          <a:pt x="576" y="452"/>
                        </a:lnTo>
                        <a:lnTo>
                          <a:pt x="580" y="452"/>
                        </a:lnTo>
                        <a:lnTo>
                          <a:pt x="580" y="457"/>
                        </a:lnTo>
                        <a:lnTo>
                          <a:pt x="584" y="457"/>
                        </a:lnTo>
                        <a:lnTo>
                          <a:pt x="584" y="460"/>
                        </a:lnTo>
                        <a:lnTo>
                          <a:pt x="588" y="465"/>
                        </a:lnTo>
                        <a:lnTo>
                          <a:pt x="592" y="465"/>
                        </a:lnTo>
                        <a:lnTo>
                          <a:pt x="592" y="470"/>
                        </a:lnTo>
                        <a:lnTo>
                          <a:pt x="596" y="470"/>
                        </a:lnTo>
                        <a:lnTo>
                          <a:pt x="599" y="474"/>
                        </a:lnTo>
                        <a:lnTo>
                          <a:pt x="605" y="478"/>
                        </a:lnTo>
                        <a:lnTo>
                          <a:pt x="609" y="486"/>
                        </a:lnTo>
                        <a:lnTo>
                          <a:pt x="609" y="489"/>
                        </a:lnTo>
                        <a:lnTo>
                          <a:pt x="617" y="494"/>
                        </a:lnTo>
                        <a:lnTo>
                          <a:pt x="617" y="499"/>
                        </a:lnTo>
                        <a:lnTo>
                          <a:pt x="617" y="503"/>
                        </a:lnTo>
                        <a:lnTo>
                          <a:pt x="621" y="503"/>
                        </a:lnTo>
                        <a:lnTo>
                          <a:pt x="625" y="503"/>
                        </a:lnTo>
                        <a:lnTo>
                          <a:pt x="625" y="507"/>
                        </a:lnTo>
                        <a:lnTo>
                          <a:pt x="628" y="507"/>
                        </a:lnTo>
                        <a:lnTo>
                          <a:pt x="632" y="507"/>
                        </a:lnTo>
                        <a:lnTo>
                          <a:pt x="632" y="512"/>
                        </a:lnTo>
                        <a:lnTo>
                          <a:pt x="637" y="512"/>
                        </a:lnTo>
                        <a:lnTo>
                          <a:pt x="640" y="512"/>
                        </a:lnTo>
                        <a:lnTo>
                          <a:pt x="644" y="512"/>
                        </a:lnTo>
                        <a:lnTo>
                          <a:pt x="644" y="516"/>
                        </a:lnTo>
                        <a:lnTo>
                          <a:pt x="648" y="516"/>
                        </a:lnTo>
                        <a:lnTo>
                          <a:pt x="648" y="512"/>
                        </a:lnTo>
                        <a:lnTo>
                          <a:pt x="651" y="512"/>
                        </a:lnTo>
                        <a:lnTo>
                          <a:pt x="651" y="516"/>
                        </a:lnTo>
                        <a:lnTo>
                          <a:pt x="655" y="516"/>
                        </a:lnTo>
                        <a:lnTo>
                          <a:pt x="660" y="516"/>
                        </a:lnTo>
                        <a:lnTo>
                          <a:pt x="663" y="516"/>
                        </a:lnTo>
                        <a:lnTo>
                          <a:pt x="663" y="521"/>
                        </a:lnTo>
                        <a:lnTo>
                          <a:pt x="667" y="521"/>
                        </a:lnTo>
                        <a:lnTo>
                          <a:pt x="667" y="525"/>
                        </a:lnTo>
                        <a:lnTo>
                          <a:pt x="670" y="525"/>
                        </a:lnTo>
                        <a:lnTo>
                          <a:pt x="679" y="525"/>
                        </a:lnTo>
                        <a:lnTo>
                          <a:pt x="683" y="525"/>
                        </a:lnTo>
                        <a:lnTo>
                          <a:pt x="686" y="525"/>
                        </a:lnTo>
                        <a:lnTo>
                          <a:pt x="690" y="525"/>
                        </a:lnTo>
                        <a:lnTo>
                          <a:pt x="690" y="530"/>
                        </a:lnTo>
                        <a:lnTo>
                          <a:pt x="696" y="530"/>
                        </a:lnTo>
                        <a:lnTo>
                          <a:pt x="699" y="530"/>
                        </a:lnTo>
                        <a:lnTo>
                          <a:pt x="703" y="534"/>
                        </a:lnTo>
                        <a:lnTo>
                          <a:pt x="707" y="534"/>
                        </a:lnTo>
                        <a:lnTo>
                          <a:pt x="711" y="534"/>
                        </a:lnTo>
                        <a:lnTo>
                          <a:pt x="711" y="539"/>
                        </a:lnTo>
                        <a:lnTo>
                          <a:pt x="715" y="539"/>
                        </a:lnTo>
                        <a:lnTo>
                          <a:pt x="719" y="539"/>
                        </a:lnTo>
                        <a:lnTo>
                          <a:pt x="726" y="539"/>
                        </a:lnTo>
                        <a:lnTo>
                          <a:pt x="731" y="539"/>
                        </a:lnTo>
                        <a:lnTo>
                          <a:pt x="738" y="539"/>
                        </a:lnTo>
                        <a:lnTo>
                          <a:pt x="738" y="544"/>
                        </a:lnTo>
                        <a:lnTo>
                          <a:pt x="742" y="544"/>
                        </a:lnTo>
                        <a:lnTo>
                          <a:pt x="745" y="547"/>
                        </a:lnTo>
                        <a:lnTo>
                          <a:pt x="750" y="547"/>
                        </a:lnTo>
                        <a:lnTo>
                          <a:pt x="754" y="547"/>
                        </a:lnTo>
                        <a:lnTo>
                          <a:pt x="757" y="547"/>
                        </a:lnTo>
                        <a:lnTo>
                          <a:pt x="757" y="544"/>
                        </a:lnTo>
                        <a:lnTo>
                          <a:pt x="761" y="547"/>
                        </a:lnTo>
                        <a:lnTo>
                          <a:pt x="764" y="547"/>
                        </a:lnTo>
                        <a:lnTo>
                          <a:pt x="768" y="547"/>
                        </a:lnTo>
                        <a:lnTo>
                          <a:pt x="773" y="547"/>
                        </a:lnTo>
                        <a:lnTo>
                          <a:pt x="777" y="547"/>
                        </a:lnTo>
                        <a:lnTo>
                          <a:pt x="780" y="547"/>
                        </a:lnTo>
                        <a:lnTo>
                          <a:pt x="780" y="552"/>
                        </a:lnTo>
                        <a:lnTo>
                          <a:pt x="786" y="552"/>
                        </a:lnTo>
                        <a:lnTo>
                          <a:pt x="786" y="557"/>
                        </a:lnTo>
                        <a:lnTo>
                          <a:pt x="790" y="557"/>
                        </a:lnTo>
                        <a:lnTo>
                          <a:pt x="793" y="557"/>
                        </a:lnTo>
                        <a:lnTo>
                          <a:pt x="793" y="563"/>
                        </a:lnTo>
                        <a:lnTo>
                          <a:pt x="793" y="568"/>
                        </a:lnTo>
                        <a:lnTo>
                          <a:pt x="793" y="572"/>
                        </a:lnTo>
                        <a:lnTo>
                          <a:pt x="793" y="576"/>
                        </a:lnTo>
                        <a:lnTo>
                          <a:pt x="797" y="581"/>
                        </a:lnTo>
                        <a:lnTo>
                          <a:pt x="802" y="568"/>
                        </a:lnTo>
                        <a:lnTo>
                          <a:pt x="802" y="547"/>
                        </a:lnTo>
                        <a:lnTo>
                          <a:pt x="793" y="539"/>
                        </a:lnTo>
                        <a:lnTo>
                          <a:pt x="793" y="530"/>
                        </a:lnTo>
                        <a:lnTo>
                          <a:pt x="780" y="512"/>
                        </a:lnTo>
                        <a:lnTo>
                          <a:pt x="768" y="486"/>
                        </a:lnTo>
                        <a:lnTo>
                          <a:pt x="768" y="465"/>
                        </a:lnTo>
                        <a:lnTo>
                          <a:pt x="768" y="457"/>
                        </a:lnTo>
                        <a:lnTo>
                          <a:pt x="768" y="443"/>
                        </a:lnTo>
                        <a:lnTo>
                          <a:pt x="768" y="434"/>
                        </a:lnTo>
                        <a:lnTo>
                          <a:pt x="768" y="421"/>
                        </a:lnTo>
                        <a:lnTo>
                          <a:pt x="773" y="396"/>
                        </a:lnTo>
                        <a:lnTo>
                          <a:pt x="764" y="396"/>
                        </a:lnTo>
                        <a:lnTo>
                          <a:pt x="738" y="383"/>
                        </a:lnTo>
                        <a:lnTo>
                          <a:pt x="731" y="374"/>
                        </a:lnTo>
                        <a:lnTo>
                          <a:pt x="722" y="370"/>
                        </a:lnTo>
                        <a:lnTo>
                          <a:pt x="715" y="360"/>
                        </a:lnTo>
                        <a:lnTo>
                          <a:pt x="711" y="360"/>
                        </a:lnTo>
                        <a:lnTo>
                          <a:pt x="707" y="357"/>
                        </a:lnTo>
                        <a:lnTo>
                          <a:pt x="703" y="347"/>
                        </a:lnTo>
                        <a:lnTo>
                          <a:pt x="683" y="339"/>
                        </a:lnTo>
                        <a:lnTo>
                          <a:pt x="679" y="339"/>
                        </a:lnTo>
                        <a:lnTo>
                          <a:pt x="670" y="334"/>
                        </a:lnTo>
                        <a:lnTo>
                          <a:pt x="651" y="310"/>
                        </a:lnTo>
                        <a:lnTo>
                          <a:pt x="640" y="301"/>
                        </a:lnTo>
                        <a:lnTo>
                          <a:pt x="637" y="296"/>
                        </a:lnTo>
                        <a:lnTo>
                          <a:pt x="628" y="292"/>
                        </a:lnTo>
                        <a:lnTo>
                          <a:pt x="625" y="292"/>
                        </a:lnTo>
                        <a:lnTo>
                          <a:pt x="617" y="288"/>
                        </a:lnTo>
                        <a:lnTo>
                          <a:pt x="609" y="278"/>
                        </a:lnTo>
                        <a:lnTo>
                          <a:pt x="605" y="270"/>
                        </a:lnTo>
                        <a:lnTo>
                          <a:pt x="596" y="260"/>
                        </a:lnTo>
                        <a:lnTo>
                          <a:pt x="592" y="249"/>
                        </a:lnTo>
                        <a:lnTo>
                          <a:pt x="580" y="236"/>
                        </a:lnTo>
                        <a:lnTo>
                          <a:pt x="573" y="228"/>
                        </a:lnTo>
                        <a:lnTo>
                          <a:pt x="569" y="223"/>
                        </a:lnTo>
                        <a:lnTo>
                          <a:pt x="561" y="214"/>
                        </a:lnTo>
                        <a:lnTo>
                          <a:pt x="557" y="210"/>
                        </a:lnTo>
                        <a:lnTo>
                          <a:pt x="541" y="205"/>
                        </a:lnTo>
                        <a:lnTo>
                          <a:pt x="538" y="201"/>
                        </a:lnTo>
                        <a:lnTo>
                          <a:pt x="534" y="201"/>
                        </a:lnTo>
                        <a:lnTo>
                          <a:pt x="522" y="183"/>
                        </a:lnTo>
                        <a:lnTo>
                          <a:pt x="519" y="178"/>
                        </a:lnTo>
                        <a:lnTo>
                          <a:pt x="512" y="167"/>
                        </a:lnTo>
                        <a:lnTo>
                          <a:pt x="509" y="154"/>
                        </a:lnTo>
                        <a:lnTo>
                          <a:pt x="505" y="141"/>
                        </a:lnTo>
                        <a:lnTo>
                          <a:pt x="505" y="136"/>
                        </a:lnTo>
                        <a:lnTo>
                          <a:pt x="505" y="132"/>
                        </a:lnTo>
                        <a:lnTo>
                          <a:pt x="509" y="128"/>
                        </a:lnTo>
                        <a:lnTo>
                          <a:pt x="502" y="123"/>
                        </a:lnTo>
                        <a:lnTo>
                          <a:pt x="494" y="123"/>
                        </a:lnTo>
                        <a:lnTo>
                          <a:pt x="490" y="123"/>
                        </a:lnTo>
                        <a:lnTo>
                          <a:pt x="482" y="105"/>
                        </a:lnTo>
                        <a:lnTo>
                          <a:pt x="482" y="101"/>
                        </a:lnTo>
                        <a:lnTo>
                          <a:pt x="479" y="85"/>
                        </a:lnTo>
                        <a:lnTo>
                          <a:pt x="479" y="67"/>
                        </a:lnTo>
                        <a:lnTo>
                          <a:pt x="479" y="62"/>
                        </a:lnTo>
                        <a:lnTo>
                          <a:pt x="479" y="54"/>
                        </a:lnTo>
                        <a:lnTo>
                          <a:pt x="479" y="49"/>
                        </a:lnTo>
                        <a:lnTo>
                          <a:pt x="479" y="46"/>
                        </a:lnTo>
                        <a:lnTo>
                          <a:pt x="479" y="32"/>
                        </a:lnTo>
                        <a:lnTo>
                          <a:pt x="479" y="27"/>
                        </a:lnTo>
                        <a:lnTo>
                          <a:pt x="482" y="27"/>
                        </a:lnTo>
                        <a:lnTo>
                          <a:pt x="494" y="23"/>
                        </a:lnTo>
                        <a:lnTo>
                          <a:pt x="502" y="18"/>
                        </a:lnTo>
                        <a:lnTo>
                          <a:pt x="505" y="13"/>
                        </a:lnTo>
                        <a:lnTo>
                          <a:pt x="509" y="8"/>
                        </a:lnTo>
                        <a:lnTo>
                          <a:pt x="502" y="5"/>
                        </a:lnTo>
                        <a:lnTo>
                          <a:pt x="494" y="8"/>
                        </a:lnTo>
                        <a:lnTo>
                          <a:pt x="486" y="5"/>
                        </a:lnTo>
                        <a:lnTo>
                          <a:pt x="479" y="5"/>
                        </a:lnTo>
                        <a:lnTo>
                          <a:pt x="475" y="0"/>
                        </a:lnTo>
                        <a:lnTo>
                          <a:pt x="470" y="0"/>
                        </a:lnTo>
                        <a:lnTo>
                          <a:pt x="463" y="0"/>
                        </a:lnTo>
                        <a:lnTo>
                          <a:pt x="459" y="0"/>
                        </a:lnTo>
                        <a:lnTo>
                          <a:pt x="456" y="0"/>
                        </a:lnTo>
                        <a:lnTo>
                          <a:pt x="451" y="0"/>
                        </a:lnTo>
                        <a:lnTo>
                          <a:pt x="440" y="5"/>
                        </a:lnTo>
                        <a:lnTo>
                          <a:pt x="433" y="5"/>
                        </a:lnTo>
                        <a:lnTo>
                          <a:pt x="428" y="5"/>
                        </a:lnTo>
                        <a:lnTo>
                          <a:pt x="418" y="5"/>
                        </a:lnTo>
                        <a:lnTo>
                          <a:pt x="415" y="8"/>
                        </a:lnTo>
                        <a:lnTo>
                          <a:pt x="411" y="18"/>
                        </a:lnTo>
                        <a:lnTo>
                          <a:pt x="408" y="23"/>
                        </a:lnTo>
                        <a:lnTo>
                          <a:pt x="404" y="23"/>
                        </a:lnTo>
                        <a:lnTo>
                          <a:pt x="399" y="23"/>
                        </a:lnTo>
                        <a:lnTo>
                          <a:pt x="399" y="27"/>
                        </a:lnTo>
                        <a:lnTo>
                          <a:pt x="396" y="27"/>
                        </a:lnTo>
                        <a:lnTo>
                          <a:pt x="396" y="32"/>
                        </a:lnTo>
                        <a:lnTo>
                          <a:pt x="392" y="36"/>
                        </a:lnTo>
                        <a:lnTo>
                          <a:pt x="388" y="36"/>
                        </a:lnTo>
                        <a:lnTo>
                          <a:pt x="385" y="41"/>
                        </a:lnTo>
                        <a:lnTo>
                          <a:pt x="373" y="41"/>
                        </a:lnTo>
                        <a:lnTo>
                          <a:pt x="362" y="41"/>
                        </a:lnTo>
                        <a:lnTo>
                          <a:pt x="350" y="41"/>
                        </a:lnTo>
                        <a:lnTo>
                          <a:pt x="342" y="36"/>
                        </a:lnTo>
                        <a:lnTo>
                          <a:pt x="328" y="36"/>
                        </a:lnTo>
                        <a:lnTo>
                          <a:pt x="321" y="41"/>
                        </a:lnTo>
                        <a:lnTo>
                          <a:pt x="317" y="46"/>
                        </a:lnTo>
                        <a:lnTo>
                          <a:pt x="310" y="49"/>
                        </a:lnTo>
                        <a:lnTo>
                          <a:pt x="305" y="54"/>
                        </a:lnTo>
                        <a:lnTo>
                          <a:pt x="301" y="59"/>
                        </a:lnTo>
                        <a:lnTo>
                          <a:pt x="298" y="62"/>
                        </a:lnTo>
                        <a:lnTo>
                          <a:pt x="294" y="67"/>
                        </a:lnTo>
                        <a:lnTo>
                          <a:pt x="291" y="67"/>
                        </a:lnTo>
                        <a:lnTo>
                          <a:pt x="279" y="62"/>
                        </a:lnTo>
                        <a:lnTo>
                          <a:pt x="275" y="59"/>
                        </a:lnTo>
                        <a:lnTo>
                          <a:pt x="263" y="59"/>
                        </a:lnTo>
                        <a:lnTo>
                          <a:pt x="256" y="59"/>
                        </a:lnTo>
                        <a:lnTo>
                          <a:pt x="252" y="54"/>
                        </a:lnTo>
                        <a:lnTo>
                          <a:pt x="246" y="59"/>
                        </a:lnTo>
                        <a:lnTo>
                          <a:pt x="239" y="59"/>
                        </a:lnTo>
                        <a:lnTo>
                          <a:pt x="230" y="59"/>
                        </a:lnTo>
                        <a:lnTo>
                          <a:pt x="227" y="62"/>
                        </a:lnTo>
                        <a:lnTo>
                          <a:pt x="223" y="72"/>
                        </a:lnTo>
                        <a:lnTo>
                          <a:pt x="223" y="81"/>
                        </a:lnTo>
                        <a:lnTo>
                          <a:pt x="219" y="89"/>
                        </a:lnTo>
                        <a:lnTo>
                          <a:pt x="215" y="101"/>
                        </a:lnTo>
                        <a:lnTo>
                          <a:pt x="215" y="109"/>
                        </a:lnTo>
                        <a:lnTo>
                          <a:pt x="211" y="128"/>
                        </a:lnTo>
                        <a:lnTo>
                          <a:pt x="207" y="136"/>
                        </a:lnTo>
                        <a:lnTo>
                          <a:pt x="207" y="149"/>
                        </a:lnTo>
                        <a:lnTo>
                          <a:pt x="207" y="154"/>
                        </a:lnTo>
                        <a:lnTo>
                          <a:pt x="204" y="167"/>
                        </a:lnTo>
                        <a:lnTo>
                          <a:pt x="200" y="178"/>
                        </a:lnTo>
                        <a:lnTo>
                          <a:pt x="200" y="183"/>
                        </a:lnTo>
                        <a:lnTo>
                          <a:pt x="200" y="196"/>
                        </a:lnTo>
                        <a:lnTo>
                          <a:pt x="195" y="205"/>
                        </a:lnTo>
                        <a:lnTo>
                          <a:pt x="195" y="214"/>
                        </a:lnTo>
                        <a:lnTo>
                          <a:pt x="192" y="228"/>
                        </a:lnTo>
                        <a:lnTo>
                          <a:pt x="188" y="241"/>
                        </a:lnTo>
                        <a:lnTo>
                          <a:pt x="181" y="257"/>
                        </a:lnTo>
                        <a:lnTo>
                          <a:pt x="177" y="260"/>
                        </a:lnTo>
                        <a:lnTo>
                          <a:pt x="172" y="270"/>
                        </a:lnTo>
                        <a:lnTo>
                          <a:pt x="172" y="275"/>
                        </a:lnTo>
                        <a:lnTo>
                          <a:pt x="169" y="283"/>
                        </a:lnTo>
                        <a:lnTo>
                          <a:pt x="165" y="296"/>
                        </a:lnTo>
                        <a:lnTo>
                          <a:pt x="165" y="301"/>
                        </a:lnTo>
                        <a:lnTo>
                          <a:pt x="162" y="305"/>
                        </a:lnTo>
                        <a:lnTo>
                          <a:pt x="162" y="310"/>
                        </a:lnTo>
                        <a:lnTo>
                          <a:pt x="162" y="323"/>
                        </a:lnTo>
                        <a:lnTo>
                          <a:pt x="156" y="328"/>
                        </a:lnTo>
                        <a:lnTo>
                          <a:pt x="152" y="334"/>
                        </a:lnTo>
                        <a:lnTo>
                          <a:pt x="148" y="339"/>
                        </a:lnTo>
                        <a:lnTo>
                          <a:pt x="148" y="343"/>
                        </a:lnTo>
                        <a:lnTo>
                          <a:pt x="148" y="347"/>
                        </a:lnTo>
                        <a:lnTo>
                          <a:pt x="148" y="352"/>
                        </a:lnTo>
                        <a:lnTo>
                          <a:pt x="148" y="357"/>
                        </a:lnTo>
                        <a:lnTo>
                          <a:pt x="144" y="365"/>
                        </a:lnTo>
                        <a:lnTo>
                          <a:pt x="140" y="370"/>
                        </a:lnTo>
                        <a:lnTo>
                          <a:pt x="140" y="374"/>
                        </a:lnTo>
                        <a:lnTo>
                          <a:pt x="140" y="383"/>
                        </a:lnTo>
                        <a:lnTo>
                          <a:pt x="133" y="388"/>
                        </a:lnTo>
                        <a:lnTo>
                          <a:pt x="133" y="392"/>
                        </a:lnTo>
                        <a:lnTo>
                          <a:pt x="129" y="396"/>
                        </a:lnTo>
                        <a:lnTo>
                          <a:pt x="129" y="401"/>
                        </a:lnTo>
                        <a:lnTo>
                          <a:pt x="129" y="407"/>
                        </a:lnTo>
                        <a:lnTo>
                          <a:pt x="125" y="407"/>
                        </a:lnTo>
                        <a:lnTo>
                          <a:pt x="125" y="412"/>
                        </a:lnTo>
                        <a:lnTo>
                          <a:pt x="117" y="425"/>
                        </a:lnTo>
                        <a:lnTo>
                          <a:pt x="113" y="457"/>
                        </a:lnTo>
                        <a:lnTo>
                          <a:pt x="113" y="460"/>
                        </a:lnTo>
                        <a:lnTo>
                          <a:pt x="110" y="465"/>
                        </a:lnTo>
                        <a:lnTo>
                          <a:pt x="110" y="470"/>
                        </a:lnTo>
                        <a:lnTo>
                          <a:pt x="110" y="474"/>
                        </a:lnTo>
                        <a:lnTo>
                          <a:pt x="110" y="478"/>
                        </a:lnTo>
                        <a:lnTo>
                          <a:pt x="106" y="486"/>
                        </a:lnTo>
                        <a:lnTo>
                          <a:pt x="106" y="494"/>
                        </a:lnTo>
                        <a:lnTo>
                          <a:pt x="106" y="503"/>
                        </a:lnTo>
                        <a:lnTo>
                          <a:pt x="101" y="503"/>
                        </a:lnTo>
                        <a:lnTo>
                          <a:pt x="101" y="507"/>
                        </a:lnTo>
                        <a:lnTo>
                          <a:pt x="98" y="512"/>
                        </a:lnTo>
                        <a:lnTo>
                          <a:pt x="98" y="516"/>
                        </a:lnTo>
                        <a:lnTo>
                          <a:pt x="98" y="521"/>
                        </a:lnTo>
                        <a:lnTo>
                          <a:pt x="98" y="525"/>
                        </a:lnTo>
                        <a:lnTo>
                          <a:pt x="98" y="530"/>
                        </a:lnTo>
                        <a:lnTo>
                          <a:pt x="94" y="530"/>
                        </a:lnTo>
                        <a:lnTo>
                          <a:pt x="94" y="534"/>
                        </a:lnTo>
                        <a:lnTo>
                          <a:pt x="94" y="539"/>
                        </a:lnTo>
                        <a:lnTo>
                          <a:pt x="90" y="544"/>
                        </a:lnTo>
                        <a:lnTo>
                          <a:pt x="87" y="547"/>
                        </a:lnTo>
                        <a:lnTo>
                          <a:pt x="87" y="557"/>
                        </a:lnTo>
                        <a:lnTo>
                          <a:pt x="78" y="572"/>
                        </a:lnTo>
                        <a:lnTo>
                          <a:pt x="78" y="576"/>
                        </a:lnTo>
                        <a:lnTo>
                          <a:pt x="75" y="586"/>
                        </a:lnTo>
                        <a:lnTo>
                          <a:pt x="75" y="594"/>
                        </a:lnTo>
                        <a:lnTo>
                          <a:pt x="69" y="599"/>
                        </a:lnTo>
                        <a:lnTo>
                          <a:pt x="69" y="607"/>
                        </a:lnTo>
                        <a:lnTo>
                          <a:pt x="62" y="616"/>
                        </a:lnTo>
                        <a:lnTo>
                          <a:pt x="58" y="621"/>
                        </a:lnTo>
                        <a:lnTo>
                          <a:pt x="58" y="626"/>
                        </a:lnTo>
                        <a:lnTo>
                          <a:pt x="54" y="634"/>
                        </a:lnTo>
                        <a:lnTo>
                          <a:pt x="49" y="645"/>
                        </a:lnTo>
                        <a:lnTo>
                          <a:pt x="46" y="663"/>
                        </a:lnTo>
                        <a:lnTo>
                          <a:pt x="46" y="673"/>
                        </a:lnTo>
                        <a:lnTo>
                          <a:pt x="42" y="676"/>
                        </a:lnTo>
                        <a:lnTo>
                          <a:pt x="42" y="681"/>
                        </a:lnTo>
                        <a:lnTo>
                          <a:pt x="35" y="689"/>
                        </a:lnTo>
                        <a:lnTo>
                          <a:pt x="30" y="699"/>
                        </a:lnTo>
                        <a:lnTo>
                          <a:pt x="27" y="703"/>
                        </a:lnTo>
                        <a:lnTo>
                          <a:pt x="23" y="712"/>
                        </a:lnTo>
                        <a:lnTo>
                          <a:pt x="19" y="732"/>
                        </a:lnTo>
                        <a:lnTo>
                          <a:pt x="11" y="745"/>
                        </a:lnTo>
                        <a:lnTo>
                          <a:pt x="7" y="755"/>
                        </a:lnTo>
                        <a:lnTo>
                          <a:pt x="7" y="758"/>
                        </a:lnTo>
                        <a:lnTo>
                          <a:pt x="4" y="768"/>
                        </a:lnTo>
                        <a:lnTo>
                          <a:pt x="0" y="771"/>
                        </a:lnTo>
                        <a:lnTo>
                          <a:pt x="7" y="768"/>
                        </a:lnTo>
                        <a:lnTo>
                          <a:pt x="11" y="763"/>
                        </a:lnTo>
                        <a:lnTo>
                          <a:pt x="16" y="763"/>
                        </a:lnTo>
                        <a:lnTo>
                          <a:pt x="19" y="763"/>
                        </a:lnTo>
                        <a:lnTo>
                          <a:pt x="19" y="758"/>
                        </a:lnTo>
                        <a:lnTo>
                          <a:pt x="23" y="755"/>
                        </a:lnTo>
                        <a:lnTo>
                          <a:pt x="27" y="755"/>
                        </a:lnTo>
                        <a:lnTo>
                          <a:pt x="30" y="755"/>
                        </a:lnTo>
                        <a:lnTo>
                          <a:pt x="30" y="750"/>
                        </a:lnTo>
                        <a:lnTo>
                          <a:pt x="35" y="750"/>
                        </a:lnTo>
                        <a:lnTo>
                          <a:pt x="39" y="750"/>
                        </a:lnTo>
                        <a:lnTo>
                          <a:pt x="42" y="750"/>
                        </a:lnTo>
                        <a:lnTo>
                          <a:pt x="46" y="750"/>
                        </a:lnTo>
                        <a:lnTo>
                          <a:pt x="46" y="745"/>
                        </a:lnTo>
                        <a:lnTo>
                          <a:pt x="49" y="745"/>
                        </a:lnTo>
                        <a:lnTo>
                          <a:pt x="54" y="745"/>
                        </a:lnTo>
                        <a:lnTo>
                          <a:pt x="58" y="745"/>
                        </a:lnTo>
                        <a:lnTo>
                          <a:pt x="62" y="745"/>
                        </a:lnTo>
                        <a:lnTo>
                          <a:pt x="65" y="745"/>
                        </a:lnTo>
                        <a:lnTo>
                          <a:pt x="65" y="741"/>
                        </a:lnTo>
                        <a:lnTo>
                          <a:pt x="69" y="741"/>
                        </a:lnTo>
                        <a:lnTo>
                          <a:pt x="75" y="741"/>
                        </a:lnTo>
                        <a:lnTo>
                          <a:pt x="75" y="736"/>
                        </a:lnTo>
                        <a:lnTo>
                          <a:pt x="78" y="736"/>
                        </a:lnTo>
                        <a:lnTo>
                          <a:pt x="87" y="732"/>
                        </a:lnTo>
                        <a:lnTo>
                          <a:pt x="90" y="732"/>
                        </a:lnTo>
                        <a:lnTo>
                          <a:pt x="94" y="732"/>
                        </a:lnTo>
                        <a:lnTo>
                          <a:pt x="94" y="728"/>
                        </a:lnTo>
                        <a:lnTo>
                          <a:pt x="101" y="718"/>
                        </a:lnTo>
                        <a:lnTo>
                          <a:pt x="106" y="718"/>
                        </a:lnTo>
                        <a:lnTo>
                          <a:pt x="110" y="718"/>
                        </a:lnTo>
                        <a:lnTo>
                          <a:pt x="113" y="718"/>
                        </a:lnTo>
                        <a:lnTo>
                          <a:pt x="117" y="718"/>
                        </a:lnTo>
                        <a:lnTo>
                          <a:pt x="121" y="718"/>
                        </a:lnTo>
                        <a:lnTo>
                          <a:pt x="125" y="712"/>
                        </a:lnTo>
                        <a:lnTo>
                          <a:pt x="129" y="712"/>
                        </a:lnTo>
                        <a:lnTo>
                          <a:pt x="133" y="712"/>
                        </a:lnTo>
                        <a:lnTo>
                          <a:pt x="136" y="712"/>
                        </a:lnTo>
                        <a:lnTo>
                          <a:pt x="140" y="712"/>
                        </a:lnTo>
                        <a:lnTo>
                          <a:pt x="144" y="712"/>
                        </a:lnTo>
                        <a:lnTo>
                          <a:pt x="148" y="712"/>
                        </a:lnTo>
                        <a:lnTo>
                          <a:pt x="162" y="712"/>
                        </a:lnTo>
                        <a:lnTo>
                          <a:pt x="165" y="712"/>
                        </a:lnTo>
                        <a:lnTo>
                          <a:pt x="169" y="712"/>
                        </a:lnTo>
                        <a:lnTo>
                          <a:pt x="172" y="712"/>
                        </a:lnTo>
                        <a:lnTo>
                          <a:pt x="177" y="708"/>
                        </a:lnTo>
                        <a:lnTo>
                          <a:pt x="181" y="708"/>
                        </a:lnTo>
                        <a:lnTo>
                          <a:pt x="185" y="708"/>
                        </a:lnTo>
                        <a:lnTo>
                          <a:pt x="185" y="703"/>
                        </a:lnTo>
                        <a:lnTo>
                          <a:pt x="188" y="703"/>
                        </a:lnTo>
                        <a:lnTo>
                          <a:pt x="192" y="703"/>
                        </a:lnTo>
                        <a:lnTo>
                          <a:pt x="195" y="703"/>
                        </a:lnTo>
                        <a:lnTo>
                          <a:pt x="200" y="703"/>
                        </a:lnTo>
                        <a:lnTo>
                          <a:pt x="204" y="708"/>
                        </a:lnTo>
                        <a:lnTo>
                          <a:pt x="207" y="708"/>
                        </a:lnTo>
                        <a:lnTo>
                          <a:pt x="207" y="712"/>
                        </a:lnTo>
                        <a:lnTo>
                          <a:pt x="211" y="712"/>
                        </a:lnTo>
                        <a:lnTo>
                          <a:pt x="211" y="718"/>
                        </a:lnTo>
                        <a:lnTo>
                          <a:pt x="215" y="718"/>
                        </a:lnTo>
                        <a:lnTo>
                          <a:pt x="219" y="718"/>
                        </a:lnTo>
                        <a:lnTo>
                          <a:pt x="223" y="718"/>
                        </a:lnTo>
                        <a:lnTo>
                          <a:pt x="227" y="712"/>
                        </a:lnTo>
                        <a:lnTo>
                          <a:pt x="227" y="708"/>
                        </a:lnTo>
                        <a:lnTo>
                          <a:pt x="227" y="703"/>
                        </a:lnTo>
                        <a:lnTo>
                          <a:pt x="230" y="703"/>
                        </a:lnTo>
                        <a:lnTo>
                          <a:pt x="230" y="699"/>
                        </a:lnTo>
                        <a:lnTo>
                          <a:pt x="234" y="699"/>
                        </a:lnTo>
                        <a:lnTo>
                          <a:pt x="234" y="694"/>
                        </a:lnTo>
                        <a:lnTo>
                          <a:pt x="239" y="694"/>
                        </a:lnTo>
                        <a:lnTo>
                          <a:pt x="239" y="689"/>
                        </a:lnTo>
                        <a:lnTo>
                          <a:pt x="239" y="686"/>
                        </a:lnTo>
                        <a:lnTo>
                          <a:pt x="239" y="681"/>
                        </a:lnTo>
                        <a:lnTo>
                          <a:pt x="234" y="676"/>
                        </a:lnTo>
                        <a:lnTo>
                          <a:pt x="239" y="673"/>
                        </a:lnTo>
                        <a:lnTo>
                          <a:pt x="239" y="663"/>
                        </a:lnTo>
                        <a:lnTo>
                          <a:pt x="239" y="658"/>
                        </a:lnTo>
                        <a:lnTo>
                          <a:pt x="239" y="654"/>
                        </a:lnTo>
                        <a:lnTo>
                          <a:pt x="239" y="650"/>
                        </a:lnTo>
                        <a:lnTo>
                          <a:pt x="239" y="645"/>
                        </a:lnTo>
                        <a:lnTo>
                          <a:pt x="242" y="645"/>
                        </a:lnTo>
                        <a:lnTo>
                          <a:pt x="246" y="645"/>
                        </a:lnTo>
                        <a:lnTo>
                          <a:pt x="252" y="650"/>
                        </a:lnTo>
                        <a:lnTo>
                          <a:pt x="256" y="650"/>
                        </a:lnTo>
                        <a:lnTo>
                          <a:pt x="259" y="650"/>
                        </a:lnTo>
                        <a:lnTo>
                          <a:pt x="259" y="645"/>
                        </a:lnTo>
                        <a:lnTo>
                          <a:pt x="263" y="645"/>
                        </a:lnTo>
                        <a:lnTo>
                          <a:pt x="263" y="641"/>
                        </a:lnTo>
                        <a:lnTo>
                          <a:pt x="267" y="641"/>
                        </a:lnTo>
                        <a:lnTo>
                          <a:pt x="271" y="641"/>
                        </a:lnTo>
                        <a:lnTo>
                          <a:pt x="271" y="645"/>
                        </a:lnTo>
                        <a:lnTo>
                          <a:pt x="275" y="645"/>
                        </a:lnTo>
                        <a:lnTo>
                          <a:pt x="275" y="650"/>
                        </a:lnTo>
                        <a:lnTo>
                          <a:pt x="275" y="654"/>
                        </a:lnTo>
                        <a:lnTo>
                          <a:pt x="279" y="654"/>
                        </a:lnTo>
                        <a:lnTo>
                          <a:pt x="282" y="654"/>
                        </a:lnTo>
                        <a:lnTo>
                          <a:pt x="286" y="654"/>
                        </a:lnTo>
                        <a:lnTo>
                          <a:pt x="286" y="650"/>
                        </a:lnTo>
                        <a:lnTo>
                          <a:pt x="291" y="654"/>
                        </a:lnTo>
                        <a:lnTo>
                          <a:pt x="294" y="654"/>
                        </a:lnTo>
                        <a:lnTo>
                          <a:pt x="294" y="658"/>
                        </a:lnTo>
                        <a:lnTo>
                          <a:pt x="298" y="658"/>
                        </a:lnTo>
                        <a:lnTo>
                          <a:pt x="298" y="663"/>
                        </a:lnTo>
                        <a:lnTo>
                          <a:pt x="298" y="668"/>
                        </a:lnTo>
                        <a:lnTo>
                          <a:pt x="301" y="663"/>
                        </a:lnTo>
                        <a:lnTo>
                          <a:pt x="305" y="663"/>
                        </a:lnTo>
                        <a:lnTo>
                          <a:pt x="310" y="663"/>
                        </a:lnTo>
                        <a:lnTo>
                          <a:pt x="314" y="663"/>
                        </a:lnTo>
                        <a:lnTo>
                          <a:pt x="317" y="658"/>
                        </a:lnTo>
                        <a:lnTo>
                          <a:pt x="321" y="663"/>
                        </a:lnTo>
                        <a:lnTo>
                          <a:pt x="324" y="663"/>
                        </a:lnTo>
                        <a:lnTo>
                          <a:pt x="328" y="668"/>
                        </a:lnTo>
                        <a:lnTo>
                          <a:pt x="328" y="673"/>
                        </a:lnTo>
                        <a:lnTo>
                          <a:pt x="333" y="668"/>
                        </a:lnTo>
                        <a:lnTo>
                          <a:pt x="336" y="668"/>
                        </a:lnTo>
                        <a:lnTo>
                          <a:pt x="342" y="668"/>
                        </a:lnTo>
                        <a:lnTo>
                          <a:pt x="346" y="668"/>
                        </a:lnTo>
                        <a:lnTo>
                          <a:pt x="350" y="668"/>
                        </a:lnTo>
                        <a:lnTo>
                          <a:pt x="353" y="668"/>
                        </a:lnTo>
                        <a:lnTo>
                          <a:pt x="357" y="663"/>
                        </a:lnTo>
                        <a:lnTo>
                          <a:pt x="362" y="663"/>
                        </a:lnTo>
                        <a:lnTo>
                          <a:pt x="365" y="663"/>
                        </a:lnTo>
                        <a:lnTo>
                          <a:pt x="365" y="658"/>
                        </a:lnTo>
                        <a:lnTo>
                          <a:pt x="369" y="654"/>
                        </a:lnTo>
                        <a:lnTo>
                          <a:pt x="373" y="650"/>
                        </a:lnTo>
                        <a:lnTo>
                          <a:pt x="376" y="650"/>
                        </a:lnTo>
                        <a:lnTo>
                          <a:pt x="381" y="650"/>
                        </a:lnTo>
                        <a:lnTo>
                          <a:pt x="381" y="645"/>
                        </a:lnTo>
                        <a:lnTo>
                          <a:pt x="385" y="645"/>
                        </a:lnTo>
                        <a:lnTo>
                          <a:pt x="385" y="641"/>
                        </a:lnTo>
                        <a:lnTo>
                          <a:pt x="385" y="634"/>
                        </a:lnTo>
                        <a:lnTo>
                          <a:pt x="388" y="629"/>
                        </a:lnTo>
                        <a:lnTo>
                          <a:pt x="392" y="629"/>
                        </a:lnTo>
                        <a:lnTo>
                          <a:pt x="396" y="629"/>
                        </a:lnTo>
                        <a:lnTo>
                          <a:pt x="396" y="634"/>
                        </a:lnTo>
                        <a:lnTo>
                          <a:pt x="399" y="634"/>
                        </a:lnTo>
                        <a:lnTo>
                          <a:pt x="399" y="641"/>
                        </a:lnTo>
                        <a:lnTo>
                          <a:pt x="404" y="641"/>
                        </a:lnTo>
                        <a:lnTo>
                          <a:pt x="408" y="645"/>
                        </a:lnTo>
                        <a:lnTo>
                          <a:pt x="408" y="641"/>
                        </a:lnTo>
                        <a:lnTo>
                          <a:pt x="411" y="641"/>
                        </a:lnTo>
                        <a:lnTo>
                          <a:pt x="415" y="634"/>
                        </a:lnTo>
                        <a:lnTo>
                          <a:pt x="418" y="634"/>
                        </a:lnTo>
                        <a:lnTo>
                          <a:pt x="423" y="634"/>
                        </a:lnTo>
                        <a:lnTo>
                          <a:pt x="423" y="641"/>
                        </a:lnTo>
                        <a:lnTo>
                          <a:pt x="428" y="645"/>
                        </a:lnTo>
                        <a:lnTo>
                          <a:pt x="428" y="650"/>
                        </a:lnTo>
                        <a:lnTo>
                          <a:pt x="433" y="645"/>
                        </a:lnTo>
                        <a:lnTo>
                          <a:pt x="437" y="645"/>
                        </a:lnTo>
                        <a:lnTo>
                          <a:pt x="440" y="641"/>
                        </a:lnTo>
                        <a:lnTo>
                          <a:pt x="447" y="641"/>
                        </a:lnTo>
                        <a:lnTo>
                          <a:pt x="447" y="634"/>
                        </a:lnTo>
                        <a:lnTo>
                          <a:pt x="451" y="634"/>
                        </a:lnTo>
                        <a:lnTo>
                          <a:pt x="456" y="634"/>
                        </a:lnTo>
                        <a:lnTo>
                          <a:pt x="459" y="634"/>
                        </a:lnTo>
                        <a:lnTo>
                          <a:pt x="463" y="641"/>
                        </a:lnTo>
                        <a:lnTo>
                          <a:pt x="467" y="641"/>
                        </a:lnTo>
                        <a:lnTo>
                          <a:pt x="467" y="634"/>
                        </a:lnTo>
                        <a:lnTo>
                          <a:pt x="470" y="634"/>
                        </a:lnTo>
                        <a:lnTo>
                          <a:pt x="470" y="629"/>
                        </a:lnTo>
                        <a:lnTo>
                          <a:pt x="470" y="626"/>
                        </a:lnTo>
                        <a:lnTo>
                          <a:pt x="470" y="621"/>
                        </a:lnTo>
                        <a:lnTo>
                          <a:pt x="475" y="621"/>
                        </a:lnTo>
                        <a:lnTo>
                          <a:pt x="475" y="616"/>
                        </a:lnTo>
                        <a:lnTo>
                          <a:pt x="475" y="612"/>
                        </a:lnTo>
                        <a:lnTo>
                          <a:pt x="475" y="607"/>
                        </a:lnTo>
                        <a:lnTo>
                          <a:pt x="475" y="603"/>
                        </a:lnTo>
                        <a:lnTo>
                          <a:pt x="475" y="599"/>
                        </a:lnTo>
                        <a:lnTo>
                          <a:pt x="479" y="599"/>
                        </a:lnTo>
                        <a:lnTo>
                          <a:pt x="479" y="594"/>
                        </a:lnTo>
                        <a:lnTo>
                          <a:pt x="479" y="589"/>
                        </a:lnTo>
                        <a:lnTo>
                          <a:pt x="482" y="589"/>
                        </a:lnTo>
                        <a:lnTo>
                          <a:pt x="482" y="586"/>
                        </a:lnTo>
                        <a:lnTo>
                          <a:pt x="482" y="581"/>
                        </a:lnTo>
                        <a:lnTo>
                          <a:pt x="482" y="576"/>
                        </a:lnTo>
                        <a:lnTo>
                          <a:pt x="479" y="576"/>
                        </a:lnTo>
                        <a:lnTo>
                          <a:pt x="479" y="572"/>
                        </a:lnTo>
                        <a:lnTo>
                          <a:pt x="479" y="568"/>
                        </a:lnTo>
                        <a:lnTo>
                          <a:pt x="475" y="568"/>
                        </a:lnTo>
                        <a:lnTo>
                          <a:pt x="475" y="563"/>
                        </a:lnTo>
                        <a:lnTo>
                          <a:pt x="475" y="557"/>
                        </a:lnTo>
                        <a:lnTo>
                          <a:pt x="470" y="557"/>
                        </a:lnTo>
                        <a:lnTo>
                          <a:pt x="470" y="563"/>
                        </a:lnTo>
                        <a:lnTo>
                          <a:pt x="467" y="563"/>
                        </a:lnTo>
                        <a:lnTo>
                          <a:pt x="467" y="557"/>
                        </a:lnTo>
                        <a:lnTo>
                          <a:pt x="467" y="552"/>
                        </a:lnTo>
                        <a:lnTo>
                          <a:pt x="470" y="552"/>
                        </a:lnTo>
                        <a:lnTo>
                          <a:pt x="470" y="547"/>
                        </a:lnTo>
                        <a:lnTo>
                          <a:pt x="475" y="547"/>
                        </a:lnTo>
                        <a:lnTo>
                          <a:pt x="479" y="547"/>
                        </a:lnTo>
                        <a:lnTo>
                          <a:pt x="479" y="54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1e1e7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675800" y="1599480"/>
                    <a:ext cx="3700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843">
                        <a:moveTo>
                          <a:pt x="424" y="791"/>
                        </a:moveTo>
                        <a:lnTo>
                          <a:pt x="428" y="791"/>
                        </a:lnTo>
                        <a:lnTo>
                          <a:pt x="431" y="786"/>
                        </a:lnTo>
                        <a:lnTo>
                          <a:pt x="436" y="786"/>
                        </a:lnTo>
                        <a:lnTo>
                          <a:pt x="440" y="786"/>
                        </a:lnTo>
                        <a:lnTo>
                          <a:pt x="443" y="783"/>
                        </a:lnTo>
                        <a:lnTo>
                          <a:pt x="447" y="783"/>
                        </a:lnTo>
                        <a:lnTo>
                          <a:pt x="454" y="783"/>
                        </a:lnTo>
                        <a:lnTo>
                          <a:pt x="459" y="783"/>
                        </a:lnTo>
                        <a:lnTo>
                          <a:pt x="463" y="783"/>
                        </a:lnTo>
                        <a:lnTo>
                          <a:pt x="466" y="778"/>
                        </a:lnTo>
                        <a:lnTo>
                          <a:pt x="466" y="783"/>
                        </a:lnTo>
                        <a:lnTo>
                          <a:pt x="474" y="783"/>
                        </a:lnTo>
                        <a:lnTo>
                          <a:pt x="478" y="783"/>
                        </a:lnTo>
                        <a:lnTo>
                          <a:pt x="478" y="786"/>
                        </a:lnTo>
                        <a:lnTo>
                          <a:pt x="478" y="791"/>
                        </a:lnTo>
                        <a:lnTo>
                          <a:pt x="482" y="791"/>
                        </a:lnTo>
                        <a:lnTo>
                          <a:pt x="486" y="791"/>
                        </a:lnTo>
                        <a:lnTo>
                          <a:pt x="486" y="796"/>
                        </a:lnTo>
                        <a:lnTo>
                          <a:pt x="489" y="796"/>
                        </a:lnTo>
                        <a:lnTo>
                          <a:pt x="493" y="796"/>
                        </a:lnTo>
                        <a:lnTo>
                          <a:pt x="498" y="796"/>
                        </a:lnTo>
                        <a:lnTo>
                          <a:pt x="507" y="796"/>
                        </a:lnTo>
                        <a:lnTo>
                          <a:pt x="511" y="796"/>
                        </a:lnTo>
                        <a:lnTo>
                          <a:pt x="515" y="796"/>
                        </a:lnTo>
                        <a:lnTo>
                          <a:pt x="518" y="796"/>
                        </a:lnTo>
                        <a:lnTo>
                          <a:pt x="525" y="791"/>
                        </a:lnTo>
                        <a:lnTo>
                          <a:pt x="525" y="786"/>
                        </a:lnTo>
                        <a:lnTo>
                          <a:pt x="530" y="786"/>
                        </a:lnTo>
                        <a:lnTo>
                          <a:pt x="534" y="786"/>
                        </a:lnTo>
                        <a:lnTo>
                          <a:pt x="537" y="786"/>
                        </a:lnTo>
                        <a:lnTo>
                          <a:pt x="537" y="783"/>
                        </a:lnTo>
                        <a:lnTo>
                          <a:pt x="541" y="783"/>
                        </a:lnTo>
                        <a:lnTo>
                          <a:pt x="545" y="783"/>
                        </a:lnTo>
                        <a:lnTo>
                          <a:pt x="550" y="783"/>
                        </a:lnTo>
                        <a:lnTo>
                          <a:pt x="553" y="783"/>
                        </a:lnTo>
                        <a:lnTo>
                          <a:pt x="557" y="783"/>
                        </a:lnTo>
                        <a:lnTo>
                          <a:pt x="560" y="783"/>
                        </a:lnTo>
                        <a:lnTo>
                          <a:pt x="564" y="783"/>
                        </a:lnTo>
                        <a:lnTo>
                          <a:pt x="569" y="783"/>
                        </a:lnTo>
                        <a:lnTo>
                          <a:pt x="572" y="783"/>
                        </a:lnTo>
                        <a:lnTo>
                          <a:pt x="576" y="778"/>
                        </a:lnTo>
                        <a:lnTo>
                          <a:pt x="580" y="770"/>
                        </a:lnTo>
                        <a:lnTo>
                          <a:pt x="580" y="765"/>
                        </a:lnTo>
                        <a:lnTo>
                          <a:pt x="583" y="765"/>
                        </a:lnTo>
                        <a:lnTo>
                          <a:pt x="583" y="757"/>
                        </a:lnTo>
                        <a:lnTo>
                          <a:pt x="583" y="754"/>
                        </a:lnTo>
                        <a:lnTo>
                          <a:pt x="587" y="749"/>
                        </a:lnTo>
                        <a:lnTo>
                          <a:pt x="587" y="744"/>
                        </a:lnTo>
                        <a:lnTo>
                          <a:pt x="593" y="744"/>
                        </a:lnTo>
                        <a:lnTo>
                          <a:pt x="597" y="744"/>
                        </a:lnTo>
                        <a:lnTo>
                          <a:pt x="601" y="744"/>
                        </a:lnTo>
                        <a:lnTo>
                          <a:pt x="605" y="744"/>
                        </a:lnTo>
                        <a:lnTo>
                          <a:pt x="609" y="744"/>
                        </a:lnTo>
                        <a:lnTo>
                          <a:pt x="612" y="744"/>
                        </a:lnTo>
                        <a:lnTo>
                          <a:pt x="616" y="749"/>
                        </a:lnTo>
                        <a:lnTo>
                          <a:pt x="621" y="749"/>
                        </a:lnTo>
                        <a:lnTo>
                          <a:pt x="621" y="754"/>
                        </a:lnTo>
                        <a:lnTo>
                          <a:pt x="624" y="754"/>
                        </a:lnTo>
                        <a:lnTo>
                          <a:pt x="628" y="754"/>
                        </a:lnTo>
                        <a:lnTo>
                          <a:pt x="631" y="754"/>
                        </a:lnTo>
                        <a:lnTo>
                          <a:pt x="635" y="754"/>
                        </a:lnTo>
                        <a:lnTo>
                          <a:pt x="635" y="749"/>
                        </a:lnTo>
                        <a:lnTo>
                          <a:pt x="640" y="749"/>
                        </a:lnTo>
                        <a:lnTo>
                          <a:pt x="644" y="749"/>
                        </a:lnTo>
                        <a:lnTo>
                          <a:pt x="647" y="754"/>
                        </a:lnTo>
                        <a:lnTo>
                          <a:pt x="651" y="754"/>
                        </a:lnTo>
                        <a:lnTo>
                          <a:pt x="654" y="754"/>
                        </a:lnTo>
                        <a:lnTo>
                          <a:pt x="658" y="754"/>
                        </a:lnTo>
                        <a:lnTo>
                          <a:pt x="663" y="754"/>
                        </a:lnTo>
                        <a:lnTo>
                          <a:pt x="663" y="757"/>
                        </a:lnTo>
                        <a:lnTo>
                          <a:pt x="666" y="757"/>
                        </a:lnTo>
                        <a:lnTo>
                          <a:pt x="666" y="765"/>
                        </a:lnTo>
                        <a:lnTo>
                          <a:pt x="670" y="765"/>
                        </a:lnTo>
                        <a:lnTo>
                          <a:pt x="670" y="770"/>
                        </a:lnTo>
                        <a:lnTo>
                          <a:pt x="674" y="770"/>
                        </a:lnTo>
                        <a:lnTo>
                          <a:pt x="677" y="770"/>
                        </a:lnTo>
                        <a:lnTo>
                          <a:pt x="683" y="770"/>
                        </a:lnTo>
                        <a:lnTo>
                          <a:pt x="687" y="765"/>
                        </a:lnTo>
                        <a:lnTo>
                          <a:pt x="692" y="765"/>
                        </a:lnTo>
                        <a:lnTo>
                          <a:pt x="695" y="765"/>
                        </a:lnTo>
                        <a:lnTo>
                          <a:pt x="699" y="765"/>
                        </a:lnTo>
                        <a:lnTo>
                          <a:pt x="703" y="765"/>
                        </a:lnTo>
                        <a:lnTo>
                          <a:pt x="706" y="765"/>
                        </a:lnTo>
                        <a:lnTo>
                          <a:pt x="706" y="770"/>
                        </a:lnTo>
                        <a:lnTo>
                          <a:pt x="710" y="765"/>
                        </a:lnTo>
                        <a:lnTo>
                          <a:pt x="715" y="765"/>
                        </a:lnTo>
                        <a:lnTo>
                          <a:pt x="718" y="765"/>
                        </a:lnTo>
                        <a:lnTo>
                          <a:pt x="718" y="770"/>
                        </a:lnTo>
                        <a:lnTo>
                          <a:pt x="722" y="770"/>
                        </a:lnTo>
                        <a:lnTo>
                          <a:pt x="722" y="773"/>
                        </a:lnTo>
                        <a:lnTo>
                          <a:pt x="726" y="778"/>
                        </a:lnTo>
                        <a:lnTo>
                          <a:pt x="729" y="778"/>
                        </a:lnTo>
                        <a:lnTo>
                          <a:pt x="729" y="783"/>
                        </a:lnTo>
                        <a:lnTo>
                          <a:pt x="734" y="783"/>
                        </a:lnTo>
                        <a:lnTo>
                          <a:pt x="738" y="783"/>
                        </a:lnTo>
                        <a:lnTo>
                          <a:pt x="741" y="783"/>
                        </a:lnTo>
                        <a:lnTo>
                          <a:pt x="745" y="783"/>
                        </a:lnTo>
                        <a:lnTo>
                          <a:pt x="748" y="783"/>
                        </a:lnTo>
                        <a:lnTo>
                          <a:pt x="753" y="783"/>
                        </a:lnTo>
                        <a:lnTo>
                          <a:pt x="757" y="783"/>
                        </a:lnTo>
                        <a:lnTo>
                          <a:pt x="761" y="786"/>
                        </a:lnTo>
                        <a:lnTo>
                          <a:pt x="764" y="786"/>
                        </a:lnTo>
                        <a:lnTo>
                          <a:pt x="764" y="783"/>
                        </a:lnTo>
                        <a:lnTo>
                          <a:pt x="768" y="783"/>
                        </a:lnTo>
                        <a:lnTo>
                          <a:pt x="774" y="783"/>
                        </a:lnTo>
                        <a:lnTo>
                          <a:pt x="774" y="786"/>
                        </a:lnTo>
                        <a:lnTo>
                          <a:pt x="777" y="783"/>
                        </a:lnTo>
                        <a:lnTo>
                          <a:pt x="781" y="783"/>
                        </a:lnTo>
                        <a:lnTo>
                          <a:pt x="786" y="783"/>
                        </a:lnTo>
                        <a:lnTo>
                          <a:pt x="786" y="786"/>
                        </a:lnTo>
                        <a:lnTo>
                          <a:pt x="786" y="791"/>
                        </a:lnTo>
                        <a:lnTo>
                          <a:pt x="789" y="791"/>
                        </a:lnTo>
                        <a:lnTo>
                          <a:pt x="793" y="786"/>
                        </a:lnTo>
                        <a:lnTo>
                          <a:pt x="793" y="791"/>
                        </a:lnTo>
                        <a:lnTo>
                          <a:pt x="797" y="791"/>
                        </a:lnTo>
                        <a:lnTo>
                          <a:pt x="797" y="796"/>
                        </a:lnTo>
                        <a:lnTo>
                          <a:pt x="800" y="796"/>
                        </a:lnTo>
                        <a:lnTo>
                          <a:pt x="805" y="796"/>
                        </a:lnTo>
                        <a:lnTo>
                          <a:pt x="809" y="796"/>
                        </a:lnTo>
                        <a:lnTo>
                          <a:pt x="809" y="791"/>
                        </a:lnTo>
                        <a:lnTo>
                          <a:pt x="809" y="796"/>
                        </a:lnTo>
                        <a:lnTo>
                          <a:pt x="812" y="796"/>
                        </a:lnTo>
                        <a:lnTo>
                          <a:pt x="812" y="801"/>
                        </a:lnTo>
                        <a:lnTo>
                          <a:pt x="816" y="801"/>
                        </a:lnTo>
                        <a:lnTo>
                          <a:pt x="816" y="804"/>
                        </a:lnTo>
                        <a:lnTo>
                          <a:pt x="820" y="804"/>
                        </a:lnTo>
                        <a:lnTo>
                          <a:pt x="824" y="804"/>
                        </a:lnTo>
                        <a:lnTo>
                          <a:pt x="828" y="804"/>
                        </a:lnTo>
                        <a:lnTo>
                          <a:pt x="828" y="801"/>
                        </a:lnTo>
                        <a:lnTo>
                          <a:pt x="828" y="804"/>
                        </a:lnTo>
                        <a:lnTo>
                          <a:pt x="832" y="804"/>
                        </a:lnTo>
                        <a:lnTo>
                          <a:pt x="832" y="809"/>
                        </a:lnTo>
                        <a:lnTo>
                          <a:pt x="835" y="809"/>
                        </a:lnTo>
                        <a:lnTo>
                          <a:pt x="839" y="809"/>
                        </a:lnTo>
                        <a:lnTo>
                          <a:pt x="839" y="814"/>
                        </a:lnTo>
                        <a:lnTo>
                          <a:pt x="839" y="818"/>
                        </a:lnTo>
                        <a:lnTo>
                          <a:pt x="843" y="818"/>
                        </a:lnTo>
                        <a:lnTo>
                          <a:pt x="847" y="818"/>
                        </a:lnTo>
                        <a:lnTo>
                          <a:pt x="847" y="823"/>
                        </a:lnTo>
                        <a:lnTo>
                          <a:pt x="847" y="827"/>
                        </a:lnTo>
                        <a:lnTo>
                          <a:pt x="851" y="827"/>
                        </a:lnTo>
                        <a:lnTo>
                          <a:pt x="851" y="823"/>
                        </a:lnTo>
                        <a:lnTo>
                          <a:pt x="855" y="823"/>
                        </a:lnTo>
                        <a:lnTo>
                          <a:pt x="861" y="823"/>
                        </a:lnTo>
                        <a:lnTo>
                          <a:pt x="864" y="823"/>
                        </a:lnTo>
                        <a:lnTo>
                          <a:pt x="864" y="827"/>
                        </a:lnTo>
                        <a:lnTo>
                          <a:pt x="864" y="831"/>
                        </a:lnTo>
                        <a:lnTo>
                          <a:pt x="864" y="836"/>
                        </a:lnTo>
                        <a:lnTo>
                          <a:pt x="868" y="836"/>
                        </a:lnTo>
                        <a:lnTo>
                          <a:pt x="871" y="836"/>
                        </a:lnTo>
                        <a:lnTo>
                          <a:pt x="871" y="831"/>
                        </a:lnTo>
                        <a:lnTo>
                          <a:pt x="876" y="831"/>
                        </a:lnTo>
                        <a:lnTo>
                          <a:pt x="880" y="831"/>
                        </a:lnTo>
                        <a:lnTo>
                          <a:pt x="884" y="831"/>
                        </a:lnTo>
                        <a:lnTo>
                          <a:pt x="884" y="836"/>
                        </a:lnTo>
                        <a:lnTo>
                          <a:pt x="887" y="836"/>
                        </a:lnTo>
                        <a:lnTo>
                          <a:pt x="891" y="836"/>
                        </a:lnTo>
                        <a:lnTo>
                          <a:pt x="894" y="836"/>
                        </a:lnTo>
                        <a:lnTo>
                          <a:pt x="894" y="843"/>
                        </a:lnTo>
                        <a:lnTo>
                          <a:pt x="899" y="843"/>
                        </a:lnTo>
                        <a:lnTo>
                          <a:pt x="903" y="843"/>
                        </a:lnTo>
                        <a:lnTo>
                          <a:pt x="906" y="843"/>
                        </a:lnTo>
                        <a:lnTo>
                          <a:pt x="906" y="836"/>
                        </a:lnTo>
                        <a:lnTo>
                          <a:pt x="906" y="831"/>
                        </a:lnTo>
                        <a:lnTo>
                          <a:pt x="906" y="827"/>
                        </a:lnTo>
                        <a:lnTo>
                          <a:pt x="906" y="823"/>
                        </a:lnTo>
                        <a:lnTo>
                          <a:pt x="910" y="823"/>
                        </a:lnTo>
                        <a:lnTo>
                          <a:pt x="914" y="823"/>
                        </a:lnTo>
                        <a:lnTo>
                          <a:pt x="914" y="827"/>
                        </a:lnTo>
                        <a:lnTo>
                          <a:pt x="918" y="827"/>
                        </a:lnTo>
                        <a:lnTo>
                          <a:pt x="918" y="831"/>
                        </a:lnTo>
                        <a:lnTo>
                          <a:pt x="918" y="836"/>
                        </a:lnTo>
                        <a:lnTo>
                          <a:pt x="918" y="843"/>
                        </a:lnTo>
                        <a:lnTo>
                          <a:pt x="922" y="843"/>
                        </a:lnTo>
                        <a:lnTo>
                          <a:pt x="926" y="843"/>
                        </a:lnTo>
                        <a:lnTo>
                          <a:pt x="926" y="836"/>
                        </a:lnTo>
                        <a:lnTo>
                          <a:pt x="929" y="836"/>
                        </a:lnTo>
                        <a:lnTo>
                          <a:pt x="929" y="831"/>
                        </a:lnTo>
                        <a:lnTo>
                          <a:pt x="933" y="831"/>
                        </a:lnTo>
                        <a:lnTo>
                          <a:pt x="938" y="831"/>
                        </a:lnTo>
                        <a:lnTo>
                          <a:pt x="933" y="831"/>
                        </a:lnTo>
                        <a:lnTo>
                          <a:pt x="938" y="831"/>
                        </a:lnTo>
                        <a:lnTo>
                          <a:pt x="938" y="827"/>
                        </a:lnTo>
                        <a:lnTo>
                          <a:pt x="938" y="823"/>
                        </a:lnTo>
                        <a:lnTo>
                          <a:pt x="941" y="818"/>
                        </a:lnTo>
                        <a:lnTo>
                          <a:pt x="945" y="814"/>
                        </a:lnTo>
                        <a:lnTo>
                          <a:pt x="951" y="809"/>
                        </a:lnTo>
                        <a:lnTo>
                          <a:pt x="945" y="809"/>
                        </a:lnTo>
                        <a:lnTo>
                          <a:pt x="945" y="804"/>
                        </a:lnTo>
                        <a:lnTo>
                          <a:pt x="941" y="804"/>
                        </a:lnTo>
                        <a:lnTo>
                          <a:pt x="941" y="801"/>
                        </a:lnTo>
                        <a:lnTo>
                          <a:pt x="945" y="801"/>
                        </a:lnTo>
                        <a:lnTo>
                          <a:pt x="941" y="801"/>
                        </a:lnTo>
                        <a:lnTo>
                          <a:pt x="941" y="796"/>
                        </a:lnTo>
                        <a:lnTo>
                          <a:pt x="945" y="796"/>
                        </a:lnTo>
                        <a:lnTo>
                          <a:pt x="945" y="791"/>
                        </a:lnTo>
                        <a:lnTo>
                          <a:pt x="945" y="786"/>
                        </a:lnTo>
                        <a:lnTo>
                          <a:pt x="951" y="786"/>
                        </a:lnTo>
                        <a:lnTo>
                          <a:pt x="951" y="783"/>
                        </a:lnTo>
                        <a:lnTo>
                          <a:pt x="951" y="778"/>
                        </a:lnTo>
                        <a:lnTo>
                          <a:pt x="955" y="778"/>
                        </a:lnTo>
                        <a:lnTo>
                          <a:pt x="955" y="773"/>
                        </a:lnTo>
                        <a:lnTo>
                          <a:pt x="955" y="770"/>
                        </a:lnTo>
                        <a:lnTo>
                          <a:pt x="955" y="765"/>
                        </a:lnTo>
                        <a:lnTo>
                          <a:pt x="958" y="765"/>
                        </a:lnTo>
                        <a:lnTo>
                          <a:pt x="962" y="765"/>
                        </a:lnTo>
                        <a:lnTo>
                          <a:pt x="962" y="757"/>
                        </a:lnTo>
                        <a:lnTo>
                          <a:pt x="962" y="754"/>
                        </a:lnTo>
                        <a:lnTo>
                          <a:pt x="966" y="754"/>
                        </a:lnTo>
                        <a:lnTo>
                          <a:pt x="970" y="754"/>
                        </a:lnTo>
                        <a:lnTo>
                          <a:pt x="970" y="749"/>
                        </a:lnTo>
                        <a:lnTo>
                          <a:pt x="974" y="749"/>
                        </a:lnTo>
                        <a:lnTo>
                          <a:pt x="974" y="744"/>
                        </a:lnTo>
                        <a:lnTo>
                          <a:pt x="978" y="741"/>
                        </a:lnTo>
                        <a:lnTo>
                          <a:pt x="981" y="741"/>
                        </a:lnTo>
                        <a:lnTo>
                          <a:pt x="981" y="736"/>
                        </a:lnTo>
                        <a:lnTo>
                          <a:pt x="981" y="731"/>
                        </a:lnTo>
                        <a:lnTo>
                          <a:pt x="985" y="731"/>
                        </a:lnTo>
                        <a:lnTo>
                          <a:pt x="985" y="727"/>
                        </a:lnTo>
                        <a:lnTo>
                          <a:pt x="985" y="722"/>
                        </a:lnTo>
                        <a:lnTo>
                          <a:pt x="990" y="722"/>
                        </a:lnTo>
                        <a:lnTo>
                          <a:pt x="990" y="718"/>
                        </a:lnTo>
                        <a:lnTo>
                          <a:pt x="997" y="718"/>
                        </a:lnTo>
                        <a:lnTo>
                          <a:pt x="1000" y="714"/>
                        </a:lnTo>
                        <a:lnTo>
                          <a:pt x="1004" y="709"/>
                        </a:lnTo>
                        <a:lnTo>
                          <a:pt x="1009" y="709"/>
                        </a:lnTo>
                        <a:lnTo>
                          <a:pt x="1009" y="714"/>
                        </a:lnTo>
                        <a:lnTo>
                          <a:pt x="1013" y="714"/>
                        </a:lnTo>
                        <a:lnTo>
                          <a:pt x="1016" y="718"/>
                        </a:lnTo>
                        <a:lnTo>
                          <a:pt x="1020" y="718"/>
                        </a:lnTo>
                        <a:lnTo>
                          <a:pt x="1023" y="718"/>
                        </a:lnTo>
                        <a:lnTo>
                          <a:pt x="1027" y="718"/>
                        </a:lnTo>
                        <a:lnTo>
                          <a:pt x="1032" y="718"/>
                        </a:lnTo>
                        <a:lnTo>
                          <a:pt x="1032" y="722"/>
                        </a:lnTo>
                        <a:lnTo>
                          <a:pt x="1035" y="722"/>
                        </a:lnTo>
                        <a:lnTo>
                          <a:pt x="1041" y="727"/>
                        </a:lnTo>
                        <a:lnTo>
                          <a:pt x="1041" y="722"/>
                        </a:lnTo>
                        <a:lnTo>
                          <a:pt x="1045" y="722"/>
                        </a:lnTo>
                        <a:lnTo>
                          <a:pt x="1045" y="718"/>
                        </a:lnTo>
                        <a:lnTo>
                          <a:pt x="1049" y="714"/>
                        </a:lnTo>
                        <a:lnTo>
                          <a:pt x="1049" y="709"/>
                        </a:lnTo>
                        <a:lnTo>
                          <a:pt x="1045" y="709"/>
                        </a:lnTo>
                        <a:lnTo>
                          <a:pt x="1045" y="704"/>
                        </a:lnTo>
                        <a:lnTo>
                          <a:pt x="1049" y="701"/>
                        </a:lnTo>
                        <a:lnTo>
                          <a:pt x="1052" y="696"/>
                        </a:lnTo>
                        <a:lnTo>
                          <a:pt x="1056" y="696"/>
                        </a:lnTo>
                        <a:lnTo>
                          <a:pt x="1056" y="691"/>
                        </a:lnTo>
                        <a:lnTo>
                          <a:pt x="1061" y="691"/>
                        </a:lnTo>
                        <a:lnTo>
                          <a:pt x="1061" y="686"/>
                        </a:lnTo>
                        <a:lnTo>
                          <a:pt x="1056" y="686"/>
                        </a:lnTo>
                        <a:lnTo>
                          <a:pt x="1061" y="686"/>
                        </a:lnTo>
                        <a:lnTo>
                          <a:pt x="1061" y="680"/>
                        </a:lnTo>
                        <a:lnTo>
                          <a:pt x="1061" y="675"/>
                        </a:lnTo>
                        <a:lnTo>
                          <a:pt x="1064" y="675"/>
                        </a:lnTo>
                        <a:lnTo>
                          <a:pt x="1068" y="675"/>
                        </a:lnTo>
                        <a:lnTo>
                          <a:pt x="1072" y="675"/>
                        </a:lnTo>
                        <a:lnTo>
                          <a:pt x="1075" y="675"/>
                        </a:lnTo>
                        <a:lnTo>
                          <a:pt x="1080" y="675"/>
                        </a:lnTo>
                        <a:lnTo>
                          <a:pt x="1084" y="675"/>
                        </a:lnTo>
                        <a:lnTo>
                          <a:pt x="1084" y="680"/>
                        </a:lnTo>
                        <a:lnTo>
                          <a:pt x="1084" y="686"/>
                        </a:lnTo>
                        <a:lnTo>
                          <a:pt x="1087" y="686"/>
                        </a:lnTo>
                        <a:lnTo>
                          <a:pt x="1091" y="680"/>
                        </a:lnTo>
                        <a:lnTo>
                          <a:pt x="1095" y="675"/>
                        </a:lnTo>
                        <a:lnTo>
                          <a:pt x="1098" y="675"/>
                        </a:lnTo>
                        <a:lnTo>
                          <a:pt x="1103" y="675"/>
                        </a:lnTo>
                        <a:lnTo>
                          <a:pt x="1110" y="667"/>
                        </a:lnTo>
                        <a:lnTo>
                          <a:pt x="1114" y="667"/>
                        </a:lnTo>
                        <a:lnTo>
                          <a:pt x="1117" y="662"/>
                        </a:lnTo>
                        <a:lnTo>
                          <a:pt x="1122" y="659"/>
                        </a:lnTo>
                        <a:lnTo>
                          <a:pt x="1117" y="659"/>
                        </a:lnTo>
                        <a:lnTo>
                          <a:pt x="1117" y="654"/>
                        </a:lnTo>
                        <a:lnTo>
                          <a:pt x="1114" y="654"/>
                        </a:lnTo>
                        <a:lnTo>
                          <a:pt x="1110" y="659"/>
                        </a:lnTo>
                        <a:lnTo>
                          <a:pt x="1107" y="659"/>
                        </a:lnTo>
                        <a:lnTo>
                          <a:pt x="1107" y="654"/>
                        </a:lnTo>
                        <a:lnTo>
                          <a:pt x="1107" y="649"/>
                        </a:lnTo>
                        <a:lnTo>
                          <a:pt x="1107" y="644"/>
                        </a:lnTo>
                        <a:lnTo>
                          <a:pt x="1107" y="641"/>
                        </a:lnTo>
                        <a:lnTo>
                          <a:pt x="1103" y="641"/>
                        </a:lnTo>
                        <a:lnTo>
                          <a:pt x="1103" y="636"/>
                        </a:lnTo>
                        <a:lnTo>
                          <a:pt x="1103" y="631"/>
                        </a:lnTo>
                        <a:lnTo>
                          <a:pt x="1098" y="631"/>
                        </a:lnTo>
                        <a:lnTo>
                          <a:pt x="1098" y="627"/>
                        </a:lnTo>
                        <a:lnTo>
                          <a:pt x="1098" y="622"/>
                        </a:lnTo>
                        <a:lnTo>
                          <a:pt x="1095" y="627"/>
                        </a:lnTo>
                        <a:lnTo>
                          <a:pt x="1091" y="627"/>
                        </a:lnTo>
                        <a:lnTo>
                          <a:pt x="1084" y="627"/>
                        </a:lnTo>
                        <a:lnTo>
                          <a:pt x="1080" y="622"/>
                        </a:lnTo>
                        <a:lnTo>
                          <a:pt x="1075" y="622"/>
                        </a:lnTo>
                        <a:lnTo>
                          <a:pt x="1075" y="618"/>
                        </a:lnTo>
                        <a:lnTo>
                          <a:pt x="1072" y="622"/>
                        </a:lnTo>
                        <a:lnTo>
                          <a:pt x="1072" y="618"/>
                        </a:lnTo>
                        <a:lnTo>
                          <a:pt x="1072" y="607"/>
                        </a:lnTo>
                        <a:lnTo>
                          <a:pt x="1068" y="614"/>
                        </a:lnTo>
                        <a:lnTo>
                          <a:pt x="1064" y="618"/>
                        </a:lnTo>
                        <a:lnTo>
                          <a:pt x="1061" y="618"/>
                        </a:lnTo>
                        <a:lnTo>
                          <a:pt x="1056" y="618"/>
                        </a:lnTo>
                        <a:lnTo>
                          <a:pt x="1056" y="614"/>
                        </a:lnTo>
                        <a:lnTo>
                          <a:pt x="1056" y="607"/>
                        </a:lnTo>
                        <a:lnTo>
                          <a:pt x="1061" y="602"/>
                        </a:lnTo>
                        <a:lnTo>
                          <a:pt x="1061" y="598"/>
                        </a:lnTo>
                        <a:lnTo>
                          <a:pt x="1056" y="598"/>
                        </a:lnTo>
                        <a:lnTo>
                          <a:pt x="1052" y="598"/>
                        </a:lnTo>
                        <a:lnTo>
                          <a:pt x="1049" y="602"/>
                        </a:lnTo>
                        <a:lnTo>
                          <a:pt x="1049" y="598"/>
                        </a:lnTo>
                        <a:lnTo>
                          <a:pt x="1045" y="598"/>
                        </a:lnTo>
                        <a:lnTo>
                          <a:pt x="1041" y="598"/>
                        </a:lnTo>
                        <a:lnTo>
                          <a:pt x="1035" y="593"/>
                        </a:lnTo>
                        <a:lnTo>
                          <a:pt x="1032" y="593"/>
                        </a:lnTo>
                        <a:lnTo>
                          <a:pt x="1027" y="593"/>
                        </a:lnTo>
                        <a:lnTo>
                          <a:pt x="1027" y="589"/>
                        </a:lnTo>
                        <a:lnTo>
                          <a:pt x="1027" y="585"/>
                        </a:lnTo>
                        <a:lnTo>
                          <a:pt x="1027" y="580"/>
                        </a:lnTo>
                        <a:lnTo>
                          <a:pt x="1027" y="575"/>
                        </a:lnTo>
                        <a:lnTo>
                          <a:pt x="1027" y="572"/>
                        </a:lnTo>
                        <a:lnTo>
                          <a:pt x="1023" y="567"/>
                        </a:lnTo>
                        <a:lnTo>
                          <a:pt x="1027" y="562"/>
                        </a:lnTo>
                        <a:lnTo>
                          <a:pt x="1027" y="559"/>
                        </a:lnTo>
                        <a:lnTo>
                          <a:pt x="1027" y="554"/>
                        </a:lnTo>
                        <a:lnTo>
                          <a:pt x="1032" y="554"/>
                        </a:lnTo>
                        <a:lnTo>
                          <a:pt x="1027" y="554"/>
                        </a:lnTo>
                        <a:lnTo>
                          <a:pt x="1027" y="549"/>
                        </a:lnTo>
                        <a:lnTo>
                          <a:pt x="1023" y="549"/>
                        </a:lnTo>
                        <a:lnTo>
                          <a:pt x="1023" y="544"/>
                        </a:lnTo>
                        <a:lnTo>
                          <a:pt x="1020" y="544"/>
                        </a:lnTo>
                        <a:lnTo>
                          <a:pt x="1016" y="544"/>
                        </a:lnTo>
                        <a:lnTo>
                          <a:pt x="1016" y="549"/>
                        </a:lnTo>
                        <a:lnTo>
                          <a:pt x="1013" y="554"/>
                        </a:lnTo>
                        <a:lnTo>
                          <a:pt x="1009" y="554"/>
                        </a:lnTo>
                        <a:lnTo>
                          <a:pt x="1004" y="554"/>
                        </a:lnTo>
                        <a:lnTo>
                          <a:pt x="1004" y="549"/>
                        </a:lnTo>
                        <a:lnTo>
                          <a:pt x="1004" y="544"/>
                        </a:lnTo>
                        <a:lnTo>
                          <a:pt x="1000" y="540"/>
                        </a:lnTo>
                        <a:lnTo>
                          <a:pt x="1000" y="536"/>
                        </a:lnTo>
                        <a:lnTo>
                          <a:pt x="997" y="536"/>
                        </a:lnTo>
                        <a:lnTo>
                          <a:pt x="997" y="530"/>
                        </a:lnTo>
                        <a:lnTo>
                          <a:pt x="993" y="525"/>
                        </a:lnTo>
                        <a:lnTo>
                          <a:pt x="993" y="520"/>
                        </a:lnTo>
                        <a:lnTo>
                          <a:pt x="990" y="516"/>
                        </a:lnTo>
                        <a:lnTo>
                          <a:pt x="985" y="516"/>
                        </a:lnTo>
                        <a:lnTo>
                          <a:pt x="981" y="516"/>
                        </a:lnTo>
                        <a:lnTo>
                          <a:pt x="978" y="516"/>
                        </a:lnTo>
                        <a:lnTo>
                          <a:pt x="974" y="516"/>
                        </a:lnTo>
                        <a:lnTo>
                          <a:pt x="970" y="516"/>
                        </a:lnTo>
                        <a:lnTo>
                          <a:pt x="966" y="511"/>
                        </a:lnTo>
                        <a:lnTo>
                          <a:pt x="962" y="511"/>
                        </a:lnTo>
                        <a:lnTo>
                          <a:pt x="962" y="507"/>
                        </a:lnTo>
                        <a:lnTo>
                          <a:pt x="955" y="502"/>
                        </a:lnTo>
                        <a:lnTo>
                          <a:pt x="951" y="502"/>
                        </a:lnTo>
                        <a:lnTo>
                          <a:pt x="951" y="498"/>
                        </a:lnTo>
                        <a:lnTo>
                          <a:pt x="951" y="489"/>
                        </a:lnTo>
                        <a:lnTo>
                          <a:pt x="951" y="485"/>
                        </a:lnTo>
                        <a:lnTo>
                          <a:pt x="945" y="485"/>
                        </a:lnTo>
                        <a:lnTo>
                          <a:pt x="941" y="485"/>
                        </a:lnTo>
                        <a:lnTo>
                          <a:pt x="941" y="480"/>
                        </a:lnTo>
                        <a:lnTo>
                          <a:pt x="938" y="475"/>
                        </a:lnTo>
                        <a:lnTo>
                          <a:pt x="938" y="472"/>
                        </a:lnTo>
                        <a:lnTo>
                          <a:pt x="933" y="472"/>
                        </a:lnTo>
                        <a:lnTo>
                          <a:pt x="933" y="467"/>
                        </a:lnTo>
                        <a:lnTo>
                          <a:pt x="929" y="467"/>
                        </a:lnTo>
                        <a:lnTo>
                          <a:pt x="929" y="462"/>
                        </a:lnTo>
                        <a:lnTo>
                          <a:pt x="926" y="462"/>
                        </a:lnTo>
                        <a:lnTo>
                          <a:pt x="922" y="462"/>
                        </a:lnTo>
                        <a:lnTo>
                          <a:pt x="918" y="462"/>
                        </a:lnTo>
                        <a:lnTo>
                          <a:pt x="914" y="462"/>
                        </a:lnTo>
                        <a:lnTo>
                          <a:pt x="914" y="458"/>
                        </a:lnTo>
                        <a:lnTo>
                          <a:pt x="906" y="451"/>
                        </a:lnTo>
                        <a:lnTo>
                          <a:pt x="903" y="451"/>
                        </a:lnTo>
                        <a:lnTo>
                          <a:pt x="899" y="451"/>
                        </a:lnTo>
                        <a:lnTo>
                          <a:pt x="899" y="443"/>
                        </a:lnTo>
                        <a:lnTo>
                          <a:pt x="899" y="438"/>
                        </a:lnTo>
                        <a:lnTo>
                          <a:pt x="899" y="433"/>
                        </a:lnTo>
                        <a:lnTo>
                          <a:pt x="899" y="430"/>
                        </a:lnTo>
                        <a:lnTo>
                          <a:pt x="894" y="425"/>
                        </a:lnTo>
                        <a:lnTo>
                          <a:pt x="894" y="420"/>
                        </a:lnTo>
                        <a:lnTo>
                          <a:pt x="891" y="420"/>
                        </a:lnTo>
                        <a:lnTo>
                          <a:pt x="887" y="420"/>
                        </a:lnTo>
                        <a:lnTo>
                          <a:pt x="887" y="416"/>
                        </a:lnTo>
                        <a:lnTo>
                          <a:pt x="884" y="416"/>
                        </a:lnTo>
                        <a:lnTo>
                          <a:pt x="880" y="416"/>
                        </a:lnTo>
                        <a:lnTo>
                          <a:pt x="876" y="416"/>
                        </a:lnTo>
                        <a:lnTo>
                          <a:pt x="871" y="416"/>
                        </a:lnTo>
                        <a:lnTo>
                          <a:pt x="868" y="416"/>
                        </a:lnTo>
                        <a:lnTo>
                          <a:pt x="868" y="411"/>
                        </a:lnTo>
                        <a:lnTo>
                          <a:pt x="868" y="407"/>
                        </a:lnTo>
                        <a:lnTo>
                          <a:pt x="868" y="403"/>
                        </a:lnTo>
                        <a:lnTo>
                          <a:pt x="868" y="398"/>
                        </a:lnTo>
                        <a:lnTo>
                          <a:pt x="868" y="393"/>
                        </a:lnTo>
                        <a:lnTo>
                          <a:pt x="868" y="389"/>
                        </a:lnTo>
                        <a:lnTo>
                          <a:pt x="864" y="385"/>
                        </a:lnTo>
                        <a:lnTo>
                          <a:pt x="861" y="380"/>
                        </a:lnTo>
                        <a:lnTo>
                          <a:pt x="861" y="374"/>
                        </a:lnTo>
                        <a:lnTo>
                          <a:pt x="855" y="374"/>
                        </a:lnTo>
                        <a:lnTo>
                          <a:pt x="855" y="364"/>
                        </a:lnTo>
                        <a:lnTo>
                          <a:pt x="861" y="360"/>
                        </a:lnTo>
                        <a:lnTo>
                          <a:pt x="861" y="356"/>
                        </a:lnTo>
                        <a:lnTo>
                          <a:pt x="861" y="351"/>
                        </a:lnTo>
                        <a:lnTo>
                          <a:pt x="861" y="346"/>
                        </a:lnTo>
                        <a:lnTo>
                          <a:pt x="855" y="343"/>
                        </a:lnTo>
                        <a:lnTo>
                          <a:pt x="861" y="343"/>
                        </a:lnTo>
                        <a:lnTo>
                          <a:pt x="861" y="338"/>
                        </a:lnTo>
                        <a:lnTo>
                          <a:pt x="861" y="333"/>
                        </a:lnTo>
                        <a:lnTo>
                          <a:pt x="851" y="329"/>
                        </a:lnTo>
                        <a:lnTo>
                          <a:pt x="847" y="329"/>
                        </a:lnTo>
                        <a:lnTo>
                          <a:pt x="843" y="325"/>
                        </a:lnTo>
                        <a:lnTo>
                          <a:pt x="839" y="325"/>
                        </a:lnTo>
                        <a:lnTo>
                          <a:pt x="835" y="320"/>
                        </a:lnTo>
                        <a:lnTo>
                          <a:pt x="832" y="320"/>
                        </a:lnTo>
                        <a:lnTo>
                          <a:pt x="824" y="320"/>
                        </a:lnTo>
                        <a:lnTo>
                          <a:pt x="820" y="316"/>
                        </a:lnTo>
                        <a:lnTo>
                          <a:pt x="820" y="311"/>
                        </a:lnTo>
                        <a:lnTo>
                          <a:pt x="824" y="311"/>
                        </a:lnTo>
                        <a:lnTo>
                          <a:pt x="824" y="307"/>
                        </a:lnTo>
                        <a:lnTo>
                          <a:pt x="828" y="307"/>
                        </a:lnTo>
                        <a:lnTo>
                          <a:pt x="832" y="307"/>
                        </a:lnTo>
                        <a:lnTo>
                          <a:pt x="832" y="303"/>
                        </a:lnTo>
                        <a:lnTo>
                          <a:pt x="839" y="296"/>
                        </a:lnTo>
                        <a:lnTo>
                          <a:pt x="839" y="291"/>
                        </a:lnTo>
                        <a:lnTo>
                          <a:pt x="839" y="287"/>
                        </a:lnTo>
                        <a:lnTo>
                          <a:pt x="839" y="282"/>
                        </a:lnTo>
                        <a:lnTo>
                          <a:pt x="843" y="282"/>
                        </a:lnTo>
                        <a:lnTo>
                          <a:pt x="843" y="287"/>
                        </a:lnTo>
                        <a:lnTo>
                          <a:pt x="847" y="282"/>
                        </a:lnTo>
                        <a:lnTo>
                          <a:pt x="847" y="278"/>
                        </a:lnTo>
                        <a:lnTo>
                          <a:pt x="847" y="274"/>
                        </a:lnTo>
                        <a:lnTo>
                          <a:pt x="847" y="269"/>
                        </a:lnTo>
                        <a:lnTo>
                          <a:pt x="847" y="264"/>
                        </a:lnTo>
                        <a:lnTo>
                          <a:pt x="847" y="261"/>
                        </a:lnTo>
                        <a:lnTo>
                          <a:pt x="847" y="256"/>
                        </a:lnTo>
                        <a:lnTo>
                          <a:pt x="847" y="251"/>
                        </a:lnTo>
                        <a:lnTo>
                          <a:pt x="839" y="251"/>
                        </a:lnTo>
                        <a:lnTo>
                          <a:pt x="835" y="251"/>
                        </a:lnTo>
                        <a:lnTo>
                          <a:pt x="832" y="251"/>
                        </a:lnTo>
                        <a:lnTo>
                          <a:pt x="824" y="251"/>
                        </a:lnTo>
                        <a:lnTo>
                          <a:pt x="820" y="251"/>
                        </a:lnTo>
                        <a:lnTo>
                          <a:pt x="816" y="251"/>
                        </a:lnTo>
                        <a:lnTo>
                          <a:pt x="812" y="251"/>
                        </a:lnTo>
                        <a:lnTo>
                          <a:pt x="812" y="256"/>
                        </a:lnTo>
                        <a:lnTo>
                          <a:pt x="809" y="256"/>
                        </a:lnTo>
                        <a:lnTo>
                          <a:pt x="809" y="261"/>
                        </a:lnTo>
                        <a:lnTo>
                          <a:pt x="805" y="264"/>
                        </a:lnTo>
                        <a:lnTo>
                          <a:pt x="800" y="269"/>
                        </a:lnTo>
                        <a:lnTo>
                          <a:pt x="797" y="269"/>
                        </a:lnTo>
                        <a:lnTo>
                          <a:pt x="797" y="274"/>
                        </a:lnTo>
                        <a:lnTo>
                          <a:pt x="793" y="274"/>
                        </a:lnTo>
                        <a:lnTo>
                          <a:pt x="789" y="274"/>
                        </a:lnTo>
                        <a:lnTo>
                          <a:pt x="786" y="274"/>
                        </a:lnTo>
                        <a:lnTo>
                          <a:pt x="781" y="274"/>
                        </a:lnTo>
                        <a:lnTo>
                          <a:pt x="777" y="274"/>
                        </a:lnTo>
                        <a:lnTo>
                          <a:pt x="774" y="278"/>
                        </a:lnTo>
                        <a:lnTo>
                          <a:pt x="774" y="282"/>
                        </a:lnTo>
                        <a:lnTo>
                          <a:pt x="768" y="282"/>
                        </a:lnTo>
                        <a:lnTo>
                          <a:pt x="764" y="287"/>
                        </a:lnTo>
                        <a:lnTo>
                          <a:pt x="761" y="291"/>
                        </a:lnTo>
                        <a:lnTo>
                          <a:pt x="761" y="287"/>
                        </a:lnTo>
                        <a:lnTo>
                          <a:pt x="757" y="287"/>
                        </a:lnTo>
                        <a:lnTo>
                          <a:pt x="757" y="282"/>
                        </a:lnTo>
                        <a:lnTo>
                          <a:pt x="748" y="274"/>
                        </a:lnTo>
                        <a:lnTo>
                          <a:pt x="745" y="274"/>
                        </a:lnTo>
                        <a:lnTo>
                          <a:pt x="745" y="269"/>
                        </a:lnTo>
                        <a:lnTo>
                          <a:pt x="745" y="264"/>
                        </a:lnTo>
                        <a:lnTo>
                          <a:pt x="745" y="261"/>
                        </a:lnTo>
                        <a:lnTo>
                          <a:pt x="748" y="256"/>
                        </a:lnTo>
                        <a:lnTo>
                          <a:pt x="748" y="251"/>
                        </a:lnTo>
                        <a:lnTo>
                          <a:pt x="748" y="246"/>
                        </a:lnTo>
                        <a:lnTo>
                          <a:pt x="745" y="246"/>
                        </a:lnTo>
                        <a:lnTo>
                          <a:pt x="741" y="246"/>
                        </a:lnTo>
                        <a:lnTo>
                          <a:pt x="741" y="243"/>
                        </a:lnTo>
                        <a:lnTo>
                          <a:pt x="741" y="238"/>
                        </a:lnTo>
                        <a:lnTo>
                          <a:pt x="745" y="238"/>
                        </a:lnTo>
                        <a:lnTo>
                          <a:pt x="745" y="233"/>
                        </a:lnTo>
                        <a:lnTo>
                          <a:pt x="748" y="233"/>
                        </a:lnTo>
                        <a:lnTo>
                          <a:pt x="753" y="233"/>
                        </a:lnTo>
                        <a:lnTo>
                          <a:pt x="753" y="229"/>
                        </a:lnTo>
                        <a:lnTo>
                          <a:pt x="753" y="222"/>
                        </a:lnTo>
                        <a:lnTo>
                          <a:pt x="748" y="222"/>
                        </a:lnTo>
                        <a:lnTo>
                          <a:pt x="745" y="217"/>
                        </a:lnTo>
                        <a:lnTo>
                          <a:pt x="741" y="217"/>
                        </a:lnTo>
                        <a:lnTo>
                          <a:pt x="738" y="217"/>
                        </a:lnTo>
                        <a:lnTo>
                          <a:pt x="734" y="217"/>
                        </a:lnTo>
                        <a:lnTo>
                          <a:pt x="729" y="217"/>
                        </a:lnTo>
                        <a:lnTo>
                          <a:pt x="726" y="214"/>
                        </a:lnTo>
                        <a:lnTo>
                          <a:pt x="722" y="214"/>
                        </a:lnTo>
                        <a:lnTo>
                          <a:pt x="718" y="209"/>
                        </a:lnTo>
                        <a:lnTo>
                          <a:pt x="718" y="204"/>
                        </a:lnTo>
                        <a:lnTo>
                          <a:pt x="715" y="200"/>
                        </a:lnTo>
                        <a:lnTo>
                          <a:pt x="710" y="200"/>
                        </a:lnTo>
                        <a:lnTo>
                          <a:pt x="706" y="200"/>
                        </a:lnTo>
                        <a:lnTo>
                          <a:pt x="703" y="200"/>
                        </a:lnTo>
                        <a:lnTo>
                          <a:pt x="699" y="196"/>
                        </a:lnTo>
                        <a:lnTo>
                          <a:pt x="695" y="196"/>
                        </a:lnTo>
                        <a:lnTo>
                          <a:pt x="692" y="196"/>
                        </a:lnTo>
                        <a:lnTo>
                          <a:pt x="692" y="191"/>
                        </a:lnTo>
                        <a:lnTo>
                          <a:pt x="687" y="187"/>
                        </a:lnTo>
                        <a:lnTo>
                          <a:pt x="687" y="182"/>
                        </a:lnTo>
                        <a:lnTo>
                          <a:pt x="687" y="178"/>
                        </a:lnTo>
                        <a:lnTo>
                          <a:pt x="687" y="169"/>
                        </a:lnTo>
                        <a:lnTo>
                          <a:pt x="683" y="169"/>
                        </a:lnTo>
                        <a:lnTo>
                          <a:pt x="677" y="169"/>
                        </a:lnTo>
                        <a:lnTo>
                          <a:pt x="674" y="164"/>
                        </a:lnTo>
                        <a:lnTo>
                          <a:pt x="670" y="164"/>
                        </a:lnTo>
                        <a:lnTo>
                          <a:pt x="670" y="161"/>
                        </a:lnTo>
                        <a:lnTo>
                          <a:pt x="666" y="161"/>
                        </a:lnTo>
                        <a:lnTo>
                          <a:pt x="666" y="156"/>
                        </a:lnTo>
                        <a:lnTo>
                          <a:pt x="663" y="156"/>
                        </a:lnTo>
                        <a:lnTo>
                          <a:pt x="663" y="151"/>
                        </a:lnTo>
                        <a:lnTo>
                          <a:pt x="658" y="145"/>
                        </a:lnTo>
                        <a:lnTo>
                          <a:pt x="654" y="145"/>
                        </a:lnTo>
                        <a:lnTo>
                          <a:pt x="651" y="140"/>
                        </a:lnTo>
                        <a:lnTo>
                          <a:pt x="647" y="140"/>
                        </a:lnTo>
                        <a:lnTo>
                          <a:pt x="640" y="140"/>
                        </a:lnTo>
                        <a:lnTo>
                          <a:pt x="635" y="140"/>
                        </a:lnTo>
                        <a:lnTo>
                          <a:pt x="628" y="140"/>
                        </a:lnTo>
                        <a:lnTo>
                          <a:pt x="624" y="145"/>
                        </a:lnTo>
                        <a:lnTo>
                          <a:pt x="621" y="145"/>
                        </a:lnTo>
                        <a:lnTo>
                          <a:pt x="621" y="151"/>
                        </a:lnTo>
                        <a:lnTo>
                          <a:pt x="616" y="151"/>
                        </a:lnTo>
                        <a:lnTo>
                          <a:pt x="616" y="145"/>
                        </a:lnTo>
                        <a:lnTo>
                          <a:pt x="612" y="145"/>
                        </a:lnTo>
                        <a:lnTo>
                          <a:pt x="609" y="145"/>
                        </a:lnTo>
                        <a:lnTo>
                          <a:pt x="609" y="140"/>
                        </a:lnTo>
                        <a:lnTo>
                          <a:pt x="605" y="135"/>
                        </a:lnTo>
                        <a:lnTo>
                          <a:pt x="605" y="132"/>
                        </a:lnTo>
                        <a:lnTo>
                          <a:pt x="605" y="127"/>
                        </a:lnTo>
                        <a:lnTo>
                          <a:pt x="605" y="122"/>
                        </a:lnTo>
                        <a:lnTo>
                          <a:pt x="601" y="114"/>
                        </a:lnTo>
                        <a:lnTo>
                          <a:pt x="601" y="109"/>
                        </a:lnTo>
                        <a:lnTo>
                          <a:pt x="601" y="104"/>
                        </a:lnTo>
                        <a:lnTo>
                          <a:pt x="605" y="100"/>
                        </a:lnTo>
                        <a:lnTo>
                          <a:pt x="605" y="96"/>
                        </a:lnTo>
                        <a:lnTo>
                          <a:pt x="605" y="91"/>
                        </a:lnTo>
                        <a:lnTo>
                          <a:pt x="605" y="87"/>
                        </a:lnTo>
                        <a:lnTo>
                          <a:pt x="605" y="77"/>
                        </a:lnTo>
                        <a:lnTo>
                          <a:pt x="601" y="74"/>
                        </a:lnTo>
                        <a:lnTo>
                          <a:pt x="601" y="67"/>
                        </a:lnTo>
                        <a:lnTo>
                          <a:pt x="601" y="62"/>
                        </a:lnTo>
                        <a:lnTo>
                          <a:pt x="601" y="58"/>
                        </a:lnTo>
                        <a:lnTo>
                          <a:pt x="601" y="53"/>
                        </a:lnTo>
                        <a:lnTo>
                          <a:pt x="605" y="49"/>
                        </a:lnTo>
                        <a:lnTo>
                          <a:pt x="605" y="45"/>
                        </a:lnTo>
                        <a:lnTo>
                          <a:pt x="605" y="40"/>
                        </a:lnTo>
                        <a:lnTo>
                          <a:pt x="609" y="35"/>
                        </a:lnTo>
                        <a:lnTo>
                          <a:pt x="609" y="32"/>
                        </a:lnTo>
                        <a:lnTo>
                          <a:pt x="609" y="27"/>
                        </a:lnTo>
                        <a:lnTo>
                          <a:pt x="612" y="22"/>
                        </a:lnTo>
                        <a:lnTo>
                          <a:pt x="612" y="18"/>
                        </a:lnTo>
                        <a:lnTo>
                          <a:pt x="612" y="14"/>
                        </a:lnTo>
                        <a:lnTo>
                          <a:pt x="612" y="9"/>
                        </a:lnTo>
                        <a:lnTo>
                          <a:pt x="609" y="9"/>
                        </a:lnTo>
                        <a:lnTo>
                          <a:pt x="605" y="5"/>
                        </a:lnTo>
                        <a:lnTo>
                          <a:pt x="601" y="0"/>
                        </a:lnTo>
                        <a:lnTo>
                          <a:pt x="597" y="9"/>
                        </a:lnTo>
                        <a:lnTo>
                          <a:pt x="597" y="14"/>
                        </a:lnTo>
                        <a:lnTo>
                          <a:pt x="593" y="18"/>
                        </a:lnTo>
                        <a:lnTo>
                          <a:pt x="587" y="22"/>
                        </a:lnTo>
                        <a:lnTo>
                          <a:pt x="587" y="32"/>
                        </a:lnTo>
                        <a:lnTo>
                          <a:pt x="583" y="35"/>
                        </a:lnTo>
                        <a:lnTo>
                          <a:pt x="583" y="40"/>
                        </a:lnTo>
                        <a:lnTo>
                          <a:pt x="583" y="45"/>
                        </a:lnTo>
                        <a:lnTo>
                          <a:pt x="580" y="45"/>
                        </a:lnTo>
                        <a:lnTo>
                          <a:pt x="580" y="49"/>
                        </a:lnTo>
                        <a:lnTo>
                          <a:pt x="576" y="49"/>
                        </a:lnTo>
                        <a:lnTo>
                          <a:pt x="576" y="53"/>
                        </a:lnTo>
                        <a:lnTo>
                          <a:pt x="576" y="58"/>
                        </a:lnTo>
                        <a:lnTo>
                          <a:pt x="572" y="58"/>
                        </a:lnTo>
                        <a:lnTo>
                          <a:pt x="572" y="62"/>
                        </a:lnTo>
                        <a:lnTo>
                          <a:pt x="572" y="67"/>
                        </a:lnTo>
                        <a:lnTo>
                          <a:pt x="569" y="74"/>
                        </a:lnTo>
                        <a:lnTo>
                          <a:pt x="564" y="77"/>
                        </a:lnTo>
                        <a:lnTo>
                          <a:pt x="564" y="82"/>
                        </a:lnTo>
                        <a:lnTo>
                          <a:pt x="560" y="87"/>
                        </a:lnTo>
                        <a:lnTo>
                          <a:pt x="553" y="96"/>
                        </a:lnTo>
                        <a:lnTo>
                          <a:pt x="553" y="100"/>
                        </a:lnTo>
                        <a:lnTo>
                          <a:pt x="550" y="104"/>
                        </a:lnTo>
                        <a:lnTo>
                          <a:pt x="545" y="104"/>
                        </a:lnTo>
                        <a:lnTo>
                          <a:pt x="541" y="114"/>
                        </a:lnTo>
                        <a:lnTo>
                          <a:pt x="537" y="114"/>
                        </a:lnTo>
                        <a:lnTo>
                          <a:pt x="534" y="118"/>
                        </a:lnTo>
                        <a:lnTo>
                          <a:pt x="534" y="122"/>
                        </a:lnTo>
                        <a:lnTo>
                          <a:pt x="525" y="127"/>
                        </a:lnTo>
                        <a:lnTo>
                          <a:pt x="522" y="132"/>
                        </a:lnTo>
                        <a:lnTo>
                          <a:pt x="518" y="132"/>
                        </a:lnTo>
                        <a:lnTo>
                          <a:pt x="518" y="135"/>
                        </a:lnTo>
                        <a:lnTo>
                          <a:pt x="515" y="140"/>
                        </a:lnTo>
                        <a:lnTo>
                          <a:pt x="511" y="140"/>
                        </a:lnTo>
                        <a:lnTo>
                          <a:pt x="511" y="145"/>
                        </a:lnTo>
                        <a:lnTo>
                          <a:pt x="511" y="151"/>
                        </a:lnTo>
                        <a:lnTo>
                          <a:pt x="507" y="151"/>
                        </a:lnTo>
                        <a:lnTo>
                          <a:pt x="507" y="156"/>
                        </a:lnTo>
                        <a:lnTo>
                          <a:pt x="501" y="156"/>
                        </a:lnTo>
                        <a:lnTo>
                          <a:pt x="498" y="161"/>
                        </a:lnTo>
                        <a:lnTo>
                          <a:pt x="498" y="164"/>
                        </a:lnTo>
                        <a:lnTo>
                          <a:pt x="493" y="164"/>
                        </a:lnTo>
                        <a:lnTo>
                          <a:pt x="493" y="169"/>
                        </a:lnTo>
                        <a:lnTo>
                          <a:pt x="486" y="169"/>
                        </a:lnTo>
                        <a:lnTo>
                          <a:pt x="486" y="174"/>
                        </a:lnTo>
                        <a:lnTo>
                          <a:pt x="486" y="178"/>
                        </a:lnTo>
                        <a:lnTo>
                          <a:pt x="482" y="178"/>
                        </a:lnTo>
                        <a:lnTo>
                          <a:pt x="478" y="182"/>
                        </a:lnTo>
                        <a:lnTo>
                          <a:pt x="474" y="187"/>
                        </a:lnTo>
                        <a:lnTo>
                          <a:pt x="470" y="191"/>
                        </a:lnTo>
                        <a:lnTo>
                          <a:pt x="466" y="191"/>
                        </a:lnTo>
                        <a:lnTo>
                          <a:pt x="466" y="196"/>
                        </a:lnTo>
                        <a:lnTo>
                          <a:pt x="459" y="196"/>
                        </a:lnTo>
                        <a:lnTo>
                          <a:pt x="459" y="200"/>
                        </a:lnTo>
                        <a:lnTo>
                          <a:pt x="454" y="200"/>
                        </a:lnTo>
                        <a:lnTo>
                          <a:pt x="451" y="204"/>
                        </a:lnTo>
                        <a:lnTo>
                          <a:pt x="447" y="214"/>
                        </a:lnTo>
                        <a:lnTo>
                          <a:pt x="443" y="214"/>
                        </a:lnTo>
                        <a:lnTo>
                          <a:pt x="440" y="214"/>
                        </a:lnTo>
                        <a:lnTo>
                          <a:pt x="436" y="217"/>
                        </a:lnTo>
                        <a:lnTo>
                          <a:pt x="431" y="222"/>
                        </a:lnTo>
                        <a:lnTo>
                          <a:pt x="428" y="222"/>
                        </a:lnTo>
                        <a:lnTo>
                          <a:pt x="424" y="229"/>
                        </a:lnTo>
                        <a:lnTo>
                          <a:pt x="424" y="233"/>
                        </a:lnTo>
                        <a:lnTo>
                          <a:pt x="420" y="233"/>
                        </a:lnTo>
                        <a:lnTo>
                          <a:pt x="417" y="233"/>
                        </a:lnTo>
                        <a:lnTo>
                          <a:pt x="411" y="238"/>
                        </a:lnTo>
                        <a:lnTo>
                          <a:pt x="407" y="238"/>
                        </a:lnTo>
                        <a:lnTo>
                          <a:pt x="402" y="243"/>
                        </a:lnTo>
                        <a:lnTo>
                          <a:pt x="402" y="246"/>
                        </a:lnTo>
                        <a:lnTo>
                          <a:pt x="392" y="256"/>
                        </a:lnTo>
                        <a:lnTo>
                          <a:pt x="376" y="256"/>
                        </a:lnTo>
                        <a:lnTo>
                          <a:pt x="365" y="261"/>
                        </a:lnTo>
                        <a:lnTo>
                          <a:pt x="353" y="264"/>
                        </a:lnTo>
                        <a:lnTo>
                          <a:pt x="349" y="269"/>
                        </a:lnTo>
                        <a:lnTo>
                          <a:pt x="346" y="274"/>
                        </a:lnTo>
                        <a:lnTo>
                          <a:pt x="337" y="278"/>
                        </a:lnTo>
                        <a:lnTo>
                          <a:pt x="330" y="287"/>
                        </a:lnTo>
                        <a:lnTo>
                          <a:pt x="326" y="291"/>
                        </a:lnTo>
                        <a:lnTo>
                          <a:pt x="317" y="303"/>
                        </a:lnTo>
                        <a:lnTo>
                          <a:pt x="313" y="307"/>
                        </a:lnTo>
                        <a:lnTo>
                          <a:pt x="308" y="307"/>
                        </a:lnTo>
                        <a:lnTo>
                          <a:pt x="305" y="311"/>
                        </a:lnTo>
                        <a:lnTo>
                          <a:pt x="297" y="311"/>
                        </a:lnTo>
                        <a:lnTo>
                          <a:pt x="282" y="320"/>
                        </a:lnTo>
                        <a:lnTo>
                          <a:pt x="266" y="338"/>
                        </a:lnTo>
                        <a:lnTo>
                          <a:pt x="240" y="346"/>
                        </a:lnTo>
                        <a:lnTo>
                          <a:pt x="234" y="351"/>
                        </a:lnTo>
                        <a:lnTo>
                          <a:pt x="218" y="360"/>
                        </a:lnTo>
                        <a:lnTo>
                          <a:pt x="211" y="364"/>
                        </a:lnTo>
                        <a:lnTo>
                          <a:pt x="200" y="364"/>
                        </a:lnTo>
                        <a:lnTo>
                          <a:pt x="195" y="364"/>
                        </a:lnTo>
                        <a:lnTo>
                          <a:pt x="191" y="364"/>
                        </a:lnTo>
                        <a:lnTo>
                          <a:pt x="188" y="364"/>
                        </a:lnTo>
                        <a:lnTo>
                          <a:pt x="184" y="364"/>
                        </a:lnTo>
                        <a:lnTo>
                          <a:pt x="172" y="364"/>
                        </a:lnTo>
                        <a:lnTo>
                          <a:pt x="168" y="369"/>
                        </a:lnTo>
                        <a:lnTo>
                          <a:pt x="161" y="374"/>
                        </a:lnTo>
                        <a:lnTo>
                          <a:pt x="156" y="380"/>
                        </a:lnTo>
                        <a:lnTo>
                          <a:pt x="153" y="385"/>
                        </a:lnTo>
                        <a:lnTo>
                          <a:pt x="143" y="393"/>
                        </a:lnTo>
                        <a:lnTo>
                          <a:pt x="136" y="398"/>
                        </a:lnTo>
                        <a:lnTo>
                          <a:pt x="132" y="407"/>
                        </a:lnTo>
                        <a:lnTo>
                          <a:pt x="120" y="411"/>
                        </a:lnTo>
                        <a:lnTo>
                          <a:pt x="117" y="416"/>
                        </a:lnTo>
                        <a:lnTo>
                          <a:pt x="113" y="416"/>
                        </a:lnTo>
                        <a:lnTo>
                          <a:pt x="109" y="416"/>
                        </a:lnTo>
                        <a:lnTo>
                          <a:pt x="105" y="416"/>
                        </a:lnTo>
                        <a:lnTo>
                          <a:pt x="101" y="420"/>
                        </a:lnTo>
                        <a:lnTo>
                          <a:pt x="97" y="425"/>
                        </a:lnTo>
                        <a:lnTo>
                          <a:pt x="97" y="420"/>
                        </a:lnTo>
                        <a:lnTo>
                          <a:pt x="94" y="420"/>
                        </a:lnTo>
                        <a:lnTo>
                          <a:pt x="94" y="416"/>
                        </a:lnTo>
                        <a:lnTo>
                          <a:pt x="90" y="420"/>
                        </a:lnTo>
                        <a:lnTo>
                          <a:pt x="85" y="425"/>
                        </a:lnTo>
                        <a:lnTo>
                          <a:pt x="78" y="430"/>
                        </a:lnTo>
                        <a:lnTo>
                          <a:pt x="71" y="433"/>
                        </a:lnTo>
                        <a:lnTo>
                          <a:pt x="62" y="433"/>
                        </a:lnTo>
                        <a:lnTo>
                          <a:pt x="59" y="438"/>
                        </a:lnTo>
                        <a:lnTo>
                          <a:pt x="14" y="462"/>
                        </a:lnTo>
                        <a:lnTo>
                          <a:pt x="14" y="458"/>
                        </a:lnTo>
                        <a:lnTo>
                          <a:pt x="14" y="462"/>
                        </a:lnTo>
                        <a:lnTo>
                          <a:pt x="19" y="467"/>
                        </a:lnTo>
                        <a:lnTo>
                          <a:pt x="23" y="475"/>
                        </a:lnTo>
                        <a:lnTo>
                          <a:pt x="26" y="480"/>
                        </a:lnTo>
                        <a:lnTo>
                          <a:pt x="30" y="485"/>
                        </a:lnTo>
                        <a:lnTo>
                          <a:pt x="30" y="489"/>
                        </a:lnTo>
                        <a:lnTo>
                          <a:pt x="30" y="493"/>
                        </a:lnTo>
                        <a:lnTo>
                          <a:pt x="33" y="498"/>
                        </a:lnTo>
                        <a:lnTo>
                          <a:pt x="33" y="502"/>
                        </a:lnTo>
                        <a:lnTo>
                          <a:pt x="30" y="502"/>
                        </a:lnTo>
                        <a:lnTo>
                          <a:pt x="30" y="507"/>
                        </a:lnTo>
                        <a:lnTo>
                          <a:pt x="26" y="507"/>
                        </a:lnTo>
                        <a:lnTo>
                          <a:pt x="30" y="516"/>
                        </a:lnTo>
                        <a:lnTo>
                          <a:pt x="33" y="516"/>
                        </a:lnTo>
                        <a:lnTo>
                          <a:pt x="33" y="520"/>
                        </a:lnTo>
                        <a:lnTo>
                          <a:pt x="23" y="536"/>
                        </a:lnTo>
                        <a:lnTo>
                          <a:pt x="30" y="540"/>
                        </a:lnTo>
                        <a:lnTo>
                          <a:pt x="30" y="544"/>
                        </a:lnTo>
                        <a:lnTo>
                          <a:pt x="30" y="549"/>
                        </a:lnTo>
                        <a:lnTo>
                          <a:pt x="33" y="549"/>
                        </a:lnTo>
                        <a:lnTo>
                          <a:pt x="38" y="554"/>
                        </a:lnTo>
                        <a:lnTo>
                          <a:pt x="42" y="554"/>
                        </a:lnTo>
                        <a:lnTo>
                          <a:pt x="38" y="562"/>
                        </a:lnTo>
                        <a:lnTo>
                          <a:pt x="33" y="567"/>
                        </a:lnTo>
                        <a:lnTo>
                          <a:pt x="30" y="572"/>
                        </a:lnTo>
                        <a:lnTo>
                          <a:pt x="11" y="575"/>
                        </a:lnTo>
                        <a:lnTo>
                          <a:pt x="14" y="580"/>
                        </a:lnTo>
                        <a:lnTo>
                          <a:pt x="23" y="580"/>
                        </a:lnTo>
                        <a:lnTo>
                          <a:pt x="23" y="589"/>
                        </a:lnTo>
                        <a:lnTo>
                          <a:pt x="14" y="593"/>
                        </a:lnTo>
                        <a:lnTo>
                          <a:pt x="11" y="598"/>
                        </a:lnTo>
                        <a:lnTo>
                          <a:pt x="7" y="598"/>
                        </a:lnTo>
                        <a:lnTo>
                          <a:pt x="7" y="602"/>
                        </a:lnTo>
                        <a:lnTo>
                          <a:pt x="3" y="602"/>
                        </a:lnTo>
                        <a:lnTo>
                          <a:pt x="3" y="607"/>
                        </a:lnTo>
                        <a:lnTo>
                          <a:pt x="0" y="607"/>
                        </a:lnTo>
                        <a:lnTo>
                          <a:pt x="0" y="614"/>
                        </a:lnTo>
                        <a:lnTo>
                          <a:pt x="0" y="618"/>
                        </a:lnTo>
                        <a:lnTo>
                          <a:pt x="0" y="622"/>
                        </a:lnTo>
                        <a:lnTo>
                          <a:pt x="3" y="622"/>
                        </a:lnTo>
                        <a:lnTo>
                          <a:pt x="3" y="627"/>
                        </a:lnTo>
                        <a:lnTo>
                          <a:pt x="3" y="631"/>
                        </a:lnTo>
                        <a:lnTo>
                          <a:pt x="7" y="631"/>
                        </a:lnTo>
                        <a:lnTo>
                          <a:pt x="11" y="636"/>
                        </a:lnTo>
                        <a:lnTo>
                          <a:pt x="14" y="636"/>
                        </a:lnTo>
                        <a:lnTo>
                          <a:pt x="19" y="636"/>
                        </a:lnTo>
                        <a:lnTo>
                          <a:pt x="23" y="636"/>
                        </a:lnTo>
                        <a:lnTo>
                          <a:pt x="26" y="636"/>
                        </a:lnTo>
                        <a:lnTo>
                          <a:pt x="30" y="636"/>
                        </a:lnTo>
                        <a:lnTo>
                          <a:pt x="30" y="641"/>
                        </a:lnTo>
                        <a:lnTo>
                          <a:pt x="33" y="641"/>
                        </a:lnTo>
                        <a:lnTo>
                          <a:pt x="38" y="641"/>
                        </a:lnTo>
                        <a:lnTo>
                          <a:pt x="42" y="644"/>
                        </a:lnTo>
                        <a:lnTo>
                          <a:pt x="45" y="644"/>
                        </a:lnTo>
                        <a:lnTo>
                          <a:pt x="49" y="644"/>
                        </a:lnTo>
                        <a:lnTo>
                          <a:pt x="53" y="649"/>
                        </a:lnTo>
                        <a:lnTo>
                          <a:pt x="53" y="654"/>
                        </a:lnTo>
                        <a:lnTo>
                          <a:pt x="59" y="654"/>
                        </a:lnTo>
                        <a:lnTo>
                          <a:pt x="62" y="659"/>
                        </a:lnTo>
                        <a:lnTo>
                          <a:pt x="67" y="662"/>
                        </a:lnTo>
                        <a:lnTo>
                          <a:pt x="71" y="662"/>
                        </a:lnTo>
                        <a:lnTo>
                          <a:pt x="71" y="667"/>
                        </a:lnTo>
                        <a:lnTo>
                          <a:pt x="78" y="667"/>
                        </a:lnTo>
                        <a:lnTo>
                          <a:pt x="82" y="667"/>
                        </a:lnTo>
                        <a:lnTo>
                          <a:pt x="85" y="672"/>
                        </a:lnTo>
                        <a:lnTo>
                          <a:pt x="85" y="675"/>
                        </a:lnTo>
                        <a:lnTo>
                          <a:pt x="85" y="680"/>
                        </a:lnTo>
                        <a:lnTo>
                          <a:pt x="85" y="686"/>
                        </a:lnTo>
                        <a:lnTo>
                          <a:pt x="85" y="691"/>
                        </a:lnTo>
                        <a:lnTo>
                          <a:pt x="85" y="696"/>
                        </a:lnTo>
                        <a:lnTo>
                          <a:pt x="85" y="701"/>
                        </a:lnTo>
                        <a:lnTo>
                          <a:pt x="90" y="701"/>
                        </a:lnTo>
                        <a:lnTo>
                          <a:pt x="90" y="704"/>
                        </a:lnTo>
                        <a:lnTo>
                          <a:pt x="90" y="709"/>
                        </a:lnTo>
                        <a:lnTo>
                          <a:pt x="90" y="714"/>
                        </a:lnTo>
                        <a:lnTo>
                          <a:pt x="94" y="714"/>
                        </a:lnTo>
                        <a:lnTo>
                          <a:pt x="94" y="718"/>
                        </a:lnTo>
                        <a:lnTo>
                          <a:pt x="97" y="718"/>
                        </a:lnTo>
                        <a:lnTo>
                          <a:pt x="97" y="722"/>
                        </a:lnTo>
                        <a:lnTo>
                          <a:pt x="97" y="727"/>
                        </a:lnTo>
                        <a:lnTo>
                          <a:pt x="101" y="727"/>
                        </a:lnTo>
                        <a:lnTo>
                          <a:pt x="101" y="731"/>
                        </a:lnTo>
                        <a:lnTo>
                          <a:pt x="105" y="731"/>
                        </a:lnTo>
                        <a:lnTo>
                          <a:pt x="105" y="736"/>
                        </a:lnTo>
                        <a:lnTo>
                          <a:pt x="109" y="736"/>
                        </a:lnTo>
                        <a:lnTo>
                          <a:pt x="113" y="741"/>
                        </a:lnTo>
                        <a:lnTo>
                          <a:pt x="117" y="741"/>
                        </a:lnTo>
                        <a:lnTo>
                          <a:pt x="117" y="744"/>
                        </a:lnTo>
                        <a:lnTo>
                          <a:pt x="120" y="744"/>
                        </a:lnTo>
                        <a:lnTo>
                          <a:pt x="124" y="749"/>
                        </a:lnTo>
                        <a:lnTo>
                          <a:pt x="132" y="749"/>
                        </a:lnTo>
                        <a:lnTo>
                          <a:pt x="132" y="754"/>
                        </a:lnTo>
                        <a:lnTo>
                          <a:pt x="136" y="754"/>
                        </a:lnTo>
                        <a:lnTo>
                          <a:pt x="140" y="754"/>
                        </a:lnTo>
                        <a:lnTo>
                          <a:pt x="140" y="757"/>
                        </a:lnTo>
                        <a:lnTo>
                          <a:pt x="143" y="757"/>
                        </a:lnTo>
                        <a:lnTo>
                          <a:pt x="143" y="765"/>
                        </a:lnTo>
                        <a:lnTo>
                          <a:pt x="140" y="765"/>
                        </a:lnTo>
                        <a:lnTo>
                          <a:pt x="140" y="770"/>
                        </a:lnTo>
                        <a:lnTo>
                          <a:pt x="132" y="770"/>
                        </a:lnTo>
                        <a:lnTo>
                          <a:pt x="129" y="773"/>
                        </a:lnTo>
                        <a:lnTo>
                          <a:pt x="124" y="778"/>
                        </a:lnTo>
                        <a:lnTo>
                          <a:pt x="120" y="783"/>
                        </a:lnTo>
                        <a:lnTo>
                          <a:pt x="120" y="786"/>
                        </a:lnTo>
                        <a:lnTo>
                          <a:pt x="117" y="791"/>
                        </a:lnTo>
                        <a:lnTo>
                          <a:pt x="117" y="796"/>
                        </a:lnTo>
                        <a:lnTo>
                          <a:pt x="117" y="801"/>
                        </a:lnTo>
                        <a:lnTo>
                          <a:pt x="120" y="801"/>
                        </a:lnTo>
                        <a:lnTo>
                          <a:pt x="120" y="804"/>
                        </a:lnTo>
                        <a:lnTo>
                          <a:pt x="124" y="804"/>
                        </a:lnTo>
                        <a:lnTo>
                          <a:pt x="129" y="804"/>
                        </a:lnTo>
                        <a:lnTo>
                          <a:pt x="132" y="804"/>
                        </a:lnTo>
                        <a:lnTo>
                          <a:pt x="136" y="804"/>
                        </a:lnTo>
                        <a:lnTo>
                          <a:pt x="140" y="804"/>
                        </a:lnTo>
                        <a:lnTo>
                          <a:pt x="143" y="804"/>
                        </a:lnTo>
                        <a:lnTo>
                          <a:pt x="143" y="809"/>
                        </a:lnTo>
                        <a:lnTo>
                          <a:pt x="153" y="809"/>
                        </a:lnTo>
                        <a:lnTo>
                          <a:pt x="156" y="809"/>
                        </a:lnTo>
                        <a:lnTo>
                          <a:pt x="156" y="814"/>
                        </a:lnTo>
                        <a:lnTo>
                          <a:pt x="161" y="814"/>
                        </a:lnTo>
                        <a:lnTo>
                          <a:pt x="165" y="814"/>
                        </a:lnTo>
                        <a:lnTo>
                          <a:pt x="165" y="818"/>
                        </a:lnTo>
                        <a:lnTo>
                          <a:pt x="168" y="818"/>
                        </a:lnTo>
                        <a:lnTo>
                          <a:pt x="168" y="823"/>
                        </a:lnTo>
                        <a:lnTo>
                          <a:pt x="172" y="823"/>
                        </a:lnTo>
                        <a:lnTo>
                          <a:pt x="176" y="823"/>
                        </a:lnTo>
                        <a:lnTo>
                          <a:pt x="181" y="823"/>
                        </a:lnTo>
                        <a:lnTo>
                          <a:pt x="184" y="823"/>
                        </a:lnTo>
                        <a:lnTo>
                          <a:pt x="188" y="823"/>
                        </a:lnTo>
                        <a:lnTo>
                          <a:pt x="191" y="823"/>
                        </a:lnTo>
                        <a:lnTo>
                          <a:pt x="195" y="823"/>
                        </a:lnTo>
                        <a:lnTo>
                          <a:pt x="200" y="823"/>
                        </a:lnTo>
                        <a:lnTo>
                          <a:pt x="200" y="818"/>
                        </a:lnTo>
                        <a:lnTo>
                          <a:pt x="200" y="814"/>
                        </a:lnTo>
                        <a:lnTo>
                          <a:pt x="203" y="814"/>
                        </a:lnTo>
                        <a:lnTo>
                          <a:pt x="207" y="814"/>
                        </a:lnTo>
                        <a:lnTo>
                          <a:pt x="207" y="809"/>
                        </a:lnTo>
                        <a:lnTo>
                          <a:pt x="211" y="809"/>
                        </a:lnTo>
                        <a:lnTo>
                          <a:pt x="214" y="809"/>
                        </a:lnTo>
                        <a:lnTo>
                          <a:pt x="214" y="814"/>
                        </a:lnTo>
                        <a:lnTo>
                          <a:pt x="218" y="814"/>
                        </a:lnTo>
                        <a:lnTo>
                          <a:pt x="218" y="818"/>
                        </a:lnTo>
                        <a:lnTo>
                          <a:pt x="223" y="818"/>
                        </a:lnTo>
                        <a:lnTo>
                          <a:pt x="226" y="818"/>
                        </a:lnTo>
                        <a:lnTo>
                          <a:pt x="230" y="818"/>
                        </a:lnTo>
                        <a:lnTo>
                          <a:pt x="234" y="814"/>
                        </a:lnTo>
                        <a:lnTo>
                          <a:pt x="240" y="814"/>
                        </a:lnTo>
                        <a:lnTo>
                          <a:pt x="240" y="809"/>
                        </a:lnTo>
                        <a:lnTo>
                          <a:pt x="243" y="809"/>
                        </a:lnTo>
                        <a:lnTo>
                          <a:pt x="247" y="809"/>
                        </a:lnTo>
                        <a:lnTo>
                          <a:pt x="252" y="804"/>
                        </a:lnTo>
                        <a:lnTo>
                          <a:pt x="255" y="804"/>
                        </a:lnTo>
                        <a:lnTo>
                          <a:pt x="255" y="809"/>
                        </a:lnTo>
                        <a:lnTo>
                          <a:pt x="259" y="809"/>
                        </a:lnTo>
                        <a:lnTo>
                          <a:pt x="263" y="809"/>
                        </a:lnTo>
                        <a:lnTo>
                          <a:pt x="266" y="809"/>
                        </a:lnTo>
                        <a:lnTo>
                          <a:pt x="270" y="809"/>
                        </a:lnTo>
                        <a:lnTo>
                          <a:pt x="275" y="809"/>
                        </a:lnTo>
                        <a:lnTo>
                          <a:pt x="278" y="809"/>
                        </a:lnTo>
                        <a:lnTo>
                          <a:pt x="282" y="809"/>
                        </a:lnTo>
                        <a:lnTo>
                          <a:pt x="285" y="809"/>
                        </a:lnTo>
                        <a:lnTo>
                          <a:pt x="289" y="809"/>
                        </a:lnTo>
                        <a:lnTo>
                          <a:pt x="294" y="809"/>
                        </a:lnTo>
                        <a:lnTo>
                          <a:pt x="297" y="809"/>
                        </a:lnTo>
                        <a:lnTo>
                          <a:pt x="301" y="809"/>
                        </a:lnTo>
                        <a:lnTo>
                          <a:pt x="305" y="809"/>
                        </a:lnTo>
                        <a:lnTo>
                          <a:pt x="308" y="809"/>
                        </a:lnTo>
                        <a:lnTo>
                          <a:pt x="313" y="809"/>
                        </a:lnTo>
                        <a:lnTo>
                          <a:pt x="317" y="809"/>
                        </a:lnTo>
                        <a:lnTo>
                          <a:pt x="320" y="809"/>
                        </a:lnTo>
                        <a:lnTo>
                          <a:pt x="320" y="814"/>
                        </a:lnTo>
                        <a:lnTo>
                          <a:pt x="320" y="818"/>
                        </a:lnTo>
                        <a:lnTo>
                          <a:pt x="326" y="818"/>
                        </a:lnTo>
                        <a:lnTo>
                          <a:pt x="330" y="823"/>
                        </a:lnTo>
                        <a:lnTo>
                          <a:pt x="334" y="823"/>
                        </a:lnTo>
                        <a:lnTo>
                          <a:pt x="334" y="818"/>
                        </a:lnTo>
                        <a:lnTo>
                          <a:pt x="337" y="818"/>
                        </a:lnTo>
                        <a:lnTo>
                          <a:pt x="337" y="814"/>
                        </a:lnTo>
                        <a:lnTo>
                          <a:pt x="337" y="809"/>
                        </a:lnTo>
                        <a:lnTo>
                          <a:pt x="341" y="809"/>
                        </a:lnTo>
                        <a:lnTo>
                          <a:pt x="346" y="804"/>
                        </a:lnTo>
                        <a:lnTo>
                          <a:pt x="349" y="804"/>
                        </a:lnTo>
                        <a:lnTo>
                          <a:pt x="353" y="804"/>
                        </a:lnTo>
                        <a:lnTo>
                          <a:pt x="357" y="809"/>
                        </a:lnTo>
                        <a:lnTo>
                          <a:pt x="360" y="809"/>
                        </a:lnTo>
                        <a:lnTo>
                          <a:pt x="365" y="809"/>
                        </a:lnTo>
                        <a:lnTo>
                          <a:pt x="365" y="804"/>
                        </a:lnTo>
                        <a:lnTo>
                          <a:pt x="369" y="809"/>
                        </a:lnTo>
                        <a:lnTo>
                          <a:pt x="372" y="809"/>
                        </a:lnTo>
                        <a:lnTo>
                          <a:pt x="376" y="804"/>
                        </a:lnTo>
                        <a:lnTo>
                          <a:pt x="384" y="804"/>
                        </a:lnTo>
                        <a:lnTo>
                          <a:pt x="388" y="804"/>
                        </a:lnTo>
                        <a:lnTo>
                          <a:pt x="392" y="804"/>
                        </a:lnTo>
                        <a:lnTo>
                          <a:pt x="395" y="804"/>
                        </a:lnTo>
                        <a:lnTo>
                          <a:pt x="399" y="804"/>
                        </a:lnTo>
                        <a:lnTo>
                          <a:pt x="402" y="801"/>
                        </a:lnTo>
                        <a:lnTo>
                          <a:pt x="407" y="801"/>
                        </a:lnTo>
                        <a:lnTo>
                          <a:pt x="411" y="796"/>
                        </a:lnTo>
                        <a:lnTo>
                          <a:pt x="417" y="796"/>
                        </a:lnTo>
                        <a:lnTo>
                          <a:pt x="420" y="796"/>
                        </a:lnTo>
                        <a:lnTo>
                          <a:pt x="424" y="796"/>
                        </a:lnTo>
                        <a:lnTo>
                          <a:pt x="424" y="791"/>
                        </a:lnTo>
                        <a:close/>
                      </a:path>
                    </a:pathLst>
                  </a:custGeom>
                  <a:solidFill>
                    <a:srgbClr val="0066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3c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481400" y="1729440"/>
                    <a:ext cx="62532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5" h="1240">
                        <a:moveTo>
                          <a:pt x="1022" y="328"/>
                        </a:moveTo>
                        <a:lnTo>
                          <a:pt x="1027" y="328"/>
                        </a:lnTo>
                        <a:lnTo>
                          <a:pt x="1031" y="328"/>
                        </a:lnTo>
                        <a:lnTo>
                          <a:pt x="1034" y="325"/>
                        </a:lnTo>
                        <a:lnTo>
                          <a:pt x="1038" y="325"/>
                        </a:lnTo>
                        <a:lnTo>
                          <a:pt x="1045" y="325"/>
                        </a:lnTo>
                        <a:lnTo>
                          <a:pt x="1050" y="325"/>
                        </a:lnTo>
                        <a:lnTo>
                          <a:pt x="1054" y="325"/>
                        </a:lnTo>
                        <a:lnTo>
                          <a:pt x="1057" y="320"/>
                        </a:lnTo>
                        <a:lnTo>
                          <a:pt x="1057" y="325"/>
                        </a:lnTo>
                        <a:lnTo>
                          <a:pt x="1065" y="325"/>
                        </a:lnTo>
                        <a:lnTo>
                          <a:pt x="1069" y="325"/>
                        </a:lnTo>
                        <a:lnTo>
                          <a:pt x="1069" y="328"/>
                        </a:lnTo>
                        <a:lnTo>
                          <a:pt x="1069" y="333"/>
                        </a:lnTo>
                        <a:lnTo>
                          <a:pt x="1073" y="333"/>
                        </a:lnTo>
                        <a:lnTo>
                          <a:pt x="1077" y="333"/>
                        </a:lnTo>
                        <a:lnTo>
                          <a:pt x="1077" y="338"/>
                        </a:lnTo>
                        <a:lnTo>
                          <a:pt x="1080" y="338"/>
                        </a:lnTo>
                        <a:lnTo>
                          <a:pt x="1084" y="338"/>
                        </a:lnTo>
                        <a:lnTo>
                          <a:pt x="1089" y="338"/>
                        </a:lnTo>
                        <a:lnTo>
                          <a:pt x="1098" y="338"/>
                        </a:lnTo>
                        <a:lnTo>
                          <a:pt x="1102" y="338"/>
                        </a:lnTo>
                        <a:lnTo>
                          <a:pt x="1106" y="338"/>
                        </a:lnTo>
                        <a:lnTo>
                          <a:pt x="1109" y="338"/>
                        </a:lnTo>
                        <a:lnTo>
                          <a:pt x="1116" y="333"/>
                        </a:lnTo>
                        <a:lnTo>
                          <a:pt x="1116" y="328"/>
                        </a:lnTo>
                        <a:lnTo>
                          <a:pt x="1121" y="328"/>
                        </a:lnTo>
                        <a:lnTo>
                          <a:pt x="1125" y="328"/>
                        </a:lnTo>
                        <a:lnTo>
                          <a:pt x="1128" y="328"/>
                        </a:lnTo>
                        <a:lnTo>
                          <a:pt x="1128" y="325"/>
                        </a:lnTo>
                        <a:lnTo>
                          <a:pt x="1132" y="325"/>
                        </a:lnTo>
                        <a:lnTo>
                          <a:pt x="1136" y="325"/>
                        </a:lnTo>
                        <a:lnTo>
                          <a:pt x="1141" y="325"/>
                        </a:lnTo>
                        <a:lnTo>
                          <a:pt x="1144" y="325"/>
                        </a:lnTo>
                        <a:lnTo>
                          <a:pt x="1148" y="325"/>
                        </a:lnTo>
                        <a:lnTo>
                          <a:pt x="1151" y="325"/>
                        </a:lnTo>
                        <a:lnTo>
                          <a:pt x="1155" y="325"/>
                        </a:lnTo>
                        <a:lnTo>
                          <a:pt x="1160" y="325"/>
                        </a:lnTo>
                        <a:lnTo>
                          <a:pt x="1163" y="325"/>
                        </a:lnTo>
                        <a:lnTo>
                          <a:pt x="1167" y="320"/>
                        </a:lnTo>
                        <a:lnTo>
                          <a:pt x="1171" y="312"/>
                        </a:lnTo>
                        <a:lnTo>
                          <a:pt x="1171" y="307"/>
                        </a:lnTo>
                        <a:lnTo>
                          <a:pt x="1174" y="307"/>
                        </a:lnTo>
                        <a:lnTo>
                          <a:pt x="1174" y="299"/>
                        </a:lnTo>
                        <a:lnTo>
                          <a:pt x="1174" y="296"/>
                        </a:lnTo>
                        <a:lnTo>
                          <a:pt x="1178" y="291"/>
                        </a:lnTo>
                        <a:lnTo>
                          <a:pt x="1178" y="286"/>
                        </a:lnTo>
                        <a:lnTo>
                          <a:pt x="1184" y="286"/>
                        </a:lnTo>
                        <a:lnTo>
                          <a:pt x="1188" y="286"/>
                        </a:lnTo>
                        <a:lnTo>
                          <a:pt x="1192" y="286"/>
                        </a:lnTo>
                        <a:lnTo>
                          <a:pt x="1196" y="286"/>
                        </a:lnTo>
                        <a:lnTo>
                          <a:pt x="1200" y="286"/>
                        </a:lnTo>
                        <a:lnTo>
                          <a:pt x="1203" y="286"/>
                        </a:lnTo>
                        <a:lnTo>
                          <a:pt x="1207" y="291"/>
                        </a:lnTo>
                        <a:lnTo>
                          <a:pt x="1212" y="291"/>
                        </a:lnTo>
                        <a:lnTo>
                          <a:pt x="1212" y="296"/>
                        </a:lnTo>
                        <a:lnTo>
                          <a:pt x="1215" y="296"/>
                        </a:lnTo>
                        <a:lnTo>
                          <a:pt x="1219" y="296"/>
                        </a:lnTo>
                        <a:lnTo>
                          <a:pt x="1222" y="296"/>
                        </a:lnTo>
                        <a:lnTo>
                          <a:pt x="1226" y="296"/>
                        </a:lnTo>
                        <a:lnTo>
                          <a:pt x="1226" y="291"/>
                        </a:lnTo>
                        <a:lnTo>
                          <a:pt x="1231" y="291"/>
                        </a:lnTo>
                        <a:lnTo>
                          <a:pt x="1235" y="291"/>
                        </a:lnTo>
                        <a:lnTo>
                          <a:pt x="1238" y="296"/>
                        </a:lnTo>
                        <a:lnTo>
                          <a:pt x="1242" y="296"/>
                        </a:lnTo>
                        <a:lnTo>
                          <a:pt x="1245" y="296"/>
                        </a:lnTo>
                        <a:lnTo>
                          <a:pt x="1249" y="296"/>
                        </a:lnTo>
                        <a:lnTo>
                          <a:pt x="1254" y="296"/>
                        </a:lnTo>
                        <a:lnTo>
                          <a:pt x="1254" y="299"/>
                        </a:lnTo>
                        <a:lnTo>
                          <a:pt x="1257" y="299"/>
                        </a:lnTo>
                        <a:lnTo>
                          <a:pt x="1257" y="307"/>
                        </a:lnTo>
                        <a:lnTo>
                          <a:pt x="1261" y="307"/>
                        </a:lnTo>
                        <a:lnTo>
                          <a:pt x="1261" y="312"/>
                        </a:lnTo>
                        <a:lnTo>
                          <a:pt x="1265" y="312"/>
                        </a:lnTo>
                        <a:lnTo>
                          <a:pt x="1268" y="312"/>
                        </a:lnTo>
                        <a:lnTo>
                          <a:pt x="1274" y="312"/>
                        </a:lnTo>
                        <a:lnTo>
                          <a:pt x="1278" y="307"/>
                        </a:lnTo>
                        <a:lnTo>
                          <a:pt x="1283" y="307"/>
                        </a:lnTo>
                        <a:lnTo>
                          <a:pt x="1286" y="307"/>
                        </a:lnTo>
                        <a:lnTo>
                          <a:pt x="1290" y="307"/>
                        </a:lnTo>
                        <a:lnTo>
                          <a:pt x="1294" y="307"/>
                        </a:lnTo>
                        <a:lnTo>
                          <a:pt x="1297" y="307"/>
                        </a:lnTo>
                        <a:lnTo>
                          <a:pt x="1297" y="312"/>
                        </a:lnTo>
                        <a:lnTo>
                          <a:pt x="1301" y="307"/>
                        </a:lnTo>
                        <a:lnTo>
                          <a:pt x="1306" y="307"/>
                        </a:lnTo>
                        <a:lnTo>
                          <a:pt x="1309" y="307"/>
                        </a:lnTo>
                        <a:lnTo>
                          <a:pt x="1309" y="312"/>
                        </a:lnTo>
                        <a:lnTo>
                          <a:pt x="1313" y="312"/>
                        </a:lnTo>
                        <a:lnTo>
                          <a:pt x="1313" y="315"/>
                        </a:lnTo>
                        <a:lnTo>
                          <a:pt x="1317" y="320"/>
                        </a:lnTo>
                        <a:lnTo>
                          <a:pt x="1320" y="320"/>
                        </a:lnTo>
                        <a:lnTo>
                          <a:pt x="1320" y="325"/>
                        </a:lnTo>
                        <a:lnTo>
                          <a:pt x="1325" y="325"/>
                        </a:lnTo>
                        <a:lnTo>
                          <a:pt x="1329" y="325"/>
                        </a:lnTo>
                        <a:lnTo>
                          <a:pt x="1332" y="325"/>
                        </a:lnTo>
                        <a:lnTo>
                          <a:pt x="1336" y="325"/>
                        </a:lnTo>
                        <a:lnTo>
                          <a:pt x="1339" y="325"/>
                        </a:lnTo>
                        <a:lnTo>
                          <a:pt x="1344" y="325"/>
                        </a:lnTo>
                        <a:lnTo>
                          <a:pt x="1348" y="325"/>
                        </a:lnTo>
                        <a:lnTo>
                          <a:pt x="1352" y="328"/>
                        </a:lnTo>
                        <a:lnTo>
                          <a:pt x="1355" y="328"/>
                        </a:lnTo>
                        <a:lnTo>
                          <a:pt x="1355" y="325"/>
                        </a:lnTo>
                        <a:lnTo>
                          <a:pt x="1359" y="325"/>
                        </a:lnTo>
                        <a:lnTo>
                          <a:pt x="1365" y="325"/>
                        </a:lnTo>
                        <a:lnTo>
                          <a:pt x="1365" y="328"/>
                        </a:lnTo>
                        <a:lnTo>
                          <a:pt x="1368" y="325"/>
                        </a:lnTo>
                        <a:lnTo>
                          <a:pt x="1372" y="325"/>
                        </a:lnTo>
                        <a:lnTo>
                          <a:pt x="1377" y="325"/>
                        </a:lnTo>
                        <a:lnTo>
                          <a:pt x="1377" y="328"/>
                        </a:lnTo>
                        <a:lnTo>
                          <a:pt x="1377" y="333"/>
                        </a:lnTo>
                        <a:lnTo>
                          <a:pt x="1380" y="333"/>
                        </a:lnTo>
                        <a:lnTo>
                          <a:pt x="1384" y="328"/>
                        </a:lnTo>
                        <a:lnTo>
                          <a:pt x="1384" y="333"/>
                        </a:lnTo>
                        <a:lnTo>
                          <a:pt x="1388" y="333"/>
                        </a:lnTo>
                        <a:lnTo>
                          <a:pt x="1388" y="338"/>
                        </a:lnTo>
                        <a:lnTo>
                          <a:pt x="1391" y="338"/>
                        </a:lnTo>
                        <a:lnTo>
                          <a:pt x="1396" y="338"/>
                        </a:lnTo>
                        <a:lnTo>
                          <a:pt x="1400" y="338"/>
                        </a:lnTo>
                        <a:lnTo>
                          <a:pt x="1400" y="333"/>
                        </a:lnTo>
                        <a:lnTo>
                          <a:pt x="1400" y="338"/>
                        </a:lnTo>
                        <a:lnTo>
                          <a:pt x="1403" y="338"/>
                        </a:lnTo>
                        <a:lnTo>
                          <a:pt x="1403" y="343"/>
                        </a:lnTo>
                        <a:lnTo>
                          <a:pt x="1407" y="343"/>
                        </a:lnTo>
                        <a:lnTo>
                          <a:pt x="1407" y="346"/>
                        </a:lnTo>
                        <a:lnTo>
                          <a:pt x="1411" y="346"/>
                        </a:lnTo>
                        <a:lnTo>
                          <a:pt x="1415" y="346"/>
                        </a:lnTo>
                        <a:lnTo>
                          <a:pt x="1419" y="346"/>
                        </a:lnTo>
                        <a:lnTo>
                          <a:pt x="1419" y="343"/>
                        </a:lnTo>
                        <a:lnTo>
                          <a:pt x="1419" y="346"/>
                        </a:lnTo>
                        <a:lnTo>
                          <a:pt x="1423" y="346"/>
                        </a:lnTo>
                        <a:lnTo>
                          <a:pt x="1423" y="351"/>
                        </a:lnTo>
                        <a:lnTo>
                          <a:pt x="1426" y="351"/>
                        </a:lnTo>
                        <a:lnTo>
                          <a:pt x="1430" y="351"/>
                        </a:lnTo>
                        <a:lnTo>
                          <a:pt x="1430" y="356"/>
                        </a:lnTo>
                        <a:lnTo>
                          <a:pt x="1430" y="360"/>
                        </a:lnTo>
                        <a:lnTo>
                          <a:pt x="1434" y="360"/>
                        </a:lnTo>
                        <a:lnTo>
                          <a:pt x="1438" y="360"/>
                        </a:lnTo>
                        <a:lnTo>
                          <a:pt x="1438" y="365"/>
                        </a:lnTo>
                        <a:lnTo>
                          <a:pt x="1438" y="369"/>
                        </a:lnTo>
                        <a:lnTo>
                          <a:pt x="1442" y="369"/>
                        </a:lnTo>
                        <a:lnTo>
                          <a:pt x="1442" y="365"/>
                        </a:lnTo>
                        <a:lnTo>
                          <a:pt x="1446" y="365"/>
                        </a:lnTo>
                        <a:lnTo>
                          <a:pt x="1452" y="365"/>
                        </a:lnTo>
                        <a:lnTo>
                          <a:pt x="1455" y="365"/>
                        </a:lnTo>
                        <a:lnTo>
                          <a:pt x="1455" y="369"/>
                        </a:lnTo>
                        <a:lnTo>
                          <a:pt x="1455" y="373"/>
                        </a:lnTo>
                        <a:lnTo>
                          <a:pt x="1455" y="378"/>
                        </a:lnTo>
                        <a:lnTo>
                          <a:pt x="1459" y="378"/>
                        </a:lnTo>
                        <a:lnTo>
                          <a:pt x="1462" y="378"/>
                        </a:lnTo>
                        <a:lnTo>
                          <a:pt x="1462" y="373"/>
                        </a:lnTo>
                        <a:lnTo>
                          <a:pt x="1467" y="373"/>
                        </a:lnTo>
                        <a:lnTo>
                          <a:pt x="1471" y="373"/>
                        </a:lnTo>
                        <a:lnTo>
                          <a:pt x="1475" y="373"/>
                        </a:lnTo>
                        <a:lnTo>
                          <a:pt x="1475" y="378"/>
                        </a:lnTo>
                        <a:lnTo>
                          <a:pt x="1478" y="378"/>
                        </a:lnTo>
                        <a:lnTo>
                          <a:pt x="1482" y="378"/>
                        </a:lnTo>
                        <a:lnTo>
                          <a:pt x="1485" y="378"/>
                        </a:lnTo>
                        <a:lnTo>
                          <a:pt x="1485" y="385"/>
                        </a:lnTo>
                        <a:lnTo>
                          <a:pt x="1490" y="385"/>
                        </a:lnTo>
                        <a:lnTo>
                          <a:pt x="1494" y="385"/>
                        </a:lnTo>
                        <a:lnTo>
                          <a:pt x="1497" y="385"/>
                        </a:lnTo>
                        <a:lnTo>
                          <a:pt x="1497" y="378"/>
                        </a:lnTo>
                        <a:lnTo>
                          <a:pt x="1497" y="373"/>
                        </a:lnTo>
                        <a:lnTo>
                          <a:pt x="1497" y="369"/>
                        </a:lnTo>
                        <a:lnTo>
                          <a:pt x="1497" y="365"/>
                        </a:lnTo>
                        <a:lnTo>
                          <a:pt x="1501" y="365"/>
                        </a:lnTo>
                        <a:lnTo>
                          <a:pt x="1505" y="365"/>
                        </a:lnTo>
                        <a:lnTo>
                          <a:pt x="1505" y="369"/>
                        </a:lnTo>
                        <a:lnTo>
                          <a:pt x="1509" y="369"/>
                        </a:lnTo>
                        <a:lnTo>
                          <a:pt x="1509" y="373"/>
                        </a:lnTo>
                        <a:lnTo>
                          <a:pt x="1509" y="378"/>
                        </a:lnTo>
                        <a:lnTo>
                          <a:pt x="1509" y="385"/>
                        </a:lnTo>
                        <a:lnTo>
                          <a:pt x="1513" y="385"/>
                        </a:lnTo>
                        <a:lnTo>
                          <a:pt x="1517" y="385"/>
                        </a:lnTo>
                        <a:lnTo>
                          <a:pt x="1517" y="378"/>
                        </a:lnTo>
                        <a:lnTo>
                          <a:pt x="1520" y="378"/>
                        </a:lnTo>
                        <a:lnTo>
                          <a:pt x="1520" y="373"/>
                        </a:lnTo>
                        <a:lnTo>
                          <a:pt x="1524" y="373"/>
                        </a:lnTo>
                        <a:lnTo>
                          <a:pt x="1529" y="373"/>
                        </a:lnTo>
                        <a:lnTo>
                          <a:pt x="1524" y="373"/>
                        </a:lnTo>
                        <a:lnTo>
                          <a:pt x="1529" y="373"/>
                        </a:lnTo>
                        <a:lnTo>
                          <a:pt x="1529" y="369"/>
                        </a:lnTo>
                        <a:lnTo>
                          <a:pt x="1529" y="365"/>
                        </a:lnTo>
                        <a:lnTo>
                          <a:pt x="1532" y="360"/>
                        </a:lnTo>
                        <a:lnTo>
                          <a:pt x="1536" y="356"/>
                        </a:lnTo>
                        <a:lnTo>
                          <a:pt x="1542" y="351"/>
                        </a:lnTo>
                        <a:lnTo>
                          <a:pt x="1536" y="351"/>
                        </a:lnTo>
                        <a:lnTo>
                          <a:pt x="1536" y="346"/>
                        </a:lnTo>
                        <a:lnTo>
                          <a:pt x="1532" y="346"/>
                        </a:lnTo>
                        <a:lnTo>
                          <a:pt x="1532" y="343"/>
                        </a:lnTo>
                        <a:lnTo>
                          <a:pt x="1536" y="343"/>
                        </a:lnTo>
                        <a:lnTo>
                          <a:pt x="1532" y="343"/>
                        </a:lnTo>
                        <a:lnTo>
                          <a:pt x="1532" y="338"/>
                        </a:lnTo>
                        <a:lnTo>
                          <a:pt x="1536" y="338"/>
                        </a:lnTo>
                        <a:lnTo>
                          <a:pt x="1536" y="333"/>
                        </a:lnTo>
                        <a:lnTo>
                          <a:pt x="1536" y="328"/>
                        </a:lnTo>
                        <a:lnTo>
                          <a:pt x="1542" y="328"/>
                        </a:lnTo>
                        <a:lnTo>
                          <a:pt x="1542" y="325"/>
                        </a:lnTo>
                        <a:lnTo>
                          <a:pt x="1542" y="320"/>
                        </a:lnTo>
                        <a:lnTo>
                          <a:pt x="1546" y="320"/>
                        </a:lnTo>
                        <a:lnTo>
                          <a:pt x="1546" y="315"/>
                        </a:lnTo>
                        <a:lnTo>
                          <a:pt x="1546" y="312"/>
                        </a:lnTo>
                        <a:lnTo>
                          <a:pt x="1546" y="307"/>
                        </a:lnTo>
                        <a:lnTo>
                          <a:pt x="1549" y="307"/>
                        </a:lnTo>
                        <a:lnTo>
                          <a:pt x="1553" y="307"/>
                        </a:lnTo>
                        <a:lnTo>
                          <a:pt x="1553" y="299"/>
                        </a:lnTo>
                        <a:lnTo>
                          <a:pt x="1553" y="296"/>
                        </a:lnTo>
                        <a:lnTo>
                          <a:pt x="1557" y="296"/>
                        </a:lnTo>
                        <a:lnTo>
                          <a:pt x="1561" y="296"/>
                        </a:lnTo>
                        <a:lnTo>
                          <a:pt x="1561" y="291"/>
                        </a:lnTo>
                        <a:lnTo>
                          <a:pt x="1565" y="291"/>
                        </a:lnTo>
                        <a:lnTo>
                          <a:pt x="1565" y="286"/>
                        </a:lnTo>
                        <a:lnTo>
                          <a:pt x="1569" y="283"/>
                        </a:lnTo>
                        <a:lnTo>
                          <a:pt x="1572" y="283"/>
                        </a:lnTo>
                        <a:lnTo>
                          <a:pt x="1572" y="278"/>
                        </a:lnTo>
                        <a:lnTo>
                          <a:pt x="1572" y="273"/>
                        </a:lnTo>
                        <a:lnTo>
                          <a:pt x="1576" y="273"/>
                        </a:lnTo>
                        <a:lnTo>
                          <a:pt x="1576" y="269"/>
                        </a:lnTo>
                        <a:lnTo>
                          <a:pt x="1576" y="264"/>
                        </a:lnTo>
                        <a:lnTo>
                          <a:pt x="1581" y="264"/>
                        </a:lnTo>
                        <a:lnTo>
                          <a:pt x="1581" y="260"/>
                        </a:lnTo>
                        <a:lnTo>
                          <a:pt x="1588" y="260"/>
                        </a:lnTo>
                        <a:lnTo>
                          <a:pt x="1591" y="256"/>
                        </a:lnTo>
                        <a:lnTo>
                          <a:pt x="1595" y="251"/>
                        </a:lnTo>
                        <a:lnTo>
                          <a:pt x="1600" y="251"/>
                        </a:lnTo>
                        <a:lnTo>
                          <a:pt x="1600" y="256"/>
                        </a:lnTo>
                        <a:lnTo>
                          <a:pt x="1604" y="256"/>
                        </a:lnTo>
                        <a:lnTo>
                          <a:pt x="1607" y="260"/>
                        </a:lnTo>
                        <a:lnTo>
                          <a:pt x="1611" y="260"/>
                        </a:lnTo>
                        <a:lnTo>
                          <a:pt x="1614" y="260"/>
                        </a:lnTo>
                        <a:lnTo>
                          <a:pt x="1618" y="260"/>
                        </a:lnTo>
                        <a:lnTo>
                          <a:pt x="1623" y="260"/>
                        </a:lnTo>
                        <a:lnTo>
                          <a:pt x="1623" y="264"/>
                        </a:lnTo>
                        <a:lnTo>
                          <a:pt x="1626" y="264"/>
                        </a:lnTo>
                        <a:lnTo>
                          <a:pt x="1632" y="269"/>
                        </a:lnTo>
                        <a:lnTo>
                          <a:pt x="1632" y="264"/>
                        </a:lnTo>
                        <a:lnTo>
                          <a:pt x="1636" y="264"/>
                        </a:lnTo>
                        <a:lnTo>
                          <a:pt x="1636" y="260"/>
                        </a:lnTo>
                        <a:lnTo>
                          <a:pt x="1640" y="256"/>
                        </a:lnTo>
                        <a:lnTo>
                          <a:pt x="1640" y="251"/>
                        </a:lnTo>
                        <a:lnTo>
                          <a:pt x="1636" y="251"/>
                        </a:lnTo>
                        <a:lnTo>
                          <a:pt x="1636" y="246"/>
                        </a:lnTo>
                        <a:lnTo>
                          <a:pt x="1640" y="243"/>
                        </a:lnTo>
                        <a:lnTo>
                          <a:pt x="1643" y="238"/>
                        </a:lnTo>
                        <a:lnTo>
                          <a:pt x="1647" y="238"/>
                        </a:lnTo>
                        <a:lnTo>
                          <a:pt x="1647" y="233"/>
                        </a:lnTo>
                        <a:lnTo>
                          <a:pt x="1652" y="233"/>
                        </a:lnTo>
                        <a:lnTo>
                          <a:pt x="1652" y="228"/>
                        </a:lnTo>
                        <a:lnTo>
                          <a:pt x="1647" y="228"/>
                        </a:lnTo>
                        <a:lnTo>
                          <a:pt x="1652" y="228"/>
                        </a:lnTo>
                        <a:lnTo>
                          <a:pt x="1652" y="222"/>
                        </a:lnTo>
                        <a:lnTo>
                          <a:pt x="1652" y="217"/>
                        </a:lnTo>
                        <a:lnTo>
                          <a:pt x="1655" y="217"/>
                        </a:lnTo>
                        <a:lnTo>
                          <a:pt x="1659" y="217"/>
                        </a:lnTo>
                        <a:lnTo>
                          <a:pt x="1663" y="217"/>
                        </a:lnTo>
                        <a:lnTo>
                          <a:pt x="1666" y="217"/>
                        </a:lnTo>
                        <a:lnTo>
                          <a:pt x="1671" y="217"/>
                        </a:lnTo>
                        <a:lnTo>
                          <a:pt x="1675" y="217"/>
                        </a:lnTo>
                        <a:lnTo>
                          <a:pt x="1675" y="222"/>
                        </a:lnTo>
                        <a:lnTo>
                          <a:pt x="1675" y="228"/>
                        </a:lnTo>
                        <a:lnTo>
                          <a:pt x="1678" y="228"/>
                        </a:lnTo>
                        <a:lnTo>
                          <a:pt x="1682" y="222"/>
                        </a:lnTo>
                        <a:lnTo>
                          <a:pt x="1686" y="217"/>
                        </a:lnTo>
                        <a:lnTo>
                          <a:pt x="1689" y="217"/>
                        </a:lnTo>
                        <a:lnTo>
                          <a:pt x="1694" y="217"/>
                        </a:lnTo>
                        <a:lnTo>
                          <a:pt x="1701" y="209"/>
                        </a:lnTo>
                        <a:lnTo>
                          <a:pt x="1705" y="209"/>
                        </a:lnTo>
                        <a:lnTo>
                          <a:pt x="1708" y="204"/>
                        </a:lnTo>
                        <a:lnTo>
                          <a:pt x="1713" y="201"/>
                        </a:lnTo>
                        <a:lnTo>
                          <a:pt x="1708" y="201"/>
                        </a:lnTo>
                        <a:lnTo>
                          <a:pt x="1708" y="196"/>
                        </a:lnTo>
                        <a:lnTo>
                          <a:pt x="1718" y="191"/>
                        </a:lnTo>
                        <a:lnTo>
                          <a:pt x="1718" y="186"/>
                        </a:lnTo>
                        <a:lnTo>
                          <a:pt x="1718" y="183"/>
                        </a:lnTo>
                        <a:lnTo>
                          <a:pt x="1723" y="183"/>
                        </a:lnTo>
                        <a:lnTo>
                          <a:pt x="1727" y="178"/>
                        </a:lnTo>
                        <a:lnTo>
                          <a:pt x="1730" y="178"/>
                        </a:lnTo>
                        <a:lnTo>
                          <a:pt x="1734" y="178"/>
                        </a:lnTo>
                        <a:lnTo>
                          <a:pt x="1737" y="178"/>
                        </a:lnTo>
                        <a:lnTo>
                          <a:pt x="1741" y="173"/>
                        </a:lnTo>
                        <a:lnTo>
                          <a:pt x="1746" y="173"/>
                        </a:lnTo>
                        <a:lnTo>
                          <a:pt x="1749" y="173"/>
                        </a:lnTo>
                        <a:lnTo>
                          <a:pt x="1753" y="173"/>
                        </a:lnTo>
                        <a:lnTo>
                          <a:pt x="1757" y="173"/>
                        </a:lnTo>
                        <a:lnTo>
                          <a:pt x="1760" y="173"/>
                        </a:lnTo>
                        <a:lnTo>
                          <a:pt x="1765" y="173"/>
                        </a:lnTo>
                        <a:lnTo>
                          <a:pt x="1769" y="173"/>
                        </a:lnTo>
                        <a:lnTo>
                          <a:pt x="1772" y="173"/>
                        </a:lnTo>
                        <a:lnTo>
                          <a:pt x="1776" y="173"/>
                        </a:lnTo>
                        <a:lnTo>
                          <a:pt x="1780" y="173"/>
                        </a:lnTo>
                        <a:lnTo>
                          <a:pt x="1784" y="173"/>
                        </a:lnTo>
                        <a:lnTo>
                          <a:pt x="1784" y="169"/>
                        </a:lnTo>
                        <a:lnTo>
                          <a:pt x="1788" y="169"/>
                        </a:lnTo>
                        <a:lnTo>
                          <a:pt x="1792" y="169"/>
                        </a:lnTo>
                        <a:lnTo>
                          <a:pt x="1795" y="169"/>
                        </a:lnTo>
                        <a:lnTo>
                          <a:pt x="1795" y="164"/>
                        </a:lnTo>
                        <a:lnTo>
                          <a:pt x="1799" y="164"/>
                        </a:lnTo>
                        <a:lnTo>
                          <a:pt x="1802" y="164"/>
                        </a:lnTo>
                        <a:lnTo>
                          <a:pt x="1802" y="169"/>
                        </a:lnTo>
                        <a:lnTo>
                          <a:pt x="1809" y="169"/>
                        </a:lnTo>
                        <a:lnTo>
                          <a:pt x="1809" y="173"/>
                        </a:lnTo>
                        <a:lnTo>
                          <a:pt x="1812" y="173"/>
                        </a:lnTo>
                        <a:lnTo>
                          <a:pt x="1817" y="173"/>
                        </a:lnTo>
                        <a:lnTo>
                          <a:pt x="1821" y="173"/>
                        </a:lnTo>
                        <a:lnTo>
                          <a:pt x="1821" y="169"/>
                        </a:lnTo>
                        <a:lnTo>
                          <a:pt x="1824" y="169"/>
                        </a:lnTo>
                        <a:lnTo>
                          <a:pt x="1824" y="164"/>
                        </a:lnTo>
                        <a:lnTo>
                          <a:pt x="1828" y="164"/>
                        </a:lnTo>
                        <a:lnTo>
                          <a:pt x="1831" y="160"/>
                        </a:lnTo>
                        <a:lnTo>
                          <a:pt x="1836" y="160"/>
                        </a:lnTo>
                        <a:lnTo>
                          <a:pt x="1840" y="160"/>
                        </a:lnTo>
                        <a:lnTo>
                          <a:pt x="1843" y="160"/>
                        </a:lnTo>
                        <a:lnTo>
                          <a:pt x="1847" y="160"/>
                        </a:lnTo>
                        <a:lnTo>
                          <a:pt x="1851" y="164"/>
                        </a:lnTo>
                        <a:lnTo>
                          <a:pt x="1851" y="169"/>
                        </a:lnTo>
                        <a:lnTo>
                          <a:pt x="1856" y="169"/>
                        </a:lnTo>
                        <a:lnTo>
                          <a:pt x="1859" y="169"/>
                        </a:lnTo>
                        <a:lnTo>
                          <a:pt x="1863" y="169"/>
                        </a:lnTo>
                        <a:lnTo>
                          <a:pt x="1863" y="173"/>
                        </a:lnTo>
                        <a:lnTo>
                          <a:pt x="1863" y="178"/>
                        </a:lnTo>
                        <a:lnTo>
                          <a:pt x="1866" y="178"/>
                        </a:lnTo>
                        <a:lnTo>
                          <a:pt x="1866" y="183"/>
                        </a:lnTo>
                        <a:lnTo>
                          <a:pt x="1866" y="186"/>
                        </a:lnTo>
                        <a:lnTo>
                          <a:pt x="1870" y="186"/>
                        </a:lnTo>
                        <a:lnTo>
                          <a:pt x="1870" y="196"/>
                        </a:lnTo>
                        <a:lnTo>
                          <a:pt x="1870" y="201"/>
                        </a:lnTo>
                        <a:lnTo>
                          <a:pt x="1874" y="201"/>
                        </a:lnTo>
                        <a:lnTo>
                          <a:pt x="1874" y="204"/>
                        </a:lnTo>
                        <a:lnTo>
                          <a:pt x="1870" y="204"/>
                        </a:lnTo>
                        <a:lnTo>
                          <a:pt x="1866" y="204"/>
                        </a:lnTo>
                        <a:lnTo>
                          <a:pt x="1866" y="209"/>
                        </a:lnTo>
                        <a:lnTo>
                          <a:pt x="1863" y="209"/>
                        </a:lnTo>
                        <a:lnTo>
                          <a:pt x="1859" y="209"/>
                        </a:lnTo>
                        <a:lnTo>
                          <a:pt x="1859" y="217"/>
                        </a:lnTo>
                        <a:lnTo>
                          <a:pt x="1863" y="217"/>
                        </a:lnTo>
                        <a:lnTo>
                          <a:pt x="1866" y="217"/>
                        </a:lnTo>
                        <a:lnTo>
                          <a:pt x="1870" y="217"/>
                        </a:lnTo>
                        <a:lnTo>
                          <a:pt x="1870" y="222"/>
                        </a:lnTo>
                        <a:lnTo>
                          <a:pt x="1874" y="222"/>
                        </a:lnTo>
                        <a:lnTo>
                          <a:pt x="1874" y="228"/>
                        </a:lnTo>
                        <a:lnTo>
                          <a:pt x="1874" y="233"/>
                        </a:lnTo>
                        <a:lnTo>
                          <a:pt x="1874" y="238"/>
                        </a:lnTo>
                        <a:lnTo>
                          <a:pt x="1882" y="238"/>
                        </a:lnTo>
                        <a:lnTo>
                          <a:pt x="1886" y="243"/>
                        </a:lnTo>
                        <a:lnTo>
                          <a:pt x="1889" y="243"/>
                        </a:lnTo>
                        <a:lnTo>
                          <a:pt x="1895" y="243"/>
                        </a:lnTo>
                        <a:lnTo>
                          <a:pt x="1895" y="246"/>
                        </a:lnTo>
                        <a:lnTo>
                          <a:pt x="1889" y="246"/>
                        </a:lnTo>
                        <a:lnTo>
                          <a:pt x="1889" y="251"/>
                        </a:lnTo>
                        <a:lnTo>
                          <a:pt x="1874" y="278"/>
                        </a:lnTo>
                        <a:lnTo>
                          <a:pt x="1874" y="283"/>
                        </a:lnTo>
                        <a:lnTo>
                          <a:pt x="1874" y="286"/>
                        </a:lnTo>
                        <a:lnTo>
                          <a:pt x="1874" y="291"/>
                        </a:lnTo>
                        <a:lnTo>
                          <a:pt x="1874" y="296"/>
                        </a:lnTo>
                        <a:lnTo>
                          <a:pt x="1870" y="296"/>
                        </a:lnTo>
                        <a:lnTo>
                          <a:pt x="1870" y="299"/>
                        </a:lnTo>
                        <a:lnTo>
                          <a:pt x="1866" y="307"/>
                        </a:lnTo>
                        <a:lnTo>
                          <a:pt x="1863" y="307"/>
                        </a:lnTo>
                        <a:lnTo>
                          <a:pt x="1863" y="312"/>
                        </a:lnTo>
                        <a:lnTo>
                          <a:pt x="1859" y="312"/>
                        </a:lnTo>
                        <a:lnTo>
                          <a:pt x="1856" y="312"/>
                        </a:lnTo>
                        <a:lnTo>
                          <a:pt x="1851" y="315"/>
                        </a:lnTo>
                        <a:lnTo>
                          <a:pt x="1851" y="320"/>
                        </a:lnTo>
                        <a:lnTo>
                          <a:pt x="1847" y="320"/>
                        </a:lnTo>
                        <a:lnTo>
                          <a:pt x="1843" y="320"/>
                        </a:lnTo>
                        <a:lnTo>
                          <a:pt x="1843" y="325"/>
                        </a:lnTo>
                        <a:lnTo>
                          <a:pt x="1840" y="325"/>
                        </a:lnTo>
                        <a:lnTo>
                          <a:pt x="1840" y="328"/>
                        </a:lnTo>
                        <a:lnTo>
                          <a:pt x="1836" y="328"/>
                        </a:lnTo>
                        <a:lnTo>
                          <a:pt x="1831" y="328"/>
                        </a:lnTo>
                        <a:lnTo>
                          <a:pt x="1831" y="333"/>
                        </a:lnTo>
                        <a:lnTo>
                          <a:pt x="1840" y="333"/>
                        </a:lnTo>
                        <a:lnTo>
                          <a:pt x="1840" y="338"/>
                        </a:lnTo>
                        <a:lnTo>
                          <a:pt x="1840" y="343"/>
                        </a:lnTo>
                        <a:lnTo>
                          <a:pt x="1836" y="346"/>
                        </a:lnTo>
                        <a:lnTo>
                          <a:pt x="1840" y="351"/>
                        </a:lnTo>
                        <a:lnTo>
                          <a:pt x="1836" y="351"/>
                        </a:lnTo>
                        <a:lnTo>
                          <a:pt x="1831" y="351"/>
                        </a:lnTo>
                        <a:lnTo>
                          <a:pt x="1828" y="351"/>
                        </a:lnTo>
                        <a:lnTo>
                          <a:pt x="1824" y="351"/>
                        </a:lnTo>
                        <a:lnTo>
                          <a:pt x="1821" y="351"/>
                        </a:lnTo>
                        <a:lnTo>
                          <a:pt x="1817" y="351"/>
                        </a:lnTo>
                        <a:lnTo>
                          <a:pt x="1817" y="356"/>
                        </a:lnTo>
                        <a:lnTo>
                          <a:pt x="1812" y="356"/>
                        </a:lnTo>
                        <a:lnTo>
                          <a:pt x="1812" y="360"/>
                        </a:lnTo>
                        <a:lnTo>
                          <a:pt x="1812" y="365"/>
                        </a:lnTo>
                        <a:lnTo>
                          <a:pt x="1817" y="369"/>
                        </a:lnTo>
                        <a:lnTo>
                          <a:pt x="1817" y="373"/>
                        </a:lnTo>
                        <a:lnTo>
                          <a:pt x="1812" y="373"/>
                        </a:lnTo>
                        <a:lnTo>
                          <a:pt x="1809" y="373"/>
                        </a:lnTo>
                        <a:lnTo>
                          <a:pt x="1809" y="378"/>
                        </a:lnTo>
                        <a:lnTo>
                          <a:pt x="1809" y="385"/>
                        </a:lnTo>
                        <a:lnTo>
                          <a:pt x="1812" y="385"/>
                        </a:lnTo>
                        <a:lnTo>
                          <a:pt x="1817" y="385"/>
                        </a:lnTo>
                        <a:lnTo>
                          <a:pt x="1817" y="389"/>
                        </a:lnTo>
                        <a:lnTo>
                          <a:pt x="1817" y="394"/>
                        </a:lnTo>
                        <a:lnTo>
                          <a:pt x="1812" y="394"/>
                        </a:lnTo>
                        <a:lnTo>
                          <a:pt x="1812" y="398"/>
                        </a:lnTo>
                        <a:lnTo>
                          <a:pt x="1812" y="402"/>
                        </a:lnTo>
                        <a:lnTo>
                          <a:pt x="1809" y="402"/>
                        </a:lnTo>
                        <a:lnTo>
                          <a:pt x="1809" y="407"/>
                        </a:lnTo>
                        <a:lnTo>
                          <a:pt x="1802" y="407"/>
                        </a:lnTo>
                        <a:lnTo>
                          <a:pt x="1802" y="412"/>
                        </a:lnTo>
                        <a:lnTo>
                          <a:pt x="1799" y="412"/>
                        </a:lnTo>
                        <a:lnTo>
                          <a:pt x="1795" y="412"/>
                        </a:lnTo>
                        <a:lnTo>
                          <a:pt x="1795" y="415"/>
                        </a:lnTo>
                        <a:lnTo>
                          <a:pt x="1792" y="415"/>
                        </a:lnTo>
                        <a:lnTo>
                          <a:pt x="1788" y="415"/>
                        </a:lnTo>
                        <a:lnTo>
                          <a:pt x="1784" y="415"/>
                        </a:lnTo>
                        <a:lnTo>
                          <a:pt x="1784" y="420"/>
                        </a:lnTo>
                        <a:lnTo>
                          <a:pt x="1784" y="425"/>
                        </a:lnTo>
                        <a:lnTo>
                          <a:pt x="1780" y="425"/>
                        </a:lnTo>
                        <a:lnTo>
                          <a:pt x="1776" y="425"/>
                        </a:lnTo>
                        <a:lnTo>
                          <a:pt x="1776" y="428"/>
                        </a:lnTo>
                        <a:lnTo>
                          <a:pt x="1776" y="433"/>
                        </a:lnTo>
                        <a:lnTo>
                          <a:pt x="1776" y="438"/>
                        </a:lnTo>
                        <a:lnTo>
                          <a:pt x="1772" y="438"/>
                        </a:lnTo>
                        <a:lnTo>
                          <a:pt x="1769" y="438"/>
                        </a:lnTo>
                        <a:lnTo>
                          <a:pt x="1765" y="438"/>
                        </a:lnTo>
                        <a:lnTo>
                          <a:pt x="1765" y="442"/>
                        </a:lnTo>
                        <a:lnTo>
                          <a:pt x="1760" y="442"/>
                        </a:lnTo>
                        <a:lnTo>
                          <a:pt x="1757" y="442"/>
                        </a:lnTo>
                        <a:lnTo>
                          <a:pt x="1753" y="447"/>
                        </a:lnTo>
                        <a:lnTo>
                          <a:pt x="1753" y="451"/>
                        </a:lnTo>
                        <a:lnTo>
                          <a:pt x="1749" y="451"/>
                        </a:lnTo>
                        <a:lnTo>
                          <a:pt x="1746" y="451"/>
                        </a:lnTo>
                        <a:lnTo>
                          <a:pt x="1746" y="456"/>
                        </a:lnTo>
                        <a:lnTo>
                          <a:pt x="1741" y="456"/>
                        </a:lnTo>
                        <a:lnTo>
                          <a:pt x="1737" y="456"/>
                        </a:lnTo>
                        <a:lnTo>
                          <a:pt x="1737" y="462"/>
                        </a:lnTo>
                        <a:lnTo>
                          <a:pt x="1734" y="462"/>
                        </a:lnTo>
                        <a:lnTo>
                          <a:pt x="1730" y="467"/>
                        </a:lnTo>
                        <a:lnTo>
                          <a:pt x="1730" y="471"/>
                        </a:lnTo>
                        <a:lnTo>
                          <a:pt x="1727" y="471"/>
                        </a:lnTo>
                        <a:lnTo>
                          <a:pt x="1723" y="471"/>
                        </a:lnTo>
                        <a:lnTo>
                          <a:pt x="1718" y="475"/>
                        </a:lnTo>
                        <a:lnTo>
                          <a:pt x="1713" y="475"/>
                        </a:lnTo>
                        <a:lnTo>
                          <a:pt x="1708" y="480"/>
                        </a:lnTo>
                        <a:lnTo>
                          <a:pt x="1705" y="480"/>
                        </a:lnTo>
                        <a:lnTo>
                          <a:pt x="1705" y="485"/>
                        </a:lnTo>
                        <a:lnTo>
                          <a:pt x="1701" y="485"/>
                        </a:lnTo>
                        <a:lnTo>
                          <a:pt x="1701" y="489"/>
                        </a:lnTo>
                        <a:lnTo>
                          <a:pt x="1701" y="494"/>
                        </a:lnTo>
                        <a:lnTo>
                          <a:pt x="1698" y="498"/>
                        </a:lnTo>
                        <a:lnTo>
                          <a:pt x="1694" y="498"/>
                        </a:lnTo>
                        <a:lnTo>
                          <a:pt x="1689" y="502"/>
                        </a:lnTo>
                        <a:lnTo>
                          <a:pt x="1686" y="502"/>
                        </a:lnTo>
                        <a:lnTo>
                          <a:pt x="1682" y="502"/>
                        </a:lnTo>
                        <a:lnTo>
                          <a:pt x="1675" y="507"/>
                        </a:lnTo>
                        <a:lnTo>
                          <a:pt x="1671" y="507"/>
                        </a:lnTo>
                        <a:lnTo>
                          <a:pt x="1666" y="507"/>
                        </a:lnTo>
                        <a:lnTo>
                          <a:pt x="1663" y="507"/>
                        </a:lnTo>
                        <a:lnTo>
                          <a:pt x="1659" y="507"/>
                        </a:lnTo>
                        <a:lnTo>
                          <a:pt x="1655" y="507"/>
                        </a:lnTo>
                        <a:lnTo>
                          <a:pt x="1652" y="507"/>
                        </a:lnTo>
                        <a:lnTo>
                          <a:pt x="1647" y="507"/>
                        </a:lnTo>
                        <a:lnTo>
                          <a:pt x="1652" y="512"/>
                        </a:lnTo>
                        <a:lnTo>
                          <a:pt x="1655" y="515"/>
                        </a:lnTo>
                        <a:lnTo>
                          <a:pt x="1659" y="520"/>
                        </a:lnTo>
                        <a:lnTo>
                          <a:pt x="1663" y="525"/>
                        </a:lnTo>
                        <a:lnTo>
                          <a:pt x="1663" y="529"/>
                        </a:lnTo>
                        <a:lnTo>
                          <a:pt x="1659" y="529"/>
                        </a:lnTo>
                        <a:lnTo>
                          <a:pt x="1655" y="533"/>
                        </a:lnTo>
                        <a:lnTo>
                          <a:pt x="1655" y="541"/>
                        </a:lnTo>
                        <a:lnTo>
                          <a:pt x="1659" y="541"/>
                        </a:lnTo>
                        <a:lnTo>
                          <a:pt x="1663" y="541"/>
                        </a:lnTo>
                        <a:lnTo>
                          <a:pt x="1666" y="541"/>
                        </a:lnTo>
                        <a:lnTo>
                          <a:pt x="1666" y="544"/>
                        </a:lnTo>
                        <a:lnTo>
                          <a:pt x="1671" y="544"/>
                        </a:lnTo>
                        <a:lnTo>
                          <a:pt x="1671" y="549"/>
                        </a:lnTo>
                        <a:lnTo>
                          <a:pt x="1675" y="549"/>
                        </a:lnTo>
                        <a:lnTo>
                          <a:pt x="1675" y="554"/>
                        </a:lnTo>
                        <a:lnTo>
                          <a:pt x="1678" y="554"/>
                        </a:lnTo>
                        <a:lnTo>
                          <a:pt x="1682" y="554"/>
                        </a:lnTo>
                        <a:lnTo>
                          <a:pt x="1678" y="554"/>
                        </a:lnTo>
                        <a:lnTo>
                          <a:pt x="1675" y="554"/>
                        </a:lnTo>
                        <a:lnTo>
                          <a:pt x="1675" y="557"/>
                        </a:lnTo>
                        <a:lnTo>
                          <a:pt x="1671" y="557"/>
                        </a:lnTo>
                        <a:lnTo>
                          <a:pt x="1666" y="562"/>
                        </a:lnTo>
                        <a:lnTo>
                          <a:pt x="1666" y="567"/>
                        </a:lnTo>
                        <a:lnTo>
                          <a:pt x="1666" y="571"/>
                        </a:lnTo>
                        <a:lnTo>
                          <a:pt x="1663" y="571"/>
                        </a:lnTo>
                        <a:lnTo>
                          <a:pt x="1663" y="576"/>
                        </a:lnTo>
                        <a:lnTo>
                          <a:pt x="1659" y="576"/>
                        </a:lnTo>
                        <a:lnTo>
                          <a:pt x="1659" y="580"/>
                        </a:lnTo>
                        <a:lnTo>
                          <a:pt x="1655" y="580"/>
                        </a:lnTo>
                        <a:lnTo>
                          <a:pt x="1652" y="584"/>
                        </a:lnTo>
                        <a:lnTo>
                          <a:pt x="1652" y="589"/>
                        </a:lnTo>
                        <a:lnTo>
                          <a:pt x="1655" y="589"/>
                        </a:lnTo>
                        <a:lnTo>
                          <a:pt x="1659" y="589"/>
                        </a:lnTo>
                        <a:lnTo>
                          <a:pt x="1659" y="594"/>
                        </a:lnTo>
                        <a:lnTo>
                          <a:pt x="1659" y="598"/>
                        </a:lnTo>
                        <a:lnTo>
                          <a:pt x="1663" y="598"/>
                        </a:lnTo>
                        <a:lnTo>
                          <a:pt x="1666" y="598"/>
                        </a:lnTo>
                        <a:lnTo>
                          <a:pt x="1671" y="598"/>
                        </a:lnTo>
                        <a:lnTo>
                          <a:pt x="1675" y="598"/>
                        </a:lnTo>
                        <a:lnTo>
                          <a:pt x="1678" y="598"/>
                        </a:lnTo>
                        <a:lnTo>
                          <a:pt x="1682" y="598"/>
                        </a:lnTo>
                        <a:lnTo>
                          <a:pt x="1686" y="598"/>
                        </a:lnTo>
                        <a:lnTo>
                          <a:pt x="1689" y="598"/>
                        </a:lnTo>
                        <a:lnTo>
                          <a:pt x="1698" y="598"/>
                        </a:lnTo>
                        <a:lnTo>
                          <a:pt x="1701" y="598"/>
                        </a:lnTo>
                        <a:lnTo>
                          <a:pt x="1705" y="598"/>
                        </a:lnTo>
                        <a:lnTo>
                          <a:pt x="1705" y="594"/>
                        </a:lnTo>
                        <a:lnTo>
                          <a:pt x="1708" y="594"/>
                        </a:lnTo>
                        <a:lnTo>
                          <a:pt x="1708" y="589"/>
                        </a:lnTo>
                        <a:lnTo>
                          <a:pt x="1718" y="589"/>
                        </a:lnTo>
                        <a:lnTo>
                          <a:pt x="1718" y="584"/>
                        </a:lnTo>
                        <a:lnTo>
                          <a:pt x="1723" y="589"/>
                        </a:lnTo>
                        <a:lnTo>
                          <a:pt x="1727" y="589"/>
                        </a:lnTo>
                        <a:lnTo>
                          <a:pt x="1730" y="589"/>
                        </a:lnTo>
                        <a:lnTo>
                          <a:pt x="1734" y="584"/>
                        </a:lnTo>
                        <a:lnTo>
                          <a:pt x="1737" y="584"/>
                        </a:lnTo>
                        <a:lnTo>
                          <a:pt x="1741" y="584"/>
                        </a:lnTo>
                        <a:lnTo>
                          <a:pt x="1741" y="580"/>
                        </a:lnTo>
                        <a:lnTo>
                          <a:pt x="1746" y="580"/>
                        </a:lnTo>
                        <a:lnTo>
                          <a:pt x="1749" y="580"/>
                        </a:lnTo>
                        <a:lnTo>
                          <a:pt x="1760" y="580"/>
                        </a:lnTo>
                        <a:lnTo>
                          <a:pt x="1765" y="580"/>
                        </a:lnTo>
                        <a:lnTo>
                          <a:pt x="1765" y="584"/>
                        </a:lnTo>
                        <a:lnTo>
                          <a:pt x="1769" y="584"/>
                        </a:lnTo>
                        <a:lnTo>
                          <a:pt x="1772" y="589"/>
                        </a:lnTo>
                        <a:lnTo>
                          <a:pt x="1776" y="598"/>
                        </a:lnTo>
                        <a:lnTo>
                          <a:pt x="1776" y="602"/>
                        </a:lnTo>
                        <a:lnTo>
                          <a:pt x="1780" y="602"/>
                        </a:lnTo>
                        <a:lnTo>
                          <a:pt x="1784" y="602"/>
                        </a:lnTo>
                        <a:lnTo>
                          <a:pt x="1788" y="602"/>
                        </a:lnTo>
                        <a:lnTo>
                          <a:pt x="1792" y="602"/>
                        </a:lnTo>
                        <a:lnTo>
                          <a:pt x="1795" y="607"/>
                        </a:lnTo>
                        <a:lnTo>
                          <a:pt x="1795" y="612"/>
                        </a:lnTo>
                        <a:lnTo>
                          <a:pt x="1795" y="618"/>
                        </a:lnTo>
                        <a:lnTo>
                          <a:pt x="1802" y="623"/>
                        </a:lnTo>
                        <a:lnTo>
                          <a:pt x="1802" y="626"/>
                        </a:lnTo>
                        <a:lnTo>
                          <a:pt x="1809" y="626"/>
                        </a:lnTo>
                        <a:lnTo>
                          <a:pt x="1809" y="631"/>
                        </a:lnTo>
                        <a:lnTo>
                          <a:pt x="1802" y="631"/>
                        </a:lnTo>
                        <a:lnTo>
                          <a:pt x="1795" y="636"/>
                        </a:lnTo>
                        <a:lnTo>
                          <a:pt x="1792" y="636"/>
                        </a:lnTo>
                        <a:lnTo>
                          <a:pt x="1792" y="641"/>
                        </a:lnTo>
                        <a:lnTo>
                          <a:pt x="1788" y="641"/>
                        </a:lnTo>
                        <a:lnTo>
                          <a:pt x="1788" y="644"/>
                        </a:lnTo>
                        <a:lnTo>
                          <a:pt x="1788" y="649"/>
                        </a:lnTo>
                        <a:lnTo>
                          <a:pt x="1792" y="649"/>
                        </a:lnTo>
                        <a:lnTo>
                          <a:pt x="1792" y="654"/>
                        </a:lnTo>
                        <a:lnTo>
                          <a:pt x="1792" y="658"/>
                        </a:lnTo>
                        <a:lnTo>
                          <a:pt x="1795" y="658"/>
                        </a:lnTo>
                        <a:lnTo>
                          <a:pt x="1799" y="658"/>
                        </a:lnTo>
                        <a:lnTo>
                          <a:pt x="1802" y="662"/>
                        </a:lnTo>
                        <a:lnTo>
                          <a:pt x="1809" y="667"/>
                        </a:lnTo>
                        <a:lnTo>
                          <a:pt x="1809" y="671"/>
                        </a:lnTo>
                        <a:lnTo>
                          <a:pt x="1812" y="671"/>
                        </a:lnTo>
                        <a:lnTo>
                          <a:pt x="1812" y="676"/>
                        </a:lnTo>
                        <a:lnTo>
                          <a:pt x="1817" y="680"/>
                        </a:lnTo>
                        <a:lnTo>
                          <a:pt x="1821" y="684"/>
                        </a:lnTo>
                        <a:lnTo>
                          <a:pt x="1821" y="691"/>
                        </a:lnTo>
                        <a:lnTo>
                          <a:pt x="1817" y="691"/>
                        </a:lnTo>
                        <a:lnTo>
                          <a:pt x="1812" y="696"/>
                        </a:lnTo>
                        <a:lnTo>
                          <a:pt x="1812" y="700"/>
                        </a:lnTo>
                        <a:lnTo>
                          <a:pt x="1809" y="700"/>
                        </a:lnTo>
                        <a:lnTo>
                          <a:pt x="1802" y="705"/>
                        </a:lnTo>
                        <a:lnTo>
                          <a:pt x="1799" y="705"/>
                        </a:lnTo>
                        <a:lnTo>
                          <a:pt x="1799" y="709"/>
                        </a:lnTo>
                        <a:lnTo>
                          <a:pt x="1795" y="713"/>
                        </a:lnTo>
                        <a:lnTo>
                          <a:pt x="1792" y="713"/>
                        </a:lnTo>
                        <a:lnTo>
                          <a:pt x="1792" y="718"/>
                        </a:lnTo>
                        <a:lnTo>
                          <a:pt x="1788" y="718"/>
                        </a:lnTo>
                        <a:lnTo>
                          <a:pt x="1784" y="718"/>
                        </a:lnTo>
                        <a:lnTo>
                          <a:pt x="1784" y="723"/>
                        </a:lnTo>
                        <a:lnTo>
                          <a:pt x="1780" y="723"/>
                        </a:lnTo>
                        <a:lnTo>
                          <a:pt x="1776" y="723"/>
                        </a:lnTo>
                        <a:lnTo>
                          <a:pt x="1772" y="723"/>
                        </a:lnTo>
                        <a:lnTo>
                          <a:pt x="1769" y="723"/>
                        </a:lnTo>
                        <a:lnTo>
                          <a:pt x="1769" y="726"/>
                        </a:lnTo>
                        <a:lnTo>
                          <a:pt x="1765" y="726"/>
                        </a:lnTo>
                        <a:lnTo>
                          <a:pt x="1760" y="731"/>
                        </a:lnTo>
                        <a:lnTo>
                          <a:pt x="1753" y="741"/>
                        </a:lnTo>
                        <a:lnTo>
                          <a:pt x="1749" y="741"/>
                        </a:lnTo>
                        <a:lnTo>
                          <a:pt x="1746" y="741"/>
                        </a:lnTo>
                        <a:lnTo>
                          <a:pt x="1741" y="741"/>
                        </a:lnTo>
                        <a:lnTo>
                          <a:pt x="1741" y="744"/>
                        </a:lnTo>
                        <a:lnTo>
                          <a:pt x="1741" y="749"/>
                        </a:lnTo>
                        <a:lnTo>
                          <a:pt x="1746" y="749"/>
                        </a:lnTo>
                        <a:lnTo>
                          <a:pt x="1741" y="749"/>
                        </a:lnTo>
                        <a:lnTo>
                          <a:pt x="1741" y="754"/>
                        </a:lnTo>
                        <a:lnTo>
                          <a:pt x="1737" y="754"/>
                        </a:lnTo>
                        <a:lnTo>
                          <a:pt x="1734" y="758"/>
                        </a:lnTo>
                        <a:lnTo>
                          <a:pt x="1730" y="762"/>
                        </a:lnTo>
                        <a:lnTo>
                          <a:pt x="1727" y="768"/>
                        </a:lnTo>
                        <a:lnTo>
                          <a:pt x="1727" y="773"/>
                        </a:lnTo>
                        <a:lnTo>
                          <a:pt x="1727" y="778"/>
                        </a:lnTo>
                        <a:lnTo>
                          <a:pt x="1723" y="778"/>
                        </a:lnTo>
                        <a:lnTo>
                          <a:pt x="1718" y="783"/>
                        </a:lnTo>
                        <a:lnTo>
                          <a:pt x="1718" y="787"/>
                        </a:lnTo>
                        <a:lnTo>
                          <a:pt x="1713" y="787"/>
                        </a:lnTo>
                        <a:lnTo>
                          <a:pt x="1713" y="791"/>
                        </a:lnTo>
                        <a:lnTo>
                          <a:pt x="1718" y="791"/>
                        </a:lnTo>
                        <a:lnTo>
                          <a:pt x="1718" y="796"/>
                        </a:lnTo>
                        <a:lnTo>
                          <a:pt x="1723" y="800"/>
                        </a:lnTo>
                        <a:lnTo>
                          <a:pt x="1730" y="796"/>
                        </a:lnTo>
                        <a:lnTo>
                          <a:pt x="1737" y="796"/>
                        </a:lnTo>
                        <a:lnTo>
                          <a:pt x="1741" y="796"/>
                        </a:lnTo>
                        <a:lnTo>
                          <a:pt x="1741" y="800"/>
                        </a:lnTo>
                        <a:lnTo>
                          <a:pt x="1737" y="800"/>
                        </a:lnTo>
                        <a:lnTo>
                          <a:pt x="1734" y="800"/>
                        </a:lnTo>
                        <a:lnTo>
                          <a:pt x="1730" y="805"/>
                        </a:lnTo>
                        <a:lnTo>
                          <a:pt x="1727" y="809"/>
                        </a:lnTo>
                        <a:lnTo>
                          <a:pt x="1723" y="809"/>
                        </a:lnTo>
                        <a:lnTo>
                          <a:pt x="1718" y="813"/>
                        </a:lnTo>
                        <a:lnTo>
                          <a:pt x="1723" y="813"/>
                        </a:lnTo>
                        <a:lnTo>
                          <a:pt x="1723" y="818"/>
                        </a:lnTo>
                        <a:lnTo>
                          <a:pt x="1727" y="818"/>
                        </a:lnTo>
                        <a:lnTo>
                          <a:pt x="1730" y="823"/>
                        </a:lnTo>
                        <a:lnTo>
                          <a:pt x="1730" y="826"/>
                        </a:lnTo>
                        <a:lnTo>
                          <a:pt x="1734" y="831"/>
                        </a:lnTo>
                        <a:lnTo>
                          <a:pt x="1737" y="831"/>
                        </a:lnTo>
                        <a:lnTo>
                          <a:pt x="1741" y="831"/>
                        </a:lnTo>
                        <a:lnTo>
                          <a:pt x="1746" y="836"/>
                        </a:lnTo>
                        <a:lnTo>
                          <a:pt x="1746" y="840"/>
                        </a:lnTo>
                        <a:lnTo>
                          <a:pt x="1741" y="847"/>
                        </a:lnTo>
                        <a:lnTo>
                          <a:pt x="1741" y="852"/>
                        </a:lnTo>
                        <a:lnTo>
                          <a:pt x="1737" y="855"/>
                        </a:lnTo>
                        <a:lnTo>
                          <a:pt x="1737" y="860"/>
                        </a:lnTo>
                        <a:lnTo>
                          <a:pt x="1734" y="860"/>
                        </a:lnTo>
                        <a:lnTo>
                          <a:pt x="1734" y="865"/>
                        </a:lnTo>
                        <a:lnTo>
                          <a:pt x="1737" y="865"/>
                        </a:lnTo>
                        <a:lnTo>
                          <a:pt x="1737" y="869"/>
                        </a:lnTo>
                        <a:lnTo>
                          <a:pt x="1737" y="873"/>
                        </a:lnTo>
                        <a:lnTo>
                          <a:pt x="1737" y="878"/>
                        </a:lnTo>
                        <a:lnTo>
                          <a:pt x="1737" y="883"/>
                        </a:lnTo>
                        <a:lnTo>
                          <a:pt x="1741" y="883"/>
                        </a:lnTo>
                        <a:lnTo>
                          <a:pt x="1746" y="883"/>
                        </a:lnTo>
                        <a:lnTo>
                          <a:pt x="1749" y="883"/>
                        </a:lnTo>
                        <a:lnTo>
                          <a:pt x="1749" y="887"/>
                        </a:lnTo>
                        <a:lnTo>
                          <a:pt x="1746" y="891"/>
                        </a:lnTo>
                        <a:lnTo>
                          <a:pt x="1741" y="891"/>
                        </a:lnTo>
                        <a:lnTo>
                          <a:pt x="1741" y="896"/>
                        </a:lnTo>
                        <a:lnTo>
                          <a:pt x="1741" y="900"/>
                        </a:lnTo>
                        <a:lnTo>
                          <a:pt x="1737" y="900"/>
                        </a:lnTo>
                        <a:lnTo>
                          <a:pt x="1737" y="905"/>
                        </a:lnTo>
                        <a:lnTo>
                          <a:pt x="1734" y="905"/>
                        </a:lnTo>
                        <a:lnTo>
                          <a:pt x="1734" y="910"/>
                        </a:lnTo>
                        <a:lnTo>
                          <a:pt x="1730" y="910"/>
                        </a:lnTo>
                        <a:lnTo>
                          <a:pt x="1730" y="913"/>
                        </a:lnTo>
                        <a:lnTo>
                          <a:pt x="1727" y="913"/>
                        </a:lnTo>
                        <a:lnTo>
                          <a:pt x="1727" y="918"/>
                        </a:lnTo>
                        <a:lnTo>
                          <a:pt x="1723" y="925"/>
                        </a:lnTo>
                        <a:lnTo>
                          <a:pt x="1723" y="929"/>
                        </a:lnTo>
                        <a:lnTo>
                          <a:pt x="1718" y="929"/>
                        </a:lnTo>
                        <a:lnTo>
                          <a:pt x="1718" y="934"/>
                        </a:lnTo>
                        <a:lnTo>
                          <a:pt x="1713" y="934"/>
                        </a:lnTo>
                        <a:lnTo>
                          <a:pt x="1708" y="929"/>
                        </a:lnTo>
                        <a:lnTo>
                          <a:pt x="1708" y="925"/>
                        </a:lnTo>
                        <a:lnTo>
                          <a:pt x="1708" y="918"/>
                        </a:lnTo>
                        <a:lnTo>
                          <a:pt x="1705" y="918"/>
                        </a:lnTo>
                        <a:lnTo>
                          <a:pt x="1701" y="918"/>
                        </a:lnTo>
                        <a:lnTo>
                          <a:pt x="1698" y="925"/>
                        </a:lnTo>
                        <a:lnTo>
                          <a:pt x="1694" y="925"/>
                        </a:lnTo>
                        <a:lnTo>
                          <a:pt x="1689" y="925"/>
                        </a:lnTo>
                        <a:lnTo>
                          <a:pt x="1689" y="918"/>
                        </a:lnTo>
                        <a:lnTo>
                          <a:pt x="1686" y="918"/>
                        </a:lnTo>
                        <a:lnTo>
                          <a:pt x="1682" y="913"/>
                        </a:lnTo>
                        <a:lnTo>
                          <a:pt x="1678" y="910"/>
                        </a:lnTo>
                        <a:lnTo>
                          <a:pt x="1675" y="910"/>
                        </a:lnTo>
                        <a:lnTo>
                          <a:pt x="1675" y="905"/>
                        </a:lnTo>
                        <a:lnTo>
                          <a:pt x="1675" y="900"/>
                        </a:lnTo>
                        <a:lnTo>
                          <a:pt x="1675" y="896"/>
                        </a:lnTo>
                        <a:lnTo>
                          <a:pt x="1671" y="891"/>
                        </a:lnTo>
                        <a:lnTo>
                          <a:pt x="1666" y="891"/>
                        </a:lnTo>
                        <a:lnTo>
                          <a:pt x="1666" y="887"/>
                        </a:lnTo>
                        <a:lnTo>
                          <a:pt x="1666" y="883"/>
                        </a:lnTo>
                        <a:lnTo>
                          <a:pt x="1671" y="883"/>
                        </a:lnTo>
                        <a:lnTo>
                          <a:pt x="1675" y="883"/>
                        </a:lnTo>
                        <a:lnTo>
                          <a:pt x="1671" y="883"/>
                        </a:lnTo>
                        <a:lnTo>
                          <a:pt x="1671" y="878"/>
                        </a:lnTo>
                        <a:lnTo>
                          <a:pt x="1666" y="878"/>
                        </a:lnTo>
                        <a:lnTo>
                          <a:pt x="1666" y="883"/>
                        </a:lnTo>
                        <a:lnTo>
                          <a:pt x="1663" y="883"/>
                        </a:lnTo>
                        <a:lnTo>
                          <a:pt x="1659" y="883"/>
                        </a:lnTo>
                        <a:lnTo>
                          <a:pt x="1655" y="883"/>
                        </a:lnTo>
                        <a:lnTo>
                          <a:pt x="1652" y="883"/>
                        </a:lnTo>
                        <a:lnTo>
                          <a:pt x="1652" y="878"/>
                        </a:lnTo>
                        <a:lnTo>
                          <a:pt x="1647" y="878"/>
                        </a:lnTo>
                        <a:lnTo>
                          <a:pt x="1647" y="873"/>
                        </a:lnTo>
                        <a:lnTo>
                          <a:pt x="1647" y="869"/>
                        </a:lnTo>
                        <a:lnTo>
                          <a:pt x="1647" y="865"/>
                        </a:lnTo>
                        <a:lnTo>
                          <a:pt x="1647" y="860"/>
                        </a:lnTo>
                        <a:lnTo>
                          <a:pt x="1643" y="860"/>
                        </a:lnTo>
                        <a:lnTo>
                          <a:pt x="1640" y="860"/>
                        </a:lnTo>
                        <a:lnTo>
                          <a:pt x="1640" y="855"/>
                        </a:lnTo>
                        <a:lnTo>
                          <a:pt x="1640" y="852"/>
                        </a:lnTo>
                        <a:lnTo>
                          <a:pt x="1636" y="855"/>
                        </a:lnTo>
                        <a:lnTo>
                          <a:pt x="1632" y="855"/>
                        </a:lnTo>
                        <a:lnTo>
                          <a:pt x="1632" y="860"/>
                        </a:lnTo>
                        <a:lnTo>
                          <a:pt x="1626" y="860"/>
                        </a:lnTo>
                        <a:lnTo>
                          <a:pt x="1623" y="860"/>
                        </a:lnTo>
                        <a:lnTo>
                          <a:pt x="1618" y="860"/>
                        </a:lnTo>
                        <a:lnTo>
                          <a:pt x="1618" y="865"/>
                        </a:lnTo>
                        <a:lnTo>
                          <a:pt x="1614" y="865"/>
                        </a:lnTo>
                        <a:lnTo>
                          <a:pt x="1614" y="869"/>
                        </a:lnTo>
                        <a:lnTo>
                          <a:pt x="1611" y="869"/>
                        </a:lnTo>
                        <a:lnTo>
                          <a:pt x="1607" y="873"/>
                        </a:lnTo>
                        <a:lnTo>
                          <a:pt x="1607" y="878"/>
                        </a:lnTo>
                        <a:lnTo>
                          <a:pt x="1600" y="883"/>
                        </a:lnTo>
                        <a:lnTo>
                          <a:pt x="1595" y="887"/>
                        </a:lnTo>
                        <a:lnTo>
                          <a:pt x="1591" y="887"/>
                        </a:lnTo>
                        <a:lnTo>
                          <a:pt x="1588" y="891"/>
                        </a:lnTo>
                        <a:lnTo>
                          <a:pt x="1584" y="891"/>
                        </a:lnTo>
                        <a:lnTo>
                          <a:pt x="1584" y="896"/>
                        </a:lnTo>
                        <a:lnTo>
                          <a:pt x="1581" y="896"/>
                        </a:lnTo>
                        <a:lnTo>
                          <a:pt x="1581" y="900"/>
                        </a:lnTo>
                        <a:lnTo>
                          <a:pt x="1576" y="900"/>
                        </a:lnTo>
                        <a:lnTo>
                          <a:pt x="1572" y="905"/>
                        </a:lnTo>
                        <a:lnTo>
                          <a:pt x="1572" y="910"/>
                        </a:lnTo>
                        <a:lnTo>
                          <a:pt x="1569" y="913"/>
                        </a:lnTo>
                        <a:lnTo>
                          <a:pt x="1565" y="913"/>
                        </a:lnTo>
                        <a:lnTo>
                          <a:pt x="1565" y="918"/>
                        </a:lnTo>
                        <a:lnTo>
                          <a:pt x="1561" y="925"/>
                        </a:lnTo>
                        <a:lnTo>
                          <a:pt x="1561" y="929"/>
                        </a:lnTo>
                        <a:lnTo>
                          <a:pt x="1557" y="929"/>
                        </a:lnTo>
                        <a:lnTo>
                          <a:pt x="1553" y="934"/>
                        </a:lnTo>
                        <a:lnTo>
                          <a:pt x="1549" y="938"/>
                        </a:lnTo>
                        <a:lnTo>
                          <a:pt x="1546" y="938"/>
                        </a:lnTo>
                        <a:lnTo>
                          <a:pt x="1546" y="942"/>
                        </a:lnTo>
                        <a:lnTo>
                          <a:pt x="1542" y="942"/>
                        </a:lnTo>
                        <a:lnTo>
                          <a:pt x="1542" y="947"/>
                        </a:lnTo>
                        <a:lnTo>
                          <a:pt x="1536" y="947"/>
                        </a:lnTo>
                        <a:lnTo>
                          <a:pt x="1536" y="942"/>
                        </a:lnTo>
                        <a:lnTo>
                          <a:pt x="1532" y="947"/>
                        </a:lnTo>
                        <a:lnTo>
                          <a:pt x="1529" y="947"/>
                        </a:lnTo>
                        <a:lnTo>
                          <a:pt x="1524" y="947"/>
                        </a:lnTo>
                        <a:lnTo>
                          <a:pt x="1520" y="947"/>
                        </a:lnTo>
                        <a:lnTo>
                          <a:pt x="1517" y="947"/>
                        </a:lnTo>
                        <a:lnTo>
                          <a:pt x="1517" y="952"/>
                        </a:lnTo>
                        <a:lnTo>
                          <a:pt x="1517" y="955"/>
                        </a:lnTo>
                        <a:lnTo>
                          <a:pt x="1517" y="960"/>
                        </a:lnTo>
                        <a:lnTo>
                          <a:pt x="1513" y="960"/>
                        </a:lnTo>
                        <a:lnTo>
                          <a:pt x="1509" y="965"/>
                        </a:lnTo>
                        <a:lnTo>
                          <a:pt x="1505" y="965"/>
                        </a:lnTo>
                        <a:lnTo>
                          <a:pt x="1501" y="969"/>
                        </a:lnTo>
                        <a:lnTo>
                          <a:pt x="1497" y="969"/>
                        </a:lnTo>
                        <a:lnTo>
                          <a:pt x="1497" y="973"/>
                        </a:lnTo>
                        <a:lnTo>
                          <a:pt x="1494" y="973"/>
                        </a:lnTo>
                        <a:lnTo>
                          <a:pt x="1490" y="973"/>
                        </a:lnTo>
                        <a:lnTo>
                          <a:pt x="1490" y="978"/>
                        </a:lnTo>
                        <a:lnTo>
                          <a:pt x="1485" y="978"/>
                        </a:lnTo>
                        <a:lnTo>
                          <a:pt x="1482" y="982"/>
                        </a:lnTo>
                        <a:lnTo>
                          <a:pt x="1478" y="982"/>
                        </a:lnTo>
                        <a:lnTo>
                          <a:pt x="1478" y="987"/>
                        </a:lnTo>
                        <a:lnTo>
                          <a:pt x="1475" y="987"/>
                        </a:lnTo>
                        <a:lnTo>
                          <a:pt x="1475" y="992"/>
                        </a:lnTo>
                        <a:lnTo>
                          <a:pt x="1475" y="996"/>
                        </a:lnTo>
                        <a:lnTo>
                          <a:pt x="1471" y="996"/>
                        </a:lnTo>
                        <a:lnTo>
                          <a:pt x="1471" y="1002"/>
                        </a:lnTo>
                        <a:lnTo>
                          <a:pt x="1467" y="1002"/>
                        </a:lnTo>
                        <a:lnTo>
                          <a:pt x="1462" y="1007"/>
                        </a:lnTo>
                        <a:lnTo>
                          <a:pt x="1462" y="1011"/>
                        </a:lnTo>
                        <a:lnTo>
                          <a:pt x="1462" y="1020"/>
                        </a:lnTo>
                        <a:lnTo>
                          <a:pt x="1462" y="1025"/>
                        </a:lnTo>
                        <a:lnTo>
                          <a:pt x="1459" y="1025"/>
                        </a:lnTo>
                        <a:lnTo>
                          <a:pt x="1455" y="1025"/>
                        </a:lnTo>
                        <a:lnTo>
                          <a:pt x="1452" y="1025"/>
                        </a:lnTo>
                        <a:lnTo>
                          <a:pt x="1446" y="1025"/>
                        </a:lnTo>
                        <a:lnTo>
                          <a:pt x="1442" y="1025"/>
                        </a:lnTo>
                        <a:lnTo>
                          <a:pt x="1438" y="1025"/>
                        </a:lnTo>
                        <a:lnTo>
                          <a:pt x="1430" y="1025"/>
                        </a:lnTo>
                        <a:lnTo>
                          <a:pt x="1430" y="1029"/>
                        </a:lnTo>
                        <a:lnTo>
                          <a:pt x="1430" y="1025"/>
                        </a:lnTo>
                        <a:lnTo>
                          <a:pt x="1426" y="1025"/>
                        </a:lnTo>
                        <a:lnTo>
                          <a:pt x="1423" y="1025"/>
                        </a:lnTo>
                        <a:lnTo>
                          <a:pt x="1419" y="1025"/>
                        </a:lnTo>
                        <a:lnTo>
                          <a:pt x="1415" y="1025"/>
                        </a:lnTo>
                        <a:lnTo>
                          <a:pt x="1415" y="1029"/>
                        </a:lnTo>
                        <a:lnTo>
                          <a:pt x="1411" y="1029"/>
                        </a:lnTo>
                        <a:lnTo>
                          <a:pt x="1411" y="1034"/>
                        </a:lnTo>
                        <a:lnTo>
                          <a:pt x="1407" y="1034"/>
                        </a:lnTo>
                        <a:lnTo>
                          <a:pt x="1403" y="1039"/>
                        </a:lnTo>
                        <a:lnTo>
                          <a:pt x="1400" y="1039"/>
                        </a:lnTo>
                        <a:lnTo>
                          <a:pt x="1400" y="1042"/>
                        </a:lnTo>
                        <a:lnTo>
                          <a:pt x="1396" y="1042"/>
                        </a:lnTo>
                        <a:lnTo>
                          <a:pt x="1391" y="1042"/>
                        </a:lnTo>
                        <a:lnTo>
                          <a:pt x="1391" y="1047"/>
                        </a:lnTo>
                        <a:lnTo>
                          <a:pt x="1388" y="1047"/>
                        </a:lnTo>
                        <a:lnTo>
                          <a:pt x="1388" y="1052"/>
                        </a:lnTo>
                        <a:lnTo>
                          <a:pt x="1384" y="1052"/>
                        </a:lnTo>
                        <a:lnTo>
                          <a:pt x="1380" y="1052"/>
                        </a:lnTo>
                        <a:lnTo>
                          <a:pt x="1377" y="1052"/>
                        </a:lnTo>
                        <a:lnTo>
                          <a:pt x="1372" y="1055"/>
                        </a:lnTo>
                        <a:lnTo>
                          <a:pt x="1368" y="1055"/>
                        </a:lnTo>
                        <a:lnTo>
                          <a:pt x="1365" y="1055"/>
                        </a:lnTo>
                        <a:lnTo>
                          <a:pt x="1365" y="1060"/>
                        </a:lnTo>
                        <a:lnTo>
                          <a:pt x="1359" y="1060"/>
                        </a:lnTo>
                        <a:lnTo>
                          <a:pt x="1355" y="1060"/>
                        </a:lnTo>
                        <a:lnTo>
                          <a:pt x="1352" y="1060"/>
                        </a:lnTo>
                        <a:lnTo>
                          <a:pt x="1352" y="1065"/>
                        </a:lnTo>
                        <a:lnTo>
                          <a:pt x="1348" y="1065"/>
                        </a:lnTo>
                        <a:lnTo>
                          <a:pt x="1344" y="1065"/>
                        </a:lnTo>
                        <a:lnTo>
                          <a:pt x="1339" y="1065"/>
                        </a:lnTo>
                        <a:lnTo>
                          <a:pt x="1339" y="1069"/>
                        </a:lnTo>
                        <a:lnTo>
                          <a:pt x="1336" y="1069"/>
                        </a:lnTo>
                        <a:lnTo>
                          <a:pt x="1336" y="1076"/>
                        </a:lnTo>
                        <a:lnTo>
                          <a:pt x="1332" y="1076"/>
                        </a:lnTo>
                        <a:lnTo>
                          <a:pt x="1329" y="1076"/>
                        </a:lnTo>
                        <a:lnTo>
                          <a:pt x="1325" y="1076"/>
                        </a:lnTo>
                        <a:lnTo>
                          <a:pt x="1320" y="1076"/>
                        </a:lnTo>
                        <a:lnTo>
                          <a:pt x="1317" y="1081"/>
                        </a:lnTo>
                        <a:lnTo>
                          <a:pt x="1313" y="1081"/>
                        </a:lnTo>
                        <a:lnTo>
                          <a:pt x="1309" y="1081"/>
                        </a:lnTo>
                        <a:lnTo>
                          <a:pt x="1309" y="1084"/>
                        </a:lnTo>
                        <a:lnTo>
                          <a:pt x="1306" y="1084"/>
                        </a:lnTo>
                        <a:lnTo>
                          <a:pt x="1301" y="1084"/>
                        </a:lnTo>
                        <a:lnTo>
                          <a:pt x="1297" y="1084"/>
                        </a:lnTo>
                        <a:lnTo>
                          <a:pt x="1294" y="1084"/>
                        </a:lnTo>
                        <a:lnTo>
                          <a:pt x="1290" y="1089"/>
                        </a:lnTo>
                        <a:lnTo>
                          <a:pt x="1286" y="1089"/>
                        </a:lnTo>
                        <a:lnTo>
                          <a:pt x="1283" y="1094"/>
                        </a:lnTo>
                        <a:lnTo>
                          <a:pt x="1283" y="1098"/>
                        </a:lnTo>
                        <a:lnTo>
                          <a:pt x="1283" y="1102"/>
                        </a:lnTo>
                        <a:lnTo>
                          <a:pt x="1283" y="1107"/>
                        </a:lnTo>
                        <a:lnTo>
                          <a:pt x="1286" y="1107"/>
                        </a:lnTo>
                        <a:lnTo>
                          <a:pt x="1286" y="1111"/>
                        </a:lnTo>
                        <a:lnTo>
                          <a:pt x="1283" y="1111"/>
                        </a:lnTo>
                        <a:lnTo>
                          <a:pt x="1278" y="1116"/>
                        </a:lnTo>
                        <a:lnTo>
                          <a:pt x="1274" y="1116"/>
                        </a:lnTo>
                        <a:lnTo>
                          <a:pt x="1274" y="1121"/>
                        </a:lnTo>
                        <a:lnTo>
                          <a:pt x="1274" y="1124"/>
                        </a:lnTo>
                        <a:lnTo>
                          <a:pt x="1274" y="1129"/>
                        </a:lnTo>
                        <a:lnTo>
                          <a:pt x="1268" y="1129"/>
                        </a:lnTo>
                        <a:lnTo>
                          <a:pt x="1268" y="1134"/>
                        </a:lnTo>
                        <a:lnTo>
                          <a:pt x="1265" y="1134"/>
                        </a:lnTo>
                        <a:lnTo>
                          <a:pt x="1265" y="1139"/>
                        </a:lnTo>
                        <a:lnTo>
                          <a:pt x="1265" y="1142"/>
                        </a:lnTo>
                        <a:lnTo>
                          <a:pt x="1265" y="1147"/>
                        </a:lnTo>
                        <a:lnTo>
                          <a:pt x="1261" y="1147"/>
                        </a:lnTo>
                        <a:lnTo>
                          <a:pt x="1257" y="1147"/>
                        </a:lnTo>
                        <a:lnTo>
                          <a:pt x="1254" y="1147"/>
                        </a:lnTo>
                        <a:lnTo>
                          <a:pt x="1249" y="1147"/>
                        </a:lnTo>
                        <a:lnTo>
                          <a:pt x="1245" y="1153"/>
                        </a:lnTo>
                        <a:lnTo>
                          <a:pt x="1242" y="1153"/>
                        </a:lnTo>
                        <a:lnTo>
                          <a:pt x="1242" y="1158"/>
                        </a:lnTo>
                        <a:lnTo>
                          <a:pt x="1238" y="1163"/>
                        </a:lnTo>
                        <a:lnTo>
                          <a:pt x="1235" y="1163"/>
                        </a:lnTo>
                        <a:lnTo>
                          <a:pt x="1235" y="1166"/>
                        </a:lnTo>
                        <a:lnTo>
                          <a:pt x="1235" y="1176"/>
                        </a:lnTo>
                        <a:lnTo>
                          <a:pt x="1235" y="1181"/>
                        </a:lnTo>
                        <a:lnTo>
                          <a:pt x="1231" y="1181"/>
                        </a:lnTo>
                        <a:lnTo>
                          <a:pt x="1226" y="1184"/>
                        </a:lnTo>
                        <a:lnTo>
                          <a:pt x="1222" y="1184"/>
                        </a:lnTo>
                        <a:lnTo>
                          <a:pt x="1219" y="1184"/>
                        </a:lnTo>
                        <a:lnTo>
                          <a:pt x="1212" y="1189"/>
                        </a:lnTo>
                        <a:lnTo>
                          <a:pt x="1207" y="1194"/>
                        </a:lnTo>
                        <a:lnTo>
                          <a:pt x="1203" y="1198"/>
                        </a:lnTo>
                        <a:lnTo>
                          <a:pt x="1200" y="1198"/>
                        </a:lnTo>
                        <a:lnTo>
                          <a:pt x="1196" y="1203"/>
                        </a:lnTo>
                        <a:lnTo>
                          <a:pt x="1192" y="1203"/>
                        </a:lnTo>
                        <a:lnTo>
                          <a:pt x="1188" y="1203"/>
                        </a:lnTo>
                        <a:lnTo>
                          <a:pt x="1184" y="1203"/>
                        </a:lnTo>
                        <a:lnTo>
                          <a:pt x="1178" y="1207"/>
                        </a:lnTo>
                        <a:lnTo>
                          <a:pt x="1174" y="1207"/>
                        </a:lnTo>
                        <a:lnTo>
                          <a:pt x="1171" y="1207"/>
                        </a:lnTo>
                        <a:lnTo>
                          <a:pt x="1167" y="1207"/>
                        </a:lnTo>
                        <a:lnTo>
                          <a:pt x="1167" y="1211"/>
                        </a:lnTo>
                        <a:lnTo>
                          <a:pt x="1163" y="1207"/>
                        </a:lnTo>
                        <a:lnTo>
                          <a:pt x="1155" y="1211"/>
                        </a:lnTo>
                        <a:lnTo>
                          <a:pt x="1155" y="1216"/>
                        </a:lnTo>
                        <a:lnTo>
                          <a:pt x="1151" y="1216"/>
                        </a:lnTo>
                        <a:lnTo>
                          <a:pt x="1151" y="1221"/>
                        </a:lnTo>
                        <a:lnTo>
                          <a:pt x="1148" y="1221"/>
                        </a:lnTo>
                        <a:lnTo>
                          <a:pt x="1148" y="1224"/>
                        </a:lnTo>
                        <a:lnTo>
                          <a:pt x="1144" y="1224"/>
                        </a:lnTo>
                        <a:lnTo>
                          <a:pt x="1136" y="1231"/>
                        </a:lnTo>
                        <a:lnTo>
                          <a:pt x="1132" y="1231"/>
                        </a:lnTo>
                        <a:lnTo>
                          <a:pt x="1128" y="1231"/>
                        </a:lnTo>
                        <a:lnTo>
                          <a:pt x="1125" y="1231"/>
                        </a:lnTo>
                        <a:lnTo>
                          <a:pt x="1125" y="1236"/>
                        </a:lnTo>
                        <a:lnTo>
                          <a:pt x="1121" y="1236"/>
                        </a:lnTo>
                        <a:lnTo>
                          <a:pt x="1116" y="1236"/>
                        </a:lnTo>
                        <a:lnTo>
                          <a:pt x="1113" y="1236"/>
                        </a:lnTo>
                        <a:lnTo>
                          <a:pt x="1109" y="1236"/>
                        </a:lnTo>
                        <a:lnTo>
                          <a:pt x="1106" y="1236"/>
                        </a:lnTo>
                        <a:lnTo>
                          <a:pt x="1106" y="1231"/>
                        </a:lnTo>
                        <a:lnTo>
                          <a:pt x="1106" y="1236"/>
                        </a:lnTo>
                        <a:lnTo>
                          <a:pt x="1102" y="1236"/>
                        </a:lnTo>
                        <a:lnTo>
                          <a:pt x="1098" y="1236"/>
                        </a:lnTo>
                        <a:lnTo>
                          <a:pt x="1098" y="1231"/>
                        </a:lnTo>
                        <a:lnTo>
                          <a:pt x="1092" y="1231"/>
                        </a:lnTo>
                        <a:lnTo>
                          <a:pt x="1089" y="1231"/>
                        </a:lnTo>
                        <a:lnTo>
                          <a:pt x="1084" y="1231"/>
                        </a:lnTo>
                        <a:lnTo>
                          <a:pt x="1080" y="1231"/>
                        </a:lnTo>
                        <a:lnTo>
                          <a:pt x="1077" y="1231"/>
                        </a:lnTo>
                        <a:lnTo>
                          <a:pt x="1077" y="1236"/>
                        </a:lnTo>
                        <a:lnTo>
                          <a:pt x="1073" y="1236"/>
                        </a:lnTo>
                        <a:lnTo>
                          <a:pt x="1065" y="1236"/>
                        </a:lnTo>
                        <a:lnTo>
                          <a:pt x="1065" y="1240"/>
                        </a:lnTo>
                        <a:lnTo>
                          <a:pt x="1061" y="1240"/>
                        </a:lnTo>
                        <a:lnTo>
                          <a:pt x="1057" y="1240"/>
                        </a:lnTo>
                        <a:lnTo>
                          <a:pt x="1050" y="1240"/>
                        </a:lnTo>
                        <a:lnTo>
                          <a:pt x="1045" y="1236"/>
                        </a:lnTo>
                        <a:lnTo>
                          <a:pt x="1042" y="1236"/>
                        </a:lnTo>
                        <a:lnTo>
                          <a:pt x="1034" y="1240"/>
                        </a:lnTo>
                        <a:lnTo>
                          <a:pt x="1031" y="1240"/>
                        </a:lnTo>
                        <a:lnTo>
                          <a:pt x="1027" y="1240"/>
                        </a:lnTo>
                        <a:lnTo>
                          <a:pt x="1022" y="1240"/>
                        </a:lnTo>
                        <a:lnTo>
                          <a:pt x="1019" y="1240"/>
                        </a:lnTo>
                        <a:lnTo>
                          <a:pt x="1015" y="1240"/>
                        </a:lnTo>
                        <a:lnTo>
                          <a:pt x="1011" y="1236"/>
                        </a:lnTo>
                        <a:lnTo>
                          <a:pt x="1011" y="1231"/>
                        </a:lnTo>
                        <a:lnTo>
                          <a:pt x="1011" y="1224"/>
                        </a:lnTo>
                        <a:lnTo>
                          <a:pt x="1008" y="1221"/>
                        </a:lnTo>
                        <a:lnTo>
                          <a:pt x="1002" y="1221"/>
                        </a:lnTo>
                        <a:lnTo>
                          <a:pt x="998" y="1221"/>
                        </a:lnTo>
                        <a:lnTo>
                          <a:pt x="998" y="1216"/>
                        </a:lnTo>
                        <a:lnTo>
                          <a:pt x="993" y="1216"/>
                        </a:lnTo>
                        <a:lnTo>
                          <a:pt x="990" y="1216"/>
                        </a:lnTo>
                        <a:lnTo>
                          <a:pt x="986" y="1216"/>
                        </a:lnTo>
                        <a:lnTo>
                          <a:pt x="983" y="1216"/>
                        </a:lnTo>
                        <a:lnTo>
                          <a:pt x="979" y="1216"/>
                        </a:lnTo>
                        <a:lnTo>
                          <a:pt x="970" y="1216"/>
                        </a:lnTo>
                        <a:lnTo>
                          <a:pt x="967" y="1216"/>
                        </a:lnTo>
                        <a:lnTo>
                          <a:pt x="967" y="1211"/>
                        </a:lnTo>
                        <a:lnTo>
                          <a:pt x="963" y="1203"/>
                        </a:lnTo>
                        <a:lnTo>
                          <a:pt x="960" y="1203"/>
                        </a:lnTo>
                        <a:lnTo>
                          <a:pt x="960" y="1198"/>
                        </a:lnTo>
                        <a:lnTo>
                          <a:pt x="956" y="1198"/>
                        </a:lnTo>
                        <a:lnTo>
                          <a:pt x="951" y="1203"/>
                        </a:lnTo>
                        <a:lnTo>
                          <a:pt x="948" y="1207"/>
                        </a:lnTo>
                        <a:lnTo>
                          <a:pt x="951" y="1211"/>
                        </a:lnTo>
                        <a:lnTo>
                          <a:pt x="956" y="1211"/>
                        </a:lnTo>
                        <a:lnTo>
                          <a:pt x="956" y="1216"/>
                        </a:lnTo>
                        <a:lnTo>
                          <a:pt x="951" y="1216"/>
                        </a:lnTo>
                        <a:lnTo>
                          <a:pt x="948" y="1216"/>
                        </a:lnTo>
                        <a:lnTo>
                          <a:pt x="948" y="1211"/>
                        </a:lnTo>
                        <a:lnTo>
                          <a:pt x="944" y="1211"/>
                        </a:lnTo>
                        <a:lnTo>
                          <a:pt x="940" y="1211"/>
                        </a:lnTo>
                        <a:lnTo>
                          <a:pt x="937" y="1216"/>
                        </a:lnTo>
                        <a:lnTo>
                          <a:pt x="932" y="1216"/>
                        </a:lnTo>
                        <a:lnTo>
                          <a:pt x="928" y="1216"/>
                        </a:lnTo>
                        <a:lnTo>
                          <a:pt x="928" y="1221"/>
                        </a:lnTo>
                        <a:lnTo>
                          <a:pt x="925" y="1216"/>
                        </a:lnTo>
                        <a:lnTo>
                          <a:pt x="921" y="1216"/>
                        </a:lnTo>
                        <a:lnTo>
                          <a:pt x="921" y="1211"/>
                        </a:lnTo>
                        <a:lnTo>
                          <a:pt x="921" y="1207"/>
                        </a:lnTo>
                        <a:lnTo>
                          <a:pt x="925" y="1207"/>
                        </a:lnTo>
                        <a:lnTo>
                          <a:pt x="928" y="1207"/>
                        </a:lnTo>
                        <a:lnTo>
                          <a:pt x="928" y="1203"/>
                        </a:lnTo>
                        <a:lnTo>
                          <a:pt x="932" y="1198"/>
                        </a:lnTo>
                        <a:lnTo>
                          <a:pt x="928" y="1198"/>
                        </a:lnTo>
                        <a:lnTo>
                          <a:pt x="928" y="1194"/>
                        </a:lnTo>
                        <a:lnTo>
                          <a:pt x="928" y="1189"/>
                        </a:lnTo>
                        <a:lnTo>
                          <a:pt x="928" y="1184"/>
                        </a:lnTo>
                        <a:lnTo>
                          <a:pt x="921" y="1181"/>
                        </a:lnTo>
                        <a:lnTo>
                          <a:pt x="917" y="1181"/>
                        </a:lnTo>
                        <a:lnTo>
                          <a:pt x="911" y="1176"/>
                        </a:lnTo>
                        <a:lnTo>
                          <a:pt x="911" y="1171"/>
                        </a:lnTo>
                        <a:lnTo>
                          <a:pt x="911" y="1166"/>
                        </a:lnTo>
                        <a:lnTo>
                          <a:pt x="911" y="1163"/>
                        </a:lnTo>
                        <a:lnTo>
                          <a:pt x="908" y="1163"/>
                        </a:lnTo>
                        <a:lnTo>
                          <a:pt x="904" y="1163"/>
                        </a:lnTo>
                        <a:lnTo>
                          <a:pt x="904" y="1158"/>
                        </a:lnTo>
                        <a:lnTo>
                          <a:pt x="904" y="1153"/>
                        </a:lnTo>
                        <a:lnTo>
                          <a:pt x="904" y="1147"/>
                        </a:lnTo>
                        <a:lnTo>
                          <a:pt x="899" y="1147"/>
                        </a:lnTo>
                        <a:lnTo>
                          <a:pt x="899" y="1142"/>
                        </a:lnTo>
                        <a:lnTo>
                          <a:pt x="892" y="1142"/>
                        </a:lnTo>
                        <a:lnTo>
                          <a:pt x="899" y="1142"/>
                        </a:lnTo>
                        <a:lnTo>
                          <a:pt x="899" y="1139"/>
                        </a:lnTo>
                        <a:lnTo>
                          <a:pt x="899" y="1134"/>
                        </a:lnTo>
                        <a:lnTo>
                          <a:pt x="899" y="1129"/>
                        </a:lnTo>
                        <a:lnTo>
                          <a:pt x="899" y="1124"/>
                        </a:lnTo>
                        <a:lnTo>
                          <a:pt x="899" y="1121"/>
                        </a:lnTo>
                        <a:lnTo>
                          <a:pt x="899" y="1116"/>
                        </a:lnTo>
                        <a:lnTo>
                          <a:pt x="899" y="1111"/>
                        </a:lnTo>
                        <a:lnTo>
                          <a:pt x="899" y="1107"/>
                        </a:lnTo>
                        <a:lnTo>
                          <a:pt x="896" y="1102"/>
                        </a:lnTo>
                        <a:lnTo>
                          <a:pt x="892" y="1102"/>
                        </a:lnTo>
                        <a:lnTo>
                          <a:pt x="892" y="1098"/>
                        </a:lnTo>
                        <a:lnTo>
                          <a:pt x="892" y="1094"/>
                        </a:lnTo>
                        <a:lnTo>
                          <a:pt x="888" y="1094"/>
                        </a:lnTo>
                        <a:lnTo>
                          <a:pt x="885" y="1089"/>
                        </a:lnTo>
                        <a:lnTo>
                          <a:pt x="885" y="1084"/>
                        </a:lnTo>
                        <a:lnTo>
                          <a:pt x="885" y="1081"/>
                        </a:lnTo>
                        <a:lnTo>
                          <a:pt x="885" y="1076"/>
                        </a:lnTo>
                        <a:lnTo>
                          <a:pt x="880" y="1076"/>
                        </a:lnTo>
                        <a:lnTo>
                          <a:pt x="885" y="1069"/>
                        </a:lnTo>
                        <a:lnTo>
                          <a:pt x="888" y="1065"/>
                        </a:lnTo>
                        <a:lnTo>
                          <a:pt x="888" y="1060"/>
                        </a:lnTo>
                        <a:lnTo>
                          <a:pt x="892" y="1060"/>
                        </a:lnTo>
                        <a:lnTo>
                          <a:pt x="892" y="1055"/>
                        </a:lnTo>
                        <a:lnTo>
                          <a:pt x="892" y="1047"/>
                        </a:lnTo>
                        <a:lnTo>
                          <a:pt x="892" y="1042"/>
                        </a:lnTo>
                        <a:lnTo>
                          <a:pt x="888" y="1042"/>
                        </a:lnTo>
                        <a:lnTo>
                          <a:pt x="888" y="1039"/>
                        </a:lnTo>
                        <a:lnTo>
                          <a:pt x="885" y="1039"/>
                        </a:lnTo>
                        <a:lnTo>
                          <a:pt x="880" y="1034"/>
                        </a:lnTo>
                        <a:lnTo>
                          <a:pt x="880" y="1029"/>
                        </a:lnTo>
                        <a:lnTo>
                          <a:pt x="876" y="1025"/>
                        </a:lnTo>
                        <a:lnTo>
                          <a:pt x="876" y="1020"/>
                        </a:lnTo>
                        <a:lnTo>
                          <a:pt x="873" y="1020"/>
                        </a:lnTo>
                        <a:lnTo>
                          <a:pt x="873" y="1016"/>
                        </a:lnTo>
                        <a:lnTo>
                          <a:pt x="869" y="1016"/>
                        </a:lnTo>
                        <a:lnTo>
                          <a:pt x="866" y="1011"/>
                        </a:lnTo>
                        <a:lnTo>
                          <a:pt x="857" y="1007"/>
                        </a:lnTo>
                        <a:lnTo>
                          <a:pt x="857" y="1002"/>
                        </a:lnTo>
                        <a:lnTo>
                          <a:pt x="854" y="1002"/>
                        </a:lnTo>
                        <a:lnTo>
                          <a:pt x="854" y="996"/>
                        </a:lnTo>
                        <a:lnTo>
                          <a:pt x="854" y="992"/>
                        </a:lnTo>
                        <a:lnTo>
                          <a:pt x="850" y="992"/>
                        </a:lnTo>
                        <a:lnTo>
                          <a:pt x="850" y="987"/>
                        </a:lnTo>
                        <a:lnTo>
                          <a:pt x="846" y="982"/>
                        </a:lnTo>
                        <a:lnTo>
                          <a:pt x="846" y="978"/>
                        </a:lnTo>
                        <a:lnTo>
                          <a:pt x="843" y="969"/>
                        </a:lnTo>
                        <a:lnTo>
                          <a:pt x="843" y="965"/>
                        </a:lnTo>
                        <a:lnTo>
                          <a:pt x="843" y="960"/>
                        </a:lnTo>
                        <a:lnTo>
                          <a:pt x="843" y="955"/>
                        </a:lnTo>
                        <a:lnTo>
                          <a:pt x="846" y="947"/>
                        </a:lnTo>
                        <a:lnTo>
                          <a:pt x="843" y="952"/>
                        </a:lnTo>
                        <a:lnTo>
                          <a:pt x="843" y="947"/>
                        </a:lnTo>
                        <a:lnTo>
                          <a:pt x="838" y="947"/>
                        </a:lnTo>
                        <a:lnTo>
                          <a:pt x="838" y="942"/>
                        </a:lnTo>
                        <a:lnTo>
                          <a:pt x="834" y="942"/>
                        </a:lnTo>
                        <a:lnTo>
                          <a:pt x="831" y="942"/>
                        </a:lnTo>
                        <a:lnTo>
                          <a:pt x="825" y="942"/>
                        </a:lnTo>
                        <a:lnTo>
                          <a:pt x="825" y="947"/>
                        </a:lnTo>
                        <a:lnTo>
                          <a:pt x="821" y="947"/>
                        </a:lnTo>
                        <a:lnTo>
                          <a:pt x="817" y="952"/>
                        </a:lnTo>
                        <a:lnTo>
                          <a:pt x="814" y="947"/>
                        </a:lnTo>
                        <a:lnTo>
                          <a:pt x="814" y="942"/>
                        </a:lnTo>
                        <a:lnTo>
                          <a:pt x="809" y="942"/>
                        </a:lnTo>
                        <a:lnTo>
                          <a:pt x="809" y="938"/>
                        </a:lnTo>
                        <a:lnTo>
                          <a:pt x="805" y="938"/>
                        </a:lnTo>
                        <a:lnTo>
                          <a:pt x="805" y="934"/>
                        </a:lnTo>
                        <a:lnTo>
                          <a:pt x="802" y="934"/>
                        </a:lnTo>
                        <a:lnTo>
                          <a:pt x="798" y="934"/>
                        </a:lnTo>
                        <a:lnTo>
                          <a:pt x="794" y="934"/>
                        </a:lnTo>
                        <a:lnTo>
                          <a:pt x="791" y="929"/>
                        </a:lnTo>
                        <a:lnTo>
                          <a:pt x="786" y="929"/>
                        </a:lnTo>
                        <a:lnTo>
                          <a:pt x="786" y="925"/>
                        </a:lnTo>
                        <a:lnTo>
                          <a:pt x="782" y="925"/>
                        </a:lnTo>
                        <a:lnTo>
                          <a:pt x="782" y="918"/>
                        </a:lnTo>
                        <a:lnTo>
                          <a:pt x="782" y="913"/>
                        </a:lnTo>
                        <a:lnTo>
                          <a:pt x="779" y="913"/>
                        </a:lnTo>
                        <a:lnTo>
                          <a:pt x="779" y="910"/>
                        </a:lnTo>
                        <a:lnTo>
                          <a:pt x="779" y="905"/>
                        </a:lnTo>
                        <a:lnTo>
                          <a:pt x="779" y="900"/>
                        </a:lnTo>
                        <a:lnTo>
                          <a:pt x="775" y="900"/>
                        </a:lnTo>
                        <a:lnTo>
                          <a:pt x="775" y="896"/>
                        </a:lnTo>
                        <a:lnTo>
                          <a:pt x="775" y="891"/>
                        </a:lnTo>
                        <a:lnTo>
                          <a:pt x="772" y="891"/>
                        </a:lnTo>
                        <a:lnTo>
                          <a:pt x="772" y="887"/>
                        </a:lnTo>
                        <a:lnTo>
                          <a:pt x="767" y="887"/>
                        </a:lnTo>
                        <a:lnTo>
                          <a:pt x="763" y="887"/>
                        </a:lnTo>
                        <a:lnTo>
                          <a:pt x="759" y="887"/>
                        </a:lnTo>
                        <a:lnTo>
                          <a:pt x="759" y="891"/>
                        </a:lnTo>
                        <a:lnTo>
                          <a:pt x="756" y="891"/>
                        </a:lnTo>
                        <a:lnTo>
                          <a:pt x="756" y="887"/>
                        </a:lnTo>
                        <a:lnTo>
                          <a:pt x="752" y="891"/>
                        </a:lnTo>
                        <a:lnTo>
                          <a:pt x="747" y="891"/>
                        </a:lnTo>
                        <a:lnTo>
                          <a:pt x="744" y="891"/>
                        </a:lnTo>
                        <a:lnTo>
                          <a:pt x="740" y="891"/>
                        </a:lnTo>
                        <a:lnTo>
                          <a:pt x="734" y="887"/>
                        </a:lnTo>
                        <a:lnTo>
                          <a:pt x="734" y="883"/>
                        </a:lnTo>
                        <a:lnTo>
                          <a:pt x="731" y="883"/>
                        </a:lnTo>
                        <a:lnTo>
                          <a:pt x="727" y="883"/>
                        </a:lnTo>
                        <a:lnTo>
                          <a:pt x="723" y="883"/>
                        </a:lnTo>
                        <a:lnTo>
                          <a:pt x="720" y="883"/>
                        </a:lnTo>
                        <a:lnTo>
                          <a:pt x="720" y="887"/>
                        </a:lnTo>
                        <a:lnTo>
                          <a:pt x="715" y="887"/>
                        </a:lnTo>
                        <a:lnTo>
                          <a:pt x="711" y="887"/>
                        </a:lnTo>
                        <a:lnTo>
                          <a:pt x="708" y="887"/>
                        </a:lnTo>
                        <a:lnTo>
                          <a:pt x="704" y="883"/>
                        </a:lnTo>
                        <a:lnTo>
                          <a:pt x="676" y="865"/>
                        </a:lnTo>
                        <a:lnTo>
                          <a:pt x="650" y="855"/>
                        </a:lnTo>
                        <a:lnTo>
                          <a:pt x="617" y="836"/>
                        </a:lnTo>
                        <a:lnTo>
                          <a:pt x="582" y="818"/>
                        </a:lnTo>
                        <a:lnTo>
                          <a:pt x="553" y="805"/>
                        </a:lnTo>
                        <a:lnTo>
                          <a:pt x="523" y="783"/>
                        </a:lnTo>
                        <a:lnTo>
                          <a:pt x="504" y="778"/>
                        </a:lnTo>
                        <a:lnTo>
                          <a:pt x="481" y="768"/>
                        </a:lnTo>
                        <a:lnTo>
                          <a:pt x="474" y="768"/>
                        </a:lnTo>
                        <a:lnTo>
                          <a:pt x="468" y="762"/>
                        </a:lnTo>
                        <a:lnTo>
                          <a:pt x="464" y="762"/>
                        </a:lnTo>
                        <a:lnTo>
                          <a:pt x="459" y="762"/>
                        </a:lnTo>
                        <a:lnTo>
                          <a:pt x="456" y="762"/>
                        </a:lnTo>
                        <a:lnTo>
                          <a:pt x="452" y="762"/>
                        </a:lnTo>
                        <a:lnTo>
                          <a:pt x="448" y="762"/>
                        </a:lnTo>
                        <a:lnTo>
                          <a:pt x="448" y="758"/>
                        </a:lnTo>
                        <a:lnTo>
                          <a:pt x="445" y="758"/>
                        </a:lnTo>
                        <a:lnTo>
                          <a:pt x="440" y="758"/>
                        </a:lnTo>
                        <a:lnTo>
                          <a:pt x="436" y="758"/>
                        </a:lnTo>
                        <a:lnTo>
                          <a:pt x="436" y="754"/>
                        </a:lnTo>
                        <a:lnTo>
                          <a:pt x="433" y="754"/>
                        </a:lnTo>
                        <a:lnTo>
                          <a:pt x="433" y="749"/>
                        </a:lnTo>
                        <a:lnTo>
                          <a:pt x="429" y="744"/>
                        </a:lnTo>
                        <a:lnTo>
                          <a:pt x="425" y="744"/>
                        </a:lnTo>
                        <a:lnTo>
                          <a:pt x="417" y="744"/>
                        </a:lnTo>
                        <a:lnTo>
                          <a:pt x="413" y="749"/>
                        </a:lnTo>
                        <a:lnTo>
                          <a:pt x="410" y="749"/>
                        </a:lnTo>
                        <a:lnTo>
                          <a:pt x="406" y="754"/>
                        </a:lnTo>
                        <a:lnTo>
                          <a:pt x="403" y="754"/>
                        </a:lnTo>
                        <a:lnTo>
                          <a:pt x="398" y="754"/>
                        </a:lnTo>
                        <a:lnTo>
                          <a:pt x="394" y="754"/>
                        </a:lnTo>
                        <a:lnTo>
                          <a:pt x="390" y="754"/>
                        </a:lnTo>
                        <a:lnTo>
                          <a:pt x="383" y="754"/>
                        </a:lnTo>
                        <a:lnTo>
                          <a:pt x="383" y="758"/>
                        </a:lnTo>
                        <a:lnTo>
                          <a:pt x="377" y="758"/>
                        </a:lnTo>
                        <a:lnTo>
                          <a:pt x="374" y="762"/>
                        </a:lnTo>
                        <a:lnTo>
                          <a:pt x="369" y="762"/>
                        </a:lnTo>
                        <a:lnTo>
                          <a:pt x="369" y="768"/>
                        </a:lnTo>
                        <a:lnTo>
                          <a:pt x="369" y="773"/>
                        </a:lnTo>
                        <a:lnTo>
                          <a:pt x="369" y="778"/>
                        </a:lnTo>
                        <a:lnTo>
                          <a:pt x="365" y="778"/>
                        </a:lnTo>
                        <a:lnTo>
                          <a:pt x="362" y="778"/>
                        </a:lnTo>
                        <a:lnTo>
                          <a:pt x="362" y="783"/>
                        </a:lnTo>
                        <a:lnTo>
                          <a:pt x="362" y="787"/>
                        </a:lnTo>
                        <a:lnTo>
                          <a:pt x="358" y="787"/>
                        </a:lnTo>
                        <a:lnTo>
                          <a:pt x="358" y="791"/>
                        </a:lnTo>
                        <a:lnTo>
                          <a:pt x="358" y="796"/>
                        </a:lnTo>
                        <a:lnTo>
                          <a:pt x="354" y="796"/>
                        </a:lnTo>
                        <a:lnTo>
                          <a:pt x="354" y="800"/>
                        </a:lnTo>
                        <a:lnTo>
                          <a:pt x="351" y="800"/>
                        </a:lnTo>
                        <a:lnTo>
                          <a:pt x="346" y="800"/>
                        </a:lnTo>
                        <a:lnTo>
                          <a:pt x="342" y="800"/>
                        </a:lnTo>
                        <a:lnTo>
                          <a:pt x="339" y="800"/>
                        </a:lnTo>
                        <a:lnTo>
                          <a:pt x="335" y="800"/>
                        </a:lnTo>
                        <a:lnTo>
                          <a:pt x="331" y="800"/>
                        </a:lnTo>
                        <a:lnTo>
                          <a:pt x="327" y="800"/>
                        </a:lnTo>
                        <a:lnTo>
                          <a:pt x="323" y="805"/>
                        </a:lnTo>
                        <a:lnTo>
                          <a:pt x="319" y="805"/>
                        </a:lnTo>
                        <a:lnTo>
                          <a:pt x="312" y="805"/>
                        </a:lnTo>
                        <a:lnTo>
                          <a:pt x="307" y="805"/>
                        </a:lnTo>
                        <a:lnTo>
                          <a:pt x="304" y="805"/>
                        </a:lnTo>
                        <a:lnTo>
                          <a:pt x="300" y="805"/>
                        </a:lnTo>
                        <a:lnTo>
                          <a:pt x="296" y="805"/>
                        </a:lnTo>
                        <a:lnTo>
                          <a:pt x="296" y="800"/>
                        </a:lnTo>
                        <a:lnTo>
                          <a:pt x="290" y="800"/>
                        </a:lnTo>
                        <a:lnTo>
                          <a:pt x="287" y="805"/>
                        </a:lnTo>
                        <a:lnTo>
                          <a:pt x="283" y="805"/>
                        </a:lnTo>
                        <a:lnTo>
                          <a:pt x="280" y="805"/>
                        </a:lnTo>
                        <a:lnTo>
                          <a:pt x="280" y="800"/>
                        </a:lnTo>
                        <a:lnTo>
                          <a:pt x="275" y="800"/>
                        </a:lnTo>
                        <a:lnTo>
                          <a:pt x="275" y="796"/>
                        </a:lnTo>
                        <a:lnTo>
                          <a:pt x="275" y="791"/>
                        </a:lnTo>
                        <a:lnTo>
                          <a:pt x="271" y="791"/>
                        </a:lnTo>
                        <a:lnTo>
                          <a:pt x="271" y="796"/>
                        </a:lnTo>
                        <a:lnTo>
                          <a:pt x="271" y="800"/>
                        </a:lnTo>
                        <a:lnTo>
                          <a:pt x="268" y="800"/>
                        </a:lnTo>
                        <a:lnTo>
                          <a:pt x="268" y="805"/>
                        </a:lnTo>
                        <a:lnTo>
                          <a:pt x="264" y="805"/>
                        </a:lnTo>
                        <a:lnTo>
                          <a:pt x="260" y="805"/>
                        </a:lnTo>
                        <a:lnTo>
                          <a:pt x="260" y="809"/>
                        </a:lnTo>
                        <a:lnTo>
                          <a:pt x="260" y="805"/>
                        </a:lnTo>
                        <a:lnTo>
                          <a:pt x="255" y="805"/>
                        </a:lnTo>
                        <a:lnTo>
                          <a:pt x="255" y="800"/>
                        </a:lnTo>
                        <a:lnTo>
                          <a:pt x="252" y="800"/>
                        </a:lnTo>
                        <a:lnTo>
                          <a:pt x="252" y="796"/>
                        </a:lnTo>
                        <a:lnTo>
                          <a:pt x="252" y="791"/>
                        </a:lnTo>
                        <a:lnTo>
                          <a:pt x="252" y="787"/>
                        </a:lnTo>
                        <a:lnTo>
                          <a:pt x="248" y="783"/>
                        </a:lnTo>
                        <a:lnTo>
                          <a:pt x="245" y="783"/>
                        </a:lnTo>
                        <a:lnTo>
                          <a:pt x="241" y="783"/>
                        </a:lnTo>
                        <a:lnTo>
                          <a:pt x="241" y="778"/>
                        </a:lnTo>
                        <a:lnTo>
                          <a:pt x="236" y="778"/>
                        </a:lnTo>
                        <a:lnTo>
                          <a:pt x="236" y="773"/>
                        </a:lnTo>
                        <a:lnTo>
                          <a:pt x="233" y="773"/>
                        </a:lnTo>
                        <a:lnTo>
                          <a:pt x="229" y="773"/>
                        </a:lnTo>
                        <a:lnTo>
                          <a:pt x="229" y="778"/>
                        </a:lnTo>
                        <a:lnTo>
                          <a:pt x="225" y="778"/>
                        </a:lnTo>
                        <a:lnTo>
                          <a:pt x="225" y="783"/>
                        </a:lnTo>
                        <a:lnTo>
                          <a:pt x="225" y="787"/>
                        </a:lnTo>
                        <a:lnTo>
                          <a:pt x="229" y="787"/>
                        </a:lnTo>
                        <a:lnTo>
                          <a:pt x="229" y="791"/>
                        </a:lnTo>
                        <a:lnTo>
                          <a:pt x="229" y="796"/>
                        </a:lnTo>
                        <a:lnTo>
                          <a:pt x="229" y="800"/>
                        </a:lnTo>
                        <a:lnTo>
                          <a:pt x="229" y="805"/>
                        </a:lnTo>
                        <a:lnTo>
                          <a:pt x="225" y="805"/>
                        </a:lnTo>
                        <a:lnTo>
                          <a:pt x="222" y="805"/>
                        </a:lnTo>
                        <a:lnTo>
                          <a:pt x="222" y="809"/>
                        </a:lnTo>
                        <a:lnTo>
                          <a:pt x="218" y="809"/>
                        </a:lnTo>
                        <a:lnTo>
                          <a:pt x="218" y="813"/>
                        </a:lnTo>
                        <a:lnTo>
                          <a:pt x="213" y="813"/>
                        </a:lnTo>
                        <a:lnTo>
                          <a:pt x="210" y="813"/>
                        </a:lnTo>
                        <a:lnTo>
                          <a:pt x="206" y="813"/>
                        </a:lnTo>
                        <a:lnTo>
                          <a:pt x="206" y="818"/>
                        </a:lnTo>
                        <a:lnTo>
                          <a:pt x="200" y="818"/>
                        </a:lnTo>
                        <a:lnTo>
                          <a:pt x="196" y="818"/>
                        </a:lnTo>
                        <a:lnTo>
                          <a:pt x="193" y="818"/>
                        </a:lnTo>
                        <a:lnTo>
                          <a:pt x="189" y="818"/>
                        </a:lnTo>
                        <a:lnTo>
                          <a:pt x="184" y="823"/>
                        </a:lnTo>
                        <a:lnTo>
                          <a:pt x="181" y="823"/>
                        </a:lnTo>
                        <a:lnTo>
                          <a:pt x="177" y="826"/>
                        </a:lnTo>
                        <a:lnTo>
                          <a:pt x="173" y="826"/>
                        </a:lnTo>
                        <a:lnTo>
                          <a:pt x="170" y="826"/>
                        </a:lnTo>
                        <a:lnTo>
                          <a:pt x="165" y="826"/>
                        </a:lnTo>
                        <a:lnTo>
                          <a:pt x="161" y="826"/>
                        </a:lnTo>
                        <a:lnTo>
                          <a:pt x="158" y="826"/>
                        </a:lnTo>
                        <a:lnTo>
                          <a:pt x="154" y="826"/>
                        </a:lnTo>
                        <a:lnTo>
                          <a:pt x="151" y="826"/>
                        </a:lnTo>
                        <a:lnTo>
                          <a:pt x="151" y="823"/>
                        </a:lnTo>
                        <a:lnTo>
                          <a:pt x="151" y="818"/>
                        </a:lnTo>
                        <a:lnTo>
                          <a:pt x="151" y="813"/>
                        </a:lnTo>
                        <a:lnTo>
                          <a:pt x="138" y="809"/>
                        </a:lnTo>
                        <a:lnTo>
                          <a:pt x="138" y="805"/>
                        </a:lnTo>
                        <a:lnTo>
                          <a:pt x="138" y="800"/>
                        </a:lnTo>
                        <a:lnTo>
                          <a:pt x="135" y="800"/>
                        </a:lnTo>
                        <a:lnTo>
                          <a:pt x="131" y="805"/>
                        </a:lnTo>
                        <a:lnTo>
                          <a:pt x="131" y="809"/>
                        </a:lnTo>
                        <a:lnTo>
                          <a:pt x="128" y="809"/>
                        </a:lnTo>
                        <a:lnTo>
                          <a:pt x="128" y="813"/>
                        </a:lnTo>
                        <a:lnTo>
                          <a:pt x="123" y="818"/>
                        </a:lnTo>
                        <a:lnTo>
                          <a:pt x="119" y="823"/>
                        </a:lnTo>
                        <a:lnTo>
                          <a:pt x="116" y="823"/>
                        </a:lnTo>
                        <a:lnTo>
                          <a:pt x="116" y="826"/>
                        </a:lnTo>
                        <a:lnTo>
                          <a:pt x="110" y="826"/>
                        </a:lnTo>
                        <a:lnTo>
                          <a:pt x="110" y="823"/>
                        </a:lnTo>
                        <a:lnTo>
                          <a:pt x="106" y="823"/>
                        </a:lnTo>
                        <a:lnTo>
                          <a:pt x="102" y="818"/>
                        </a:lnTo>
                        <a:lnTo>
                          <a:pt x="99" y="818"/>
                        </a:lnTo>
                        <a:lnTo>
                          <a:pt x="99" y="813"/>
                        </a:lnTo>
                        <a:lnTo>
                          <a:pt x="95" y="813"/>
                        </a:lnTo>
                        <a:lnTo>
                          <a:pt x="90" y="813"/>
                        </a:lnTo>
                        <a:lnTo>
                          <a:pt x="90" y="809"/>
                        </a:lnTo>
                        <a:lnTo>
                          <a:pt x="87" y="805"/>
                        </a:lnTo>
                        <a:lnTo>
                          <a:pt x="83" y="805"/>
                        </a:lnTo>
                        <a:lnTo>
                          <a:pt x="83" y="800"/>
                        </a:lnTo>
                        <a:lnTo>
                          <a:pt x="83" y="796"/>
                        </a:lnTo>
                        <a:lnTo>
                          <a:pt x="79" y="796"/>
                        </a:lnTo>
                        <a:lnTo>
                          <a:pt x="76" y="796"/>
                        </a:lnTo>
                        <a:lnTo>
                          <a:pt x="76" y="791"/>
                        </a:lnTo>
                        <a:lnTo>
                          <a:pt x="71" y="787"/>
                        </a:lnTo>
                        <a:lnTo>
                          <a:pt x="71" y="783"/>
                        </a:lnTo>
                        <a:lnTo>
                          <a:pt x="67" y="783"/>
                        </a:lnTo>
                        <a:lnTo>
                          <a:pt x="64" y="783"/>
                        </a:lnTo>
                        <a:lnTo>
                          <a:pt x="60" y="783"/>
                        </a:lnTo>
                        <a:lnTo>
                          <a:pt x="60" y="778"/>
                        </a:lnTo>
                        <a:lnTo>
                          <a:pt x="56" y="778"/>
                        </a:lnTo>
                        <a:lnTo>
                          <a:pt x="52" y="778"/>
                        </a:lnTo>
                        <a:lnTo>
                          <a:pt x="48" y="778"/>
                        </a:lnTo>
                        <a:lnTo>
                          <a:pt x="44" y="778"/>
                        </a:lnTo>
                        <a:lnTo>
                          <a:pt x="41" y="778"/>
                        </a:lnTo>
                        <a:lnTo>
                          <a:pt x="37" y="778"/>
                        </a:lnTo>
                        <a:lnTo>
                          <a:pt x="37" y="773"/>
                        </a:lnTo>
                        <a:lnTo>
                          <a:pt x="34" y="773"/>
                        </a:lnTo>
                        <a:lnTo>
                          <a:pt x="29" y="773"/>
                        </a:lnTo>
                        <a:lnTo>
                          <a:pt x="24" y="778"/>
                        </a:lnTo>
                        <a:lnTo>
                          <a:pt x="19" y="778"/>
                        </a:lnTo>
                        <a:lnTo>
                          <a:pt x="19" y="783"/>
                        </a:lnTo>
                        <a:lnTo>
                          <a:pt x="15" y="783"/>
                        </a:lnTo>
                        <a:lnTo>
                          <a:pt x="15" y="787"/>
                        </a:lnTo>
                        <a:lnTo>
                          <a:pt x="8" y="787"/>
                        </a:lnTo>
                        <a:lnTo>
                          <a:pt x="8" y="791"/>
                        </a:lnTo>
                        <a:lnTo>
                          <a:pt x="5" y="796"/>
                        </a:lnTo>
                        <a:lnTo>
                          <a:pt x="0" y="796"/>
                        </a:lnTo>
                        <a:lnTo>
                          <a:pt x="5" y="768"/>
                        </a:lnTo>
                        <a:lnTo>
                          <a:pt x="15" y="749"/>
                        </a:lnTo>
                        <a:lnTo>
                          <a:pt x="19" y="741"/>
                        </a:lnTo>
                        <a:lnTo>
                          <a:pt x="29" y="731"/>
                        </a:lnTo>
                        <a:lnTo>
                          <a:pt x="37" y="709"/>
                        </a:lnTo>
                        <a:lnTo>
                          <a:pt x="37" y="684"/>
                        </a:lnTo>
                        <a:lnTo>
                          <a:pt x="37" y="671"/>
                        </a:lnTo>
                        <a:lnTo>
                          <a:pt x="41" y="667"/>
                        </a:lnTo>
                        <a:lnTo>
                          <a:pt x="29" y="641"/>
                        </a:lnTo>
                        <a:lnTo>
                          <a:pt x="29" y="623"/>
                        </a:lnTo>
                        <a:lnTo>
                          <a:pt x="44" y="598"/>
                        </a:lnTo>
                        <a:lnTo>
                          <a:pt x="48" y="576"/>
                        </a:lnTo>
                        <a:lnTo>
                          <a:pt x="52" y="562"/>
                        </a:lnTo>
                        <a:lnTo>
                          <a:pt x="48" y="549"/>
                        </a:lnTo>
                        <a:lnTo>
                          <a:pt x="44" y="533"/>
                        </a:lnTo>
                        <a:lnTo>
                          <a:pt x="41" y="529"/>
                        </a:lnTo>
                        <a:lnTo>
                          <a:pt x="37" y="512"/>
                        </a:lnTo>
                        <a:lnTo>
                          <a:pt x="52" y="498"/>
                        </a:lnTo>
                        <a:lnTo>
                          <a:pt x="64" y="489"/>
                        </a:lnTo>
                        <a:lnTo>
                          <a:pt x="83" y="471"/>
                        </a:lnTo>
                        <a:lnTo>
                          <a:pt x="99" y="451"/>
                        </a:lnTo>
                        <a:lnTo>
                          <a:pt x="123" y="425"/>
                        </a:lnTo>
                        <a:lnTo>
                          <a:pt x="128" y="425"/>
                        </a:lnTo>
                        <a:lnTo>
                          <a:pt x="138" y="415"/>
                        </a:lnTo>
                        <a:lnTo>
                          <a:pt x="147" y="407"/>
                        </a:lnTo>
                        <a:lnTo>
                          <a:pt x="158" y="394"/>
                        </a:lnTo>
                        <a:lnTo>
                          <a:pt x="181" y="373"/>
                        </a:lnTo>
                        <a:lnTo>
                          <a:pt x="193" y="365"/>
                        </a:lnTo>
                        <a:lnTo>
                          <a:pt x="213" y="343"/>
                        </a:lnTo>
                        <a:lnTo>
                          <a:pt x="229" y="328"/>
                        </a:lnTo>
                        <a:lnTo>
                          <a:pt x="268" y="283"/>
                        </a:lnTo>
                        <a:lnTo>
                          <a:pt x="280" y="260"/>
                        </a:lnTo>
                        <a:lnTo>
                          <a:pt x="296" y="243"/>
                        </a:lnTo>
                        <a:lnTo>
                          <a:pt x="307" y="217"/>
                        </a:lnTo>
                        <a:lnTo>
                          <a:pt x="319" y="204"/>
                        </a:lnTo>
                        <a:lnTo>
                          <a:pt x="335" y="183"/>
                        </a:lnTo>
                        <a:lnTo>
                          <a:pt x="331" y="169"/>
                        </a:lnTo>
                        <a:lnTo>
                          <a:pt x="327" y="149"/>
                        </a:lnTo>
                        <a:lnTo>
                          <a:pt x="335" y="144"/>
                        </a:lnTo>
                        <a:lnTo>
                          <a:pt x="339" y="140"/>
                        </a:lnTo>
                        <a:lnTo>
                          <a:pt x="342" y="140"/>
                        </a:lnTo>
                        <a:lnTo>
                          <a:pt x="351" y="131"/>
                        </a:lnTo>
                        <a:lnTo>
                          <a:pt x="369" y="117"/>
                        </a:lnTo>
                        <a:lnTo>
                          <a:pt x="377" y="114"/>
                        </a:lnTo>
                        <a:lnTo>
                          <a:pt x="403" y="109"/>
                        </a:lnTo>
                        <a:lnTo>
                          <a:pt x="417" y="109"/>
                        </a:lnTo>
                        <a:lnTo>
                          <a:pt x="425" y="104"/>
                        </a:lnTo>
                        <a:lnTo>
                          <a:pt x="440" y="96"/>
                        </a:lnTo>
                        <a:lnTo>
                          <a:pt x="448" y="86"/>
                        </a:lnTo>
                        <a:lnTo>
                          <a:pt x="452" y="82"/>
                        </a:lnTo>
                        <a:lnTo>
                          <a:pt x="456" y="82"/>
                        </a:lnTo>
                        <a:lnTo>
                          <a:pt x="456" y="78"/>
                        </a:lnTo>
                        <a:lnTo>
                          <a:pt x="459" y="72"/>
                        </a:lnTo>
                        <a:lnTo>
                          <a:pt x="464" y="62"/>
                        </a:lnTo>
                        <a:lnTo>
                          <a:pt x="468" y="58"/>
                        </a:lnTo>
                        <a:lnTo>
                          <a:pt x="477" y="58"/>
                        </a:lnTo>
                        <a:lnTo>
                          <a:pt x="485" y="49"/>
                        </a:lnTo>
                        <a:lnTo>
                          <a:pt x="497" y="44"/>
                        </a:lnTo>
                        <a:lnTo>
                          <a:pt x="504" y="44"/>
                        </a:lnTo>
                        <a:lnTo>
                          <a:pt x="520" y="40"/>
                        </a:lnTo>
                        <a:lnTo>
                          <a:pt x="546" y="27"/>
                        </a:lnTo>
                        <a:lnTo>
                          <a:pt x="568" y="22"/>
                        </a:lnTo>
                        <a:lnTo>
                          <a:pt x="582" y="14"/>
                        </a:lnTo>
                        <a:lnTo>
                          <a:pt x="598" y="4"/>
                        </a:lnTo>
                        <a:lnTo>
                          <a:pt x="602" y="4"/>
                        </a:lnTo>
                        <a:lnTo>
                          <a:pt x="605" y="0"/>
                        </a:lnTo>
                        <a:lnTo>
                          <a:pt x="605" y="4"/>
                        </a:lnTo>
                        <a:lnTo>
                          <a:pt x="610" y="9"/>
                        </a:lnTo>
                        <a:lnTo>
                          <a:pt x="614" y="17"/>
                        </a:lnTo>
                        <a:lnTo>
                          <a:pt x="617" y="22"/>
                        </a:lnTo>
                        <a:lnTo>
                          <a:pt x="621" y="27"/>
                        </a:lnTo>
                        <a:lnTo>
                          <a:pt x="621" y="31"/>
                        </a:lnTo>
                        <a:lnTo>
                          <a:pt x="621" y="35"/>
                        </a:lnTo>
                        <a:lnTo>
                          <a:pt x="624" y="40"/>
                        </a:lnTo>
                        <a:lnTo>
                          <a:pt x="624" y="44"/>
                        </a:lnTo>
                        <a:lnTo>
                          <a:pt x="621" y="44"/>
                        </a:lnTo>
                        <a:lnTo>
                          <a:pt x="621" y="49"/>
                        </a:lnTo>
                        <a:lnTo>
                          <a:pt x="617" y="49"/>
                        </a:lnTo>
                        <a:lnTo>
                          <a:pt x="621" y="58"/>
                        </a:lnTo>
                        <a:lnTo>
                          <a:pt x="624" y="58"/>
                        </a:lnTo>
                        <a:lnTo>
                          <a:pt x="624" y="62"/>
                        </a:lnTo>
                        <a:lnTo>
                          <a:pt x="614" y="78"/>
                        </a:lnTo>
                        <a:lnTo>
                          <a:pt x="621" y="82"/>
                        </a:lnTo>
                        <a:lnTo>
                          <a:pt x="621" y="86"/>
                        </a:lnTo>
                        <a:lnTo>
                          <a:pt x="621" y="91"/>
                        </a:lnTo>
                        <a:lnTo>
                          <a:pt x="624" y="91"/>
                        </a:lnTo>
                        <a:lnTo>
                          <a:pt x="629" y="96"/>
                        </a:lnTo>
                        <a:lnTo>
                          <a:pt x="633" y="96"/>
                        </a:lnTo>
                        <a:lnTo>
                          <a:pt x="629" y="104"/>
                        </a:lnTo>
                        <a:lnTo>
                          <a:pt x="624" y="109"/>
                        </a:lnTo>
                        <a:lnTo>
                          <a:pt x="621" y="114"/>
                        </a:lnTo>
                        <a:lnTo>
                          <a:pt x="602" y="117"/>
                        </a:lnTo>
                        <a:lnTo>
                          <a:pt x="605" y="122"/>
                        </a:lnTo>
                        <a:lnTo>
                          <a:pt x="614" y="122"/>
                        </a:lnTo>
                        <a:lnTo>
                          <a:pt x="614" y="131"/>
                        </a:lnTo>
                        <a:lnTo>
                          <a:pt x="605" y="135"/>
                        </a:lnTo>
                        <a:lnTo>
                          <a:pt x="602" y="140"/>
                        </a:lnTo>
                        <a:lnTo>
                          <a:pt x="598" y="140"/>
                        </a:lnTo>
                        <a:lnTo>
                          <a:pt x="598" y="144"/>
                        </a:lnTo>
                        <a:lnTo>
                          <a:pt x="594" y="144"/>
                        </a:lnTo>
                        <a:lnTo>
                          <a:pt x="594" y="149"/>
                        </a:lnTo>
                        <a:lnTo>
                          <a:pt x="591" y="149"/>
                        </a:lnTo>
                        <a:lnTo>
                          <a:pt x="591" y="156"/>
                        </a:lnTo>
                        <a:lnTo>
                          <a:pt x="591" y="160"/>
                        </a:lnTo>
                        <a:lnTo>
                          <a:pt x="591" y="164"/>
                        </a:lnTo>
                        <a:lnTo>
                          <a:pt x="594" y="164"/>
                        </a:lnTo>
                        <a:lnTo>
                          <a:pt x="594" y="169"/>
                        </a:lnTo>
                        <a:lnTo>
                          <a:pt x="594" y="173"/>
                        </a:lnTo>
                        <a:lnTo>
                          <a:pt x="598" y="173"/>
                        </a:lnTo>
                        <a:lnTo>
                          <a:pt x="602" y="178"/>
                        </a:lnTo>
                        <a:lnTo>
                          <a:pt x="605" y="178"/>
                        </a:lnTo>
                        <a:lnTo>
                          <a:pt x="610" y="178"/>
                        </a:lnTo>
                        <a:lnTo>
                          <a:pt x="614" y="178"/>
                        </a:lnTo>
                        <a:lnTo>
                          <a:pt x="617" y="178"/>
                        </a:lnTo>
                        <a:lnTo>
                          <a:pt x="621" y="178"/>
                        </a:lnTo>
                        <a:lnTo>
                          <a:pt x="621" y="183"/>
                        </a:lnTo>
                        <a:lnTo>
                          <a:pt x="624" y="183"/>
                        </a:lnTo>
                        <a:lnTo>
                          <a:pt x="629" y="183"/>
                        </a:lnTo>
                        <a:lnTo>
                          <a:pt x="633" y="186"/>
                        </a:lnTo>
                        <a:lnTo>
                          <a:pt x="636" y="186"/>
                        </a:lnTo>
                        <a:lnTo>
                          <a:pt x="640" y="186"/>
                        </a:lnTo>
                        <a:lnTo>
                          <a:pt x="644" y="191"/>
                        </a:lnTo>
                        <a:lnTo>
                          <a:pt x="644" y="196"/>
                        </a:lnTo>
                        <a:lnTo>
                          <a:pt x="650" y="196"/>
                        </a:lnTo>
                        <a:lnTo>
                          <a:pt x="653" y="201"/>
                        </a:lnTo>
                        <a:lnTo>
                          <a:pt x="658" y="204"/>
                        </a:lnTo>
                        <a:lnTo>
                          <a:pt x="662" y="204"/>
                        </a:lnTo>
                        <a:lnTo>
                          <a:pt x="662" y="209"/>
                        </a:lnTo>
                        <a:lnTo>
                          <a:pt x="669" y="209"/>
                        </a:lnTo>
                        <a:lnTo>
                          <a:pt x="673" y="209"/>
                        </a:lnTo>
                        <a:lnTo>
                          <a:pt x="676" y="214"/>
                        </a:lnTo>
                        <a:lnTo>
                          <a:pt x="676" y="217"/>
                        </a:lnTo>
                        <a:lnTo>
                          <a:pt x="676" y="222"/>
                        </a:lnTo>
                        <a:lnTo>
                          <a:pt x="676" y="228"/>
                        </a:lnTo>
                        <a:lnTo>
                          <a:pt x="676" y="233"/>
                        </a:lnTo>
                        <a:lnTo>
                          <a:pt x="676" y="238"/>
                        </a:lnTo>
                        <a:lnTo>
                          <a:pt x="676" y="243"/>
                        </a:lnTo>
                        <a:lnTo>
                          <a:pt x="681" y="243"/>
                        </a:lnTo>
                        <a:lnTo>
                          <a:pt x="681" y="246"/>
                        </a:lnTo>
                        <a:lnTo>
                          <a:pt x="681" y="251"/>
                        </a:lnTo>
                        <a:lnTo>
                          <a:pt x="681" y="256"/>
                        </a:lnTo>
                        <a:lnTo>
                          <a:pt x="685" y="256"/>
                        </a:lnTo>
                        <a:lnTo>
                          <a:pt x="685" y="260"/>
                        </a:lnTo>
                        <a:lnTo>
                          <a:pt x="688" y="260"/>
                        </a:lnTo>
                        <a:lnTo>
                          <a:pt x="688" y="264"/>
                        </a:lnTo>
                        <a:lnTo>
                          <a:pt x="688" y="269"/>
                        </a:lnTo>
                        <a:lnTo>
                          <a:pt x="692" y="269"/>
                        </a:lnTo>
                        <a:lnTo>
                          <a:pt x="692" y="273"/>
                        </a:lnTo>
                        <a:lnTo>
                          <a:pt x="696" y="273"/>
                        </a:lnTo>
                        <a:lnTo>
                          <a:pt x="696" y="278"/>
                        </a:lnTo>
                        <a:lnTo>
                          <a:pt x="700" y="278"/>
                        </a:lnTo>
                        <a:lnTo>
                          <a:pt x="704" y="283"/>
                        </a:lnTo>
                        <a:lnTo>
                          <a:pt x="708" y="283"/>
                        </a:lnTo>
                        <a:lnTo>
                          <a:pt x="708" y="286"/>
                        </a:lnTo>
                        <a:lnTo>
                          <a:pt x="711" y="286"/>
                        </a:lnTo>
                        <a:lnTo>
                          <a:pt x="715" y="291"/>
                        </a:lnTo>
                        <a:lnTo>
                          <a:pt x="723" y="291"/>
                        </a:lnTo>
                        <a:lnTo>
                          <a:pt x="723" y="296"/>
                        </a:lnTo>
                        <a:lnTo>
                          <a:pt x="727" y="296"/>
                        </a:lnTo>
                        <a:lnTo>
                          <a:pt x="731" y="296"/>
                        </a:lnTo>
                        <a:lnTo>
                          <a:pt x="731" y="299"/>
                        </a:lnTo>
                        <a:lnTo>
                          <a:pt x="734" y="299"/>
                        </a:lnTo>
                        <a:lnTo>
                          <a:pt x="734" y="307"/>
                        </a:lnTo>
                        <a:lnTo>
                          <a:pt x="731" y="307"/>
                        </a:lnTo>
                        <a:lnTo>
                          <a:pt x="731" y="312"/>
                        </a:lnTo>
                        <a:lnTo>
                          <a:pt x="723" y="312"/>
                        </a:lnTo>
                        <a:lnTo>
                          <a:pt x="720" y="315"/>
                        </a:lnTo>
                        <a:lnTo>
                          <a:pt x="715" y="320"/>
                        </a:lnTo>
                        <a:lnTo>
                          <a:pt x="711" y="325"/>
                        </a:lnTo>
                        <a:lnTo>
                          <a:pt x="711" y="328"/>
                        </a:lnTo>
                        <a:lnTo>
                          <a:pt x="708" y="333"/>
                        </a:lnTo>
                        <a:lnTo>
                          <a:pt x="708" y="338"/>
                        </a:lnTo>
                        <a:lnTo>
                          <a:pt x="708" y="343"/>
                        </a:lnTo>
                        <a:lnTo>
                          <a:pt x="711" y="343"/>
                        </a:lnTo>
                        <a:lnTo>
                          <a:pt x="711" y="346"/>
                        </a:lnTo>
                        <a:lnTo>
                          <a:pt x="715" y="346"/>
                        </a:lnTo>
                        <a:lnTo>
                          <a:pt x="720" y="346"/>
                        </a:lnTo>
                        <a:lnTo>
                          <a:pt x="723" y="346"/>
                        </a:lnTo>
                        <a:lnTo>
                          <a:pt x="727" y="346"/>
                        </a:lnTo>
                        <a:lnTo>
                          <a:pt x="731" y="346"/>
                        </a:lnTo>
                        <a:lnTo>
                          <a:pt x="734" y="346"/>
                        </a:lnTo>
                        <a:lnTo>
                          <a:pt x="734" y="351"/>
                        </a:lnTo>
                        <a:lnTo>
                          <a:pt x="744" y="351"/>
                        </a:lnTo>
                        <a:lnTo>
                          <a:pt x="747" y="351"/>
                        </a:lnTo>
                        <a:lnTo>
                          <a:pt x="747" y="356"/>
                        </a:lnTo>
                        <a:lnTo>
                          <a:pt x="752" y="356"/>
                        </a:lnTo>
                        <a:lnTo>
                          <a:pt x="756" y="356"/>
                        </a:lnTo>
                        <a:lnTo>
                          <a:pt x="756" y="360"/>
                        </a:lnTo>
                        <a:lnTo>
                          <a:pt x="759" y="360"/>
                        </a:lnTo>
                        <a:lnTo>
                          <a:pt x="759" y="365"/>
                        </a:lnTo>
                        <a:lnTo>
                          <a:pt x="763" y="365"/>
                        </a:lnTo>
                        <a:lnTo>
                          <a:pt x="767" y="365"/>
                        </a:lnTo>
                        <a:lnTo>
                          <a:pt x="772" y="365"/>
                        </a:lnTo>
                        <a:lnTo>
                          <a:pt x="775" y="365"/>
                        </a:lnTo>
                        <a:lnTo>
                          <a:pt x="779" y="365"/>
                        </a:lnTo>
                        <a:lnTo>
                          <a:pt x="782" y="365"/>
                        </a:lnTo>
                        <a:lnTo>
                          <a:pt x="786" y="365"/>
                        </a:lnTo>
                        <a:lnTo>
                          <a:pt x="791" y="365"/>
                        </a:lnTo>
                        <a:lnTo>
                          <a:pt x="791" y="360"/>
                        </a:lnTo>
                        <a:lnTo>
                          <a:pt x="791" y="356"/>
                        </a:lnTo>
                        <a:lnTo>
                          <a:pt x="794" y="356"/>
                        </a:lnTo>
                        <a:lnTo>
                          <a:pt x="798" y="356"/>
                        </a:lnTo>
                        <a:lnTo>
                          <a:pt x="798" y="351"/>
                        </a:lnTo>
                        <a:lnTo>
                          <a:pt x="802" y="351"/>
                        </a:lnTo>
                        <a:lnTo>
                          <a:pt x="805" y="351"/>
                        </a:lnTo>
                        <a:lnTo>
                          <a:pt x="805" y="356"/>
                        </a:lnTo>
                        <a:lnTo>
                          <a:pt x="809" y="356"/>
                        </a:lnTo>
                        <a:lnTo>
                          <a:pt x="809" y="360"/>
                        </a:lnTo>
                        <a:lnTo>
                          <a:pt x="814" y="360"/>
                        </a:lnTo>
                        <a:lnTo>
                          <a:pt x="817" y="360"/>
                        </a:lnTo>
                        <a:lnTo>
                          <a:pt x="821" y="360"/>
                        </a:lnTo>
                        <a:lnTo>
                          <a:pt x="825" y="356"/>
                        </a:lnTo>
                        <a:lnTo>
                          <a:pt x="831" y="356"/>
                        </a:lnTo>
                        <a:lnTo>
                          <a:pt x="831" y="351"/>
                        </a:lnTo>
                        <a:lnTo>
                          <a:pt x="834" y="351"/>
                        </a:lnTo>
                        <a:lnTo>
                          <a:pt x="838" y="351"/>
                        </a:lnTo>
                        <a:lnTo>
                          <a:pt x="843" y="346"/>
                        </a:lnTo>
                        <a:lnTo>
                          <a:pt x="846" y="346"/>
                        </a:lnTo>
                        <a:lnTo>
                          <a:pt x="846" y="351"/>
                        </a:lnTo>
                        <a:lnTo>
                          <a:pt x="850" y="351"/>
                        </a:lnTo>
                        <a:lnTo>
                          <a:pt x="854" y="351"/>
                        </a:lnTo>
                        <a:lnTo>
                          <a:pt x="857" y="351"/>
                        </a:lnTo>
                        <a:lnTo>
                          <a:pt x="861" y="351"/>
                        </a:lnTo>
                        <a:lnTo>
                          <a:pt x="866" y="351"/>
                        </a:lnTo>
                        <a:lnTo>
                          <a:pt x="869" y="351"/>
                        </a:lnTo>
                        <a:lnTo>
                          <a:pt x="873" y="351"/>
                        </a:lnTo>
                        <a:lnTo>
                          <a:pt x="876" y="351"/>
                        </a:lnTo>
                        <a:lnTo>
                          <a:pt x="880" y="351"/>
                        </a:lnTo>
                        <a:lnTo>
                          <a:pt x="885" y="351"/>
                        </a:lnTo>
                        <a:lnTo>
                          <a:pt x="888" y="351"/>
                        </a:lnTo>
                        <a:lnTo>
                          <a:pt x="892" y="351"/>
                        </a:lnTo>
                        <a:lnTo>
                          <a:pt x="896" y="351"/>
                        </a:lnTo>
                        <a:lnTo>
                          <a:pt x="899" y="351"/>
                        </a:lnTo>
                        <a:lnTo>
                          <a:pt x="904" y="351"/>
                        </a:lnTo>
                        <a:lnTo>
                          <a:pt x="908" y="351"/>
                        </a:lnTo>
                        <a:lnTo>
                          <a:pt x="911" y="351"/>
                        </a:lnTo>
                        <a:lnTo>
                          <a:pt x="911" y="356"/>
                        </a:lnTo>
                        <a:lnTo>
                          <a:pt x="911" y="360"/>
                        </a:lnTo>
                        <a:lnTo>
                          <a:pt x="917" y="360"/>
                        </a:lnTo>
                        <a:lnTo>
                          <a:pt x="921" y="365"/>
                        </a:lnTo>
                        <a:lnTo>
                          <a:pt x="925" y="365"/>
                        </a:lnTo>
                        <a:lnTo>
                          <a:pt x="925" y="360"/>
                        </a:lnTo>
                        <a:lnTo>
                          <a:pt x="928" y="360"/>
                        </a:lnTo>
                        <a:lnTo>
                          <a:pt x="928" y="356"/>
                        </a:lnTo>
                        <a:lnTo>
                          <a:pt x="928" y="351"/>
                        </a:lnTo>
                        <a:lnTo>
                          <a:pt x="932" y="351"/>
                        </a:lnTo>
                        <a:lnTo>
                          <a:pt x="937" y="346"/>
                        </a:lnTo>
                        <a:lnTo>
                          <a:pt x="940" y="346"/>
                        </a:lnTo>
                        <a:lnTo>
                          <a:pt x="944" y="346"/>
                        </a:lnTo>
                        <a:lnTo>
                          <a:pt x="948" y="351"/>
                        </a:lnTo>
                        <a:lnTo>
                          <a:pt x="951" y="351"/>
                        </a:lnTo>
                        <a:lnTo>
                          <a:pt x="956" y="351"/>
                        </a:lnTo>
                        <a:lnTo>
                          <a:pt x="956" y="346"/>
                        </a:lnTo>
                        <a:lnTo>
                          <a:pt x="960" y="351"/>
                        </a:lnTo>
                        <a:lnTo>
                          <a:pt x="963" y="351"/>
                        </a:lnTo>
                        <a:lnTo>
                          <a:pt x="967" y="346"/>
                        </a:lnTo>
                        <a:lnTo>
                          <a:pt x="975" y="346"/>
                        </a:lnTo>
                        <a:lnTo>
                          <a:pt x="979" y="346"/>
                        </a:lnTo>
                        <a:lnTo>
                          <a:pt x="983" y="346"/>
                        </a:lnTo>
                        <a:lnTo>
                          <a:pt x="986" y="346"/>
                        </a:lnTo>
                        <a:lnTo>
                          <a:pt x="990" y="346"/>
                        </a:lnTo>
                        <a:lnTo>
                          <a:pt x="993" y="343"/>
                        </a:lnTo>
                        <a:lnTo>
                          <a:pt x="998" y="343"/>
                        </a:lnTo>
                        <a:lnTo>
                          <a:pt x="1002" y="338"/>
                        </a:lnTo>
                        <a:lnTo>
                          <a:pt x="1008" y="338"/>
                        </a:lnTo>
                        <a:lnTo>
                          <a:pt x="1011" y="338"/>
                        </a:lnTo>
                        <a:lnTo>
                          <a:pt x="1015" y="338"/>
                        </a:lnTo>
                        <a:lnTo>
                          <a:pt x="1015" y="333"/>
                        </a:lnTo>
                        <a:lnTo>
                          <a:pt x="1019" y="333"/>
                        </a:lnTo>
                        <a:lnTo>
                          <a:pt x="1022" y="328"/>
                        </a:lnTo>
                        <a:close/>
                      </a:path>
                    </a:pathLst>
                  </a:custGeom>
                  <a:solidFill>
                    <a:srgbClr val="6699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3c5b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164600" y="1650600"/>
                    <a:ext cx="153540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3" h="3492">
                        <a:moveTo>
                          <a:pt x="3329" y="792"/>
                        </a:moveTo>
                        <a:lnTo>
                          <a:pt x="3329" y="787"/>
                        </a:lnTo>
                        <a:lnTo>
                          <a:pt x="3333" y="782"/>
                        </a:lnTo>
                        <a:lnTo>
                          <a:pt x="3340" y="782"/>
                        </a:lnTo>
                        <a:lnTo>
                          <a:pt x="3344" y="782"/>
                        </a:lnTo>
                        <a:lnTo>
                          <a:pt x="3349" y="782"/>
                        </a:lnTo>
                        <a:lnTo>
                          <a:pt x="3352" y="778"/>
                        </a:lnTo>
                        <a:lnTo>
                          <a:pt x="3356" y="778"/>
                        </a:lnTo>
                        <a:lnTo>
                          <a:pt x="3360" y="778"/>
                        </a:lnTo>
                        <a:lnTo>
                          <a:pt x="3363" y="778"/>
                        </a:lnTo>
                        <a:lnTo>
                          <a:pt x="3368" y="778"/>
                        </a:lnTo>
                        <a:lnTo>
                          <a:pt x="3372" y="778"/>
                        </a:lnTo>
                        <a:lnTo>
                          <a:pt x="3375" y="778"/>
                        </a:lnTo>
                        <a:lnTo>
                          <a:pt x="3379" y="778"/>
                        </a:lnTo>
                        <a:lnTo>
                          <a:pt x="3382" y="778"/>
                        </a:lnTo>
                        <a:lnTo>
                          <a:pt x="3388" y="778"/>
                        </a:lnTo>
                        <a:lnTo>
                          <a:pt x="3392" y="778"/>
                        </a:lnTo>
                        <a:lnTo>
                          <a:pt x="3396" y="778"/>
                        </a:lnTo>
                        <a:lnTo>
                          <a:pt x="3396" y="782"/>
                        </a:lnTo>
                        <a:lnTo>
                          <a:pt x="3401" y="782"/>
                        </a:lnTo>
                        <a:lnTo>
                          <a:pt x="3404" y="782"/>
                        </a:lnTo>
                        <a:lnTo>
                          <a:pt x="3404" y="778"/>
                        </a:lnTo>
                        <a:lnTo>
                          <a:pt x="3408" y="778"/>
                        </a:lnTo>
                        <a:lnTo>
                          <a:pt x="3411" y="778"/>
                        </a:lnTo>
                        <a:lnTo>
                          <a:pt x="3415" y="778"/>
                        </a:lnTo>
                        <a:lnTo>
                          <a:pt x="3420" y="778"/>
                        </a:lnTo>
                        <a:lnTo>
                          <a:pt x="3423" y="778"/>
                        </a:lnTo>
                        <a:lnTo>
                          <a:pt x="3427" y="778"/>
                        </a:lnTo>
                        <a:lnTo>
                          <a:pt x="3431" y="778"/>
                        </a:lnTo>
                        <a:lnTo>
                          <a:pt x="3434" y="778"/>
                        </a:lnTo>
                        <a:lnTo>
                          <a:pt x="3439" y="778"/>
                        </a:lnTo>
                        <a:lnTo>
                          <a:pt x="3443" y="778"/>
                        </a:lnTo>
                        <a:lnTo>
                          <a:pt x="3446" y="778"/>
                        </a:lnTo>
                        <a:lnTo>
                          <a:pt x="3450" y="778"/>
                        </a:lnTo>
                        <a:lnTo>
                          <a:pt x="3457" y="778"/>
                        </a:lnTo>
                        <a:lnTo>
                          <a:pt x="3462" y="778"/>
                        </a:lnTo>
                        <a:lnTo>
                          <a:pt x="3466" y="778"/>
                        </a:lnTo>
                        <a:lnTo>
                          <a:pt x="3469" y="778"/>
                        </a:lnTo>
                        <a:lnTo>
                          <a:pt x="3473" y="778"/>
                        </a:lnTo>
                        <a:lnTo>
                          <a:pt x="3479" y="774"/>
                        </a:lnTo>
                        <a:lnTo>
                          <a:pt x="3483" y="774"/>
                        </a:lnTo>
                        <a:lnTo>
                          <a:pt x="3483" y="778"/>
                        </a:lnTo>
                        <a:lnTo>
                          <a:pt x="3486" y="778"/>
                        </a:lnTo>
                        <a:lnTo>
                          <a:pt x="3486" y="774"/>
                        </a:lnTo>
                        <a:lnTo>
                          <a:pt x="3491" y="774"/>
                        </a:lnTo>
                        <a:lnTo>
                          <a:pt x="3491" y="769"/>
                        </a:lnTo>
                        <a:lnTo>
                          <a:pt x="3491" y="765"/>
                        </a:lnTo>
                        <a:lnTo>
                          <a:pt x="3491" y="760"/>
                        </a:lnTo>
                        <a:lnTo>
                          <a:pt x="3491" y="755"/>
                        </a:lnTo>
                        <a:lnTo>
                          <a:pt x="3486" y="755"/>
                        </a:lnTo>
                        <a:lnTo>
                          <a:pt x="3491" y="751"/>
                        </a:lnTo>
                        <a:lnTo>
                          <a:pt x="3495" y="755"/>
                        </a:lnTo>
                        <a:lnTo>
                          <a:pt x="3498" y="755"/>
                        </a:lnTo>
                        <a:lnTo>
                          <a:pt x="3502" y="755"/>
                        </a:lnTo>
                        <a:lnTo>
                          <a:pt x="3505" y="755"/>
                        </a:lnTo>
                        <a:lnTo>
                          <a:pt x="3505" y="751"/>
                        </a:lnTo>
                        <a:lnTo>
                          <a:pt x="3510" y="751"/>
                        </a:lnTo>
                        <a:lnTo>
                          <a:pt x="3514" y="751"/>
                        </a:lnTo>
                        <a:lnTo>
                          <a:pt x="3521" y="755"/>
                        </a:lnTo>
                        <a:lnTo>
                          <a:pt x="3525" y="755"/>
                        </a:lnTo>
                        <a:lnTo>
                          <a:pt x="3528" y="755"/>
                        </a:lnTo>
                        <a:lnTo>
                          <a:pt x="3533" y="755"/>
                        </a:lnTo>
                        <a:lnTo>
                          <a:pt x="3537" y="755"/>
                        </a:lnTo>
                        <a:lnTo>
                          <a:pt x="3540" y="755"/>
                        </a:lnTo>
                        <a:lnTo>
                          <a:pt x="3544" y="755"/>
                        </a:lnTo>
                        <a:lnTo>
                          <a:pt x="3544" y="760"/>
                        </a:lnTo>
                        <a:lnTo>
                          <a:pt x="3548" y="765"/>
                        </a:lnTo>
                        <a:lnTo>
                          <a:pt x="3552" y="769"/>
                        </a:lnTo>
                        <a:lnTo>
                          <a:pt x="3560" y="765"/>
                        </a:lnTo>
                        <a:lnTo>
                          <a:pt x="3560" y="755"/>
                        </a:lnTo>
                        <a:lnTo>
                          <a:pt x="3560" y="747"/>
                        </a:lnTo>
                        <a:lnTo>
                          <a:pt x="3563" y="747"/>
                        </a:lnTo>
                        <a:lnTo>
                          <a:pt x="3563" y="742"/>
                        </a:lnTo>
                        <a:lnTo>
                          <a:pt x="3569" y="736"/>
                        </a:lnTo>
                        <a:lnTo>
                          <a:pt x="3573" y="736"/>
                        </a:lnTo>
                        <a:lnTo>
                          <a:pt x="3573" y="731"/>
                        </a:lnTo>
                        <a:lnTo>
                          <a:pt x="3577" y="731"/>
                        </a:lnTo>
                        <a:lnTo>
                          <a:pt x="3580" y="731"/>
                        </a:lnTo>
                        <a:lnTo>
                          <a:pt x="3585" y="731"/>
                        </a:lnTo>
                        <a:lnTo>
                          <a:pt x="3589" y="727"/>
                        </a:lnTo>
                        <a:lnTo>
                          <a:pt x="3592" y="722"/>
                        </a:lnTo>
                        <a:lnTo>
                          <a:pt x="3596" y="718"/>
                        </a:lnTo>
                        <a:lnTo>
                          <a:pt x="3600" y="718"/>
                        </a:lnTo>
                        <a:lnTo>
                          <a:pt x="3604" y="722"/>
                        </a:lnTo>
                        <a:lnTo>
                          <a:pt x="3608" y="722"/>
                        </a:lnTo>
                        <a:lnTo>
                          <a:pt x="3612" y="718"/>
                        </a:lnTo>
                        <a:lnTo>
                          <a:pt x="3615" y="718"/>
                        </a:lnTo>
                        <a:lnTo>
                          <a:pt x="3619" y="708"/>
                        </a:lnTo>
                        <a:lnTo>
                          <a:pt x="3619" y="705"/>
                        </a:lnTo>
                        <a:lnTo>
                          <a:pt x="3624" y="705"/>
                        </a:lnTo>
                        <a:lnTo>
                          <a:pt x="3627" y="700"/>
                        </a:lnTo>
                        <a:lnTo>
                          <a:pt x="3624" y="700"/>
                        </a:lnTo>
                        <a:lnTo>
                          <a:pt x="3619" y="700"/>
                        </a:lnTo>
                        <a:lnTo>
                          <a:pt x="3619" y="695"/>
                        </a:lnTo>
                        <a:lnTo>
                          <a:pt x="3615" y="695"/>
                        </a:lnTo>
                        <a:lnTo>
                          <a:pt x="3615" y="692"/>
                        </a:lnTo>
                        <a:lnTo>
                          <a:pt x="3612" y="692"/>
                        </a:lnTo>
                        <a:lnTo>
                          <a:pt x="3608" y="687"/>
                        </a:lnTo>
                        <a:lnTo>
                          <a:pt x="3608" y="682"/>
                        </a:lnTo>
                        <a:lnTo>
                          <a:pt x="3612" y="682"/>
                        </a:lnTo>
                        <a:lnTo>
                          <a:pt x="3612" y="678"/>
                        </a:lnTo>
                        <a:lnTo>
                          <a:pt x="3612" y="674"/>
                        </a:lnTo>
                        <a:lnTo>
                          <a:pt x="3612" y="669"/>
                        </a:lnTo>
                        <a:lnTo>
                          <a:pt x="3612" y="665"/>
                        </a:lnTo>
                        <a:lnTo>
                          <a:pt x="3615" y="669"/>
                        </a:lnTo>
                        <a:lnTo>
                          <a:pt x="3619" y="665"/>
                        </a:lnTo>
                        <a:lnTo>
                          <a:pt x="3624" y="665"/>
                        </a:lnTo>
                        <a:lnTo>
                          <a:pt x="3627" y="665"/>
                        </a:lnTo>
                        <a:lnTo>
                          <a:pt x="3631" y="658"/>
                        </a:lnTo>
                        <a:lnTo>
                          <a:pt x="3634" y="658"/>
                        </a:lnTo>
                        <a:lnTo>
                          <a:pt x="3634" y="653"/>
                        </a:lnTo>
                        <a:lnTo>
                          <a:pt x="3638" y="653"/>
                        </a:lnTo>
                        <a:lnTo>
                          <a:pt x="3638" y="649"/>
                        </a:lnTo>
                        <a:lnTo>
                          <a:pt x="3642" y="649"/>
                        </a:lnTo>
                        <a:lnTo>
                          <a:pt x="3638" y="645"/>
                        </a:lnTo>
                        <a:lnTo>
                          <a:pt x="3638" y="640"/>
                        </a:lnTo>
                        <a:lnTo>
                          <a:pt x="3642" y="640"/>
                        </a:lnTo>
                        <a:lnTo>
                          <a:pt x="3647" y="640"/>
                        </a:lnTo>
                        <a:lnTo>
                          <a:pt x="3647" y="636"/>
                        </a:lnTo>
                        <a:lnTo>
                          <a:pt x="3650" y="636"/>
                        </a:lnTo>
                        <a:lnTo>
                          <a:pt x="3650" y="631"/>
                        </a:lnTo>
                        <a:lnTo>
                          <a:pt x="3656" y="631"/>
                        </a:lnTo>
                        <a:lnTo>
                          <a:pt x="3660" y="631"/>
                        </a:lnTo>
                        <a:lnTo>
                          <a:pt x="3660" y="626"/>
                        </a:lnTo>
                        <a:lnTo>
                          <a:pt x="3663" y="623"/>
                        </a:lnTo>
                        <a:lnTo>
                          <a:pt x="3667" y="623"/>
                        </a:lnTo>
                        <a:lnTo>
                          <a:pt x="3671" y="618"/>
                        </a:lnTo>
                        <a:lnTo>
                          <a:pt x="3675" y="623"/>
                        </a:lnTo>
                        <a:lnTo>
                          <a:pt x="3683" y="618"/>
                        </a:lnTo>
                        <a:lnTo>
                          <a:pt x="3686" y="618"/>
                        </a:lnTo>
                        <a:lnTo>
                          <a:pt x="3695" y="618"/>
                        </a:lnTo>
                        <a:lnTo>
                          <a:pt x="3698" y="618"/>
                        </a:lnTo>
                        <a:lnTo>
                          <a:pt x="3698" y="613"/>
                        </a:lnTo>
                        <a:lnTo>
                          <a:pt x="3702" y="613"/>
                        </a:lnTo>
                        <a:lnTo>
                          <a:pt x="3702" y="608"/>
                        </a:lnTo>
                        <a:lnTo>
                          <a:pt x="3702" y="605"/>
                        </a:lnTo>
                        <a:lnTo>
                          <a:pt x="3706" y="605"/>
                        </a:lnTo>
                        <a:lnTo>
                          <a:pt x="3709" y="608"/>
                        </a:lnTo>
                        <a:lnTo>
                          <a:pt x="3713" y="613"/>
                        </a:lnTo>
                        <a:lnTo>
                          <a:pt x="3713" y="618"/>
                        </a:lnTo>
                        <a:lnTo>
                          <a:pt x="3718" y="623"/>
                        </a:lnTo>
                        <a:lnTo>
                          <a:pt x="3718" y="618"/>
                        </a:lnTo>
                        <a:lnTo>
                          <a:pt x="3721" y="618"/>
                        </a:lnTo>
                        <a:lnTo>
                          <a:pt x="3725" y="613"/>
                        </a:lnTo>
                        <a:lnTo>
                          <a:pt x="3729" y="608"/>
                        </a:lnTo>
                        <a:lnTo>
                          <a:pt x="3732" y="605"/>
                        </a:lnTo>
                        <a:lnTo>
                          <a:pt x="3737" y="605"/>
                        </a:lnTo>
                        <a:lnTo>
                          <a:pt x="3741" y="605"/>
                        </a:lnTo>
                        <a:lnTo>
                          <a:pt x="3747" y="605"/>
                        </a:lnTo>
                        <a:lnTo>
                          <a:pt x="3750" y="605"/>
                        </a:lnTo>
                        <a:lnTo>
                          <a:pt x="3750" y="600"/>
                        </a:lnTo>
                        <a:lnTo>
                          <a:pt x="3754" y="592"/>
                        </a:lnTo>
                        <a:lnTo>
                          <a:pt x="3757" y="592"/>
                        </a:lnTo>
                        <a:lnTo>
                          <a:pt x="3757" y="587"/>
                        </a:lnTo>
                        <a:lnTo>
                          <a:pt x="3757" y="579"/>
                        </a:lnTo>
                        <a:lnTo>
                          <a:pt x="3761" y="579"/>
                        </a:lnTo>
                        <a:lnTo>
                          <a:pt x="3761" y="576"/>
                        </a:lnTo>
                        <a:lnTo>
                          <a:pt x="3766" y="576"/>
                        </a:lnTo>
                        <a:lnTo>
                          <a:pt x="3761" y="576"/>
                        </a:lnTo>
                        <a:lnTo>
                          <a:pt x="3766" y="571"/>
                        </a:lnTo>
                        <a:lnTo>
                          <a:pt x="3770" y="566"/>
                        </a:lnTo>
                        <a:lnTo>
                          <a:pt x="3773" y="563"/>
                        </a:lnTo>
                        <a:lnTo>
                          <a:pt x="3777" y="563"/>
                        </a:lnTo>
                        <a:lnTo>
                          <a:pt x="3777" y="558"/>
                        </a:lnTo>
                        <a:lnTo>
                          <a:pt x="3777" y="553"/>
                        </a:lnTo>
                        <a:lnTo>
                          <a:pt x="3780" y="553"/>
                        </a:lnTo>
                        <a:lnTo>
                          <a:pt x="3784" y="553"/>
                        </a:lnTo>
                        <a:lnTo>
                          <a:pt x="3784" y="549"/>
                        </a:lnTo>
                        <a:lnTo>
                          <a:pt x="3789" y="549"/>
                        </a:lnTo>
                        <a:lnTo>
                          <a:pt x="3792" y="549"/>
                        </a:lnTo>
                        <a:lnTo>
                          <a:pt x="3796" y="549"/>
                        </a:lnTo>
                        <a:lnTo>
                          <a:pt x="3800" y="549"/>
                        </a:lnTo>
                        <a:lnTo>
                          <a:pt x="3803" y="549"/>
                        </a:lnTo>
                        <a:lnTo>
                          <a:pt x="3803" y="553"/>
                        </a:lnTo>
                        <a:lnTo>
                          <a:pt x="3808" y="553"/>
                        </a:lnTo>
                        <a:lnTo>
                          <a:pt x="3812" y="553"/>
                        </a:lnTo>
                        <a:lnTo>
                          <a:pt x="3812" y="563"/>
                        </a:lnTo>
                        <a:lnTo>
                          <a:pt x="3815" y="566"/>
                        </a:lnTo>
                        <a:lnTo>
                          <a:pt x="3823" y="571"/>
                        </a:lnTo>
                        <a:lnTo>
                          <a:pt x="3823" y="576"/>
                        </a:lnTo>
                        <a:lnTo>
                          <a:pt x="3827" y="579"/>
                        </a:lnTo>
                        <a:lnTo>
                          <a:pt x="3827" y="587"/>
                        </a:lnTo>
                        <a:lnTo>
                          <a:pt x="3831" y="587"/>
                        </a:lnTo>
                        <a:lnTo>
                          <a:pt x="3831" y="592"/>
                        </a:lnTo>
                        <a:lnTo>
                          <a:pt x="3841" y="592"/>
                        </a:lnTo>
                        <a:lnTo>
                          <a:pt x="3841" y="600"/>
                        </a:lnTo>
                        <a:lnTo>
                          <a:pt x="3841" y="605"/>
                        </a:lnTo>
                        <a:lnTo>
                          <a:pt x="3841" y="608"/>
                        </a:lnTo>
                        <a:lnTo>
                          <a:pt x="3844" y="608"/>
                        </a:lnTo>
                        <a:lnTo>
                          <a:pt x="3844" y="613"/>
                        </a:lnTo>
                        <a:lnTo>
                          <a:pt x="3844" y="618"/>
                        </a:lnTo>
                        <a:lnTo>
                          <a:pt x="3848" y="613"/>
                        </a:lnTo>
                        <a:lnTo>
                          <a:pt x="3848" y="608"/>
                        </a:lnTo>
                        <a:lnTo>
                          <a:pt x="3848" y="605"/>
                        </a:lnTo>
                        <a:lnTo>
                          <a:pt x="3852" y="605"/>
                        </a:lnTo>
                        <a:lnTo>
                          <a:pt x="3852" y="600"/>
                        </a:lnTo>
                        <a:lnTo>
                          <a:pt x="3855" y="600"/>
                        </a:lnTo>
                        <a:lnTo>
                          <a:pt x="3855" y="592"/>
                        </a:lnTo>
                        <a:lnTo>
                          <a:pt x="3860" y="592"/>
                        </a:lnTo>
                        <a:lnTo>
                          <a:pt x="3860" y="587"/>
                        </a:lnTo>
                        <a:lnTo>
                          <a:pt x="3867" y="579"/>
                        </a:lnTo>
                        <a:lnTo>
                          <a:pt x="3871" y="579"/>
                        </a:lnTo>
                        <a:lnTo>
                          <a:pt x="3874" y="579"/>
                        </a:lnTo>
                        <a:lnTo>
                          <a:pt x="3879" y="579"/>
                        </a:lnTo>
                        <a:lnTo>
                          <a:pt x="3883" y="579"/>
                        </a:lnTo>
                        <a:lnTo>
                          <a:pt x="3886" y="579"/>
                        </a:lnTo>
                        <a:lnTo>
                          <a:pt x="3890" y="579"/>
                        </a:lnTo>
                        <a:lnTo>
                          <a:pt x="3894" y="576"/>
                        </a:lnTo>
                        <a:lnTo>
                          <a:pt x="3897" y="576"/>
                        </a:lnTo>
                        <a:lnTo>
                          <a:pt x="3902" y="571"/>
                        </a:lnTo>
                        <a:lnTo>
                          <a:pt x="3906" y="566"/>
                        </a:lnTo>
                        <a:lnTo>
                          <a:pt x="3909" y="566"/>
                        </a:lnTo>
                        <a:lnTo>
                          <a:pt x="3913" y="566"/>
                        </a:lnTo>
                        <a:lnTo>
                          <a:pt x="3917" y="566"/>
                        </a:lnTo>
                        <a:lnTo>
                          <a:pt x="3923" y="566"/>
                        </a:lnTo>
                        <a:lnTo>
                          <a:pt x="3926" y="563"/>
                        </a:lnTo>
                        <a:lnTo>
                          <a:pt x="3931" y="563"/>
                        </a:lnTo>
                        <a:lnTo>
                          <a:pt x="3938" y="571"/>
                        </a:lnTo>
                        <a:lnTo>
                          <a:pt x="3938" y="576"/>
                        </a:lnTo>
                        <a:lnTo>
                          <a:pt x="3942" y="576"/>
                        </a:lnTo>
                        <a:lnTo>
                          <a:pt x="3946" y="571"/>
                        </a:lnTo>
                        <a:lnTo>
                          <a:pt x="3950" y="571"/>
                        </a:lnTo>
                        <a:lnTo>
                          <a:pt x="3954" y="571"/>
                        </a:lnTo>
                        <a:lnTo>
                          <a:pt x="3958" y="571"/>
                        </a:lnTo>
                        <a:lnTo>
                          <a:pt x="3961" y="571"/>
                        </a:lnTo>
                        <a:lnTo>
                          <a:pt x="3961" y="576"/>
                        </a:lnTo>
                        <a:lnTo>
                          <a:pt x="3965" y="576"/>
                        </a:lnTo>
                        <a:lnTo>
                          <a:pt x="3968" y="576"/>
                        </a:lnTo>
                        <a:lnTo>
                          <a:pt x="3973" y="576"/>
                        </a:lnTo>
                        <a:lnTo>
                          <a:pt x="3977" y="576"/>
                        </a:lnTo>
                        <a:lnTo>
                          <a:pt x="3981" y="576"/>
                        </a:lnTo>
                        <a:lnTo>
                          <a:pt x="3984" y="576"/>
                        </a:lnTo>
                        <a:lnTo>
                          <a:pt x="3988" y="587"/>
                        </a:lnTo>
                        <a:lnTo>
                          <a:pt x="3993" y="587"/>
                        </a:lnTo>
                        <a:lnTo>
                          <a:pt x="4000" y="587"/>
                        </a:lnTo>
                        <a:lnTo>
                          <a:pt x="4003" y="587"/>
                        </a:lnTo>
                        <a:lnTo>
                          <a:pt x="4013" y="587"/>
                        </a:lnTo>
                        <a:lnTo>
                          <a:pt x="4017" y="587"/>
                        </a:lnTo>
                        <a:lnTo>
                          <a:pt x="4020" y="587"/>
                        </a:lnTo>
                        <a:lnTo>
                          <a:pt x="4025" y="587"/>
                        </a:lnTo>
                        <a:lnTo>
                          <a:pt x="4025" y="592"/>
                        </a:lnTo>
                        <a:lnTo>
                          <a:pt x="4029" y="600"/>
                        </a:lnTo>
                        <a:lnTo>
                          <a:pt x="4036" y="600"/>
                        </a:lnTo>
                        <a:lnTo>
                          <a:pt x="4040" y="600"/>
                        </a:lnTo>
                        <a:lnTo>
                          <a:pt x="4044" y="600"/>
                        </a:lnTo>
                        <a:lnTo>
                          <a:pt x="4048" y="600"/>
                        </a:lnTo>
                        <a:lnTo>
                          <a:pt x="4048" y="605"/>
                        </a:lnTo>
                        <a:lnTo>
                          <a:pt x="4052" y="605"/>
                        </a:lnTo>
                        <a:lnTo>
                          <a:pt x="4055" y="605"/>
                        </a:lnTo>
                        <a:lnTo>
                          <a:pt x="4059" y="608"/>
                        </a:lnTo>
                        <a:lnTo>
                          <a:pt x="4064" y="608"/>
                        </a:lnTo>
                        <a:lnTo>
                          <a:pt x="4064" y="605"/>
                        </a:lnTo>
                        <a:lnTo>
                          <a:pt x="4067" y="605"/>
                        </a:lnTo>
                        <a:lnTo>
                          <a:pt x="4071" y="605"/>
                        </a:lnTo>
                        <a:lnTo>
                          <a:pt x="4071" y="600"/>
                        </a:lnTo>
                        <a:lnTo>
                          <a:pt x="4071" y="595"/>
                        </a:lnTo>
                        <a:lnTo>
                          <a:pt x="4075" y="592"/>
                        </a:lnTo>
                        <a:lnTo>
                          <a:pt x="4071" y="592"/>
                        </a:lnTo>
                        <a:lnTo>
                          <a:pt x="4075" y="587"/>
                        </a:lnTo>
                        <a:lnTo>
                          <a:pt x="4078" y="587"/>
                        </a:lnTo>
                        <a:lnTo>
                          <a:pt x="4083" y="587"/>
                        </a:lnTo>
                        <a:lnTo>
                          <a:pt x="4083" y="592"/>
                        </a:lnTo>
                        <a:lnTo>
                          <a:pt x="4087" y="592"/>
                        </a:lnTo>
                        <a:lnTo>
                          <a:pt x="4090" y="592"/>
                        </a:lnTo>
                        <a:lnTo>
                          <a:pt x="4090" y="595"/>
                        </a:lnTo>
                        <a:lnTo>
                          <a:pt x="4094" y="595"/>
                        </a:lnTo>
                        <a:lnTo>
                          <a:pt x="4104" y="595"/>
                        </a:lnTo>
                        <a:lnTo>
                          <a:pt x="4104" y="592"/>
                        </a:lnTo>
                        <a:lnTo>
                          <a:pt x="4107" y="592"/>
                        </a:lnTo>
                        <a:lnTo>
                          <a:pt x="4111" y="592"/>
                        </a:lnTo>
                        <a:lnTo>
                          <a:pt x="4116" y="592"/>
                        </a:lnTo>
                        <a:lnTo>
                          <a:pt x="4119" y="592"/>
                        </a:lnTo>
                        <a:lnTo>
                          <a:pt x="4123" y="587"/>
                        </a:lnTo>
                        <a:lnTo>
                          <a:pt x="4126" y="587"/>
                        </a:lnTo>
                        <a:lnTo>
                          <a:pt x="4126" y="579"/>
                        </a:lnTo>
                        <a:lnTo>
                          <a:pt x="4126" y="576"/>
                        </a:lnTo>
                        <a:lnTo>
                          <a:pt x="4130" y="576"/>
                        </a:lnTo>
                        <a:lnTo>
                          <a:pt x="4130" y="571"/>
                        </a:lnTo>
                        <a:lnTo>
                          <a:pt x="4135" y="571"/>
                        </a:lnTo>
                        <a:lnTo>
                          <a:pt x="4135" y="566"/>
                        </a:lnTo>
                        <a:lnTo>
                          <a:pt x="4139" y="566"/>
                        </a:lnTo>
                        <a:lnTo>
                          <a:pt x="4139" y="563"/>
                        </a:lnTo>
                        <a:lnTo>
                          <a:pt x="4142" y="563"/>
                        </a:lnTo>
                        <a:lnTo>
                          <a:pt x="4142" y="558"/>
                        </a:lnTo>
                        <a:lnTo>
                          <a:pt x="4142" y="553"/>
                        </a:lnTo>
                        <a:lnTo>
                          <a:pt x="4146" y="553"/>
                        </a:lnTo>
                        <a:lnTo>
                          <a:pt x="4146" y="549"/>
                        </a:lnTo>
                        <a:lnTo>
                          <a:pt x="4149" y="549"/>
                        </a:lnTo>
                        <a:lnTo>
                          <a:pt x="4149" y="544"/>
                        </a:lnTo>
                        <a:lnTo>
                          <a:pt x="4149" y="540"/>
                        </a:lnTo>
                        <a:lnTo>
                          <a:pt x="4153" y="540"/>
                        </a:lnTo>
                        <a:lnTo>
                          <a:pt x="4158" y="540"/>
                        </a:lnTo>
                        <a:lnTo>
                          <a:pt x="4158" y="544"/>
                        </a:lnTo>
                        <a:lnTo>
                          <a:pt x="4161" y="544"/>
                        </a:lnTo>
                        <a:lnTo>
                          <a:pt x="4165" y="544"/>
                        </a:lnTo>
                        <a:lnTo>
                          <a:pt x="4169" y="544"/>
                        </a:lnTo>
                        <a:lnTo>
                          <a:pt x="4177" y="540"/>
                        </a:lnTo>
                        <a:lnTo>
                          <a:pt x="4177" y="536"/>
                        </a:lnTo>
                        <a:lnTo>
                          <a:pt x="4177" y="531"/>
                        </a:lnTo>
                        <a:lnTo>
                          <a:pt x="4181" y="531"/>
                        </a:lnTo>
                        <a:lnTo>
                          <a:pt x="4181" y="526"/>
                        </a:lnTo>
                        <a:lnTo>
                          <a:pt x="4181" y="523"/>
                        </a:lnTo>
                        <a:lnTo>
                          <a:pt x="4184" y="518"/>
                        </a:lnTo>
                        <a:lnTo>
                          <a:pt x="4184" y="513"/>
                        </a:lnTo>
                        <a:lnTo>
                          <a:pt x="4190" y="513"/>
                        </a:lnTo>
                        <a:lnTo>
                          <a:pt x="4194" y="513"/>
                        </a:lnTo>
                        <a:lnTo>
                          <a:pt x="4194" y="508"/>
                        </a:lnTo>
                        <a:lnTo>
                          <a:pt x="4194" y="502"/>
                        </a:lnTo>
                        <a:lnTo>
                          <a:pt x="4198" y="497"/>
                        </a:lnTo>
                        <a:lnTo>
                          <a:pt x="4201" y="497"/>
                        </a:lnTo>
                        <a:lnTo>
                          <a:pt x="4201" y="494"/>
                        </a:lnTo>
                        <a:lnTo>
                          <a:pt x="4201" y="489"/>
                        </a:lnTo>
                        <a:lnTo>
                          <a:pt x="4206" y="489"/>
                        </a:lnTo>
                        <a:lnTo>
                          <a:pt x="4210" y="484"/>
                        </a:lnTo>
                        <a:lnTo>
                          <a:pt x="4213" y="484"/>
                        </a:lnTo>
                        <a:lnTo>
                          <a:pt x="4213" y="481"/>
                        </a:lnTo>
                        <a:lnTo>
                          <a:pt x="4217" y="481"/>
                        </a:lnTo>
                        <a:lnTo>
                          <a:pt x="4217" y="484"/>
                        </a:lnTo>
                        <a:lnTo>
                          <a:pt x="4220" y="484"/>
                        </a:lnTo>
                        <a:lnTo>
                          <a:pt x="4220" y="481"/>
                        </a:lnTo>
                        <a:lnTo>
                          <a:pt x="4224" y="481"/>
                        </a:lnTo>
                        <a:lnTo>
                          <a:pt x="4224" y="476"/>
                        </a:lnTo>
                        <a:lnTo>
                          <a:pt x="4224" y="471"/>
                        </a:lnTo>
                        <a:lnTo>
                          <a:pt x="4224" y="466"/>
                        </a:lnTo>
                        <a:lnTo>
                          <a:pt x="4224" y="463"/>
                        </a:lnTo>
                        <a:lnTo>
                          <a:pt x="4224" y="458"/>
                        </a:lnTo>
                        <a:lnTo>
                          <a:pt x="4220" y="453"/>
                        </a:lnTo>
                        <a:lnTo>
                          <a:pt x="4220" y="444"/>
                        </a:lnTo>
                        <a:lnTo>
                          <a:pt x="4220" y="440"/>
                        </a:lnTo>
                        <a:lnTo>
                          <a:pt x="4217" y="440"/>
                        </a:lnTo>
                        <a:lnTo>
                          <a:pt x="4213" y="436"/>
                        </a:lnTo>
                        <a:lnTo>
                          <a:pt x="4213" y="429"/>
                        </a:lnTo>
                        <a:lnTo>
                          <a:pt x="4210" y="429"/>
                        </a:lnTo>
                        <a:lnTo>
                          <a:pt x="4206" y="424"/>
                        </a:lnTo>
                        <a:lnTo>
                          <a:pt x="4201" y="424"/>
                        </a:lnTo>
                        <a:lnTo>
                          <a:pt x="4201" y="420"/>
                        </a:lnTo>
                        <a:lnTo>
                          <a:pt x="4198" y="415"/>
                        </a:lnTo>
                        <a:lnTo>
                          <a:pt x="4198" y="411"/>
                        </a:lnTo>
                        <a:lnTo>
                          <a:pt x="4198" y="407"/>
                        </a:lnTo>
                        <a:lnTo>
                          <a:pt x="4198" y="402"/>
                        </a:lnTo>
                        <a:lnTo>
                          <a:pt x="4201" y="394"/>
                        </a:lnTo>
                        <a:lnTo>
                          <a:pt x="4206" y="384"/>
                        </a:lnTo>
                        <a:lnTo>
                          <a:pt x="4206" y="381"/>
                        </a:lnTo>
                        <a:lnTo>
                          <a:pt x="4206" y="376"/>
                        </a:lnTo>
                        <a:lnTo>
                          <a:pt x="4210" y="371"/>
                        </a:lnTo>
                        <a:lnTo>
                          <a:pt x="4210" y="366"/>
                        </a:lnTo>
                        <a:lnTo>
                          <a:pt x="4213" y="358"/>
                        </a:lnTo>
                        <a:lnTo>
                          <a:pt x="4213" y="352"/>
                        </a:lnTo>
                        <a:lnTo>
                          <a:pt x="4213" y="347"/>
                        </a:lnTo>
                        <a:lnTo>
                          <a:pt x="4213" y="338"/>
                        </a:lnTo>
                        <a:lnTo>
                          <a:pt x="4213" y="333"/>
                        </a:lnTo>
                        <a:lnTo>
                          <a:pt x="4213" y="329"/>
                        </a:lnTo>
                        <a:lnTo>
                          <a:pt x="4213" y="324"/>
                        </a:lnTo>
                        <a:lnTo>
                          <a:pt x="4210" y="320"/>
                        </a:lnTo>
                        <a:lnTo>
                          <a:pt x="4210" y="315"/>
                        </a:lnTo>
                        <a:lnTo>
                          <a:pt x="4210" y="311"/>
                        </a:lnTo>
                        <a:lnTo>
                          <a:pt x="4210" y="307"/>
                        </a:lnTo>
                        <a:lnTo>
                          <a:pt x="4213" y="307"/>
                        </a:lnTo>
                        <a:lnTo>
                          <a:pt x="4213" y="302"/>
                        </a:lnTo>
                        <a:lnTo>
                          <a:pt x="4213" y="297"/>
                        </a:lnTo>
                        <a:lnTo>
                          <a:pt x="4213" y="294"/>
                        </a:lnTo>
                        <a:lnTo>
                          <a:pt x="4213" y="289"/>
                        </a:lnTo>
                        <a:lnTo>
                          <a:pt x="4213" y="284"/>
                        </a:lnTo>
                        <a:lnTo>
                          <a:pt x="4213" y="280"/>
                        </a:lnTo>
                        <a:lnTo>
                          <a:pt x="4217" y="273"/>
                        </a:lnTo>
                        <a:lnTo>
                          <a:pt x="4217" y="268"/>
                        </a:lnTo>
                        <a:lnTo>
                          <a:pt x="4220" y="265"/>
                        </a:lnTo>
                        <a:lnTo>
                          <a:pt x="4220" y="255"/>
                        </a:lnTo>
                        <a:lnTo>
                          <a:pt x="4224" y="247"/>
                        </a:lnTo>
                        <a:lnTo>
                          <a:pt x="4224" y="238"/>
                        </a:lnTo>
                        <a:lnTo>
                          <a:pt x="4224" y="233"/>
                        </a:lnTo>
                        <a:lnTo>
                          <a:pt x="4224" y="229"/>
                        </a:lnTo>
                        <a:lnTo>
                          <a:pt x="4224" y="225"/>
                        </a:lnTo>
                        <a:lnTo>
                          <a:pt x="4224" y="220"/>
                        </a:lnTo>
                        <a:lnTo>
                          <a:pt x="4220" y="215"/>
                        </a:lnTo>
                        <a:lnTo>
                          <a:pt x="4220" y="211"/>
                        </a:lnTo>
                        <a:lnTo>
                          <a:pt x="4220" y="207"/>
                        </a:lnTo>
                        <a:lnTo>
                          <a:pt x="4220" y="202"/>
                        </a:lnTo>
                        <a:lnTo>
                          <a:pt x="4217" y="196"/>
                        </a:lnTo>
                        <a:lnTo>
                          <a:pt x="4217" y="186"/>
                        </a:lnTo>
                        <a:lnTo>
                          <a:pt x="4213" y="186"/>
                        </a:lnTo>
                        <a:lnTo>
                          <a:pt x="4213" y="182"/>
                        </a:lnTo>
                        <a:lnTo>
                          <a:pt x="4213" y="178"/>
                        </a:lnTo>
                        <a:lnTo>
                          <a:pt x="4213" y="173"/>
                        </a:lnTo>
                        <a:lnTo>
                          <a:pt x="4213" y="168"/>
                        </a:lnTo>
                        <a:lnTo>
                          <a:pt x="4210" y="165"/>
                        </a:lnTo>
                        <a:lnTo>
                          <a:pt x="4210" y="160"/>
                        </a:lnTo>
                        <a:lnTo>
                          <a:pt x="4206" y="160"/>
                        </a:lnTo>
                        <a:lnTo>
                          <a:pt x="4206" y="155"/>
                        </a:lnTo>
                        <a:lnTo>
                          <a:pt x="4206" y="147"/>
                        </a:lnTo>
                        <a:lnTo>
                          <a:pt x="4206" y="142"/>
                        </a:lnTo>
                        <a:lnTo>
                          <a:pt x="4201" y="142"/>
                        </a:lnTo>
                        <a:lnTo>
                          <a:pt x="4201" y="138"/>
                        </a:lnTo>
                        <a:lnTo>
                          <a:pt x="4201" y="133"/>
                        </a:lnTo>
                        <a:lnTo>
                          <a:pt x="4201" y="125"/>
                        </a:lnTo>
                        <a:lnTo>
                          <a:pt x="4201" y="118"/>
                        </a:lnTo>
                        <a:lnTo>
                          <a:pt x="4201" y="113"/>
                        </a:lnTo>
                        <a:lnTo>
                          <a:pt x="4201" y="104"/>
                        </a:lnTo>
                        <a:lnTo>
                          <a:pt x="4198" y="100"/>
                        </a:lnTo>
                        <a:lnTo>
                          <a:pt x="4198" y="96"/>
                        </a:lnTo>
                        <a:lnTo>
                          <a:pt x="4198" y="91"/>
                        </a:lnTo>
                        <a:lnTo>
                          <a:pt x="4198" y="86"/>
                        </a:lnTo>
                        <a:lnTo>
                          <a:pt x="4198" y="83"/>
                        </a:lnTo>
                        <a:lnTo>
                          <a:pt x="4198" y="78"/>
                        </a:lnTo>
                        <a:lnTo>
                          <a:pt x="4201" y="73"/>
                        </a:lnTo>
                        <a:lnTo>
                          <a:pt x="4206" y="68"/>
                        </a:lnTo>
                        <a:lnTo>
                          <a:pt x="4206" y="65"/>
                        </a:lnTo>
                        <a:lnTo>
                          <a:pt x="4210" y="65"/>
                        </a:lnTo>
                        <a:lnTo>
                          <a:pt x="4217" y="60"/>
                        </a:lnTo>
                        <a:lnTo>
                          <a:pt x="4220" y="60"/>
                        </a:lnTo>
                        <a:lnTo>
                          <a:pt x="4224" y="60"/>
                        </a:lnTo>
                        <a:lnTo>
                          <a:pt x="4233" y="55"/>
                        </a:lnTo>
                        <a:lnTo>
                          <a:pt x="4236" y="55"/>
                        </a:lnTo>
                        <a:lnTo>
                          <a:pt x="4240" y="55"/>
                        </a:lnTo>
                        <a:lnTo>
                          <a:pt x="4243" y="44"/>
                        </a:lnTo>
                        <a:lnTo>
                          <a:pt x="4252" y="39"/>
                        </a:lnTo>
                        <a:lnTo>
                          <a:pt x="4255" y="39"/>
                        </a:lnTo>
                        <a:lnTo>
                          <a:pt x="4255" y="36"/>
                        </a:lnTo>
                        <a:lnTo>
                          <a:pt x="4263" y="22"/>
                        </a:lnTo>
                        <a:lnTo>
                          <a:pt x="4268" y="18"/>
                        </a:lnTo>
                        <a:lnTo>
                          <a:pt x="4271" y="18"/>
                        </a:lnTo>
                        <a:lnTo>
                          <a:pt x="4275" y="18"/>
                        </a:lnTo>
                        <a:lnTo>
                          <a:pt x="4281" y="13"/>
                        </a:lnTo>
                        <a:lnTo>
                          <a:pt x="4288" y="13"/>
                        </a:lnTo>
                        <a:lnTo>
                          <a:pt x="4292" y="4"/>
                        </a:lnTo>
                        <a:lnTo>
                          <a:pt x="4295" y="4"/>
                        </a:lnTo>
                        <a:lnTo>
                          <a:pt x="4300" y="0"/>
                        </a:lnTo>
                        <a:lnTo>
                          <a:pt x="4311" y="4"/>
                        </a:lnTo>
                        <a:lnTo>
                          <a:pt x="4315" y="9"/>
                        </a:lnTo>
                        <a:lnTo>
                          <a:pt x="4315" y="13"/>
                        </a:lnTo>
                        <a:lnTo>
                          <a:pt x="4323" y="13"/>
                        </a:lnTo>
                        <a:lnTo>
                          <a:pt x="4327" y="13"/>
                        </a:lnTo>
                        <a:lnTo>
                          <a:pt x="4327" y="18"/>
                        </a:lnTo>
                        <a:lnTo>
                          <a:pt x="4330" y="18"/>
                        </a:lnTo>
                        <a:lnTo>
                          <a:pt x="4334" y="55"/>
                        </a:lnTo>
                        <a:lnTo>
                          <a:pt x="4334" y="65"/>
                        </a:lnTo>
                        <a:lnTo>
                          <a:pt x="4334" y="68"/>
                        </a:lnTo>
                        <a:lnTo>
                          <a:pt x="4334" y="83"/>
                        </a:lnTo>
                        <a:lnTo>
                          <a:pt x="4330" y="96"/>
                        </a:lnTo>
                        <a:lnTo>
                          <a:pt x="4327" y="104"/>
                        </a:lnTo>
                        <a:lnTo>
                          <a:pt x="4323" y="109"/>
                        </a:lnTo>
                        <a:lnTo>
                          <a:pt x="4323" y="113"/>
                        </a:lnTo>
                        <a:lnTo>
                          <a:pt x="4319" y="118"/>
                        </a:lnTo>
                        <a:lnTo>
                          <a:pt x="4323" y="125"/>
                        </a:lnTo>
                        <a:lnTo>
                          <a:pt x="4319" y="125"/>
                        </a:lnTo>
                        <a:lnTo>
                          <a:pt x="4323" y="129"/>
                        </a:lnTo>
                        <a:lnTo>
                          <a:pt x="4323" y="133"/>
                        </a:lnTo>
                        <a:lnTo>
                          <a:pt x="4323" y="138"/>
                        </a:lnTo>
                        <a:lnTo>
                          <a:pt x="4327" y="147"/>
                        </a:lnTo>
                        <a:lnTo>
                          <a:pt x="4330" y="147"/>
                        </a:lnTo>
                        <a:lnTo>
                          <a:pt x="4334" y="151"/>
                        </a:lnTo>
                        <a:lnTo>
                          <a:pt x="4334" y="155"/>
                        </a:lnTo>
                        <a:lnTo>
                          <a:pt x="4337" y="160"/>
                        </a:lnTo>
                        <a:lnTo>
                          <a:pt x="4342" y="160"/>
                        </a:lnTo>
                        <a:lnTo>
                          <a:pt x="4346" y="165"/>
                        </a:lnTo>
                        <a:lnTo>
                          <a:pt x="4346" y="168"/>
                        </a:lnTo>
                        <a:lnTo>
                          <a:pt x="4350" y="173"/>
                        </a:lnTo>
                        <a:lnTo>
                          <a:pt x="4353" y="178"/>
                        </a:lnTo>
                        <a:lnTo>
                          <a:pt x="4353" y="182"/>
                        </a:lnTo>
                        <a:lnTo>
                          <a:pt x="4357" y="182"/>
                        </a:lnTo>
                        <a:lnTo>
                          <a:pt x="4357" y="186"/>
                        </a:lnTo>
                        <a:lnTo>
                          <a:pt x="4362" y="196"/>
                        </a:lnTo>
                        <a:lnTo>
                          <a:pt x="4365" y="207"/>
                        </a:lnTo>
                        <a:lnTo>
                          <a:pt x="4365" y="215"/>
                        </a:lnTo>
                        <a:lnTo>
                          <a:pt x="4371" y="225"/>
                        </a:lnTo>
                        <a:lnTo>
                          <a:pt x="4371" y="229"/>
                        </a:lnTo>
                        <a:lnTo>
                          <a:pt x="4371" y="233"/>
                        </a:lnTo>
                        <a:lnTo>
                          <a:pt x="4365" y="247"/>
                        </a:lnTo>
                        <a:lnTo>
                          <a:pt x="4365" y="252"/>
                        </a:lnTo>
                        <a:lnTo>
                          <a:pt x="4365" y="255"/>
                        </a:lnTo>
                        <a:lnTo>
                          <a:pt x="4365" y="268"/>
                        </a:lnTo>
                        <a:lnTo>
                          <a:pt x="4365" y="273"/>
                        </a:lnTo>
                        <a:lnTo>
                          <a:pt x="4362" y="280"/>
                        </a:lnTo>
                        <a:lnTo>
                          <a:pt x="4362" y="284"/>
                        </a:lnTo>
                        <a:lnTo>
                          <a:pt x="4362" y="289"/>
                        </a:lnTo>
                        <a:lnTo>
                          <a:pt x="4362" y="294"/>
                        </a:lnTo>
                        <a:lnTo>
                          <a:pt x="4357" y="297"/>
                        </a:lnTo>
                        <a:lnTo>
                          <a:pt x="4357" y="311"/>
                        </a:lnTo>
                        <a:lnTo>
                          <a:pt x="4353" y="320"/>
                        </a:lnTo>
                        <a:lnTo>
                          <a:pt x="4353" y="324"/>
                        </a:lnTo>
                        <a:lnTo>
                          <a:pt x="4353" y="329"/>
                        </a:lnTo>
                        <a:lnTo>
                          <a:pt x="4350" y="347"/>
                        </a:lnTo>
                        <a:lnTo>
                          <a:pt x="4350" y="352"/>
                        </a:lnTo>
                        <a:lnTo>
                          <a:pt x="4353" y="352"/>
                        </a:lnTo>
                        <a:lnTo>
                          <a:pt x="4353" y="358"/>
                        </a:lnTo>
                        <a:lnTo>
                          <a:pt x="4353" y="376"/>
                        </a:lnTo>
                        <a:lnTo>
                          <a:pt x="4357" y="381"/>
                        </a:lnTo>
                        <a:lnTo>
                          <a:pt x="4357" y="384"/>
                        </a:lnTo>
                        <a:lnTo>
                          <a:pt x="4362" y="389"/>
                        </a:lnTo>
                        <a:lnTo>
                          <a:pt x="4362" y="394"/>
                        </a:lnTo>
                        <a:lnTo>
                          <a:pt x="4365" y="402"/>
                        </a:lnTo>
                        <a:lnTo>
                          <a:pt x="4371" y="402"/>
                        </a:lnTo>
                        <a:lnTo>
                          <a:pt x="4371" y="407"/>
                        </a:lnTo>
                        <a:lnTo>
                          <a:pt x="4371" y="411"/>
                        </a:lnTo>
                        <a:lnTo>
                          <a:pt x="4371" y="415"/>
                        </a:lnTo>
                        <a:lnTo>
                          <a:pt x="4375" y="415"/>
                        </a:lnTo>
                        <a:lnTo>
                          <a:pt x="4375" y="420"/>
                        </a:lnTo>
                        <a:lnTo>
                          <a:pt x="4378" y="429"/>
                        </a:lnTo>
                        <a:lnTo>
                          <a:pt x="4382" y="429"/>
                        </a:lnTo>
                        <a:lnTo>
                          <a:pt x="4386" y="440"/>
                        </a:lnTo>
                        <a:lnTo>
                          <a:pt x="4394" y="449"/>
                        </a:lnTo>
                        <a:lnTo>
                          <a:pt x="4394" y="453"/>
                        </a:lnTo>
                        <a:lnTo>
                          <a:pt x="4401" y="458"/>
                        </a:lnTo>
                        <a:lnTo>
                          <a:pt x="4405" y="466"/>
                        </a:lnTo>
                        <a:lnTo>
                          <a:pt x="4409" y="466"/>
                        </a:lnTo>
                        <a:lnTo>
                          <a:pt x="4413" y="476"/>
                        </a:lnTo>
                        <a:lnTo>
                          <a:pt x="4417" y="476"/>
                        </a:lnTo>
                        <a:lnTo>
                          <a:pt x="4421" y="481"/>
                        </a:lnTo>
                        <a:lnTo>
                          <a:pt x="4421" y="484"/>
                        </a:lnTo>
                        <a:lnTo>
                          <a:pt x="4424" y="489"/>
                        </a:lnTo>
                        <a:lnTo>
                          <a:pt x="4428" y="497"/>
                        </a:lnTo>
                        <a:lnTo>
                          <a:pt x="4428" y="508"/>
                        </a:lnTo>
                        <a:lnTo>
                          <a:pt x="4428" y="513"/>
                        </a:lnTo>
                        <a:lnTo>
                          <a:pt x="4433" y="513"/>
                        </a:lnTo>
                        <a:lnTo>
                          <a:pt x="4433" y="518"/>
                        </a:lnTo>
                        <a:lnTo>
                          <a:pt x="4433" y="523"/>
                        </a:lnTo>
                        <a:lnTo>
                          <a:pt x="4433" y="526"/>
                        </a:lnTo>
                        <a:lnTo>
                          <a:pt x="4433" y="536"/>
                        </a:lnTo>
                        <a:lnTo>
                          <a:pt x="4424" y="544"/>
                        </a:lnTo>
                        <a:lnTo>
                          <a:pt x="4413" y="558"/>
                        </a:lnTo>
                        <a:lnTo>
                          <a:pt x="4413" y="563"/>
                        </a:lnTo>
                        <a:lnTo>
                          <a:pt x="4409" y="563"/>
                        </a:lnTo>
                        <a:lnTo>
                          <a:pt x="4409" y="566"/>
                        </a:lnTo>
                        <a:lnTo>
                          <a:pt x="4409" y="571"/>
                        </a:lnTo>
                        <a:lnTo>
                          <a:pt x="4409" y="576"/>
                        </a:lnTo>
                        <a:lnTo>
                          <a:pt x="4409" y="579"/>
                        </a:lnTo>
                        <a:lnTo>
                          <a:pt x="4413" y="595"/>
                        </a:lnTo>
                        <a:lnTo>
                          <a:pt x="4413" y="600"/>
                        </a:lnTo>
                        <a:lnTo>
                          <a:pt x="4417" y="600"/>
                        </a:lnTo>
                        <a:lnTo>
                          <a:pt x="4421" y="605"/>
                        </a:lnTo>
                        <a:lnTo>
                          <a:pt x="4424" y="608"/>
                        </a:lnTo>
                        <a:lnTo>
                          <a:pt x="4424" y="618"/>
                        </a:lnTo>
                        <a:lnTo>
                          <a:pt x="4433" y="626"/>
                        </a:lnTo>
                        <a:lnTo>
                          <a:pt x="4436" y="631"/>
                        </a:lnTo>
                        <a:lnTo>
                          <a:pt x="4436" y="636"/>
                        </a:lnTo>
                        <a:lnTo>
                          <a:pt x="4444" y="640"/>
                        </a:lnTo>
                        <a:lnTo>
                          <a:pt x="4444" y="645"/>
                        </a:lnTo>
                        <a:lnTo>
                          <a:pt x="4452" y="653"/>
                        </a:lnTo>
                        <a:lnTo>
                          <a:pt x="4465" y="674"/>
                        </a:lnTo>
                        <a:lnTo>
                          <a:pt x="4469" y="678"/>
                        </a:lnTo>
                        <a:lnTo>
                          <a:pt x="4473" y="682"/>
                        </a:lnTo>
                        <a:lnTo>
                          <a:pt x="4480" y="692"/>
                        </a:lnTo>
                        <a:lnTo>
                          <a:pt x="4488" y="695"/>
                        </a:lnTo>
                        <a:lnTo>
                          <a:pt x="4492" y="700"/>
                        </a:lnTo>
                        <a:lnTo>
                          <a:pt x="4499" y="705"/>
                        </a:lnTo>
                        <a:lnTo>
                          <a:pt x="4507" y="708"/>
                        </a:lnTo>
                        <a:lnTo>
                          <a:pt x="4511" y="713"/>
                        </a:lnTo>
                        <a:lnTo>
                          <a:pt x="4511" y="718"/>
                        </a:lnTo>
                        <a:lnTo>
                          <a:pt x="4518" y="718"/>
                        </a:lnTo>
                        <a:lnTo>
                          <a:pt x="4523" y="722"/>
                        </a:lnTo>
                        <a:lnTo>
                          <a:pt x="4527" y="727"/>
                        </a:lnTo>
                        <a:lnTo>
                          <a:pt x="4530" y="727"/>
                        </a:lnTo>
                        <a:lnTo>
                          <a:pt x="4538" y="731"/>
                        </a:lnTo>
                        <a:lnTo>
                          <a:pt x="4559" y="742"/>
                        </a:lnTo>
                        <a:lnTo>
                          <a:pt x="4567" y="747"/>
                        </a:lnTo>
                        <a:lnTo>
                          <a:pt x="4575" y="751"/>
                        </a:lnTo>
                        <a:lnTo>
                          <a:pt x="4579" y="751"/>
                        </a:lnTo>
                        <a:lnTo>
                          <a:pt x="4582" y="760"/>
                        </a:lnTo>
                        <a:lnTo>
                          <a:pt x="4586" y="765"/>
                        </a:lnTo>
                        <a:lnTo>
                          <a:pt x="4586" y="769"/>
                        </a:lnTo>
                        <a:lnTo>
                          <a:pt x="4593" y="769"/>
                        </a:lnTo>
                        <a:lnTo>
                          <a:pt x="4602" y="782"/>
                        </a:lnTo>
                        <a:lnTo>
                          <a:pt x="4605" y="787"/>
                        </a:lnTo>
                        <a:lnTo>
                          <a:pt x="4612" y="792"/>
                        </a:lnTo>
                        <a:lnTo>
                          <a:pt x="4621" y="795"/>
                        </a:lnTo>
                        <a:lnTo>
                          <a:pt x="4624" y="795"/>
                        </a:lnTo>
                        <a:lnTo>
                          <a:pt x="4628" y="795"/>
                        </a:lnTo>
                        <a:lnTo>
                          <a:pt x="4634" y="800"/>
                        </a:lnTo>
                        <a:lnTo>
                          <a:pt x="4638" y="800"/>
                        </a:lnTo>
                        <a:lnTo>
                          <a:pt x="4641" y="800"/>
                        </a:lnTo>
                        <a:lnTo>
                          <a:pt x="4646" y="805"/>
                        </a:lnTo>
                        <a:lnTo>
                          <a:pt x="4650" y="805"/>
                        </a:lnTo>
                        <a:lnTo>
                          <a:pt x="4653" y="809"/>
                        </a:lnTo>
                        <a:lnTo>
                          <a:pt x="4650" y="809"/>
                        </a:lnTo>
                        <a:lnTo>
                          <a:pt x="4650" y="813"/>
                        </a:lnTo>
                        <a:lnTo>
                          <a:pt x="4646" y="821"/>
                        </a:lnTo>
                        <a:lnTo>
                          <a:pt x="4641" y="824"/>
                        </a:lnTo>
                        <a:lnTo>
                          <a:pt x="4634" y="824"/>
                        </a:lnTo>
                        <a:lnTo>
                          <a:pt x="4634" y="829"/>
                        </a:lnTo>
                        <a:lnTo>
                          <a:pt x="4634" y="834"/>
                        </a:lnTo>
                        <a:lnTo>
                          <a:pt x="4628" y="837"/>
                        </a:lnTo>
                        <a:lnTo>
                          <a:pt x="4621" y="847"/>
                        </a:lnTo>
                        <a:lnTo>
                          <a:pt x="4621" y="851"/>
                        </a:lnTo>
                        <a:lnTo>
                          <a:pt x="4612" y="851"/>
                        </a:lnTo>
                        <a:lnTo>
                          <a:pt x="4609" y="851"/>
                        </a:lnTo>
                        <a:lnTo>
                          <a:pt x="4609" y="856"/>
                        </a:lnTo>
                        <a:lnTo>
                          <a:pt x="4605" y="856"/>
                        </a:lnTo>
                        <a:lnTo>
                          <a:pt x="4602" y="856"/>
                        </a:lnTo>
                        <a:lnTo>
                          <a:pt x="4602" y="860"/>
                        </a:lnTo>
                        <a:lnTo>
                          <a:pt x="4598" y="864"/>
                        </a:lnTo>
                        <a:lnTo>
                          <a:pt x="4593" y="864"/>
                        </a:lnTo>
                        <a:lnTo>
                          <a:pt x="4593" y="869"/>
                        </a:lnTo>
                        <a:lnTo>
                          <a:pt x="4589" y="874"/>
                        </a:lnTo>
                        <a:lnTo>
                          <a:pt x="4589" y="878"/>
                        </a:lnTo>
                        <a:lnTo>
                          <a:pt x="4586" y="878"/>
                        </a:lnTo>
                        <a:lnTo>
                          <a:pt x="4586" y="882"/>
                        </a:lnTo>
                        <a:lnTo>
                          <a:pt x="4582" y="882"/>
                        </a:lnTo>
                        <a:lnTo>
                          <a:pt x="4579" y="887"/>
                        </a:lnTo>
                        <a:lnTo>
                          <a:pt x="4579" y="898"/>
                        </a:lnTo>
                        <a:lnTo>
                          <a:pt x="4575" y="898"/>
                        </a:lnTo>
                        <a:lnTo>
                          <a:pt x="4575" y="903"/>
                        </a:lnTo>
                        <a:lnTo>
                          <a:pt x="4570" y="906"/>
                        </a:lnTo>
                        <a:lnTo>
                          <a:pt x="4567" y="911"/>
                        </a:lnTo>
                        <a:lnTo>
                          <a:pt x="4567" y="916"/>
                        </a:lnTo>
                        <a:lnTo>
                          <a:pt x="4567" y="921"/>
                        </a:lnTo>
                        <a:lnTo>
                          <a:pt x="4567" y="924"/>
                        </a:lnTo>
                        <a:lnTo>
                          <a:pt x="4567" y="929"/>
                        </a:lnTo>
                        <a:lnTo>
                          <a:pt x="4567" y="938"/>
                        </a:lnTo>
                        <a:lnTo>
                          <a:pt x="4570" y="942"/>
                        </a:lnTo>
                        <a:lnTo>
                          <a:pt x="4570" y="947"/>
                        </a:lnTo>
                        <a:lnTo>
                          <a:pt x="4570" y="951"/>
                        </a:lnTo>
                        <a:lnTo>
                          <a:pt x="4567" y="956"/>
                        </a:lnTo>
                        <a:lnTo>
                          <a:pt x="4570" y="956"/>
                        </a:lnTo>
                        <a:lnTo>
                          <a:pt x="4575" y="964"/>
                        </a:lnTo>
                        <a:lnTo>
                          <a:pt x="4575" y="971"/>
                        </a:lnTo>
                        <a:lnTo>
                          <a:pt x="4579" y="976"/>
                        </a:lnTo>
                        <a:lnTo>
                          <a:pt x="4579" y="980"/>
                        </a:lnTo>
                        <a:lnTo>
                          <a:pt x="4582" y="980"/>
                        </a:lnTo>
                        <a:lnTo>
                          <a:pt x="4586" y="985"/>
                        </a:lnTo>
                        <a:lnTo>
                          <a:pt x="4586" y="989"/>
                        </a:lnTo>
                        <a:lnTo>
                          <a:pt x="4589" y="989"/>
                        </a:lnTo>
                        <a:lnTo>
                          <a:pt x="4589" y="993"/>
                        </a:lnTo>
                        <a:lnTo>
                          <a:pt x="4586" y="993"/>
                        </a:lnTo>
                        <a:lnTo>
                          <a:pt x="4586" y="998"/>
                        </a:lnTo>
                        <a:lnTo>
                          <a:pt x="4586" y="1003"/>
                        </a:lnTo>
                        <a:lnTo>
                          <a:pt x="4586" y="1006"/>
                        </a:lnTo>
                        <a:lnTo>
                          <a:pt x="4586" y="1011"/>
                        </a:lnTo>
                        <a:lnTo>
                          <a:pt x="4586" y="1021"/>
                        </a:lnTo>
                        <a:lnTo>
                          <a:pt x="4589" y="1021"/>
                        </a:lnTo>
                        <a:lnTo>
                          <a:pt x="4593" y="1021"/>
                        </a:lnTo>
                        <a:lnTo>
                          <a:pt x="4593" y="1024"/>
                        </a:lnTo>
                        <a:lnTo>
                          <a:pt x="4593" y="1029"/>
                        </a:lnTo>
                        <a:lnTo>
                          <a:pt x="4593" y="1038"/>
                        </a:lnTo>
                        <a:lnTo>
                          <a:pt x="4593" y="1042"/>
                        </a:lnTo>
                        <a:lnTo>
                          <a:pt x="4589" y="1048"/>
                        </a:lnTo>
                        <a:lnTo>
                          <a:pt x="4586" y="1048"/>
                        </a:lnTo>
                        <a:lnTo>
                          <a:pt x="4586" y="1053"/>
                        </a:lnTo>
                        <a:lnTo>
                          <a:pt x="4579" y="1058"/>
                        </a:lnTo>
                        <a:lnTo>
                          <a:pt x="4579" y="1063"/>
                        </a:lnTo>
                        <a:lnTo>
                          <a:pt x="4575" y="1063"/>
                        </a:lnTo>
                        <a:lnTo>
                          <a:pt x="4570" y="1063"/>
                        </a:lnTo>
                        <a:lnTo>
                          <a:pt x="4567" y="1067"/>
                        </a:lnTo>
                        <a:lnTo>
                          <a:pt x="4559" y="1067"/>
                        </a:lnTo>
                        <a:lnTo>
                          <a:pt x="4556" y="1071"/>
                        </a:lnTo>
                        <a:lnTo>
                          <a:pt x="4551" y="1071"/>
                        </a:lnTo>
                        <a:lnTo>
                          <a:pt x="4547" y="1071"/>
                        </a:lnTo>
                        <a:lnTo>
                          <a:pt x="4541" y="1071"/>
                        </a:lnTo>
                        <a:lnTo>
                          <a:pt x="4534" y="1071"/>
                        </a:lnTo>
                        <a:lnTo>
                          <a:pt x="4530" y="1067"/>
                        </a:lnTo>
                        <a:lnTo>
                          <a:pt x="4523" y="1071"/>
                        </a:lnTo>
                        <a:lnTo>
                          <a:pt x="4511" y="1067"/>
                        </a:lnTo>
                        <a:lnTo>
                          <a:pt x="4504" y="1067"/>
                        </a:lnTo>
                        <a:lnTo>
                          <a:pt x="4499" y="1063"/>
                        </a:lnTo>
                        <a:lnTo>
                          <a:pt x="4495" y="1063"/>
                        </a:lnTo>
                        <a:lnTo>
                          <a:pt x="4492" y="1063"/>
                        </a:lnTo>
                        <a:lnTo>
                          <a:pt x="4488" y="1063"/>
                        </a:lnTo>
                        <a:lnTo>
                          <a:pt x="4476" y="1058"/>
                        </a:lnTo>
                        <a:lnTo>
                          <a:pt x="4469" y="1058"/>
                        </a:lnTo>
                        <a:lnTo>
                          <a:pt x="4447" y="1048"/>
                        </a:lnTo>
                        <a:lnTo>
                          <a:pt x="4436" y="1042"/>
                        </a:lnTo>
                        <a:lnTo>
                          <a:pt x="4428" y="1042"/>
                        </a:lnTo>
                        <a:lnTo>
                          <a:pt x="4401" y="1042"/>
                        </a:lnTo>
                        <a:lnTo>
                          <a:pt x="4391" y="1038"/>
                        </a:lnTo>
                        <a:lnTo>
                          <a:pt x="4382" y="1038"/>
                        </a:lnTo>
                        <a:lnTo>
                          <a:pt x="4375" y="1038"/>
                        </a:lnTo>
                        <a:lnTo>
                          <a:pt x="4365" y="1038"/>
                        </a:lnTo>
                        <a:lnTo>
                          <a:pt x="4357" y="1038"/>
                        </a:lnTo>
                        <a:lnTo>
                          <a:pt x="4346" y="1042"/>
                        </a:lnTo>
                        <a:lnTo>
                          <a:pt x="4342" y="1042"/>
                        </a:lnTo>
                        <a:lnTo>
                          <a:pt x="4315" y="1038"/>
                        </a:lnTo>
                        <a:lnTo>
                          <a:pt x="4295" y="1034"/>
                        </a:lnTo>
                        <a:lnTo>
                          <a:pt x="4284" y="1034"/>
                        </a:lnTo>
                        <a:lnTo>
                          <a:pt x="4268" y="1029"/>
                        </a:lnTo>
                        <a:lnTo>
                          <a:pt x="4236" y="1021"/>
                        </a:lnTo>
                        <a:lnTo>
                          <a:pt x="4224" y="1021"/>
                        </a:lnTo>
                        <a:lnTo>
                          <a:pt x="4217" y="1021"/>
                        </a:lnTo>
                        <a:lnTo>
                          <a:pt x="4206" y="1021"/>
                        </a:lnTo>
                        <a:lnTo>
                          <a:pt x="4198" y="1021"/>
                        </a:lnTo>
                        <a:lnTo>
                          <a:pt x="4184" y="1029"/>
                        </a:lnTo>
                        <a:lnTo>
                          <a:pt x="4172" y="1029"/>
                        </a:lnTo>
                        <a:lnTo>
                          <a:pt x="4169" y="1029"/>
                        </a:lnTo>
                        <a:lnTo>
                          <a:pt x="4158" y="1034"/>
                        </a:lnTo>
                        <a:lnTo>
                          <a:pt x="4146" y="1034"/>
                        </a:lnTo>
                        <a:lnTo>
                          <a:pt x="4139" y="1034"/>
                        </a:lnTo>
                        <a:lnTo>
                          <a:pt x="4130" y="1034"/>
                        </a:lnTo>
                        <a:lnTo>
                          <a:pt x="4126" y="1034"/>
                        </a:lnTo>
                        <a:lnTo>
                          <a:pt x="4123" y="1034"/>
                        </a:lnTo>
                        <a:lnTo>
                          <a:pt x="4104" y="1042"/>
                        </a:lnTo>
                        <a:lnTo>
                          <a:pt x="4090" y="1042"/>
                        </a:lnTo>
                        <a:lnTo>
                          <a:pt x="4087" y="1042"/>
                        </a:lnTo>
                        <a:lnTo>
                          <a:pt x="4075" y="1048"/>
                        </a:lnTo>
                        <a:lnTo>
                          <a:pt x="4025" y="1038"/>
                        </a:lnTo>
                        <a:lnTo>
                          <a:pt x="4017" y="1038"/>
                        </a:lnTo>
                        <a:lnTo>
                          <a:pt x="4013" y="1038"/>
                        </a:lnTo>
                        <a:lnTo>
                          <a:pt x="4000" y="1038"/>
                        </a:lnTo>
                        <a:lnTo>
                          <a:pt x="3993" y="1038"/>
                        </a:lnTo>
                        <a:lnTo>
                          <a:pt x="3981" y="1048"/>
                        </a:lnTo>
                        <a:lnTo>
                          <a:pt x="3981" y="1053"/>
                        </a:lnTo>
                        <a:lnTo>
                          <a:pt x="3968" y="1058"/>
                        </a:lnTo>
                        <a:lnTo>
                          <a:pt x="3961" y="1063"/>
                        </a:lnTo>
                        <a:lnTo>
                          <a:pt x="3954" y="1063"/>
                        </a:lnTo>
                        <a:lnTo>
                          <a:pt x="3946" y="1067"/>
                        </a:lnTo>
                        <a:lnTo>
                          <a:pt x="3942" y="1071"/>
                        </a:lnTo>
                        <a:lnTo>
                          <a:pt x="3938" y="1071"/>
                        </a:lnTo>
                        <a:lnTo>
                          <a:pt x="3938" y="1076"/>
                        </a:lnTo>
                        <a:lnTo>
                          <a:pt x="3935" y="1071"/>
                        </a:lnTo>
                        <a:lnTo>
                          <a:pt x="3931" y="1076"/>
                        </a:lnTo>
                        <a:lnTo>
                          <a:pt x="3926" y="1071"/>
                        </a:lnTo>
                        <a:lnTo>
                          <a:pt x="3926" y="1076"/>
                        </a:lnTo>
                        <a:lnTo>
                          <a:pt x="3913" y="1076"/>
                        </a:lnTo>
                        <a:lnTo>
                          <a:pt x="3909" y="1076"/>
                        </a:lnTo>
                        <a:lnTo>
                          <a:pt x="3909" y="1071"/>
                        </a:lnTo>
                        <a:lnTo>
                          <a:pt x="3902" y="1071"/>
                        </a:lnTo>
                        <a:lnTo>
                          <a:pt x="3897" y="1071"/>
                        </a:lnTo>
                        <a:lnTo>
                          <a:pt x="3894" y="1076"/>
                        </a:lnTo>
                        <a:lnTo>
                          <a:pt x="3890" y="1076"/>
                        </a:lnTo>
                        <a:lnTo>
                          <a:pt x="3879" y="1071"/>
                        </a:lnTo>
                        <a:lnTo>
                          <a:pt x="3871" y="1071"/>
                        </a:lnTo>
                        <a:lnTo>
                          <a:pt x="3864" y="1071"/>
                        </a:lnTo>
                        <a:lnTo>
                          <a:pt x="3855" y="1071"/>
                        </a:lnTo>
                        <a:lnTo>
                          <a:pt x="3848" y="1071"/>
                        </a:lnTo>
                        <a:lnTo>
                          <a:pt x="3819" y="1071"/>
                        </a:lnTo>
                        <a:lnTo>
                          <a:pt x="3812" y="1076"/>
                        </a:lnTo>
                        <a:lnTo>
                          <a:pt x="3815" y="1085"/>
                        </a:lnTo>
                        <a:lnTo>
                          <a:pt x="3812" y="1085"/>
                        </a:lnTo>
                        <a:lnTo>
                          <a:pt x="3812" y="1089"/>
                        </a:lnTo>
                        <a:lnTo>
                          <a:pt x="3812" y="1093"/>
                        </a:lnTo>
                        <a:lnTo>
                          <a:pt x="3812" y="1098"/>
                        </a:lnTo>
                        <a:lnTo>
                          <a:pt x="3812" y="1103"/>
                        </a:lnTo>
                        <a:lnTo>
                          <a:pt x="3812" y="1111"/>
                        </a:lnTo>
                        <a:lnTo>
                          <a:pt x="3815" y="1116"/>
                        </a:lnTo>
                        <a:lnTo>
                          <a:pt x="3815" y="1127"/>
                        </a:lnTo>
                        <a:lnTo>
                          <a:pt x="3819" y="1140"/>
                        </a:lnTo>
                        <a:lnTo>
                          <a:pt x="3827" y="1163"/>
                        </a:lnTo>
                        <a:lnTo>
                          <a:pt x="3841" y="1180"/>
                        </a:lnTo>
                        <a:lnTo>
                          <a:pt x="3841" y="1190"/>
                        </a:lnTo>
                        <a:lnTo>
                          <a:pt x="3844" y="1193"/>
                        </a:lnTo>
                        <a:lnTo>
                          <a:pt x="3844" y="1198"/>
                        </a:lnTo>
                        <a:lnTo>
                          <a:pt x="3844" y="1209"/>
                        </a:lnTo>
                        <a:lnTo>
                          <a:pt x="3848" y="1218"/>
                        </a:lnTo>
                        <a:lnTo>
                          <a:pt x="3852" y="1227"/>
                        </a:lnTo>
                        <a:lnTo>
                          <a:pt x="3852" y="1235"/>
                        </a:lnTo>
                        <a:lnTo>
                          <a:pt x="3848" y="1240"/>
                        </a:lnTo>
                        <a:lnTo>
                          <a:pt x="3844" y="1245"/>
                        </a:lnTo>
                        <a:lnTo>
                          <a:pt x="3841" y="1249"/>
                        </a:lnTo>
                        <a:lnTo>
                          <a:pt x="3831" y="1253"/>
                        </a:lnTo>
                        <a:lnTo>
                          <a:pt x="3815" y="1262"/>
                        </a:lnTo>
                        <a:lnTo>
                          <a:pt x="3796" y="1267"/>
                        </a:lnTo>
                        <a:lnTo>
                          <a:pt x="3789" y="1272"/>
                        </a:lnTo>
                        <a:lnTo>
                          <a:pt x="3777" y="1282"/>
                        </a:lnTo>
                        <a:lnTo>
                          <a:pt x="3770" y="1282"/>
                        </a:lnTo>
                        <a:lnTo>
                          <a:pt x="3757" y="1287"/>
                        </a:lnTo>
                        <a:lnTo>
                          <a:pt x="3754" y="1287"/>
                        </a:lnTo>
                        <a:lnTo>
                          <a:pt x="3747" y="1291"/>
                        </a:lnTo>
                        <a:lnTo>
                          <a:pt x="3721" y="1300"/>
                        </a:lnTo>
                        <a:lnTo>
                          <a:pt x="3718" y="1296"/>
                        </a:lnTo>
                        <a:lnTo>
                          <a:pt x="3709" y="1300"/>
                        </a:lnTo>
                        <a:lnTo>
                          <a:pt x="3702" y="1300"/>
                        </a:lnTo>
                        <a:lnTo>
                          <a:pt x="3695" y="1300"/>
                        </a:lnTo>
                        <a:lnTo>
                          <a:pt x="3686" y="1300"/>
                        </a:lnTo>
                        <a:lnTo>
                          <a:pt x="3683" y="1300"/>
                        </a:lnTo>
                        <a:lnTo>
                          <a:pt x="3675" y="1305"/>
                        </a:lnTo>
                        <a:lnTo>
                          <a:pt x="3671" y="1305"/>
                        </a:lnTo>
                        <a:lnTo>
                          <a:pt x="3656" y="1309"/>
                        </a:lnTo>
                        <a:lnTo>
                          <a:pt x="3650" y="1314"/>
                        </a:lnTo>
                        <a:lnTo>
                          <a:pt x="3647" y="1314"/>
                        </a:lnTo>
                        <a:lnTo>
                          <a:pt x="3642" y="1314"/>
                        </a:lnTo>
                        <a:lnTo>
                          <a:pt x="3638" y="1319"/>
                        </a:lnTo>
                        <a:lnTo>
                          <a:pt x="3634" y="1319"/>
                        </a:lnTo>
                        <a:lnTo>
                          <a:pt x="3627" y="1319"/>
                        </a:lnTo>
                        <a:lnTo>
                          <a:pt x="3624" y="1319"/>
                        </a:lnTo>
                        <a:lnTo>
                          <a:pt x="3619" y="1319"/>
                        </a:lnTo>
                        <a:lnTo>
                          <a:pt x="3612" y="1319"/>
                        </a:lnTo>
                        <a:lnTo>
                          <a:pt x="3608" y="1319"/>
                        </a:lnTo>
                        <a:lnTo>
                          <a:pt x="3604" y="1322"/>
                        </a:lnTo>
                        <a:lnTo>
                          <a:pt x="3600" y="1322"/>
                        </a:lnTo>
                        <a:lnTo>
                          <a:pt x="3596" y="1322"/>
                        </a:lnTo>
                        <a:lnTo>
                          <a:pt x="3592" y="1322"/>
                        </a:lnTo>
                        <a:lnTo>
                          <a:pt x="3589" y="1322"/>
                        </a:lnTo>
                        <a:lnTo>
                          <a:pt x="3585" y="1322"/>
                        </a:lnTo>
                        <a:lnTo>
                          <a:pt x="3585" y="1327"/>
                        </a:lnTo>
                        <a:lnTo>
                          <a:pt x="3577" y="1327"/>
                        </a:lnTo>
                        <a:lnTo>
                          <a:pt x="3573" y="1327"/>
                        </a:lnTo>
                        <a:lnTo>
                          <a:pt x="3563" y="1327"/>
                        </a:lnTo>
                        <a:lnTo>
                          <a:pt x="3560" y="1332"/>
                        </a:lnTo>
                        <a:lnTo>
                          <a:pt x="3556" y="1332"/>
                        </a:lnTo>
                        <a:lnTo>
                          <a:pt x="3552" y="1332"/>
                        </a:lnTo>
                        <a:lnTo>
                          <a:pt x="3548" y="1335"/>
                        </a:lnTo>
                        <a:lnTo>
                          <a:pt x="3544" y="1335"/>
                        </a:lnTo>
                        <a:lnTo>
                          <a:pt x="3540" y="1340"/>
                        </a:lnTo>
                        <a:lnTo>
                          <a:pt x="3537" y="1340"/>
                        </a:lnTo>
                        <a:lnTo>
                          <a:pt x="3533" y="1340"/>
                        </a:lnTo>
                        <a:lnTo>
                          <a:pt x="3521" y="1345"/>
                        </a:lnTo>
                        <a:lnTo>
                          <a:pt x="3518" y="1345"/>
                        </a:lnTo>
                        <a:lnTo>
                          <a:pt x="3514" y="1349"/>
                        </a:lnTo>
                        <a:lnTo>
                          <a:pt x="3510" y="1349"/>
                        </a:lnTo>
                        <a:lnTo>
                          <a:pt x="3510" y="1356"/>
                        </a:lnTo>
                        <a:lnTo>
                          <a:pt x="3505" y="1356"/>
                        </a:lnTo>
                        <a:lnTo>
                          <a:pt x="3505" y="1361"/>
                        </a:lnTo>
                        <a:lnTo>
                          <a:pt x="3502" y="1364"/>
                        </a:lnTo>
                        <a:lnTo>
                          <a:pt x="3502" y="1369"/>
                        </a:lnTo>
                        <a:lnTo>
                          <a:pt x="3498" y="1369"/>
                        </a:lnTo>
                        <a:lnTo>
                          <a:pt x="3495" y="1374"/>
                        </a:lnTo>
                        <a:lnTo>
                          <a:pt x="3491" y="1378"/>
                        </a:lnTo>
                        <a:lnTo>
                          <a:pt x="3491" y="1382"/>
                        </a:lnTo>
                        <a:lnTo>
                          <a:pt x="3491" y="1387"/>
                        </a:lnTo>
                        <a:lnTo>
                          <a:pt x="3491" y="1391"/>
                        </a:lnTo>
                        <a:lnTo>
                          <a:pt x="3486" y="1391"/>
                        </a:lnTo>
                        <a:lnTo>
                          <a:pt x="3486" y="1396"/>
                        </a:lnTo>
                        <a:lnTo>
                          <a:pt x="3486" y="1401"/>
                        </a:lnTo>
                        <a:lnTo>
                          <a:pt x="3486" y="1404"/>
                        </a:lnTo>
                        <a:lnTo>
                          <a:pt x="3486" y="1409"/>
                        </a:lnTo>
                        <a:lnTo>
                          <a:pt x="3483" y="1414"/>
                        </a:lnTo>
                        <a:lnTo>
                          <a:pt x="3483" y="1419"/>
                        </a:lnTo>
                        <a:lnTo>
                          <a:pt x="3483" y="1422"/>
                        </a:lnTo>
                        <a:lnTo>
                          <a:pt x="3483" y="1427"/>
                        </a:lnTo>
                        <a:lnTo>
                          <a:pt x="3483" y="1433"/>
                        </a:lnTo>
                        <a:lnTo>
                          <a:pt x="3483" y="1443"/>
                        </a:lnTo>
                        <a:lnTo>
                          <a:pt x="3486" y="1446"/>
                        </a:lnTo>
                        <a:lnTo>
                          <a:pt x="3486" y="1451"/>
                        </a:lnTo>
                        <a:lnTo>
                          <a:pt x="3486" y="1456"/>
                        </a:lnTo>
                        <a:lnTo>
                          <a:pt x="3486" y="1461"/>
                        </a:lnTo>
                        <a:lnTo>
                          <a:pt x="3491" y="1464"/>
                        </a:lnTo>
                        <a:lnTo>
                          <a:pt x="3491" y="1469"/>
                        </a:lnTo>
                        <a:lnTo>
                          <a:pt x="3495" y="1474"/>
                        </a:lnTo>
                        <a:lnTo>
                          <a:pt x="3498" y="1478"/>
                        </a:lnTo>
                        <a:lnTo>
                          <a:pt x="3502" y="1487"/>
                        </a:lnTo>
                        <a:lnTo>
                          <a:pt x="3495" y="1496"/>
                        </a:lnTo>
                        <a:lnTo>
                          <a:pt x="3491" y="1501"/>
                        </a:lnTo>
                        <a:lnTo>
                          <a:pt x="3486" y="1501"/>
                        </a:lnTo>
                        <a:lnTo>
                          <a:pt x="3486" y="1504"/>
                        </a:lnTo>
                        <a:lnTo>
                          <a:pt x="3483" y="1504"/>
                        </a:lnTo>
                        <a:lnTo>
                          <a:pt x="3479" y="1511"/>
                        </a:lnTo>
                        <a:lnTo>
                          <a:pt x="3473" y="1511"/>
                        </a:lnTo>
                        <a:lnTo>
                          <a:pt x="3466" y="1516"/>
                        </a:lnTo>
                        <a:lnTo>
                          <a:pt x="3462" y="1516"/>
                        </a:lnTo>
                        <a:lnTo>
                          <a:pt x="3457" y="1516"/>
                        </a:lnTo>
                        <a:lnTo>
                          <a:pt x="3454" y="1520"/>
                        </a:lnTo>
                        <a:lnTo>
                          <a:pt x="3450" y="1520"/>
                        </a:lnTo>
                        <a:lnTo>
                          <a:pt x="3443" y="1530"/>
                        </a:lnTo>
                        <a:lnTo>
                          <a:pt x="3439" y="1533"/>
                        </a:lnTo>
                        <a:lnTo>
                          <a:pt x="3439" y="1538"/>
                        </a:lnTo>
                        <a:lnTo>
                          <a:pt x="3434" y="1543"/>
                        </a:lnTo>
                        <a:lnTo>
                          <a:pt x="3434" y="1546"/>
                        </a:lnTo>
                        <a:lnTo>
                          <a:pt x="3434" y="1556"/>
                        </a:lnTo>
                        <a:lnTo>
                          <a:pt x="3434" y="1565"/>
                        </a:lnTo>
                        <a:lnTo>
                          <a:pt x="3439" y="1569"/>
                        </a:lnTo>
                        <a:lnTo>
                          <a:pt x="3439" y="1574"/>
                        </a:lnTo>
                        <a:lnTo>
                          <a:pt x="3439" y="1583"/>
                        </a:lnTo>
                        <a:lnTo>
                          <a:pt x="3443" y="1589"/>
                        </a:lnTo>
                        <a:lnTo>
                          <a:pt x="3443" y="1598"/>
                        </a:lnTo>
                        <a:lnTo>
                          <a:pt x="3443" y="1603"/>
                        </a:lnTo>
                        <a:lnTo>
                          <a:pt x="3443" y="1607"/>
                        </a:lnTo>
                        <a:lnTo>
                          <a:pt x="3443" y="1612"/>
                        </a:lnTo>
                        <a:lnTo>
                          <a:pt x="3443" y="1616"/>
                        </a:lnTo>
                        <a:lnTo>
                          <a:pt x="3443" y="1620"/>
                        </a:lnTo>
                        <a:lnTo>
                          <a:pt x="3439" y="1633"/>
                        </a:lnTo>
                        <a:lnTo>
                          <a:pt x="3439" y="1638"/>
                        </a:lnTo>
                        <a:lnTo>
                          <a:pt x="3443" y="1638"/>
                        </a:lnTo>
                        <a:lnTo>
                          <a:pt x="3443" y="1643"/>
                        </a:lnTo>
                        <a:lnTo>
                          <a:pt x="3446" y="1643"/>
                        </a:lnTo>
                        <a:lnTo>
                          <a:pt x="3450" y="1638"/>
                        </a:lnTo>
                        <a:lnTo>
                          <a:pt x="3450" y="1633"/>
                        </a:lnTo>
                        <a:lnTo>
                          <a:pt x="3454" y="1633"/>
                        </a:lnTo>
                        <a:lnTo>
                          <a:pt x="3454" y="1630"/>
                        </a:lnTo>
                        <a:lnTo>
                          <a:pt x="3457" y="1630"/>
                        </a:lnTo>
                        <a:lnTo>
                          <a:pt x="3457" y="1625"/>
                        </a:lnTo>
                        <a:lnTo>
                          <a:pt x="3462" y="1620"/>
                        </a:lnTo>
                        <a:lnTo>
                          <a:pt x="3466" y="1620"/>
                        </a:lnTo>
                        <a:lnTo>
                          <a:pt x="3469" y="1616"/>
                        </a:lnTo>
                        <a:lnTo>
                          <a:pt x="3473" y="1620"/>
                        </a:lnTo>
                        <a:lnTo>
                          <a:pt x="3473" y="1625"/>
                        </a:lnTo>
                        <a:lnTo>
                          <a:pt x="3473" y="1638"/>
                        </a:lnTo>
                        <a:lnTo>
                          <a:pt x="3479" y="1643"/>
                        </a:lnTo>
                        <a:lnTo>
                          <a:pt x="3479" y="1656"/>
                        </a:lnTo>
                        <a:lnTo>
                          <a:pt x="3483" y="1656"/>
                        </a:lnTo>
                        <a:lnTo>
                          <a:pt x="3486" y="1647"/>
                        </a:lnTo>
                        <a:lnTo>
                          <a:pt x="3486" y="1643"/>
                        </a:lnTo>
                        <a:lnTo>
                          <a:pt x="3491" y="1638"/>
                        </a:lnTo>
                        <a:lnTo>
                          <a:pt x="3491" y="1633"/>
                        </a:lnTo>
                        <a:lnTo>
                          <a:pt x="3491" y="1630"/>
                        </a:lnTo>
                        <a:lnTo>
                          <a:pt x="3495" y="1630"/>
                        </a:lnTo>
                        <a:lnTo>
                          <a:pt x="3498" y="1630"/>
                        </a:lnTo>
                        <a:lnTo>
                          <a:pt x="3502" y="1633"/>
                        </a:lnTo>
                        <a:lnTo>
                          <a:pt x="3502" y="1638"/>
                        </a:lnTo>
                        <a:lnTo>
                          <a:pt x="3505" y="1643"/>
                        </a:lnTo>
                        <a:lnTo>
                          <a:pt x="3505" y="1651"/>
                        </a:lnTo>
                        <a:lnTo>
                          <a:pt x="3505" y="1656"/>
                        </a:lnTo>
                        <a:lnTo>
                          <a:pt x="3505" y="1667"/>
                        </a:lnTo>
                        <a:lnTo>
                          <a:pt x="3505" y="1672"/>
                        </a:lnTo>
                        <a:lnTo>
                          <a:pt x="3510" y="1675"/>
                        </a:lnTo>
                        <a:lnTo>
                          <a:pt x="3518" y="1685"/>
                        </a:lnTo>
                        <a:lnTo>
                          <a:pt x="3518" y="1689"/>
                        </a:lnTo>
                        <a:lnTo>
                          <a:pt x="3521" y="1694"/>
                        </a:lnTo>
                        <a:lnTo>
                          <a:pt x="3525" y="1694"/>
                        </a:lnTo>
                        <a:lnTo>
                          <a:pt x="3533" y="1694"/>
                        </a:lnTo>
                        <a:lnTo>
                          <a:pt x="3533" y="1689"/>
                        </a:lnTo>
                        <a:lnTo>
                          <a:pt x="3537" y="1689"/>
                        </a:lnTo>
                        <a:lnTo>
                          <a:pt x="3540" y="1685"/>
                        </a:lnTo>
                        <a:lnTo>
                          <a:pt x="3544" y="1685"/>
                        </a:lnTo>
                        <a:lnTo>
                          <a:pt x="3544" y="1680"/>
                        </a:lnTo>
                        <a:lnTo>
                          <a:pt x="3548" y="1680"/>
                        </a:lnTo>
                        <a:lnTo>
                          <a:pt x="3552" y="1680"/>
                        </a:lnTo>
                        <a:lnTo>
                          <a:pt x="3552" y="1675"/>
                        </a:lnTo>
                        <a:lnTo>
                          <a:pt x="3552" y="1680"/>
                        </a:lnTo>
                        <a:lnTo>
                          <a:pt x="3556" y="1680"/>
                        </a:lnTo>
                        <a:lnTo>
                          <a:pt x="3560" y="1685"/>
                        </a:lnTo>
                        <a:lnTo>
                          <a:pt x="3560" y="1689"/>
                        </a:lnTo>
                        <a:lnTo>
                          <a:pt x="3560" y="1698"/>
                        </a:lnTo>
                        <a:lnTo>
                          <a:pt x="3552" y="1707"/>
                        </a:lnTo>
                        <a:lnTo>
                          <a:pt x="3544" y="1725"/>
                        </a:lnTo>
                        <a:lnTo>
                          <a:pt x="3544" y="1730"/>
                        </a:lnTo>
                        <a:lnTo>
                          <a:pt x="3540" y="1733"/>
                        </a:lnTo>
                        <a:lnTo>
                          <a:pt x="3540" y="1745"/>
                        </a:lnTo>
                        <a:lnTo>
                          <a:pt x="3528" y="1754"/>
                        </a:lnTo>
                        <a:lnTo>
                          <a:pt x="3525" y="1762"/>
                        </a:lnTo>
                        <a:lnTo>
                          <a:pt x="3510" y="1780"/>
                        </a:lnTo>
                        <a:lnTo>
                          <a:pt x="3505" y="1785"/>
                        </a:lnTo>
                        <a:lnTo>
                          <a:pt x="3502" y="1789"/>
                        </a:lnTo>
                        <a:lnTo>
                          <a:pt x="3495" y="1798"/>
                        </a:lnTo>
                        <a:lnTo>
                          <a:pt x="3491" y="1802"/>
                        </a:lnTo>
                        <a:lnTo>
                          <a:pt x="3486" y="1812"/>
                        </a:lnTo>
                        <a:lnTo>
                          <a:pt x="3473" y="1827"/>
                        </a:lnTo>
                        <a:lnTo>
                          <a:pt x="3466" y="1836"/>
                        </a:lnTo>
                        <a:lnTo>
                          <a:pt x="3462" y="1841"/>
                        </a:lnTo>
                        <a:lnTo>
                          <a:pt x="3457" y="1849"/>
                        </a:lnTo>
                        <a:lnTo>
                          <a:pt x="3454" y="1849"/>
                        </a:lnTo>
                        <a:lnTo>
                          <a:pt x="3450" y="1862"/>
                        </a:lnTo>
                        <a:lnTo>
                          <a:pt x="3439" y="1867"/>
                        </a:lnTo>
                        <a:lnTo>
                          <a:pt x="3434" y="1872"/>
                        </a:lnTo>
                        <a:lnTo>
                          <a:pt x="3431" y="1876"/>
                        </a:lnTo>
                        <a:lnTo>
                          <a:pt x="3427" y="1885"/>
                        </a:lnTo>
                        <a:lnTo>
                          <a:pt x="3423" y="1896"/>
                        </a:lnTo>
                        <a:lnTo>
                          <a:pt x="3423" y="1901"/>
                        </a:lnTo>
                        <a:lnTo>
                          <a:pt x="3420" y="1901"/>
                        </a:lnTo>
                        <a:lnTo>
                          <a:pt x="3420" y="1905"/>
                        </a:lnTo>
                        <a:lnTo>
                          <a:pt x="3420" y="1909"/>
                        </a:lnTo>
                        <a:lnTo>
                          <a:pt x="3420" y="1914"/>
                        </a:lnTo>
                        <a:lnTo>
                          <a:pt x="3420" y="1918"/>
                        </a:lnTo>
                        <a:lnTo>
                          <a:pt x="3420" y="1923"/>
                        </a:lnTo>
                        <a:lnTo>
                          <a:pt x="3420" y="1927"/>
                        </a:lnTo>
                        <a:lnTo>
                          <a:pt x="3420" y="1931"/>
                        </a:lnTo>
                        <a:lnTo>
                          <a:pt x="3415" y="1931"/>
                        </a:lnTo>
                        <a:lnTo>
                          <a:pt x="3411" y="1931"/>
                        </a:lnTo>
                        <a:lnTo>
                          <a:pt x="3408" y="1936"/>
                        </a:lnTo>
                        <a:lnTo>
                          <a:pt x="3404" y="1936"/>
                        </a:lnTo>
                        <a:lnTo>
                          <a:pt x="3396" y="1936"/>
                        </a:lnTo>
                        <a:lnTo>
                          <a:pt x="3392" y="1941"/>
                        </a:lnTo>
                        <a:lnTo>
                          <a:pt x="3388" y="1941"/>
                        </a:lnTo>
                        <a:lnTo>
                          <a:pt x="3382" y="1944"/>
                        </a:lnTo>
                        <a:lnTo>
                          <a:pt x="3375" y="1944"/>
                        </a:lnTo>
                        <a:lnTo>
                          <a:pt x="3368" y="1949"/>
                        </a:lnTo>
                        <a:lnTo>
                          <a:pt x="3363" y="1949"/>
                        </a:lnTo>
                        <a:lnTo>
                          <a:pt x="3360" y="1954"/>
                        </a:lnTo>
                        <a:lnTo>
                          <a:pt x="3356" y="1954"/>
                        </a:lnTo>
                        <a:lnTo>
                          <a:pt x="3344" y="1959"/>
                        </a:lnTo>
                        <a:lnTo>
                          <a:pt x="3340" y="1959"/>
                        </a:lnTo>
                        <a:lnTo>
                          <a:pt x="3340" y="1962"/>
                        </a:lnTo>
                        <a:lnTo>
                          <a:pt x="3337" y="1962"/>
                        </a:lnTo>
                        <a:lnTo>
                          <a:pt x="3333" y="1962"/>
                        </a:lnTo>
                        <a:lnTo>
                          <a:pt x="3329" y="1962"/>
                        </a:lnTo>
                        <a:lnTo>
                          <a:pt x="3329" y="1967"/>
                        </a:lnTo>
                        <a:lnTo>
                          <a:pt x="3321" y="1967"/>
                        </a:lnTo>
                        <a:lnTo>
                          <a:pt x="3307" y="1973"/>
                        </a:lnTo>
                        <a:lnTo>
                          <a:pt x="3302" y="1973"/>
                        </a:lnTo>
                        <a:lnTo>
                          <a:pt x="3281" y="1978"/>
                        </a:lnTo>
                        <a:lnTo>
                          <a:pt x="3273" y="1978"/>
                        </a:lnTo>
                        <a:lnTo>
                          <a:pt x="3269" y="1983"/>
                        </a:lnTo>
                        <a:lnTo>
                          <a:pt x="3266" y="1983"/>
                        </a:lnTo>
                        <a:lnTo>
                          <a:pt x="3262" y="1983"/>
                        </a:lnTo>
                        <a:lnTo>
                          <a:pt x="3258" y="1983"/>
                        </a:lnTo>
                        <a:lnTo>
                          <a:pt x="3255" y="1983"/>
                        </a:lnTo>
                        <a:lnTo>
                          <a:pt x="3250" y="1987"/>
                        </a:lnTo>
                        <a:lnTo>
                          <a:pt x="3246" y="1987"/>
                        </a:lnTo>
                        <a:lnTo>
                          <a:pt x="3231" y="1991"/>
                        </a:lnTo>
                        <a:lnTo>
                          <a:pt x="3223" y="1996"/>
                        </a:lnTo>
                        <a:lnTo>
                          <a:pt x="3220" y="1996"/>
                        </a:lnTo>
                        <a:lnTo>
                          <a:pt x="3211" y="2005"/>
                        </a:lnTo>
                        <a:lnTo>
                          <a:pt x="3206" y="2005"/>
                        </a:lnTo>
                        <a:lnTo>
                          <a:pt x="3198" y="2005"/>
                        </a:lnTo>
                        <a:lnTo>
                          <a:pt x="3191" y="2014"/>
                        </a:lnTo>
                        <a:lnTo>
                          <a:pt x="3187" y="2018"/>
                        </a:lnTo>
                        <a:lnTo>
                          <a:pt x="3171" y="2028"/>
                        </a:lnTo>
                        <a:lnTo>
                          <a:pt x="3171" y="2031"/>
                        </a:lnTo>
                        <a:lnTo>
                          <a:pt x="3164" y="2036"/>
                        </a:lnTo>
                        <a:lnTo>
                          <a:pt x="3159" y="2041"/>
                        </a:lnTo>
                        <a:lnTo>
                          <a:pt x="3152" y="2052"/>
                        </a:lnTo>
                        <a:lnTo>
                          <a:pt x="3145" y="2056"/>
                        </a:lnTo>
                        <a:lnTo>
                          <a:pt x="3140" y="2060"/>
                        </a:lnTo>
                        <a:lnTo>
                          <a:pt x="3140" y="2065"/>
                        </a:lnTo>
                        <a:lnTo>
                          <a:pt x="3136" y="2070"/>
                        </a:lnTo>
                        <a:lnTo>
                          <a:pt x="3133" y="2070"/>
                        </a:lnTo>
                        <a:lnTo>
                          <a:pt x="3129" y="2073"/>
                        </a:lnTo>
                        <a:lnTo>
                          <a:pt x="3112" y="2096"/>
                        </a:lnTo>
                        <a:lnTo>
                          <a:pt x="3104" y="2101"/>
                        </a:lnTo>
                        <a:lnTo>
                          <a:pt x="3077" y="2118"/>
                        </a:lnTo>
                        <a:lnTo>
                          <a:pt x="3077" y="2123"/>
                        </a:lnTo>
                        <a:lnTo>
                          <a:pt x="3070" y="2123"/>
                        </a:lnTo>
                        <a:lnTo>
                          <a:pt x="3065" y="2129"/>
                        </a:lnTo>
                        <a:lnTo>
                          <a:pt x="3062" y="2129"/>
                        </a:lnTo>
                        <a:lnTo>
                          <a:pt x="3054" y="2134"/>
                        </a:lnTo>
                        <a:lnTo>
                          <a:pt x="3042" y="2147"/>
                        </a:lnTo>
                        <a:lnTo>
                          <a:pt x="3035" y="2152"/>
                        </a:lnTo>
                        <a:lnTo>
                          <a:pt x="3029" y="2157"/>
                        </a:lnTo>
                        <a:lnTo>
                          <a:pt x="3022" y="2157"/>
                        </a:lnTo>
                        <a:lnTo>
                          <a:pt x="3017" y="2160"/>
                        </a:lnTo>
                        <a:lnTo>
                          <a:pt x="3013" y="2160"/>
                        </a:lnTo>
                        <a:lnTo>
                          <a:pt x="2994" y="2170"/>
                        </a:lnTo>
                        <a:lnTo>
                          <a:pt x="2975" y="2191"/>
                        </a:lnTo>
                        <a:lnTo>
                          <a:pt x="2964" y="2196"/>
                        </a:lnTo>
                        <a:lnTo>
                          <a:pt x="2956" y="2202"/>
                        </a:lnTo>
                        <a:lnTo>
                          <a:pt x="2948" y="2207"/>
                        </a:lnTo>
                        <a:lnTo>
                          <a:pt x="2945" y="2212"/>
                        </a:lnTo>
                        <a:lnTo>
                          <a:pt x="2935" y="2216"/>
                        </a:lnTo>
                        <a:lnTo>
                          <a:pt x="2932" y="2220"/>
                        </a:lnTo>
                        <a:lnTo>
                          <a:pt x="2916" y="2225"/>
                        </a:lnTo>
                        <a:lnTo>
                          <a:pt x="2912" y="2229"/>
                        </a:lnTo>
                        <a:lnTo>
                          <a:pt x="2909" y="2229"/>
                        </a:lnTo>
                        <a:lnTo>
                          <a:pt x="2909" y="2234"/>
                        </a:lnTo>
                        <a:lnTo>
                          <a:pt x="2900" y="2239"/>
                        </a:lnTo>
                        <a:lnTo>
                          <a:pt x="2893" y="2243"/>
                        </a:lnTo>
                        <a:lnTo>
                          <a:pt x="2889" y="2247"/>
                        </a:lnTo>
                        <a:lnTo>
                          <a:pt x="2886" y="2252"/>
                        </a:lnTo>
                        <a:lnTo>
                          <a:pt x="2881" y="2252"/>
                        </a:lnTo>
                        <a:lnTo>
                          <a:pt x="2877" y="2252"/>
                        </a:lnTo>
                        <a:lnTo>
                          <a:pt x="2877" y="2257"/>
                        </a:lnTo>
                        <a:lnTo>
                          <a:pt x="2874" y="2257"/>
                        </a:lnTo>
                        <a:lnTo>
                          <a:pt x="2866" y="2257"/>
                        </a:lnTo>
                        <a:lnTo>
                          <a:pt x="2866" y="2265"/>
                        </a:lnTo>
                        <a:lnTo>
                          <a:pt x="2858" y="2265"/>
                        </a:lnTo>
                        <a:lnTo>
                          <a:pt x="2858" y="2270"/>
                        </a:lnTo>
                        <a:lnTo>
                          <a:pt x="2854" y="2273"/>
                        </a:lnTo>
                        <a:lnTo>
                          <a:pt x="2845" y="2281"/>
                        </a:lnTo>
                        <a:lnTo>
                          <a:pt x="2845" y="2286"/>
                        </a:lnTo>
                        <a:lnTo>
                          <a:pt x="2841" y="2286"/>
                        </a:lnTo>
                        <a:lnTo>
                          <a:pt x="2837" y="2286"/>
                        </a:lnTo>
                        <a:lnTo>
                          <a:pt x="2833" y="2286"/>
                        </a:lnTo>
                        <a:lnTo>
                          <a:pt x="2829" y="2286"/>
                        </a:lnTo>
                        <a:lnTo>
                          <a:pt x="2829" y="2289"/>
                        </a:lnTo>
                        <a:lnTo>
                          <a:pt x="2825" y="2294"/>
                        </a:lnTo>
                        <a:lnTo>
                          <a:pt x="2743" y="2347"/>
                        </a:lnTo>
                        <a:lnTo>
                          <a:pt x="2708" y="2384"/>
                        </a:lnTo>
                        <a:lnTo>
                          <a:pt x="2693" y="2402"/>
                        </a:lnTo>
                        <a:lnTo>
                          <a:pt x="2682" y="2416"/>
                        </a:lnTo>
                        <a:lnTo>
                          <a:pt x="2677" y="2429"/>
                        </a:lnTo>
                        <a:lnTo>
                          <a:pt x="2664" y="2445"/>
                        </a:lnTo>
                        <a:lnTo>
                          <a:pt x="2648" y="2463"/>
                        </a:lnTo>
                        <a:lnTo>
                          <a:pt x="2641" y="2476"/>
                        </a:lnTo>
                        <a:lnTo>
                          <a:pt x="2634" y="2489"/>
                        </a:lnTo>
                        <a:lnTo>
                          <a:pt x="2625" y="2507"/>
                        </a:lnTo>
                        <a:lnTo>
                          <a:pt x="2622" y="2518"/>
                        </a:lnTo>
                        <a:lnTo>
                          <a:pt x="2618" y="2536"/>
                        </a:lnTo>
                        <a:lnTo>
                          <a:pt x="2614" y="2545"/>
                        </a:lnTo>
                        <a:lnTo>
                          <a:pt x="2614" y="2554"/>
                        </a:lnTo>
                        <a:lnTo>
                          <a:pt x="2577" y="2600"/>
                        </a:lnTo>
                        <a:lnTo>
                          <a:pt x="2573" y="2600"/>
                        </a:lnTo>
                        <a:lnTo>
                          <a:pt x="2566" y="2585"/>
                        </a:lnTo>
                        <a:lnTo>
                          <a:pt x="2566" y="2558"/>
                        </a:lnTo>
                        <a:lnTo>
                          <a:pt x="2566" y="2550"/>
                        </a:lnTo>
                        <a:lnTo>
                          <a:pt x="2566" y="2545"/>
                        </a:lnTo>
                        <a:lnTo>
                          <a:pt x="2563" y="2536"/>
                        </a:lnTo>
                        <a:lnTo>
                          <a:pt x="2554" y="2536"/>
                        </a:lnTo>
                        <a:lnTo>
                          <a:pt x="2550" y="2541"/>
                        </a:lnTo>
                        <a:lnTo>
                          <a:pt x="2547" y="2545"/>
                        </a:lnTo>
                        <a:lnTo>
                          <a:pt x="2543" y="2550"/>
                        </a:lnTo>
                        <a:lnTo>
                          <a:pt x="2540" y="2554"/>
                        </a:lnTo>
                        <a:lnTo>
                          <a:pt x="2531" y="2554"/>
                        </a:lnTo>
                        <a:lnTo>
                          <a:pt x="2524" y="2554"/>
                        </a:lnTo>
                        <a:lnTo>
                          <a:pt x="2531" y="2527"/>
                        </a:lnTo>
                        <a:lnTo>
                          <a:pt x="2524" y="2513"/>
                        </a:lnTo>
                        <a:lnTo>
                          <a:pt x="2520" y="2513"/>
                        </a:lnTo>
                        <a:lnTo>
                          <a:pt x="2512" y="2513"/>
                        </a:lnTo>
                        <a:lnTo>
                          <a:pt x="2495" y="2527"/>
                        </a:lnTo>
                        <a:lnTo>
                          <a:pt x="2495" y="2531"/>
                        </a:lnTo>
                        <a:lnTo>
                          <a:pt x="2491" y="2545"/>
                        </a:lnTo>
                        <a:lnTo>
                          <a:pt x="2483" y="2550"/>
                        </a:lnTo>
                        <a:lnTo>
                          <a:pt x="2476" y="2550"/>
                        </a:lnTo>
                        <a:lnTo>
                          <a:pt x="2464" y="2550"/>
                        </a:lnTo>
                        <a:lnTo>
                          <a:pt x="2456" y="2554"/>
                        </a:lnTo>
                        <a:lnTo>
                          <a:pt x="2437" y="2563"/>
                        </a:lnTo>
                        <a:lnTo>
                          <a:pt x="2426" y="2558"/>
                        </a:lnTo>
                        <a:lnTo>
                          <a:pt x="2401" y="2563"/>
                        </a:lnTo>
                        <a:lnTo>
                          <a:pt x="2370" y="2563"/>
                        </a:lnTo>
                        <a:lnTo>
                          <a:pt x="2336" y="2563"/>
                        </a:lnTo>
                        <a:lnTo>
                          <a:pt x="2311" y="2563"/>
                        </a:lnTo>
                        <a:lnTo>
                          <a:pt x="2298" y="2563"/>
                        </a:lnTo>
                        <a:lnTo>
                          <a:pt x="2268" y="2558"/>
                        </a:lnTo>
                        <a:lnTo>
                          <a:pt x="2260" y="2554"/>
                        </a:lnTo>
                        <a:lnTo>
                          <a:pt x="2256" y="2554"/>
                        </a:lnTo>
                        <a:lnTo>
                          <a:pt x="2216" y="2554"/>
                        </a:lnTo>
                        <a:lnTo>
                          <a:pt x="2197" y="2563"/>
                        </a:lnTo>
                        <a:lnTo>
                          <a:pt x="2190" y="2563"/>
                        </a:lnTo>
                        <a:lnTo>
                          <a:pt x="2181" y="2563"/>
                        </a:lnTo>
                        <a:lnTo>
                          <a:pt x="2174" y="2563"/>
                        </a:lnTo>
                        <a:lnTo>
                          <a:pt x="2166" y="2563"/>
                        </a:lnTo>
                        <a:lnTo>
                          <a:pt x="2155" y="2568"/>
                        </a:lnTo>
                        <a:lnTo>
                          <a:pt x="2147" y="2571"/>
                        </a:lnTo>
                        <a:lnTo>
                          <a:pt x="2143" y="2571"/>
                        </a:lnTo>
                        <a:lnTo>
                          <a:pt x="2133" y="2576"/>
                        </a:lnTo>
                        <a:lnTo>
                          <a:pt x="2122" y="2581"/>
                        </a:lnTo>
                        <a:lnTo>
                          <a:pt x="2110" y="2585"/>
                        </a:lnTo>
                        <a:lnTo>
                          <a:pt x="2095" y="2592"/>
                        </a:lnTo>
                        <a:lnTo>
                          <a:pt x="2075" y="2597"/>
                        </a:lnTo>
                        <a:lnTo>
                          <a:pt x="2068" y="2597"/>
                        </a:lnTo>
                        <a:lnTo>
                          <a:pt x="2039" y="2605"/>
                        </a:lnTo>
                        <a:lnTo>
                          <a:pt x="2016" y="2605"/>
                        </a:lnTo>
                        <a:lnTo>
                          <a:pt x="2004" y="2605"/>
                        </a:lnTo>
                        <a:lnTo>
                          <a:pt x="1981" y="2605"/>
                        </a:lnTo>
                        <a:lnTo>
                          <a:pt x="1952" y="2605"/>
                        </a:lnTo>
                        <a:lnTo>
                          <a:pt x="1942" y="2600"/>
                        </a:lnTo>
                        <a:lnTo>
                          <a:pt x="1934" y="2597"/>
                        </a:lnTo>
                        <a:lnTo>
                          <a:pt x="1919" y="2592"/>
                        </a:lnTo>
                        <a:lnTo>
                          <a:pt x="1876" y="2592"/>
                        </a:lnTo>
                        <a:lnTo>
                          <a:pt x="1858" y="2585"/>
                        </a:lnTo>
                        <a:lnTo>
                          <a:pt x="1790" y="2592"/>
                        </a:lnTo>
                        <a:lnTo>
                          <a:pt x="1780" y="2597"/>
                        </a:lnTo>
                        <a:lnTo>
                          <a:pt x="1764" y="2605"/>
                        </a:lnTo>
                        <a:lnTo>
                          <a:pt x="1750" y="2613"/>
                        </a:lnTo>
                        <a:lnTo>
                          <a:pt x="1731" y="2627"/>
                        </a:lnTo>
                        <a:lnTo>
                          <a:pt x="1718" y="2636"/>
                        </a:lnTo>
                        <a:lnTo>
                          <a:pt x="1667" y="2665"/>
                        </a:lnTo>
                        <a:lnTo>
                          <a:pt x="1647" y="2687"/>
                        </a:lnTo>
                        <a:lnTo>
                          <a:pt x="1640" y="2697"/>
                        </a:lnTo>
                        <a:lnTo>
                          <a:pt x="1621" y="2710"/>
                        </a:lnTo>
                        <a:lnTo>
                          <a:pt x="1595" y="2723"/>
                        </a:lnTo>
                        <a:lnTo>
                          <a:pt x="1573" y="2742"/>
                        </a:lnTo>
                        <a:lnTo>
                          <a:pt x="1553" y="2756"/>
                        </a:lnTo>
                        <a:lnTo>
                          <a:pt x="1534" y="2769"/>
                        </a:lnTo>
                        <a:lnTo>
                          <a:pt x="1482" y="2800"/>
                        </a:lnTo>
                        <a:lnTo>
                          <a:pt x="1475" y="2810"/>
                        </a:lnTo>
                        <a:lnTo>
                          <a:pt x="1470" y="2814"/>
                        </a:lnTo>
                        <a:lnTo>
                          <a:pt x="1456" y="2829"/>
                        </a:lnTo>
                        <a:lnTo>
                          <a:pt x="1444" y="2834"/>
                        </a:lnTo>
                        <a:lnTo>
                          <a:pt x="1433" y="2834"/>
                        </a:lnTo>
                        <a:lnTo>
                          <a:pt x="1415" y="2839"/>
                        </a:lnTo>
                        <a:lnTo>
                          <a:pt x="1407" y="2834"/>
                        </a:lnTo>
                        <a:lnTo>
                          <a:pt x="1384" y="2847"/>
                        </a:lnTo>
                        <a:lnTo>
                          <a:pt x="1369" y="2865"/>
                        </a:lnTo>
                        <a:lnTo>
                          <a:pt x="1353" y="2879"/>
                        </a:lnTo>
                        <a:lnTo>
                          <a:pt x="1328" y="2887"/>
                        </a:lnTo>
                        <a:lnTo>
                          <a:pt x="1298" y="2911"/>
                        </a:lnTo>
                        <a:lnTo>
                          <a:pt x="1271" y="2929"/>
                        </a:lnTo>
                        <a:lnTo>
                          <a:pt x="1249" y="2943"/>
                        </a:lnTo>
                        <a:lnTo>
                          <a:pt x="1234" y="2952"/>
                        </a:lnTo>
                        <a:lnTo>
                          <a:pt x="1219" y="2966"/>
                        </a:lnTo>
                        <a:lnTo>
                          <a:pt x="1195" y="2976"/>
                        </a:lnTo>
                        <a:lnTo>
                          <a:pt x="1181" y="2994"/>
                        </a:lnTo>
                        <a:lnTo>
                          <a:pt x="1172" y="3008"/>
                        </a:lnTo>
                        <a:lnTo>
                          <a:pt x="1169" y="3011"/>
                        </a:lnTo>
                        <a:lnTo>
                          <a:pt x="1159" y="3025"/>
                        </a:lnTo>
                        <a:lnTo>
                          <a:pt x="1159" y="3034"/>
                        </a:lnTo>
                        <a:lnTo>
                          <a:pt x="1165" y="3063"/>
                        </a:lnTo>
                        <a:lnTo>
                          <a:pt x="1159" y="3103"/>
                        </a:lnTo>
                        <a:lnTo>
                          <a:pt x="1152" y="3132"/>
                        </a:lnTo>
                        <a:lnTo>
                          <a:pt x="1152" y="3154"/>
                        </a:lnTo>
                        <a:lnTo>
                          <a:pt x="1152" y="3181"/>
                        </a:lnTo>
                        <a:lnTo>
                          <a:pt x="1152" y="3185"/>
                        </a:lnTo>
                        <a:lnTo>
                          <a:pt x="1148" y="3185"/>
                        </a:lnTo>
                        <a:lnTo>
                          <a:pt x="1143" y="3190"/>
                        </a:lnTo>
                        <a:lnTo>
                          <a:pt x="1143" y="3195"/>
                        </a:lnTo>
                        <a:lnTo>
                          <a:pt x="1140" y="3198"/>
                        </a:lnTo>
                        <a:lnTo>
                          <a:pt x="1136" y="3198"/>
                        </a:lnTo>
                        <a:lnTo>
                          <a:pt x="1136" y="3205"/>
                        </a:lnTo>
                        <a:lnTo>
                          <a:pt x="1136" y="3209"/>
                        </a:lnTo>
                        <a:lnTo>
                          <a:pt x="1132" y="3209"/>
                        </a:lnTo>
                        <a:lnTo>
                          <a:pt x="1129" y="3214"/>
                        </a:lnTo>
                        <a:lnTo>
                          <a:pt x="1124" y="3219"/>
                        </a:lnTo>
                        <a:lnTo>
                          <a:pt x="1120" y="3219"/>
                        </a:lnTo>
                        <a:lnTo>
                          <a:pt x="1120" y="3224"/>
                        </a:lnTo>
                        <a:lnTo>
                          <a:pt x="1117" y="3224"/>
                        </a:lnTo>
                        <a:lnTo>
                          <a:pt x="1113" y="3224"/>
                        </a:lnTo>
                        <a:lnTo>
                          <a:pt x="1110" y="3224"/>
                        </a:lnTo>
                        <a:lnTo>
                          <a:pt x="1110" y="3227"/>
                        </a:lnTo>
                        <a:lnTo>
                          <a:pt x="1110" y="3232"/>
                        </a:lnTo>
                        <a:lnTo>
                          <a:pt x="1106" y="3232"/>
                        </a:lnTo>
                        <a:lnTo>
                          <a:pt x="1101" y="3232"/>
                        </a:lnTo>
                        <a:lnTo>
                          <a:pt x="1097" y="3232"/>
                        </a:lnTo>
                        <a:lnTo>
                          <a:pt x="1094" y="3237"/>
                        </a:lnTo>
                        <a:lnTo>
                          <a:pt x="1097" y="3237"/>
                        </a:lnTo>
                        <a:lnTo>
                          <a:pt x="1101" y="3237"/>
                        </a:lnTo>
                        <a:lnTo>
                          <a:pt x="1101" y="3240"/>
                        </a:lnTo>
                        <a:lnTo>
                          <a:pt x="1101" y="3245"/>
                        </a:lnTo>
                        <a:lnTo>
                          <a:pt x="1106" y="3250"/>
                        </a:lnTo>
                        <a:lnTo>
                          <a:pt x="1106" y="3245"/>
                        </a:lnTo>
                        <a:lnTo>
                          <a:pt x="1110" y="3240"/>
                        </a:lnTo>
                        <a:lnTo>
                          <a:pt x="1110" y="3250"/>
                        </a:lnTo>
                        <a:lnTo>
                          <a:pt x="1110" y="3254"/>
                        </a:lnTo>
                        <a:lnTo>
                          <a:pt x="1106" y="3263"/>
                        </a:lnTo>
                        <a:lnTo>
                          <a:pt x="1097" y="3267"/>
                        </a:lnTo>
                        <a:lnTo>
                          <a:pt x="1094" y="3272"/>
                        </a:lnTo>
                        <a:lnTo>
                          <a:pt x="1090" y="3272"/>
                        </a:lnTo>
                        <a:lnTo>
                          <a:pt x="1090" y="3277"/>
                        </a:lnTo>
                        <a:lnTo>
                          <a:pt x="1087" y="3277"/>
                        </a:lnTo>
                        <a:lnTo>
                          <a:pt x="1090" y="3283"/>
                        </a:lnTo>
                        <a:lnTo>
                          <a:pt x="1090" y="3287"/>
                        </a:lnTo>
                        <a:lnTo>
                          <a:pt x="1090" y="3292"/>
                        </a:lnTo>
                        <a:lnTo>
                          <a:pt x="1090" y="3296"/>
                        </a:lnTo>
                        <a:lnTo>
                          <a:pt x="1090" y="3301"/>
                        </a:lnTo>
                        <a:lnTo>
                          <a:pt x="1090" y="3306"/>
                        </a:lnTo>
                        <a:lnTo>
                          <a:pt x="1087" y="3306"/>
                        </a:lnTo>
                        <a:lnTo>
                          <a:pt x="1087" y="3309"/>
                        </a:lnTo>
                        <a:lnTo>
                          <a:pt x="1082" y="3314"/>
                        </a:lnTo>
                        <a:lnTo>
                          <a:pt x="1069" y="3319"/>
                        </a:lnTo>
                        <a:lnTo>
                          <a:pt x="1065" y="3322"/>
                        </a:lnTo>
                        <a:lnTo>
                          <a:pt x="1061" y="3327"/>
                        </a:lnTo>
                        <a:lnTo>
                          <a:pt x="1061" y="3332"/>
                        </a:lnTo>
                        <a:lnTo>
                          <a:pt x="1061" y="3337"/>
                        </a:lnTo>
                        <a:lnTo>
                          <a:pt x="1058" y="3337"/>
                        </a:lnTo>
                        <a:lnTo>
                          <a:pt x="1054" y="3337"/>
                        </a:lnTo>
                        <a:lnTo>
                          <a:pt x="1049" y="3337"/>
                        </a:lnTo>
                        <a:lnTo>
                          <a:pt x="1049" y="3332"/>
                        </a:lnTo>
                        <a:lnTo>
                          <a:pt x="1049" y="3327"/>
                        </a:lnTo>
                        <a:lnTo>
                          <a:pt x="1046" y="3327"/>
                        </a:lnTo>
                        <a:lnTo>
                          <a:pt x="1042" y="3332"/>
                        </a:lnTo>
                        <a:lnTo>
                          <a:pt x="1042" y="3327"/>
                        </a:lnTo>
                        <a:lnTo>
                          <a:pt x="1042" y="3332"/>
                        </a:lnTo>
                        <a:lnTo>
                          <a:pt x="1038" y="3337"/>
                        </a:lnTo>
                        <a:lnTo>
                          <a:pt x="1035" y="3337"/>
                        </a:lnTo>
                        <a:lnTo>
                          <a:pt x="1030" y="3337"/>
                        </a:lnTo>
                        <a:lnTo>
                          <a:pt x="1026" y="3337"/>
                        </a:lnTo>
                        <a:lnTo>
                          <a:pt x="1023" y="3337"/>
                        </a:lnTo>
                        <a:lnTo>
                          <a:pt x="1019" y="3337"/>
                        </a:lnTo>
                        <a:lnTo>
                          <a:pt x="1019" y="3341"/>
                        </a:lnTo>
                        <a:lnTo>
                          <a:pt x="1015" y="3341"/>
                        </a:lnTo>
                        <a:lnTo>
                          <a:pt x="1011" y="3341"/>
                        </a:lnTo>
                        <a:lnTo>
                          <a:pt x="1007" y="3341"/>
                        </a:lnTo>
                        <a:lnTo>
                          <a:pt x="1007" y="3345"/>
                        </a:lnTo>
                        <a:lnTo>
                          <a:pt x="1003" y="3345"/>
                        </a:lnTo>
                        <a:lnTo>
                          <a:pt x="1000" y="3345"/>
                        </a:lnTo>
                        <a:lnTo>
                          <a:pt x="996" y="3345"/>
                        </a:lnTo>
                        <a:lnTo>
                          <a:pt x="996" y="3350"/>
                        </a:lnTo>
                        <a:lnTo>
                          <a:pt x="993" y="3350"/>
                        </a:lnTo>
                        <a:lnTo>
                          <a:pt x="988" y="3350"/>
                        </a:lnTo>
                        <a:lnTo>
                          <a:pt x="988" y="3345"/>
                        </a:lnTo>
                        <a:lnTo>
                          <a:pt x="983" y="3345"/>
                        </a:lnTo>
                        <a:lnTo>
                          <a:pt x="983" y="3350"/>
                        </a:lnTo>
                        <a:lnTo>
                          <a:pt x="978" y="3350"/>
                        </a:lnTo>
                        <a:lnTo>
                          <a:pt x="974" y="3350"/>
                        </a:lnTo>
                        <a:lnTo>
                          <a:pt x="971" y="3350"/>
                        </a:lnTo>
                        <a:lnTo>
                          <a:pt x="967" y="3350"/>
                        </a:lnTo>
                        <a:lnTo>
                          <a:pt x="967" y="3354"/>
                        </a:lnTo>
                        <a:lnTo>
                          <a:pt x="964" y="3354"/>
                        </a:lnTo>
                        <a:lnTo>
                          <a:pt x="964" y="3361"/>
                        </a:lnTo>
                        <a:lnTo>
                          <a:pt x="959" y="3366"/>
                        </a:lnTo>
                        <a:lnTo>
                          <a:pt x="955" y="3366"/>
                        </a:lnTo>
                        <a:lnTo>
                          <a:pt x="955" y="3369"/>
                        </a:lnTo>
                        <a:lnTo>
                          <a:pt x="959" y="3369"/>
                        </a:lnTo>
                        <a:lnTo>
                          <a:pt x="964" y="3374"/>
                        </a:lnTo>
                        <a:lnTo>
                          <a:pt x="964" y="3379"/>
                        </a:lnTo>
                        <a:lnTo>
                          <a:pt x="964" y="3383"/>
                        </a:lnTo>
                        <a:lnTo>
                          <a:pt x="959" y="3388"/>
                        </a:lnTo>
                        <a:lnTo>
                          <a:pt x="955" y="3388"/>
                        </a:lnTo>
                        <a:lnTo>
                          <a:pt x="952" y="3388"/>
                        </a:lnTo>
                        <a:lnTo>
                          <a:pt x="948" y="3388"/>
                        </a:lnTo>
                        <a:lnTo>
                          <a:pt x="944" y="3388"/>
                        </a:lnTo>
                        <a:lnTo>
                          <a:pt x="944" y="3392"/>
                        </a:lnTo>
                        <a:lnTo>
                          <a:pt x="940" y="3392"/>
                        </a:lnTo>
                        <a:lnTo>
                          <a:pt x="936" y="3392"/>
                        </a:lnTo>
                        <a:lnTo>
                          <a:pt x="932" y="3392"/>
                        </a:lnTo>
                        <a:lnTo>
                          <a:pt x="932" y="3396"/>
                        </a:lnTo>
                        <a:lnTo>
                          <a:pt x="929" y="3396"/>
                        </a:lnTo>
                        <a:lnTo>
                          <a:pt x="921" y="3401"/>
                        </a:lnTo>
                        <a:lnTo>
                          <a:pt x="917" y="3406"/>
                        </a:lnTo>
                        <a:lnTo>
                          <a:pt x="913" y="3406"/>
                        </a:lnTo>
                        <a:lnTo>
                          <a:pt x="909" y="3406"/>
                        </a:lnTo>
                        <a:lnTo>
                          <a:pt x="906" y="3409"/>
                        </a:lnTo>
                        <a:lnTo>
                          <a:pt x="906" y="3414"/>
                        </a:lnTo>
                        <a:lnTo>
                          <a:pt x="902" y="3419"/>
                        </a:lnTo>
                        <a:lnTo>
                          <a:pt x="902" y="3423"/>
                        </a:lnTo>
                        <a:lnTo>
                          <a:pt x="902" y="3427"/>
                        </a:lnTo>
                        <a:lnTo>
                          <a:pt x="755" y="3461"/>
                        </a:lnTo>
                        <a:lnTo>
                          <a:pt x="625" y="3492"/>
                        </a:lnTo>
                        <a:lnTo>
                          <a:pt x="567" y="3461"/>
                        </a:lnTo>
                        <a:lnTo>
                          <a:pt x="524" y="3443"/>
                        </a:lnTo>
                        <a:lnTo>
                          <a:pt x="466" y="3409"/>
                        </a:lnTo>
                        <a:lnTo>
                          <a:pt x="395" y="3401"/>
                        </a:lnTo>
                        <a:lnTo>
                          <a:pt x="382" y="3401"/>
                        </a:lnTo>
                        <a:lnTo>
                          <a:pt x="379" y="3396"/>
                        </a:lnTo>
                        <a:lnTo>
                          <a:pt x="375" y="3396"/>
                        </a:lnTo>
                        <a:lnTo>
                          <a:pt x="372" y="3396"/>
                        </a:lnTo>
                        <a:lnTo>
                          <a:pt x="367" y="3392"/>
                        </a:lnTo>
                        <a:lnTo>
                          <a:pt x="363" y="3392"/>
                        </a:lnTo>
                        <a:lnTo>
                          <a:pt x="363" y="3388"/>
                        </a:lnTo>
                        <a:lnTo>
                          <a:pt x="363" y="3383"/>
                        </a:lnTo>
                        <a:lnTo>
                          <a:pt x="358" y="3383"/>
                        </a:lnTo>
                        <a:lnTo>
                          <a:pt x="358" y="3379"/>
                        </a:lnTo>
                        <a:lnTo>
                          <a:pt x="354" y="3379"/>
                        </a:lnTo>
                        <a:lnTo>
                          <a:pt x="350" y="3379"/>
                        </a:lnTo>
                        <a:lnTo>
                          <a:pt x="346" y="3379"/>
                        </a:lnTo>
                        <a:lnTo>
                          <a:pt x="343" y="3374"/>
                        </a:lnTo>
                        <a:lnTo>
                          <a:pt x="346" y="3374"/>
                        </a:lnTo>
                        <a:lnTo>
                          <a:pt x="346" y="3369"/>
                        </a:lnTo>
                        <a:lnTo>
                          <a:pt x="346" y="3366"/>
                        </a:lnTo>
                        <a:lnTo>
                          <a:pt x="346" y="3361"/>
                        </a:lnTo>
                        <a:lnTo>
                          <a:pt x="346" y="3354"/>
                        </a:lnTo>
                        <a:lnTo>
                          <a:pt x="350" y="3354"/>
                        </a:lnTo>
                        <a:lnTo>
                          <a:pt x="350" y="3350"/>
                        </a:lnTo>
                        <a:lnTo>
                          <a:pt x="354" y="3350"/>
                        </a:lnTo>
                        <a:lnTo>
                          <a:pt x="354" y="3345"/>
                        </a:lnTo>
                        <a:lnTo>
                          <a:pt x="358" y="3345"/>
                        </a:lnTo>
                        <a:lnTo>
                          <a:pt x="358" y="3341"/>
                        </a:lnTo>
                        <a:lnTo>
                          <a:pt x="354" y="3337"/>
                        </a:lnTo>
                        <a:lnTo>
                          <a:pt x="354" y="3332"/>
                        </a:lnTo>
                        <a:lnTo>
                          <a:pt x="358" y="3327"/>
                        </a:lnTo>
                        <a:lnTo>
                          <a:pt x="358" y="3322"/>
                        </a:lnTo>
                        <a:lnTo>
                          <a:pt x="358" y="3319"/>
                        </a:lnTo>
                        <a:lnTo>
                          <a:pt x="354" y="3319"/>
                        </a:lnTo>
                        <a:lnTo>
                          <a:pt x="354" y="3314"/>
                        </a:lnTo>
                        <a:lnTo>
                          <a:pt x="350" y="3314"/>
                        </a:lnTo>
                        <a:lnTo>
                          <a:pt x="350" y="3309"/>
                        </a:lnTo>
                        <a:lnTo>
                          <a:pt x="346" y="3306"/>
                        </a:lnTo>
                        <a:lnTo>
                          <a:pt x="346" y="3301"/>
                        </a:lnTo>
                        <a:lnTo>
                          <a:pt x="343" y="3296"/>
                        </a:lnTo>
                        <a:lnTo>
                          <a:pt x="346" y="3296"/>
                        </a:lnTo>
                        <a:lnTo>
                          <a:pt x="346" y="3292"/>
                        </a:lnTo>
                        <a:lnTo>
                          <a:pt x="346" y="3287"/>
                        </a:lnTo>
                        <a:lnTo>
                          <a:pt x="343" y="3287"/>
                        </a:lnTo>
                        <a:lnTo>
                          <a:pt x="339" y="3287"/>
                        </a:lnTo>
                        <a:lnTo>
                          <a:pt x="334" y="3287"/>
                        </a:lnTo>
                        <a:lnTo>
                          <a:pt x="331" y="3287"/>
                        </a:lnTo>
                        <a:lnTo>
                          <a:pt x="327" y="3292"/>
                        </a:lnTo>
                        <a:lnTo>
                          <a:pt x="323" y="3292"/>
                        </a:lnTo>
                        <a:lnTo>
                          <a:pt x="320" y="3296"/>
                        </a:lnTo>
                        <a:lnTo>
                          <a:pt x="315" y="3301"/>
                        </a:lnTo>
                        <a:lnTo>
                          <a:pt x="315" y="3296"/>
                        </a:lnTo>
                        <a:lnTo>
                          <a:pt x="315" y="3287"/>
                        </a:lnTo>
                        <a:lnTo>
                          <a:pt x="315" y="3272"/>
                        </a:lnTo>
                        <a:lnTo>
                          <a:pt x="315" y="3254"/>
                        </a:lnTo>
                        <a:lnTo>
                          <a:pt x="315" y="3250"/>
                        </a:lnTo>
                        <a:lnTo>
                          <a:pt x="315" y="3245"/>
                        </a:lnTo>
                        <a:lnTo>
                          <a:pt x="315" y="3240"/>
                        </a:lnTo>
                        <a:lnTo>
                          <a:pt x="315" y="3237"/>
                        </a:lnTo>
                        <a:lnTo>
                          <a:pt x="320" y="3237"/>
                        </a:lnTo>
                        <a:lnTo>
                          <a:pt x="323" y="3237"/>
                        </a:lnTo>
                        <a:lnTo>
                          <a:pt x="327" y="3237"/>
                        </a:lnTo>
                        <a:lnTo>
                          <a:pt x="327" y="3232"/>
                        </a:lnTo>
                        <a:lnTo>
                          <a:pt x="323" y="3232"/>
                        </a:lnTo>
                        <a:lnTo>
                          <a:pt x="315" y="3232"/>
                        </a:lnTo>
                        <a:lnTo>
                          <a:pt x="315" y="3227"/>
                        </a:lnTo>
                        <a:lnTo>
                          <a:pt x="315" y="3224"/>
                        </a:lnTo>
                        <a:lnTo>
                          <a:pt x="308" y="3224"/>
                        </a:lnTo>
                        <a:lnTo>
                          <a:pt x="308" y="3219"/>
                        </a:lnTo>
                        <a:lnTo>
                          <a:pt x="315" y="3214"/>
                        </a:lnTo>
                        <a:lnTo>
                          <a:pt x="308" y="3209"/>
                        </a:lnTo>
                        <a:lnTo>
                          <a:pt x="304" y="3209"/>
                        </a:lnTo>
                        <a:lnTo>
                          <a:pt x="300" y="3209"/>
                        </a:lnTo>
                        <a:lnTo>
                          <a:pt x="297" y="3209"/>
                        </a:lnTo>
                        <a:lnTo>
                          <a:pt x="292" y="3209"/>
                        </a:lnTo>
                        <a:lnTo>
                          <a:pt x="288" y="3209"/>
                        </a:lnTo>
                        <a:lnTo>
                          <a:pt x="285" y="3209"/>
                        </a:lnTo>
                        <a:lnTo>
                          <a:pt x="281" y="3209"/>
                        </a:lnTo>
                        <a:lnTo>
                          <a:pt x="272" y="3209"/>
                        </a:lnTo>
                        <a:lnTo>
                          <a:pt x="268" y="3209"/>
                        </a:lnTo>
                        <a:lnTo>
                          <a:pt x="263" y="3209"/>
                        </a:lnTo>
                        <a:lnTo>
                          <a:pt x="259" y="3214"/>
                        </a:lnTo>
                        <a:lnTo>
                          <a:pt x="256" y="3214"/>
                        </a:lnTo>
                        <a:lnTo>
                          <a:pt x="252" y="3214"/>
                        </a:lnTo>
                        <a:lnTo>
                          <a:pt x="249" y="3214"/>
                        </a:lnTo>
                        <a:lnTo>
                          <a:pt x="244" y="3214"/>
                        </a:lnTo>
                        <a:lnTo>
                          <a:pt x="244" y="3219"/>
                        </a:lnTo>
                        <a:lnTo>
                          <a:pt x="240" y="3219"/>
                        </a:lnTo>
                        <a:lnTo>
                          <a:pt x="240" y="3224"/>
                        </a:lnTo>
                        <a:lnTo>
                          <a:pt x="237" y="3224"/>
                        </a:lnTo>
                        <a:lnTo>
                          <a:pt x="233" y="3224"/>
                        </a:lnTo>
                        <a:lnTo>
                          <a:pt x="233" y="3219"/>
                        </a:lnTo>
                        <a:lnTo>
                          <a:pt x="233" y="3214"/>
                        </a:lnTo>
                        <a:lnTo>
                          <a:pt x="229" y="3214"/>
                        </a:lnTo>
                        <a:lnTo>
                          <a:pt x="226" y="3219"/>
                        </a:lnTo>
                        <a:lnTo>
                          <a:pt x="221" y="3224"/>
                        </a:lnTo>
                        <a:lnTo>
                          <a:pt x="217" y="3224"/>
                        </a:lnTo>
                        <a:lnTo>
                          <a:pt x="214" y="3224"/>
                        </a:lnTo>
                        <a:lnTo>
                          <a:pt x="214" y="3227"/>
                        </a:lnTo>
                        <a:lnTo>
                          <a:pt x="210" y="3232"/>
                        </a:lnTo>
                        <a:lnTo>
                          <a:pt x="206" y="3232"/>
                        </a:lnTo>
                        <a:lnTo>
                          <a:pt x="206" y="3237"/>
                        </a:lnTo>
                        <a:lnTo>
                          <a:pt x="202" y="3237"/>
                        </a:lnTo>
                        <a:lnTo>
                          <a:pt x="198" y="3237"/>
                        </a:lnTo>
                        <a:lnTo>
                          <a:pt x="198" y="3240"/>
                        </a:lnTo>
                        <a:lnTo>
                          <a:pt x="194" y="3240"/>
                        </a:lnTo>
                        <a:lnTo>
                          <a:pt x="194" y="3245"/>
                        </a:lnTo>
                        <a:lnTo>
                          <a:pt x="187" y="3245"/>
                        </a:lnTo>
                        <a:lnTo>
                          <a:pt x="187" y="3250"/>
                        </a:lnTo>
                        <a:lnTo>
                          <a:pt x="177" y="3250"/>
                        </a:lnTo>
                        <a:lnTo>
                          <a:pt x="177" y="3254"/>
                        </a:lnTo>
                        <a:lnTo>
                          <a:pt x="174" y="3259"/>
                        </a:lnTo>
                        <a:lnTo>
                          <a:pt x="169" y="3259"/>
                        </a:lnTo>
                        <a:lnTo>
                          <a:pt x="165" y="3263"/>
                        </a:lnTo>
                        <a:lnTo>
                          <a:pt x="162" y="3263"/>
                        </a:lnTo>
                        <a:lnTo>
                          <a:pt x="162" y="3267"/>
                        </a:lnTo>
                        <a:lnTo>
                          <a:pt x="158" y="3267"/>
                        </a:lnTo>
                        <a:lnTo>
                          <a:pt x="155" y="3272"/>
                        </a:lnTo>
                        <a:lnTo>
                          <a:pt x="150" y="3272"/>
                        </a:lnTo>
                        <a:lnTo>
                          <a:pt x="150" y="3277"/>
                        </a:lnTo>
                        <a:lnTo>
                          <a:pt x="146" y="3283"/>
                        </a:lnTo>
                        <a:lnTo>
                          <a:pt x="146" y="3277"/>
                        </a:lnTo>
                        <a:lnTo>
                          <a:pt x="139" y="3277"/>
                        </a:lnTo>
                        <a:lnTo>
                          <a:pt x="127" y="3283"/>
                        </a:lnTo>
                        <a:lnTo>
                          <a:pt x="123" y="3287"/>
                        </a:lnTo>
                        <a:lnTo>
                          <a:pt x="120" y="3287"/>
                        </a:lnTo>
                        <a:lnTo>
                          <a:pt x="116" y="3292"/>
                        </a:lnTo>
                        <a:lnTo>
                          <a:pt x="116" y="3296"/>
                        </a:lnTo>
                        <a:lnTo>
                          <a:pt x="112" y="3301"/>
                        </a:lnTo>
                        <a:lnTo>
                          <a:pt x="112" y="3309"/>
                        </a:lnTo>
                        <a:lnTo>
                          <a:pt x="112" y="3314"/>
                        </a:lnTo>
                        <a:lnTo>
                          <a:pt x="108" y="3319"/>
                        </a:lnTo>
                        <a:lnTo>
                          <a:pt x="97" y="3327"/>
                        </a:lnTo>
                        <a:lnTo>
                          <a:pt x="91" y="3332"/>
                        </a:lnTo>
                        <a:lnTo>
                          <a:pt x="91" y="3337"/>
                        </a:lnTo>
                        <a:lnTo>
                          <a:pt x="91" y="3332"/>
                        </a:lnTo>
                        <a:lnTo>
                          <a:pt x="87" y="3327"/>
                        </a:lnTo>
                        <a:lnTo>
                          <a:pt x="83" y="3327"/>
                        </a:lnTo>
                        <a:lnTo>
                          <a:pt x="83" y="3322"/>
                        </a:lnTo>
                        <a:lnTo>
                          <a:pt x="79" y="3322"/>
                        </a:lnTo>
                        <a:lnTo>
                          <a:pt x="71" y="3319"/>
                        </a:lnTo>
                        <a:lnTo>
                          <a:pt x="68" y="3319"/>
                        </a:lnTo>
                        <a:lnTo>
                          <a:pt x="64" y="3319"/>
                        </a:lnTo>
                        <a:lnTo>
                          <a:pt x="59" y="3319"/>
                        </a:lnTo>
                        <a:lnTo>
                          <a:pt x="52" y="3319"/>
                        </a:lnTo>
                        <a:lnTo>
                          <a:pt x="52" y="3314"/>
                        </a:lnTo>
                        <a:lnTo>
                          <a:pt x="52" y="3309"/>
                        </a:lnTo>
                        <a:lnTo>
                          <a:pt x="48" y="3309"/>
                        </a:lnTo>
                        <a:lnTo>
                          <a:pt x="45" y="3309"/>
                        </a:lnTo>
                        <a:lnTo>
                          <a:pt x="41" y="3296"/>
                        </a:lnTo>
                        <a:lnTo>
                          <a:pt x="41" y="3292"/>
                        </a:lnTo>
                        <a:lnTo>
                          <a:pt x="29" y="3287"/>
                        </a:lnTo>
                        <a:lnTo>
                          <a:pt x="29" y="3283"/>
                        </a:lnTo>
                        <a:lnTo>
                          <a:pt x="26" y="3277"/>
                        </a:lnTo>
                        <a:lnTo>
                          <a:pt x="22" y="3272"/>
                        </a:lnTo>
                        <a:lnTo>
                          <a:pt x="22" y="3267"/>
                        </a:lnTo>
                        <a:lnTo>
                          <a:pt x="4" y="3263"/>
                        </a:lnTo>
                        <a:lnTo>
                          <a:pt x="0" y="3259"/>
                        </a:lnTo>
                        <a:lnTo>
                          <a:pt x="4" y="3250"/>
                        </a:lnTo>
                        <a:lnTo>
                          <a:pt x="10" y="3232"/>
                        </a:lnTo>
                        <a:lnTo>
                          <a:pt x="17" y="3224"/>
                        </a:lnTo>
                        <a:lnTo>
                          <a:pt x="17" y="3219"/>
                        </a:lnTo>
                        <a:lnTo>
                          <a:pt x="17" y="3209"/>
                        </a:lnTo>
                        <a:lnTo>
                          <a:pt x="22" y="3198"/>
                        </a:lnTo>
                        <a:lnTo>
                          <a:pt x="22" y="3195"/>
                        </a:lnTo>
                        <a:lnTo>
                          <a:pt x="26" y="3195"/>
                        </a:lnTo>
                        <a:lnTo>
                          <a:pt x="29" y="3185"/>
                        </a:lnTo>
                        <a:lnTo>
                          <a:pt x="29" y="3181"/>
                        </a:lnTo>
                        <a:lnTo>
                          <a:pt x="29" y="3177"/>
                        </a:lnTo>
                        <a:lnTo>
                          <a:pt x="29" y="3172"/>
                        </a:lnTo>
                        <a:lnTo>
                          <a:pt x="29" y="3167"/>
                        </a:lnTo>
                        <a:lnTo>
                          <a:pt x="29" y="3163"/>
                        </a:lnTo>
                        <a:lnTo>
                          <a:pt x="33" y="3150"/>
                        </a:lnTo>
                        <a:lnTo>
                          <a:pt x="36" y="3137"/>
                        </a:lnTo>
                        <a:lnTo>
                          <a:pt x="41" y="3132"/>
                        </a:lnTo>
                        <a:lnTo>
                          <a:pt x="41" y="3127"/>
                        </a:lnTo>
                        <a:lnTo>
                          <a:pt x="41" y="3121"/>
                        </a:lnTo>
                        <a:lnTo>
                          <a:pt x="45" y="3116"/>
                        </a:lnTo>
                        <a:lnTo>
                          <a:pt x="45" y="3111"/>
                        </a:lnTo>
                        <a:lnTo>
                          <a:pt x="48" y="3111"/>
                        </a:lnTo>
                        <a:lnTo>
                          <a:pt x="48" y="3095"/>
                        </a:lnTo>
                        <a:lnTo>
                          <a:pt x="52" y="3090"/>
                        </a:lnTo>
                        <a:lnTo>
                          <a:pt x="52" y="3085"/>
                        </a:lnTo>
                        <a:lnTo>
                          <a:pt x="52" y="3081"/>
                        </a:lnTo>
                        <a:lnTo>
                          <a:pt x="56" y="3076"/>
                        </a:lnTo>
                        <a:lnTo>
                          <a:pt x="56" y="3072"/>
                        </a:lnTo>
                        <a:lnTo>
                          <a:pt x="56" y="3067"/>
                        </a:lnTo>
                        <a:lnTo>
                          <a:pt x="56" y="3063"/>
                        </a:lnTo>
                        <a:lnTo>
                          <a:pt x="56" y="3058"/>
                        </a:lnTo>
                        <a:lnTo>
                          <a:pt x="59" y="3054"/>
                        </a:lnTo>
                        <a:lnTo>
                          <a:pt x="56" y="3039"/>
                        </a:lnTo>
                        <a:lnTo>
                          <a:pt x="41" y="3016"/>
                        </a:lnTo>
                        <a:lnTo>
                          <a:pt x="26" y="2990"/>
                        </a:lnTo>
                        <a:lnTo>
                          <a:pt x="22" y="2976"/>
                        </a:lnTo>
                        <a:lnTo>
                          <a:pt x="52" y="2961"/>
                        </a:lnTo>
                        <a:lnTo>
                          <a:pt x="71" y="2956"/>
                        </a:lnTo>
                        <a:lnTo>
                          <a:pt x="79" y="2952"/>
                        </a:lnTo>
                        <a:lnTo>
                          <a:pt x="83" y="2947"/>
                        </a:lnTo>
                        <a:lnTo>
                          <a:pt x="97" y="2943"/>
                        </a:lnTo>
                        <a:lnTo>
                          <a:pt x="104" y="2934"/>
                        </a:lnTo>
                        <a:lnTo>
                          <a:pt x="116" y="2925"/>
                        </a:lnTo>
                        <a:lnTo>
                          <a:pt x="150" y="2892"/>
                        </a:lnTo>
                        <a:lnTo>
                          <a:pt x="181" y="2887"/>
                        </a:lnTo>
                        <a:lnTo>
                          <a:pt x="210" y="2874"/>
                        </a:lnTo>
                        <a:lnTo>
                          <a:pt x="249" y="2843"/>
                        </a:lnTo>
                        <a:lnTo>
                          <a:pt x="278" y="2834"/>
                        </a:lnTo>
                        <a:lnTo>
                          <a:pt x="292" y="2814"/>
                        </a:lnTo>
                        <a:lnTo>
                          <a:pt x="372" y="2742"/>
                        </a:lnTo>
                        <a:lnTo>
                          <a:pt x="391" y="2714"/>
                        </a:lnTo>
                        <a:lnTo>
                          <a:pt x="417" y="2692"/>
                        </a:lnTo>
                        <a:lnTo>
                          <a:pt x="421" y="2687"/>
                        </a:lnTo>
                        <a:lnTo>
                          <a:pt x="428" y="2687"/>
                        </a:lnTo>
                        <a:lnTo>
                          <a:pt x="457" y="2658"/>
                        </a:lnTo>
                        <a:lnTo>
                          <a:pt x="462" y="2654"/>
                        </a:lnTo>
                        <a:lnTo>
                          <a:pt x="481" y="2623"/>
                        </a:lnTo>
                        <a:lnTo>
                          <a:pt x="485" y="2618"/>
                        </a:lnTo>
                        <a:lnTo>
                          <a:pt x="511" y="2592"/>
                        </a:lnTo>
                        <a:lnTo>
                          <a:pt x="534" y="2558"/>
                        </a:lnTo>
                        <a:lnTo>
                          <a:pt x="538" y="2550"/>
                        </a:lnTo>
                        <a:lnTo>
                          <a:pt x="552" y="2536"/>
                        </a:lnTo>
                        <a:lnTo>
                          <a:pt x="560" y="2518"/>
                        </a:lnTo>
                        <a:lnTo>
                          <a:pt x="567" y="2499"/>
                        </a:lnTo>
                        <a:lnTo>
                          <a:pt x="571" y="2484"/>
                        </a:lnTo>
                        <a:lnTo>
                          <a:pt x="575" y="2476"/>
                        </a:lnTo>
                        <a:lnTo>
                          <a:pt x="583" y="2463"/>
                        </a:lnTo>
                        <a:lnTo>
                          <a:pt x="586" y="2445"/>
                        </a:lnTo>
                        <a:lnTo>
                          <a:pt x="602" y="2429"/>
                        </a:lnTo>
                        <a:lnTo>
                          <a:pt x="625" y="2412"/>
                        </a:lnTo>
                        <a:lnTo>
                          <a:pt x="638" y="2394"/>
                        </a:lnTo>
                        <a:lnTo>
                          <a:pt x="647" y="2394"/>
                        </a:lnTo>
                        <a:lnTo>
                          <a:pt x="650" y="2389"/>
                        </a:lnTo>
                        <a:lnTo>
                          <a:pt x="657" y="2384"/>
                        </a:lnTo>
                        <a:lnTo>
                          <a:pt x="666" y="2371"/>
                        </a:lnTo>
                        <a:lnTo>
                          <a:pt x="673" y="2358"/>
                        </a:lnTo>
                        <a:lnTo>
                          <a:pt x="677" y="2358"/>
                        </a:lnTo>
                        <a:lnTo>
                          <a:pt x="692" y="2339"/>
                        </a:lnTo>
                        <a:lnTo>
                          <a:pt x="696" y="2334"/>
                        </a:lnTo>
                        <a:lnTo>
                          <a:pt x="703" y="2325"/>
                        </a:lnTo>
                        <a:lnTo>
                          <a:pt x="703" y="2320"/>
                        </a:lnTo>
                        <a:lnTo>
                          <a:pt x="715" y="2294"/>
                        </a:lnTo>
                        <a:lnTo>
                          <a:pt x="715" y="2289"/>
                        </a:lnTo>
                        <a:lnTo>
                          <a:pt x="715" y="2286"/>
                        </a:lnTo>
                        <a:lnTo>
                          <a:pt x="729" y="2265"/>
                        </a:lnTo>
                        <a:lnTo>
                          <a:pt x="737" y="2247"/>
                        </a:lnTo>
                        <a:lnTo>
                          <a:pt x="751" y="2216"/>
                        </a:lnTo>
                        <a:lnTo>
                          <a:pt x="760" y="2216"/>
                        </a:lnTo>
                        <a:lnTo>
                          <a:pt x="760" y="2220"/>
                        </a:lnTo>
                        <a:lnTo>
                          <a:pt x="755" y="2220"/>
                        </a:lnTo>
                        <a:lnTo>
                          <a:pt x="755" y="2225"/>
                        </a:lnTo>
                        <a:lnTo>
                          <a:pt x="755" y="2229"/>
                        </a:lnTo>
                        <a:lnTo>
                          <a:pt x="755" y="2234"/>
                        </a:lnTo>
                        <a:lnTo>
                          <a:pt x="755" y="2239"/>
                        </a:lnTo>
                        <a:lnTo>
                          <a:pt x="755" y="2243"/>
                        </a:lnTo>
                        <a:lnTo>
                          <a:pt x="755" y="2247"/>
                        </a:lnTo>
                        <a:lnTo>
                          <a:pt x="755" y="2252"/>
                        </a:lnTo>
                        <a:lnTo>
                          <a:pt x="755" y="2257"/>
                        </a:lnTo>
                        <a:lnTo>
                          <a:pt x="755" y="2260"/>
                        </a:lnTo>
                        <a:lnTo>
                          <a:pt x="755" y="2265"/>
                        </a:lnTo>
                        <a:lnTo>
                          <a:pt x="755" y="2270"/>
                        </a:lnTo>
                        <a:lnTo>
                          <a:pt x="751" y="2270"/>
                        </a:lnTo>
                        <a:lnTo>
                          <a:pt x="751" y="2273"/>
                        </a:lnTo>
                        <a:lnTo>
                          <a:pt x="751" y="2281"/>
                        </a:lnTo>
                        <a:lnTo>
                          <a:pt x="748" y="2286"/>
                        </a:lnTo>
                        <a:lnTo>
                          <a:pt x="748" y="2289"/>
                        </a:lnTo>
                        <a:lnTo>
                          <a:pt x="744" y="2289"/>
                        </a:lnTo>
                        <a:lnTo>
                          <a:pt x="744" y="2294"/>
                        </a:lnTo>
                        <a:lnTo>
                          <a:pt x="741" y="2289"/>
                        </a:lnTo>
                        <a:lnTo>
                          <a:pt x="737" y="2289"/>
                        </a:lnTo>
                        <a:lnTo>
                          <a:pt x="737" y="2294"/>
                        </a:lnTo>
                        <a:lnTo>
                          <a:pt x="737" y="2299"/>
                        </a:lnTo>
                        <a:lnTo>
                          <a:pt x="737" y="2302"/>
                        </a:lnTo>
                        <a:lnTo>
                          <a:pt x="737" y="2307"/>
                        </a:lnTo>
                        <a:lnTo>
                          <a:pt x="732" y="2307"/>
                        </a:lnTo>
                        <a:lnTo>
                          <a:pt x="737" y="2312"/>
                        </a:lnTo>
                        <a:lnTo>
                          <a:pt x="737" y="2316"/>
                        </a:lnTo>
                        <a:lnTo>
                          <a:pt x="737" y="2320"/>
                        </a:lnTo>
                        <a:lnTo>
                          <a:pt x="741" y="2320"/>
                        </a:lnTo>
                        <a:lnTo>
                          <a:pt x="741" y="2325"/>
                        </a:lnTo>
                        <a:lnTo>
                          <a:pt x="744" y="2329"/>
                        </a:lnTo>
                        <a:lnTo>
                          <a:pt x="748" y="2329"/>
                        </a:lnTo>
                        <a:lnTo>
                          <a:pt x="748" y="2334"/>
                        </a:lnTo>
                        <a:lnTo>
                          <a:pt x="751" y="2334"/>
                        </a:lnTo>
                        <a:lnTo>
                          <a:pt x="751" y="2339"/>
                        </a:lnTo>
                        <a:lnTo>
                          <a:pt x="751" y="2342"/>
                        </a:lnTo>
                        <a:lnTo>
                          <a:pt x="755" y="2347"/>
                        </a:lnTo>
                        <a:lnTo>
                          <a:pt x="755" y="2352"/>
                        </a:lnTo>
                        <a:lnTo>
                          <a:pt x="760" y="2358"/>
                        </a:lnTo>
                        <a:lnTo>
                          <a:pt x="760" y="2363"/>
                        </a:lnTo>
                        <a:lnTo>
                          <a:pt x="760" y="2368"/>
                        </a:lnTo>
                        <a:lnTo>
                          <a:pt x="760" y="2371"/>
                        </a:lnTo>
                        <a:lnTo>
                          <a:pt x="760" y="2376"/>
                        </a:lnTo>
                        <a:lnTo>
                          <a:pt x="760" y="2381"/>
                        </a:lnTo>
                        <a:lnTo>
                          <a:pt x="760" y="2384"/>
                        </a:lnTo>
                        <a:lnTo>
                          <a:pt x="755" y="2384"/>
                        </a:lnTo>
                        <a:lnTo>
                          <a:pt x="755" y="2389"/>
                        </a:lnTo>
                        <a:lnTo>
                          <a:pt x="755" y="2394"/>
                        </a:lnTo>
                        <a:lnTo>
                          <a:pt x="755" y="2399"/>
                        </a:lnTo>
                        <a:lnTo>
                          <a:pt x="760" y="2399"/>
                        </a:lnTo>
                        <a:lnTo>
                          <a:pt x="763" y="2402"/>
                        </a:lnTo>
                        <a:lnTo>
                          <a:pt x="763" y="2407"/>
                        </a:lnTo>
                        <a:lnTo>
                          <a:pt x="763" y="2412"/>
                        </a:lnTo>
                        <a:lnTo>
                          <a:pt x="767" y="2412"/>
                        </a:lnTo>
                        <a:lnTo>
                          <a:pt x="771" y="2412"/>
                        </a:lnTo>
                        <a:lnTo>
                          <a:pt x="771" y="2416"/>
                        </a:lnTo>
                        <a:lnTo>
                          <a:pt x="771" y="2421"/>
                        </a:lnTo>
                        <a:lnTo>
                          <a:pt x="774" y="2425"/>
                        </a:lnTo>
                        <a:lnTo>
                          <a:pt x="774" y="2429"/>
                        </a:lnTo>
                        <a:lnTo>
                          <a:pt x="779" y="2429"/>
                        </a:lnTo>
                        <a:lnTo>
                          <a:pt x="779" y="2436"/>
                        </a:lnTo>
                        <a:lnTo>
                          <a:pt x="779" y="2441"/>
                        </a:lnTo>
                        <a:lnTo>
                          <a:pt x="779" y="2445"/>
                        </a:lnTo>
                        <a:lnTo>
                          <a:pt x="779" y="2450"/>
                        </a:lnTo>
                        <a:lnTo>
                          <a:pt x="774" y="2450"/>
                        </a:lnTo>
                        <a:lnTo>
                          <a:pt x="774" y="2454"/>
                        </a:lnTo>
                        <a:lnTo>
                          <a:pt x="774" y="2458"/>
                        </a:lnTo>
                        <a:lnTo>
                          <a:pt x="771" y="2463"/>
                        </a:lnTo>
                        <a:lnTo>
                          <a:pt x="767" y="2463"/>
                        </a:lnTo>
                        <a:lnTo>
                          <a:pt x="767" y="2468"/>
                        </a:lnTo>
                        <a:lnTo>
                          <a:pt x="767" y="2471"/>
                        </a:lnTo>
                        <a:lnTo>
                          <a:pt x="763" y="2471"/>
                        </a:lnTo>
                        <a:lnTo>
                          <a:pt x="763" y="2476"/>
                        </a:lnTo>
                        <a:lnTo>
                          <a:pt x="763" y="2481"/>
                        </a:lnTo>
                        <a:lnTo>
                          <a:pt x="763" y="2484"/>
                        </a:lnTo>
                        <a:lnTo>
                          <a:pt x="763" y="2489"/>
                        </a:lnTo>
                        <a:lnTo>
                          <a:pt x="763" y="2494"/>
                        </a:lnTo>
                        <a:lnTo>
                          <a:pt x="763" y="2499"/>
                        </a:lnTo>
                        <a:lnTo>
                          <a:pt x="763" y="2503"/>
                        </a:lnTo>
                        <a:lnTo>
                          <a:pt x="767" y="2507"/>
                        </a:lnTo>
                        <a:lnTo>
                          <a:pt x="767" y="2513"/>
                        </a:lnTo>
                        <a:lnTo>
                          <a:pt x="767" y="2518"/>
                        </a:lnTo>
                        <a:lnTo>
                          <a:pt x="771" y="2518"/>
                        </a:lnTo>
                        <a:lnTo>
                          <a:pt x="771" y="2523"/>
                        </a:lnTo>
                        <a:lnTo>
                          <a:pt x="771" y="2527"/>
                        </a:lnTo>
                        <a:lnTo>
                          <a:pt x="774" y="2531"/>
                        </a:lnTo>
                        <a:lnTo>
                          <a:pt x="774" y="2536"/>
                        </a:lnTo>
                        <a:lnTo>
                          <a:pt x="779" y="2541"/>
                        </a:lnTo>
                        <a:lnTo>
                          <a:pt x="779" y="2545"/>
                        </a:lnTo>
                        <a:lnTo>
                          <a:pt x="779" y="2550"/>
                        </a:lnTo>
                        <a:lnTo>
                          <a:pt x="783" y="2554"/>
                        </a:lnTo>
                        <a:lnTo>
                          <a:pt x="779" y="2563"/>
                        </a:lnTo>
                        <a:lnTo>
                          <a:pt x="779" y="2568"/>
                        </a:lnTo>
                        <a:lnTo>
                          <a:pt x="779" y="2571"/>
                        </a:lnTo>
                        <a:lnTo>
                          <a:pt x="774" y="2576"/>
                        </a:lnTo>
                        <a:lnTo>
                          <a:pt x="771" y="2585"/>
                        </a:lnTo>
                        <a:lnTo>
                          <a:pt x="771" y="2592"/>
                        </a:lnTo>
                        <a:lnTo>
                          <a:pt x="767" y="2592"/>
                        </a:lnTo>
                        <a:lnTo>
                          <a:pt x="763" y="2592"/>
                        </a:lnTo>
                        <a:lnTo>
                          <a:pt x="767" y="2597"/>
                        </a:lnTo>
                        <a:lnTo>
                          <a:pt x="767" y="2600"/>
                        </a:lnTo>
                        <a:lnTo>
                          <a:pt x="763" y="2605"/>
                        </a:lnTo>
                        <a:lnTo>
                          <a:pt x="763" y="2613"/>
                        </a:lnTo>
                        <a:lnTo>
                          <a:pt x="760" y="2618"/>
                        </a:lnTo>
                        <a:lnTo>
                          <a:pt x="760" y="2623"/>
                        </a:lnTo>
                        <a:lnTo>
                          <a:pt x="763" y="2627"/>
                        </a:lnTo>
                        <a:lnTo>
                          <a:pt x="763" y="2632"/>
                        </a:lnTo>
                        <a:lnTo>
                          <a:pt x="763" y="2636"/>
                        </a:lnTo>
                        <a:lnTo>
                          <a:pt x="767" y="2641"/>
                        </a:lnTo>
                        <a:lnTo>
                          <a:pt x="771" y="2641"/>
                        </a:lnTo>
                        <a:lnTo>
                          <a:pt x="774" y="2641"/>
                        </a:lnTo>
                        <a:lnTo>
                          <a:pt x="779" y="2645"/>
                        </a:lnTo>
                        <a:lnTo>
                          <a:pt x="779" y="2650"/>
                        </a:lnTo>
                        <a:lnTo>
                          <a:pt x="783" y="2654"/>
                        </a:lnTo>
                        <a:lnTo>
                          <a:pt x="786" y="2654"/>
                        </a:lnTo>
                        <a:lnTo>
                          <a:pt x="790" y="2654"/>
                        </a:lnTo>
                        <a:lnTo>
                          <a:pt x="794" y="2654"/>
                        </a:lnTo>
                        <a:lnTo>
                          <a:pt x="794" y="2658"/>
                        </a:lnTo>
                        <a:lnTo>
                          <a:pt x="798" y="2658"/>
                        </a:lnTo>
                        <a:lnTo>
                          <a:pt x="802" y="2654"/>
                        </a:lnTo>
                        <a:lnTo>
                          <a:pt x="812" y="2650"/>
                        </a:lnTo>
                        <a:lnTo>
                          <a:pt x="819" y="2641"/>
                        </a:lnTo>
                        <a:lnTo>
                          <a:pt x="819" y="2636"/>
                        </a:lnTo>
                        <a:lnTo>
                          <a:pt x="826" y="2636"/>
                        </a:lnTo>
                        <a:lnTo>
                          <a:pt x="831" y="2636"/>
                        </a:lnTo>
                        <a:lnTo>
                          <a:pt x="835" y="2636"/>
                        </a:lnTo>
                        <a:lnTo>
                          <a:pt x="835" y="2641"/>
                        </a:lnTo>
                        <a:lnTo>
                          <a:pt x="835" y="2645"/>
                        </a:lnTo>
                        <a:lnTo>
                          <a:pt x="838" y="2641"/>
                        </a:lnTo>
                        <a:lnTo>
                          <a:pt x="842" y="2641"/>
                        </a:lnTo>
                        <a:lnTo>
                          <a:pt x="845" y="2641"/>
                        </a:lnTo>
                        <a:lnTo>
                          <a:pt x="850" y="2641"/>
                        </a:lnTo>
                        <a:lnTo>
                          <a:pt x="850" y="2636"/>
                        </a:lnTo>
                        <a:lnTo>
                          <a:pt x="854" y="2636"/>
                        </a:lnTo>
                        <a:lnTo>
                          <a:pt x="854" y="2632"/>
                        </a:lnTo>
                        <a:lnTo>
                          <a:pt x="858" y="2627"/>
                        </a:lnTo>
                        <a:lnTo>
                          <a:pt x="865" y="2627"/>
                        </a:lnTo>
                        <a:lnTo>
                          <a:pt x="868" y="2627"/>
                        </a:lnTo>
                        <a:lnTo>
                          <a:pt x="873" y="2627"/>
                        </a:lnTo>
                        <a:lnTo>
                          <a:pt x="877" y="2627"/>
                        </a:lnTo>
                        <a:lnTo>
                          <a:pt x="880" y="2632"/>
                        </a:lnTo>
                        <a:lnTo>
                          <a:pt x="884" y="2632"/>
                        </a:lnTo>
                        <a:lnTo>
                          <a:pt x="888" y="2632"/>
                        </a:lnTo>
                        <a:lnTo>
                          <a:pt x="888" y="2627"/>
                        </a:lnTo>
                        <a:lnTo>
                          <a:pt x="893" y="2627"/>
                        </a:lnTo>
                        <a:lnTo>
                          <a:pt x="897" y="2627"/>
                        </a:lnTo>
                        <a:lnTo>
                          <a:pt x="893" y="2623"/>
                        </a:lnTo>
                        <a:lnTo>
                          <a:pt x="893" y="2618"/>
                        </a:lnTo>
                        <a:lnTo>
                          <a:pt x="897" y="2618"/>
                        </a:lnTo>
                        <a:lnTo>
                          <a:pt x="897" y="2613"/>
                        </a:lnTo>
                        <a:lnTo>
                          <a:pt x="902" y="2613"/>
                        </a:lnTo>
                        <a:lnTo>
                          <a:pt x="902" y="2618"/>
                        </a:lnTo>
                        <a:lnTo>
                          <a:pt x="906" y="2618"/>
                        </a:lnTo>
                        <a:lnTo>
                          <a:pt x="906" y="2613"/>
                        </a:lnTo>
                        <a:lnTo>
                          <a:pt x="913" y="2613"/>
                        </a:lnTo>
                        <a:lnTo>
                          <a:pt x="917" y="2613"/>
                        </a:lnTo>
                        <a:lnTo>
                          <a:pt x="917" y="2618"/>
                        </a:lnTo>
                        <a:lnTo>
                          <a:pt x="921" y="2618"/>
                        </a:lnTo>
                        <a:lnTo>
                          <a:pt x="921" y="2613"/>
                        </a:lnTo>
                        <a:lnTo>
                          <a:pt x="925" y="2613"/>
                        </a:lnTo>
                        <a:lnTo>
                          <a:pt x="925" y="2610"/>
                        </a:lnTo>
                        <a:lnTo>
                          <a:pt x="929" y="2610"/>
                        </a:lnTo>
                        <a:lnTo>
                          <a:pt x="929" y="2605"/>
                        </a:lnTo>
                        <a:lnTo>
                          <a:pt x="929" y="2610"/>
                        </a:lnTo>
                        <a:lnTo>
                          <a:pt x="932" y="2610"/>
                        </a:lnTo>
                        <a:lnTo>
                          <a:pt x="936" y="2610"/>
                        </a:lnTo>
                        <a:lnTo>
                          <a:pt x="936" y="2613"/>
                        </a:lnTo>
                        <a:lnTo>
                          <a:pt x="940" y="2618"/>
                        </a:lnTo>
                        <a:lnTo>
                          <a:pt x="944" y="2618"/>
                        </a:lnTo>
                        <a:lnTo>
                          <a:pt x="948" y="2618"/>
                        </a:lnTo>
                        <a:lnTo>
                          <a:pt x="948" y="2623"/>
                        </a:lnTo>
                        <a:lnTo>
                          <a:pt x="952" y="2623"/>
                        </a:lnTo>
                        <a:lnTo>
                          <a:pt x="955" y="2618"/>
                        </a:lnTo>
                        <a:lnTo>
                          <a:pt x="959" y="2618"/>
                        </a:lnTo>
                        <a:lnTo>
                          <a:pt x="959" y="2613"/>
                        </a:lnTo>
                        <a:lnTo>
                          <a:pt x="964" y="2613"/>
                        </a:lnTo>
                        <a:lnTo>
                          <a:pt x="964" y="2610"/>
                        </a:lnTo>
                        <a:lnTo>
                          <a:pt x="967" y="2605"/>
                        </a:lnTo>
                        <a:lnTo>
                          <a:pt x="967" y="2600"/>
                        </a:lnTo>
                        <a:lnTo>
                          <a:pt x="971" y="2600"/>
                        </a:lnTo>
                        <a:lnTo>
                          <a:pt x="974" y="2597"/>
                        </a:lnTo>
                        <a:lnTo>
                          <a:pt x="974" y="2592"/>
                        </a:lnTo>
                        <a:lnTo>
                          <a:pt x="978" y="2592"/>
                        </a:lnTo>
                        <a:lnTo>
                          <a:pt x="978" y="2585"/>
                        </a:lnTo>
                        <a:lnTo>
                          <a:pt x="983" y="2585"/>
                        </a:lnTo>
                        <a:lnTo>
                          <a:pt x="983" y="2581"/>
                        </a:lnTo>
                        <a:lnTo>
                          <a:pt x="988" y="2581"/>
                        </a:lnTo>
                        <a:lnTo>
                          <a:pt x="988" y="2576"/>
                        </a:lnTo>
                        <a:lnTo>
                          <a:pt x="988" y="2581"/>
                        </a:lnTo>
                        <a:lnTo>
                          <a:pt x="993" y="2581"/>
                        </a:lnTo>
                        <a:lnTo>
                          <a:pt x="993" y="2576"/>
                        </a:lnTo>
                        <a:lnTo>
                          <a:pt x="996" y="2576"/>
                        </a:lnTo>
                        <a:lnTo>
                          <a:pt x="996" y="2581"/>
                        </a:lnTo>
                        <a:lnTo>
                          <a:pt x="1003" y="2581"/>
                        </a:lnTo>
                        <a:lnTo>
                          <a:pt x="1003" y="2576"/>
                        </a:lnTo>
                        <a:lnTo>
                          <a:pt x="1003" y="2571"/>
                        </a:lnTo>
                        <a:lnTo>
                          <a:pt x="1007" y="2571"/>
                        </a:lnTo>
                        <a:lnTo>
                          <a:pt x="1007" y="2568"/>
                        </a:lnTo>
                        <a:lnTo>
                          <a:pt x="1011" y="2563"/>
                        </a:lnTo>
                        <a:lnTo>
                          <a:pt x="1015" y="2554"/>
                        </a:lnTo>
                        <a:lnTo>
                          <a:pt x="1015" y="2550"/>
                        </a:lnTo>
                        <a:lnTo>
                          <a:pt x="1015" y="2545"/>
                        </a:lnTo>
                        <a:lnTo>
                          <a:pt x="1019" y="2545"/>
                        </a:lnTo>
                        <a:lnTo>
                          <a:pt x="1019" y="2541"/>
                        </a:lnTo>
                        <a:lnTo>
                          <a:pt x="1023" y="2545"/>
                        </a:lnTo>
                        <a:lnTo>
                          <a:pt x="1026" y="2545"/>
                        </a:lnTo>
                        <a:lnTo>
                          <a:pt x="1030" y="2545"/>
                        </a:lnTo>
                        <a:lnTo>
                          <a:pt x="1030" y="2541"/>
                        </a:lnTo>
                        <a:lnTo>
                          <a:pt x="1035" y="2541"/>
                        </a:lnTo>
                        <a:lnTo>
                          <a:pt x="1038" y="2536"/>
                        </a:lnTo>
                        <a:lnTo>
                          <a:pt x="1042" y="2541"/>
                        </a:lnTo>
                        <a:lnTo>
                          <a:pt x="1042" y="2545"/>
                        </a:lnTo>
                        <a:lnTo>
                          <a:pt x="1046" y="2545"/>
                        </a:lnTo>
                        <a:lnTo>
                          <a:pt x="1049" y="2550"/>
                        </a:lnTo>
                        <a:lnTo>
                          <a:pt x="1054" y="2550"/>
                        </a:lnTo>
                        <a:lnTo>
                          <a:pt x="1058" y="2550"/>
                        </a:lnTo>
                        <a:lnTo>
                          <a:pt x="1058" y="2545"/>
                        </a:lnTo>
                        <a:lnTo>
                          <a:pt x="1061" y="2545"/>
                        </a:lnTo>
                        <a:lnTo>
                          <a:pt x="1065" y="2545"/>
                        </a:lnTo>
                        <a:lnTo>
                          <a:pt x="1069" y="2545"/>
                        </a:lnTo>
                        <a:lnTo>
                          <a:pt x="1075" y="2545"/>
                        </a:lnTo>
                        <a:lnTo>
                          <a:pt x="1075" y="2541"/>
                        </a:lnTo>
                        <a:lnTo>
                          <a:pt x="1075" y="2536"/>
                        </a:lnTo>
                        <a:lnTo>
                          <a:pt x="1075" y="2531"/>
                        </a:lnTo>
                        <a:lnTo>
                          <a:pt x="1075" y="2527"/>
                        </a:lnTo>
                        <a:lnTo>
                          <a:pt x="1075" y="2518"/>
                        </a:lnTo>
                        <a:lnTo>
                          <a:pt x="1075" y="2513"/>
                        </a:lnTo>
                        <a:lnTo>
                          <a:pt x="1078" y="2513"/>
                        </a:lnTo>
                        <a:lnTo>
                          <a:pt x="1078" y="2507"/>
                        </a:lnTo>
                        <a:lnTo>
                          <a:pt x="1075" y="2503"/>
                        </a:lnTo>
                        <a:lnTo>
                          <a:pt x="1078" y="2503"/>
                        </a:lnTo>
                        <a:lnTo>
                          <a:pt x="1078" y="2499"/>
                        </a:lnTo>
                        <a:lnTo>
                          <a:pt x="1082" y="2499"/>
                        </a:lnTo>
                        <a:lnTo>
                          <a:pt x="1087" y="2499"/>
                        </a:lnTo>
                        <a:lnTo>
                          <a:pt x="1090" y="2499"/>
                        </a:lnTo>
                        <a:lnTo>
                          <a:pt x="1090" y="2494"/>
                        </a:lnTo>
                        <a:lnTo>
                          <a:pt x="1094" y="2494"/>
                        </a:lnTo>
                        <a:lnTo>
                          <a:pt x="1097" y="2489"/>
                        </a:lnTo>
                        <a:lnTo>
                          <a:pt x="1097" y="2484"/>
                        </a:lnTo>
                        <a:lnTo>
                          <a:pt x="1101" y="2484"/>
                        </a:lnTo>
                        <a:lnTo>
                          <a:pt x="1106" y="2481"/>
                        </a:lnTo>
                        <a:lnTo>
                          <a:pt x="1106" y="2476"/>
                        </a:lnTo>
                        <a:lnTo>
                          <a:pt x="1110" y="2476"/>
                        </a:lnTo>
                        <a:lnTo>
                          <a:pt x="1110" y="2471"/>
                        </a:lnTo>
                        <a:lnTo>
                          <a:pt x="1110" y="2468"/>
                        </a:lnTo>
                        <a:lnTo>
                          <a:pt x="1110" y="2471"/>
                        </a:lnTo>
                        <a:lnTo>
                          <a:pt x="1113" y="2471"/>
                        </a:lnTo>
                        <a:lnTo>
                          <a:pt x="1117" y="2471"/>
                        </a:lnTo>
                        <a:lnTo>
                          <a:pt x="1120" y="2476"/>
                        </a:lnTo>
                        <a:lnTo>
                          <a:pt x="1120" y="2471"/>
                        </a:lnTo>
                        <a:lnTo>
                          <a:pt x="1124" y="2468"/>
                        </a:lnTo>
                        <a:lnTo>
                          <a:pt x="1124" y="2463"/>
                        </a:lnTo>
                        <a:lnTo>
                          <a:pt x="1129" y="2458"/>
                        </a:lnTo>
                        <a:lnTo>
                          <a:pt x="1129" y="2454"/>
                        </a:lnTo>
                        <a:lnTo>
                          <a:pt x="1132" y="2454"/>
                        </a:lnTo>
                        <a:lnTo>
                          <a:pt x="1136" y="2454"/>
                        </a:lnTo>
                        <a:lnTo>
                          <a:pt x="1140" y="2454"/>
                        </a:lnTo>
                        <a:lnTo>
                          <a:pt x="1140" y="2450"/>
                        </a:lnTo>
                        <a:lnTo>
                          <a:pt x="1143" y="2445"/>
                        </a:lnTo>
                        <a:lnTo>
                          <a:pt x="1148" y="2445"/>
                        </a:lnTo>
                        <a:lnTo>
                          <a:pt x="1152" y="2445"/>
                        </a:lnTo>
                        <a:lnTo>
                          <a:pt x="1155" y="2445"/>
                        </a:lnTo>
                        <a:lnTo>
                          <a:pt x="1159" y="2445"/>
                        </a:lnTo>
                        <a:lnTo>
                          <a:pt x="1165" y="2441"/>
                        </a:lnTo>
                        <a:lnTo>
                          <a:pt x="1165" y="2445"/>
                        </a:lnTo>
                        <a:lnTo>
                          <a:pt x="1165" y="2441"/>
                        </a:lnTo>
                        <a:lnTo>
                          <a:pt x="1169" y="2436"/>
                        </a:lnTo>
                        <a:lnTo>
                          <a:pt x="1172" y="2436"/>
                        </a:lnTo>
                        <a:lnTo>
                          <a:pt x="1172" y="2441"/>
                        </a:lnTo>
                        <a:lnTo>
                          <a:pt x="1177" y="2445"/>
                        </a:lnTo>
                        <a:lnTo>
                          <a:pt x="1177" y="2441"/>
                        </a:lnTo>
                        <a:lnTo>
                          <a:pt x="1181" y="2441"/>
                        </a:lnTo>
                        <a:lnTo>
                          <a:pt x="1181" y="2436"/>
                        </a:lnTo>
                        <a:lnTo>
                          <a:pt x="1181" y="2429"/>
                        </a:lnTo>
                        <a:lnTo>
                          <a:pt x="1184" y="2429"/>
                        </a:lnTo>
                        <a:lnTo>
                          <a:pt x="1184" y="2425"/>
                        </a:lnTo>
                        <a:lnTo>
                          <a:pt x="1181" y="2425"/>
                        </a:lnTo>
                        <a:lnTo>
                          <a:pt x="1181" y="2421"/>
                        </a:lnTo>
                        <a:lnTo>
                          <a:pt x="1181" y="2416"/>
                        </a:lnTo>
                        <a:lnTo>
                          <a:pt x="1181" y="2412"/>
                        </a:lnTo>
                        <a:lnTo>
                          <a:pt x="1184" y="2412"/>
                        </a:lnTo>
                        <a:lnTo>
                          <a:pt x="1184" y="2407"/>
                        </a:lnTo>
                        <a:lnTo>
                          <a:pt x="1188" y="2407"/>
                        </a:lnTo>
                        <a:lnTo>
                          <a:pt x="1188" y="2402"/>
                        </a:lnTo>
                        <a:lnTo>
                          <a:pt x="1192" y="2399"/>
                        </a:lnTo>
                        <a:lnTo>
                          <a:pt x="1195" y="2399"/>
                        </a:lnTo>
                        <a:lnTo>
                          <a:pt x="1200" y="2394"/>
                        </a:lnTo>
                        <a:lnTo>
                          <a:pt x="1200" y="2389"/>
                        </a:lnTo>
                        <a:lnTo>
                          <a:pt x="1195" y="2389"/>
                        </a:lnTo>
                        <a:lnTo>
                          <a:pt x="1195" y="2384"/>
                        </a:lnTo>
                        <a:lnTo>
                          <a:pt x="1195" y="2381"/>
                        </a:lnTo>
                        <a:lnTo>
                          <a:pt x="1192" y="2376"/>
                        </a:lnTo>
                        <a:lnTo>
                          <a:pt x="1192" y="2371"/>
                        </a:lnTo>
                        <a:lnTo>
                          <a:pt x="1195" y="2371"/>
                        </a:lnTo>
                        <a:lnTo>
                          <a:pt x="1192" y="2371"/>
                        </a:lnTo>
                        <a:lnTo>
                          <a:pt x="1192" y="2368"/>
                        </a:lnTo>
                        <a:lnTo>
                          <a:pt x="1192" y="2363"/>
                        </a:lnTo>
                        <a:lnTo>
                          <a:pt x="1192" y="2358"/>
                        </a:lnTo>
                        <a:lnTo>
                          <a:pt x="1195" y="2358"/>
                        </a:lnTo>
                        <a:lnTo>
                          <a:pt x="1200" y="2358"/>
                        </a:lnTo>
                        <a:lnTo>
                          <a:pt x="1204" y="2358"/>
                        </a:lnTo>
                        <a:lnTo>
                          <a:pt x="1207" y="2358"/>
                        </a:lnTo>
                        <a:lnTo>
                          <a:pt x="1207" y="2352"/>
                        </a:lnTo>
                        <a:lnTo>
                          <a:pt x="1207" y="2347"/>
                        </a:lnTo>
                        <a:lnTo>
                          <a:pt x="1207" y="2342"/>
                        </a:lnTo>
                        <a:lnTo>
                          <a:pt x="1207" y="2339"/>
                        </a:lnTo>
                        <a:lnTo>
                          <a:pt x="1207" y="2334"/>
                        </a:lnTo>
                        <a:lnTo>
                          <a:pt x="1207" y="2329"/>
                        </a:lnTo>
                        <a:lnTo>
                          <a:pt x="1207" y="2325"/>
                        </a:lnTo>
                        <a:lnTo>
                          <a:pt x="1204" y="2320"/>
                        </a:lnTo>
                        <a:lnTo>
                          <a:pt x="1204" y="2316"/>
                        </a:lnTo>
                        <a:lnTo>
                          <a:pt x="1207" y="2316"/>
                        </a:lnTo>
                        <a:lnTo>
                          <a:pt x="1207" y="2312"/>
                        </a:lnTo>
                        <a:lnTo>
                          <a:pt x="1207" y="2307"/>
                        </a:lnTo>
                        <a:lnTo>
                          <a:pt x="1211" y="2307"/>
                        </a:lnTo>
                        <a:lnTo>
                          <a:pt x="1214" y="2307"/>
                        </a:lnTo>
                        <a:lnTo>
                          <a:pt x="1219" y="2307"/>
                        </a:lnTo>
                        <a:lnTo>
                          <a:pt x="1223" y="2307"/>
                        </a:lnTo>
                        <a:lnTo>
                          <a:pt x="1227" y="2307"/>
                        </a:lnTo>
                        <a:lnTo>
                          <a:pt x="1230" y="2307"/>
                        </a:lnTo>
                        <a:lnTo>
                          <a:pt x="1230" y="2302"/>
                        </a:lnTo>
                        <a:lnTo>
                          <a:pt x="1230" y="2299"/>
                        </a:lnTo>
                        <a:lnTo>
                          <a:pt x="1230" y="2294"/>
                        </a:lnTo>
                        <a:lnTo>
                          <a:pt x="1234" y="2294"/>
                        </a:lnTo>
                        <a:lnTo>
                          <a:pt x="1230" y="2289"/>
                        </a:lnTo>
                        <a:lnTo>
                          <a:pt x="1230" y="2286"/>
                        </a:lnTo>
                        <a:lnTo>
                          <a:pt x="1227" y="2281"/>
                        </a:lnTo>
                        <a:lnTo>
                          <a:pt x="1227" y="2273"/>
                        </a:lnTo>
                        <a:lnTo>
                          <a:pt x="1223" y="2273"/>
                        </a:lnTo>
                        <a:lnTo>
                          <a:pt x="1219" y="2273"/>
                        </a:lnTo>
                        <a:lnTo>
                          <a:pt x="1219" y="2270"/>
                        </a:lnTo>
                        <a:lnTo>
                          <a:pt x="1219" y="2265"/>
                        </a:lnTo>
                        <a:lnTo>
                          <a:pt x="1223" y="2265"/>
                        </a:lnTo>
                        <a:lnTo>
                          <a:pt x="1227" y="2260"/>
                        </a:lnTo>
                        <a:lnTo>
                          <a:pt x="1230" y="2257"/>
                        </a:lnTo>
                        <a:lnTo>
                          <a:pt x="1234" y="2257"/>
                        </a:lnTo>
                        <a:lnTo>
                          <a:pt x="1234" y="2252"/>
                        </a:lnTo>
                        <a:lnTo>
                          <a:pt x="1239" y="2252"/>
                        </a:lnTo>
                        <a:lnTo>
                          <a:pt x="1239" y="2257"/>
                        </a:lnTo>
                        <a:lnTo>
                          <a:pt x="1242" y="2257"/>
                        </a:lnTo>
                        <a:lnTo>
                          <a:pt x="1246" y="2257"/>
                        </a:lnTo>
                        <a:lnTo>
                          <a:pt x="1246" y="2252"/>
                        </a:lnTo>
                        <a:lnTo>
                          <a:pt x="1249" y="2252"/>
                        </a:lnTo>
                        <a:lnTo>
                          <a:pt x="1249" y="2247"/>
                        </a:lnTo>
                        <a:lnTo>
                          <a:pt x="1255" y="2243"/>
                        </a:lnTo>
                        <a:lnTo>
                          <a:pt x="1259" y="2243"/>
                        </a:lnTo>
                        <a:lnTo>
                          <a:pt x="1263" y="2243"/>
                        </a:lnTo>
                        <a:lnTo>
                          <a:pt x="1266" y="2243"/>
                        </a:lnTo>
                        <a:lnTo>
                          <a:pt x="1266" y="2239"/>
                        </a:lnTo>
                        <a:lnTo>
                          <a:pt x="1271" y="2239"/>
                        </a:lnTo>
                        <a:lnTo>
                          <a:pt x="1275" y="2239"/>
                        </a:lnTo>
                        <a:lnTo>
                          <a:pt x="1278" y="2239"/>
                        </a:lnTo>
                        <a:lnTo>
                          <a:pt x="1282" y="2239"/>
                        </a:lnTo>
                        <a:lnTo>
                          <a:pt x="1282" y="2243"/>
                        </a:lnTo>
                        <a:lnTo>
                          <a:pt x="1286" y="2239"/>
                        </a:lnTo>
                        <a:lnTo>
                          <a:pt x="1290" y="2234"/>
                        </a:lnTo>
                        <a:lnTo>
                          <a:pt x="1294" y="2234"/>
                        </a:lnTo>
                        <a:lnTo>
                          <a:pt x="1294" y="2229"/>
                        </a:lnTo>
                        <a:lnTo>
                          <a:pt x="1298" y="2229"/>
                        </a:lnTo>
                        <a:lnTo>
                          <a:pt x="1298" y="2225"/>
                        </a:lnTo>
                        <a:lnTo>
                          <a:pt x="1298" y="2220"/>
                        </a:lnTo>
                        <a:lnTo>
                          <a:pt x="1301" y="2220"/>
                        </a:lnTo>
                        <a:lnTo>
                          <a:pt x="1305" y="2220"/>
                        </a:lnTo>
                        <a:lnTo>
                          <a:pt x="1305" y="2225"/>
                        </a:lnTo>
                        <a:lnTo>
                          <a:pt x="1310" y="2225"/>
                        </a:lnTo>
                        <a:lnTo>
                          <a:pt x="1313" y="2225"/>
                        </a:lnTo>
                        <a:lnTo>
                          <a:pt x="1317" y="2225"/>
                        </a:lnTo>
                        <a:lnTo>
                          <a:pt x="1321" y="2225"/>
                        </a:lnTo>
                        <a:lnTo>
                          <a:pt x="1324" y="2225"/>
                        </a:lnTo>
                        <a:lnTo>
                          <a:pt x="1324" y="2220"/>
                        </a:lnTo>
                        <a:lnTo>
                          <a:pt x="1328" y="2220"/>
                        </a:lnTo>
                        <a:lnTo>
                          <a:pt x="1328" y="2216"/>
                        </a:lnTo>
                        <a:lnTo>
                          <a:pt x="1333" y="2216"/>
                        </a:lnTo>
                        <a:lnTo>
                          <a:pt x="1336" y="2216"/>
                        </a:lnTo>
                        <a:lnTo>
                          <a:pt x="1342" y="2212"/>
                        </a:lnTo>
                        <a:lnTo>
                          <a:pt x="1342" y="2216"/>
                        </a:lnTo>
                        <a:lnTo>
                          <a:pt x="1349" y="2216"/>
                        </a:lnTo>
                        <a:lnTo>
                          <a:pt x="1349" y="2212"/>
                        </a:lnTo>
                        <a:lnTo>
                          <a:pt x="1353" y="2212"/>
                        </a:lnTo>
                        <a:lnTo>
                          <a:pt x="1353" y="2207"/>
                        </a:lnTo>
                        <a:lnTo>
                          <a:pt x="1357" y="2207"/>
                        </a:lnTo>
                        <a:lnTo>
                          <a:pt x="1362" y="2207"/>
                        </a:lnTo>
                        <a:lnTo>
                          <a:pt x="1362" y="2202"/>
                        </a:lnTo>
                        <a:lnTo>
                          <a:pt x="1365" y="2202"/>
                        </a:lnTo>
                        <a:lnTo>
                          <a:pt x="1369" y="2202"/>
                        </a:lnTo>
                        <a:lnTo>
                          <a:pt x="1372" y="2202"/>
                        </a:lnTo>
                        <a:lnTo>
                          <a:pt x="1372" y="2196"/>
                        </a:lnTo>
                        <a:lnTo>
                          <a:pt x="1376" y="2196"/>
                        </a:lnTo>
                        <a:lnTo>
                          <a:pt x="1384" y="2196"/>
                        </a:lnTo>
                        <a:lnTo>
                          <a:pt x="1384" y="2207"/>
                        </a:lnTo>
                        <a:lnTo>
                          <a:pt x="1384" y="2212"/>
                        </a:lnTo>
                        <a:lnTo>
                          <a:pt x="1388" y="2212"/>
                        </a:lnTo>
                        <a:lnTo>
                          <a:pt x="1392" y="2216"/>
                        </a:lnTo>
                        <a:lnTo>
                          <a:pt x="1395" y="2220"/>
                        </a:lnTo>
                        <a:lnTo>
                          <a:pt x="1395" y="2216"/>
                        </a:lnTo>
                        <a:lnTo>
                          <a:pt x="1395" y="2212"/>
                        </a:lnTo>
                        <a:lnTo>
                          <a:pt x="1399" y="2207"/>
                        </a:lnTo>
                        <a:lnTo>
                          <a:pt x="1404" y="2207"/>
                        </a:lnTo>
                        <a:lnTo>
                          <a:pt x="1407" y="2207"/>
                        </a:lnTo>
                        <a:lnTo>
                          <a:pt x="1407" y="2202"/>
                        </a:lnTo>
                        <a:lnTo>
                          <a:pt x="1407" y="2196"/>
                        </a:lnTo>
                        <a:lnTo>
                          <a:pt x="1411" y="2196"/>
                        </a:lnTo>
                        <a:lnTo>
                          <a:pt x="1411" y="2191"/>
                        </a:lnTo>
                        <a:lnTo>
                          <a:pt x="1411" y="2187"/>
                        </a:lnTo>
                        <a:lnTo>
                          <a:pt x="1415" y="2183"/>
                        </a:lnTo>
                        <a:lnTo>
                          <a:pt x="1418" y="2183"/>
                        </a:lnTo>
                        <a:lnTo>
                          <a:pt x="1423" y="2183"/>
                        </a:lnTo>
                        <a:lnTo>
                          <a:pt x="1427" y="2183"/>
                        </a:lnTo>
                        <a:lnTo>
                          <a:pt x="1433" y="2183"/>
                        </a:lnTo>
                        <a:lnTo>
                          <a:pt x="1436" y="2183"/>
                        </a:lnTo>
                        <a:lnTo>
                          <a:pt x="1440" y="2183"/>
                        </a:lnTo>
                        <a:lnTo>
                          <a:pt x="1444" y="2183"/>
                        </a:lnTo>
                        <a:lnTo>
                          <a:pt x="1444" y="2178"/>
                        </a:lnTo>
                        <a:lnTo>
                          <a:pt x="1447" y="2178"/>
                        </a:lnTo>
                        <a:lnTo>
                          <a:pt x="1447" y="2173"/>
                        </a:lnTo>
                        <a:lnTo>
                          <a:pt x="1451" y="2173"/>
                        </a:lnTo>
                        <a:lnTo>
                          <a:pt x="1451" y="2170"/>
                        </a:lnTo>
                        <a:lnTo>
                          <a:pt x="1456" y="2170"/>
                        </a:lnTo>
                        <a:lnTo>
                          <a:pt x="1463" y="2170"/>
                        </a:lnTo>
                        <a:lnTo>
                          <a:pt x="1463" y="2165"/>
                        </a:lnTo>
                        <a:lnTo>
                          <a:pt x="1463" y="2160"/>
                        </a:lnTo>
                        <a:lnTo>
                          <a:pt x="1463" y="2157"/>
                        </a:lnTo>
                        <a:lnTo>
                          <a:pt x="1470" y="2157"/>
                        </a:lnTo>
                        <a:lnTo>
                          <a:pt x="1475" y="2160"/>
                        </a:lnTo>
                        <a:lnTo>
                          <a:pt x="1475" y="2165"/>
                        </a:lnTo>
                        <a:lnTo>
                          <a:pt x="1475" y="2170"/>
                        </a:lnTo>
                        <a:lnTo>
                          <a:pt x="1479" y="2170"/>
                        </a:lnTo>
                        <a:lnTo>
                          <a:pt x="1482" y="2165"/>
                        </a:lnTo>
                        <a:lnTo>
                          <a:pt x="1482" y="2170"/>
                        </a:lnTo>
                        <a:lnTo>
                          <a:pt x="1486" y="2170"/>
                        </a:lnTo>
                        <a:lnTo>
                          <a:pt x="1489" y="2173"/>
                        </a:lnTo>
                        <a:lnTo>
                          <a:pt x="1494" y="2173"/>
                        </a:lnTo>
                        <a:lnTo>
                          <a:pt x="1494" y="2178"/>
                        </a:lnTo>
                        <a:lnTo>
                          <a:pt x="1498" y="2178"/>
                        </a:lnTo>
                        <a:lnTo>
                          <a:pt x="1505" y="2178"/>
                        </a:lnTo>
                        <a:lnTo>
                          <a:pt x="1509" y="2178"/>
                        </a:lnTo>
                        <a:lnTo>
                          <a:pt x="1512" y="2178"/>
                        </a:lnTo>
                        <a:lnTo>
                          <a:pt x="1512" y="2183"/>
                        </a:lnTo>
                        <a:lnTo>
                          <a:pt x="1517" y="2178"/>
                        </a:lnTo>
                        <a:lnTo>
                          <a:pt x="1517" y="2183"/>
                        </a:lnTo>
                        <a:lnTo>
                          <a:pt x="1522" y="2183"/>
                        </a:lnTo>
                        <a:lnTo>
                          <a:pt x="1527" y="2183"/>
                        </a:lnTo>
                        <a:lnTo>
                          <a:pt x="1530" y="2183"/>
                        </a:lnTo>
                        <a:lnTo>
                          <a:pt x="1534" y="2183"/>
                        </a:lnTo>
                        <a:lnTo>
                          <a:pt x="1538" y="2183"/>
                        </a:lnTo>
                        <a:lnTo>
                          <a:pt x="1541" y="2183"/>
                        </a:lnTo>
                        <a:lnTo>
                          <a:pt x="1546" y="2183"/>
                        </a:lnTo>
                        <a:lnTo>
                          <a:pt x="1546" y="2178"/>
                        </a:lnTo>
                        <a:lnTo>
                          <a:pt x="1546" y="2173"/>
                        </a:lnTo>
                        <a:lnTo>
                          <a:pt x="1550" y="2173"/>
                        </a:lnTo>
                        <a:lnTo>
                          <a:pt x="1553" y="2170"/>
                        </a:lnTo>
                        <a:lnTo>
                          <a:pt x="1561" y="2170"/>
                        </a:lnTo>
                        <a:lnTo>
                          <a:pt x="1564" y="2170"/>
                        </a:lnTo>
                        <a:lnTo>
                          <a:pt x="1569" y="2170"/>
                        </a:lnTo>
                        <a:lnTo>
                          <a:pt x="1573" y="2173"/>
                        </a:lnTo>
                        <a:lnTo>
                          <a:pt x="1573" y="2178"/>
                        </a:lnTo>
                        <a:lnTo>
                          <a:pt x="1576" y="2178"/>
                        </a:lnTo>
                        <a:lnTo>
                          <a:pt x="1576" y="2183"/>
                        </a:lnTo>
                        <a:lnTo>
                          <a:pt x="1580" y="2183"/>
                        </a:lnTo>
                        <a:lnTo>
                          <a:pt x="1580" y="2178"/>
                        </a:lnTo>
                        <a:lnTo>
                          <a:pt x="1583" y="2178"/>
                        </a:lnTo>
                        <a:lnTo>
                          <a:pt x="1588" y="2173"/>
                        </a:lnTo>
                        <a:lnTo>
                          <a:pt x="1592" y="2170"/>
                        </a:lnTo>
                        <a:lnTo>
                          <a:pt x="1595" y="2170"/>
                        </a:lnTo>
                        <a:lnTo>
                          <a:pt x="1599" y="2170"/>
                        </a:lnTo>
                        <a:lnTo>
                          <a:pt x="1603" y="2173"/>
                        </a:lnTo>
                        <a:lnTo>
                          <a:pt x="1609" y="2173"/>
                        </a:lnTo>
                        <a:lnTo>
                          <a:pt x="1612" y="2178"/>
                        </a:lnTo>
                        <a:lnTo>
                          <a:pt x="1617" y="2173"/>
                        </a:lnTo>
                        <a:lnTo>
                          <a:pt x="1621" y="2173"/>
                        </a:lnTo>
                        <a:lnTo>
                          <a:pt x="1621" y="2170"/>
                        </a:lnTo>
                        <a:lnTo>
                          <a:pt x="1628" y="2165"/>
                        </a:lnTo>
                        <a:lnTo>
                          <a:pt x="1628" y="2160"/>
                        </a:lnTo>
                        <a:lnTo>
                          <a:pt x="1632" y="2160"/>
                        </a:lnTo>
                        <a:lnTo>
                          <a:pt x="1632" y="2157"/>
                        </a:lnTo>
                        <a:lnTo>
                          <a:pt x="1635" y="2157"/>
                        </a:lnTo>
                        <a:lnTo>
                          <a:pt x="1635" y="2152"/>
                        </a:lnTo>
                        <a:lnTo>
                          <a:pt x="1640" y="2152"/>
                        </a:lnTo>
                        <a:lnTo>
                          <a:pt x="1640" y="2147"/>
                        </a:lnTo>
                        <a:lnTo>
                          <a:pt x="1644" y="2147"/>
                        </a:lnTo>
                        <a:lnTo>
                          <a:pt x="1644" y="2143"/>
                        </a:lnTo>
                        <a:lnTo>
                          <a:pt x="1644" y="2138"/>
                        </a:lnTo>
                        <a:lnTo>
                          <a:pt x="1647" y="2134"/>
                        </a:lnTo>
                        <a:lnTo>
                          <a:pt x="1651" y="2134"/>
                        </a:lnTo>
                        <a:lnTo>
                          <a:pt x="1655" y="2134"/>
                        </a:lnTo>
                        <a:lnTo>
                          <a:pt x="1655" y="2129"/>
                        </a:lnTo>
                        <a:lnTo>
                          <a:pt x="1655" y="2134"/>
                        </a:lnTo>
                        <a:lnTo>
                          <a:pt x="1659" y="2134"/>
                        </a:lnTo>
                        <a:lnTo>
                          <a:pt x="1659" y="2129"/>
                        </a:lnTo>
                        <a:lnTo>
                          <a:pt x="1663" y="2129"/>
                        </a:lnTo>
                        <a:lnTo>
                          <a:pt x="1667" y="2129"/>
                        </a:lnTo>
                        <a:lnTo>
                          <a:pt x="1670" y="2129"/>
                        </a:lnTo>
                        <a:lnTo>
                          <a:pt x="1679" y="2129"/>
                        </a:lnTo>
                        <a:lnTo>
                          <a:pt x="1682" y="2129"/>
                        </a:lnTo>
                        <a:lnTo>
                          <a:pt x="1682" y="2123"/>
                        </a:lnTo>
                        <a:lnTo>
                          <a:pt x="1686" y="2123"/>
                        </a:lnTo>
                        <a:lnTo>
                          <a:pt x="1690" y="2118"/>
                        </a:lnTo>
                        <a:lnTo>
                          <a:pt x="1690" y="2114"/>
                        </a:lnTo>
                        <a:lnTo>
                          <a:pt x="1693" y="2109"/>
                        </a:lnTo>
                        <a:lnTo>
                          <a:pt x="1693" y="2105"/>
                        </a:lnTo>
                        <a:lnTo>
                          <a:pt x="1682" y="2087"/>
                        </a:lnTo>
                        <a:lnTo>
                          <a:pt x="1682" y="2083"/>
                        </a:lnTo>
                        <a:lnTo>
                          <a:pt x="1682" y="2070"/>
                        </a:lnTo>
                        <a:lnTo>
                          <a:pt x="1682" y="2065"/>
                        </a:lnTo>
                        <a:lnTo>
                          <a:pt x="1682" y="2060"/>
                        </a:lnTo>
                        <a:lnTo>
                          <a:pt x="1682" y="2052"/>
                        </a:lnTo>
                        <a:lnTo>
                          <a:pt x="1682" y="2044"/>
                        </a:lnTo>
                        <a:lnTo>
                          <a:pt x="1690" y="2036"/>
                        </a:lnTo>
                        <a:lnTo>
                          <a:pt x="1690" y="2031"/>
                        </a:lnTo>
                        <a:lnTo>
                          <a:pt x="1690" y="2028"/>
                        </a:lnTo>
                        <a:lnTo>
                          <a:pt x="1693" y="2018"/>
                        </a:lnTo>
                        <a:lnTo>
                          <a:pt x="1693" y="2014"/>
                        </a:lnTo>
                        <a:lnTo>
                          <a:pt x="1693" y="2009"/>
                        </a:lnTo>
                        <a:lnTo>
                          <a:pt x="1693" y="2005"/>
                        </a:lnTo>
                        <a:lnTo>
                          <a:pt x="1699" y="2005"/>
                        </a:lnTo>
                        <a:lnTo>
                          <a:pt x="1703" y="1996"/>
                        </a:lnTo>
                        <a:lnTo>
                          <a:pt x="1706" y="1991"/>
                        </a:lnTo>
                        <a:lnTo>
                          <a:pt x="1711" y="1983"/>
                        </a:lnTo>
                        <a:lnTo>
                          <a:pt x="1715" y="1978"/>
                        </a:lnTo>
                        <a:lnTo>
                          <a:pt x="1715" y="1973"/>
                        </a:lnTo>
                        <a:lnTo>
                          <a:pt x="1718" y="1967"/>
                        </a:lnTo>
                        <a:lnTo>
                          <a:pt x="1718" y="1962"/>
                        </a:lnTo>
                        <a:lnTo>
                          <a:pt x="1718" y="1927"/>
                        </a:lnTo>
                        <a:lnTo>
                          <a:pt x="1718" y="1923"/>
                        </a:lnTo>
                        <a:lnTo>
                          <a:pt x="1718" y="1918"/>
                        </a:lnTo>
                        <a:lnTo>
                          <a:pt x="1718" y="1914"/>
                        </a:lnTo>
                        <a:lnTo>
                          <a:pt x="1722" y="1909"/>
                        </a:lnTo>
                        <a:lnTo>
                          <a:pt x="1722" y="1905"/>
                        </a:lnTo>
                        <a:lnTo>
                          <a:pt x="1718" y="1901"/>
                        </a:lnTo>
                        <a:lnTo>
                          <a:pt x="1718" y="1872"/>
                        </a:lnTo>
                        <a:lnTo>
                          <a:pt x="1715" y="1867"/>
                        </a:lnTo>
                        <a:lnTo>
                          <a:pt x="1711" y="1854"/>
                        </a:lnTo>
                        <a:lnTo>
                          <a:pt x="1711" y="1849"/>
                        </a:lnTo>
                        <a:lnTo>
                          <a:pt x="1711" y="1844"/>
                        </a:lnTo>
                        <a:lnTo>
                          <a:pt x="1699" y="1785"/>
                        </a:lnTo>
                        <a:lnTo>
                          <a:pt x="1693" y="1785"/>
                        </a:lnTo>
                        <a:lnTo>
                          <a:pt x="1693" y="1776"/>
                        </a:lnTo>
                        <a:lnTo>
                          <a:pt x="1682" y="1762"/>
                        </a:lnTo>
                        <a:lnTo>
                          <a:pt x="1682" y="1759"/>
                        </a:lnTo>
                        <a:lnTo>
                          <a:pt x="1663" y="1733"/>
                        </a:lnTo>
                        <a:lnTo>
                          <a:pt x="1663" y="1730"/>
                        </a:lnTo>
                        <a:lnTo>
                          <a:pt x="1647" y="1707"/>
                        </a:lnTo>
                        <a:lnTo>
                          <a:pt x="1647" y="1703"/>
                        </a:lnTo>
                        <a:lnTo>
                          <a:pt x="1644" y="1698"/>
                        </a:lnTo>
                        <a:lnTo>
                          <a:pt x="1640" y="1694"/>
                        </a:lnTo>
                        <a:lnTo>
                          <a:pt x="1640" y="1689"/>
                        </a:lnTo>
                        <a:lnTo>
                          <a:pt x="1628" y="1675"/>
                        </a:lnTo>
                        <a:lnTo>
                          <a:pt x="1632" y="1672"/>
                        </a:lnTo>
                        <a:lnTo>
                          <a:pt x="1635" y="1672"/>
                        </a:lnTo>
                        <a:lnTo>
                          <a:pt x="1635" y="1667"/>
                        </a:lnTo>
                        <a:lnTo>
                          <a:pt x="1640" y="1667"/>
                        </a:lnTo>
                        <a:lnTo>
                          <a:pt x="1644" y="1667"/>
                        </a:lnTo>
                        <a:lnTo>
                          <a:pt x="1647" y="1667"/>
                        </a:lnTo>
                        <a:lnTo>
                          <a:pt x="1647" y="1660"/>
                        </a:lnTo>
                        <a:lnTo>
                          <a:pt x="1651" y="1660"/>
                        </a:lnTo>
                        <a:lnTo>
                          <a:pt x="1651" y="1656"/>
                        </a:lnTo>
                        <a:lnTo>
                          <a:pt x="1655" y="1656"/>
                        </a:lnTo>
                        <a:lnTo>
                          <a:pt x="1655" y="1651"/>
                        </a:lnTo>
                        <a:lnTo>
                          <a:pt x="1659" y="1651"/>
                        </a:lnTo>
                        <a:lnTo>
                          <a:pt x="1663" y="1656"/>
                        </a:lnTo>
                        <a:lnTo>
                          <a:pt x="1667" y="1651"/>
                        </a:lnTo>
                        <a:lnTo>
                          <a:pt x="1667" y="1647"/>
                        </a:lnTo>
                        <a:lnTo>
                          <a:pt x="1667" y="1643"/>
                        </a:lnTo>
                        <a:lnTo>
                          <a:pt x="1667" y="1638"/>
                        </a:lnTo>
                        <a:lnTo>
                          <a:pt x="1667" y="1633"/>
                        </a:lnTo>
                        <a:lnTo>
                          <a:pt x="1663" y="1633"/>
                        </a:lnTo>
                        <a:lnTo>
                          <a:pt x="1663" y="1630"/>
                        </a:lnTo>
                        <a:lnTo>
                          <a:pt x="1667" y="1630"/>
                        </a:lnTo>
                        <a:lnTo>
                          <a:pt x="1667" y="1625"/>
                        </a:lnTo>
                        <a:lnTo>
                          <a:pt x="1670" y="1625"/>
                        </a:lnTo>
                        <a:lnTo>
                          <a:pt x="1670" y="1620"/>
                        </a:lnTo>
                        <a:lnTo>
                          <a:pt x="1674" y="1620"/>
                        </a:lnTo>
                        <a:lnTo>
                          <a:pt x="1682" y="1620"/>
                        </a:lnTo>
                        <a:lnTo>
                          <a:pt x="1682" y="1616"/>
                        </a:lnTo>
                        <a:lnTo>
                          <a:pt x="1686" y="1616"/>
                        </a:lnTo>
                        <a:lnTo>
                          <a:pt x="1690" y="1616"/>
                        </a:lnTo>
                        <a:lnTo>
                          <a:pt x="1693" y="1612"/>
                        </a:lnTo>
                        <a:lnTo>
                          <a:pt x="1693" y="1607"/>
                        </a:lnTo>
                        <a:lnTo>
                          <a:pt x="1703" y="1607"/>
                        </a:lnTo>
                        <a:lnTo>
                          <a:pt x="1706" y="1603"/>
                        </a:lnTo>
                        <a:lnTo>
                          <a:pt x="1711" y="1607"/>
                        </a:lnTo>
                        <a:lnTo>
                          <a:pt x="1715" y="1603"/>
                        </a:lnTo>
                        <a:lnTo>
                          <a:pt x="1718" y="1603"/>
                        </a:lnTo>
                        <a:lnTo>
                          <a:pt x="1718" y="1598"/>
                        </a:lnTo>
                        <a:lnTo>
                          <a:pt x="1722" y="1598"/>
                        </a:lnTo>
                        <a:lnTo>
                          <a:pt x="1726" y="1598"/>
                        </a:lnTo>
                        <a:lnTo>
                          <a:pt x="1731" y="1598"/>
                        </a:lnTo>
                        <a:lnTo>
                          <a:pt x="1734" y="1593"/>
                        </a:lnTo>
                        <a:lnTo>
                          <a:pt x="1738" y="1589"/>
                        </a:lnTo>
                        <a:lnTo>
                          <a:pt x="1738" y="1583"/>
                        </a:lnTo>
                        <a:lnTo>
                          <a:pt x="1738" y="1578"/>
                        </a:lnTo>
                        <a:lnTo>
                          <a:pt x="1741" y="1578"/>
                        </a:lnTo>
                        <a:lnTo>
                          <a:pt x="1745" y="1578"/>
                        </a:lnTo>
                        <a:lnTo>
                          <a:pt x="1750" y="1574"/>
                        </a:lnTo>
                        <a:lnTo>
                          <a:pt x="1750" y="1569"/>
                        </a:lnTo>
                        <a:lnTo>
                          <a:pt x="1757" y="1569"/>
                        </a:lnTo>
                        <a:lnTo>
                          <a:pt x="1761" y="1569"/>
                        </a:lnTo>
                        <a:lnTo>
                          <a:pt x="1764" y="1569"/>
                        </a:lnTo>
                        <a:lnTo>
                          <a:pt x="1764" y="1565"/>
                        </a:lnTo>
                        <a:lnTo>
                          <a:pt x="1764" y="1561"/>
                        </a:lnTo>
                        <a:lnTo>
                          <a:pt x="1764" y="1556"/>
                        </a:lnTo>
                        <a:lnTo>
                          <a:pt x="1768" y="1556"/>
                        </a:lnTo>
                        <a:lnTo>
                          <a:pt x="1773" y="1556"/>
                        </a:lnTo>
                        <a:lnTo>
                          <a:pt x="1773" y="1551"/>
                        </a:lnTo>
                        <a:lnTo>
                          <a:pt x="1776" y="1551"/>
                        </a:lnTo>
                        <a:lnTo>
                          <a:pt x="1776" y="1546"/>
                        </a:lnTo>
                        <a:lnTo>
                          <a:pt x="1776" y="1543"/>
                        </a:lnTo>
                        <a:lnTo>
                          <a:pt x="1780" y="1543"/>
                        </a:lnTo>
                        <a:lnTo>
                          <a:pt x="1784" y="1543"/>
                        </a:lnTo>
                        <a:lnTo>
                          <a:pt x="1790" y="1543"/>
                        </a:lnTo>
                        <a:lnTo>
                          <a:pt x="1793" y="1543"/>
                        </a:lnTo>
                        <a:lnTo>
                          <a:pt x="1797" y="1543"/>
                        </a:lnTo>
                        <a:lnTo>
                          <a:pt x="1802" y="1543"/>
                        </a:lnTo>
                        <a:lnTo>
                          <a:pt x="1802" y="1546"/>
                        </a:lnTo>
                        <a:lnTo>
                          <a:pt x="1805" y="1546"/>
                        </a:lnTo>
                        <a:lnTo>
                          <a:pt x="1805" y="1551"/>
                        </a:lnTo>
                        <a:lnTo>
                          <a:pt x="1805" y="1546"/>
                        </a:lnTo>
                        <a:lnTo>
                          <a:pt x="1809" y="1546"/>
                        </a:lnTo>
                        <a:lnTo>
                          <a:pt x="1813" y="1546"/>
                        </a:lnTo>
                        <a:lnTo>
                          <a:pt x="1813" y="1543"/>
                        </a:lnTo>
                        <a:lnTo>
                          <a:pt x="1816" y="1543"/>
                        </a:lnTo>
                        <a:lnTo>
                          <a:pt x="1820" y="1543"/>
                        </a:lnTo>
                        <a:lnTo>
                          <a:pt x="1825" y="1543"/>
                        </a:lnTo>
                        <a:lnTo>
                          <a:pt x="1825" y="1538"/>
                        </a:lnTo>
                        <a:lnTo>
                          <a:pt x="1828" y="1538"/>
                        </a:lnTo>
                        <a:lnTo>
                          <a:pt x="1832" y="1543"/>
                        </a:lnTo>
                        <a:lnTo>
                          <a:pt x="1832" y="1538"/>
                        </a:lnTo>
                        <a:lnTo>
                          <a:pt x="1835" y="1538"/>
                        </a:lnTo>
                        <a:lnTo>
                          <a:pt x="1835" y="1533"/>
                        </a:lnTo>
                        <a:lnTo>
                          <a:pt x="1839" y="1533"/>
                        </a:lnTo>
                        <a:lnTo>
                          <a:pt x="1839" y="1530"/>
                        </a:lnTo>
                        <a:lnTo>
                          <a:pt x="1844" y="1530"/>
                        </a:lnTo>
                        <a:lnTo>
                          <a:pt x="1847" y="1525"/>
                        </a:lnTo>
                        <a:lnTo>
                          <a:pt x="1851" y="1525"/>
                        </a:lnTo>
                        <a:lnTo>
                          <a:pt x="1855" y="1520"/>
                        </a:lnTo>
                        <a:lnTo>
                          <a:pt x="1858" y="1520"/>
                        </a:lnTo>
                        <a:lnTo>
                          <a:pt x="1863" y="1520"/>
                        </a:lnTo>
                        <a:lnTo>
                          <a:pt x="1863" y="1516"/>
                        </a:lnTo>
                        <a:lnTo>
                          <a:pt x="1867" y="1516"/>
                        </a:lnTo>
                        <a:lnTo>
                          <a:pt x="1870" y="1516"/>
                        </a:lnTo>
                        <a:lnTo>
                          <a:pt x="1870" y="1511"/>
                        </a:lnTo>
                        <a:lnTo>
                          <a:pt x="1870" y="1504"/>
                        </a:lnTo>
                        <a:lnTo>
                          <a:pt x="1876" y="1504"/>
                        </a:lnTo>
                        <a:lnTo>
                          <a:pt x="1887" y="1501"/>
                        </a:lnTo>
                        <a:lnTo>
                          <a:pt x="1887" y="1496"/>
                        </a:lnTo>
                        <a:lnTo>
                          <a:pt x="1891" y="1496"/>
                        </a:lnTo>
                        <a:lnTo>
                          <a:pt x="1896" y="1496"/>
                        </a:lnTo>
                        <a:lnTo>
                          <a:pt x="1899" y="1491"/>
                        </a:lnTo>
                        <a:lnTo>
                          <a:pt x="1903" y="1491"/>
                        </a:lnTo>
                        <a:lnTo>
                          <a:pt x="1907" y="1491"/>
                        </a:lnTo>
                        <a:lnTo>
                          <a:pt x="1907" y="1496"/>
                        </a:lnTo>
                        <a:lnTo>
                          <a:pt x="1910" y="1496"/>
                        </a:lnTo>
                        <a:lnTo>
                          <a:pt x="1915" y="1496"/>
                        </a:lnTo>
                        <a:lnTo>
                          <a:pt x="1915" y="1491"/>
                        </a:lnTo>
                        <a:lnTo>
                          <a:pt x="1910" y="1491"/>
                        </a:lnTo>
                        <a:lnTo>
                          <a:pt x="1907" y="1487"/>
                        </a:lnTo>
                        <a:lnTo>
                          <a:pt x="1910" y="1483"/>
                        </a:lnTo>
                        <a:lnTo>
                          <a:pt x="1915" y="1478"/>
                        </a:lnTo>
                        <a:lnTo>
                          <a:pt x="1919" y="1478"/>
                        </a:lnTo>
                        <a:lnTo>
                          <a:pt x="1919" y="1483"/>
                        </a:lnTo>
                        <a:lnTo>
                          <a:pt x="1922" y="1483"/>
                        </a:lnTo>
                        <a:lnTo>
                          <a:pt x="1926" y="1491"/>
                        </a:lnTo>
                        <a:lnTo>
                          <a:pt x="1926" y="1496"/>
                        </a:lnTo>
                        <a:lnTo>
                          <a:pt x="1929" y="1496"/>
                        </a:lnTo>
                        <a:lnTo>
                          <a:pt x="1938" y="1496"/>
                        </a:lnTo>
                        <a:lnTo>
                          <a:pt x="1942" y="1496"/>
                        </a:lnTo>
                        <a:lnTo>
                          <a:pt x="1945" y="1496"/>
                        </a:lnTo>
                        <a:lnTo>
                          <a:pt x="1949" y="1496"/>
                        </a:lnTo>
                        <a:lnTo>
                          <a:pt x="1952" y="1496"/>
                        </a:lnTo>
                        <a:lnTo>
                          <a:pt x="1957" y="1496"/>
                        </a:lnTo>
                        <a:lnTo>
                          <a:pt x="1957" y="1501"/>
                        </a:lnTo>
                        <a:lnTo>
                          <a:pt x="1961" y="1501"/>
                        </a:lnTo>
                        <a:lnTo>
                          <a:pt x="1967" y="1501"/>
                        </a:lnTo>
                        <a:lnTo>
                          <a:pt x="1970" y="1504"/>
                        </a:lnTo>
                        <a:lnTo>
                          <a:pt x="1970" y="1511"/>
                        </a:lnTo>
                        <a:lnTo>
                          <a:pt x="1970" y="1516"/>
                        </a:lnTo>
                        <a:lnTo>
                          <a:pt x="1974" y="1520"/>
                        </a:lnTo>
                        <a:lnTo>
                          <a:pt x="1978" y="1520"/>
                        </a:lnTo>
                        <a:lnTo>
                          <a:pt x="1981" y="1520"/>
                        </a:lnTo>
                        <a:lnTo>
                          <a:pt x="1986" y="1520"/>
                        </a:lnTo>
                        <a:lnTo>
                          <a:pt x="1990" y="1520"/>
                        </a:lnTo>
                        <a:lnTo>
                          <a:pt x="1993" y="1520"/>
                        </a:lnTo>
                        <a:lnTo>
                          <a:pt x="2001" y="1516"/>
                        </a:lnTo>
                        <a:lnTo>
                          <a:pt x="2004" y="1516"/>
                        </a:lnTo>
                        <a:lnTo>
                          <a:pt x="2009" y="1520"/>
                        </a:lnTo>
                        <a:lnTo>
                          <a:pt x="2016" y="1520"/>
                        </a:lnTo>
                        <a:lnTo>
                          <a:pt x="2020" y="1520"/>
                        </a:lnTo>
                        <a:lnTo>
                          <a:pt x="2024" y="1520"/>
                        </a:lnTo>
                        <a:lnTo>
                          <a:pt x="2024" y="1516"/>
                        </a:lnTo>
                        <a:lnTo>
                          <a:pt x="2032" y="1516"/>
                        </a:lnTo>
                        <a:lnTo>
                          <a:pt x="2036" y="1516"/>
                        </a:lnTo>
                        <a:lnTo>
                          <a:pt x="2036" y="1511"/>
                        </a:lnTo>
                        <a:lnTo>
                          <a:pt x="2039" y="1511"/>
                        </a:lnTo>
                        <a:lnTo>
                          <a:pt x="2043" y="1511"/>
                        </a:lnTo>
                        <a:lnTo>
                          <a:pt x="2048" y="1511"/>
                        </a:lnTo>
                        <a:lnTo>
                          <a:pt x="2051" y="1511"/>
                        </a:lnTo>
                        <a:lnTo>
                          <a:pt x="2057" y="1511"/>
                        </a:lnTo>
                        <a:lnTo>
                          <a:pt x="2057" y="1516"/>
                        </a:lnTo>
                        <a:lnTo>
                          <a:pt x="2061" y="1516"/>
                        </a:lnTo>
                        <a:lnTo>
                          <a:pt x="2065" y="1516"/>
                        </a:lnTo>
                        <a:lnTo>
                          <a:pt x="2065" y="1511"/>
                        </a:lnTo>
                        <a:lnTo>
                          <a:pt x="2065" y="1516"/>
                        </a:lnTo>
                        <a:lnTo>
                          <a:pt x="2068" y="1516"/>
                        </a:lnTo>
                        <a:lnTo>
                          <a:pt x="2072" y="1516"/>
                        </a:lnTo>
                        <a:lnTo>
                          <a:pt x="2075" y="1516"/>
                        </a:lnTo>
                        <a:lnTo>
                          <a:pt x="2080" y="1516"/>
                        </a:lnTo>
                        <a:lnTo>
                          <a:pt x="2084" y="1516"/>
                        </a:lnTo>
                        <a:lnTo>
                          <a:pt x="2084" y="1511"/>
                        </a:lnTo>
                        <a:lnTo>
                          <a:pt x="2087" y="1511"/>
                        </a:lnTo>
                        <a:lnTo>
                          <a:pt x="2091" y="1511"/>
                        </a:lnTo>
                        <a:lnTo>
                          <a:pt x="2095" y="1511"/>
                        </a:lnTo>
                        <a:lnTo>
                          <a:pt x="2103" y="1504"/>
                        </a:lnTo>
                        <a:lnTo>
                          <a:pt x="2107" y="1504"/>
                        </a:lnTo>
                        <a:lnTo>
                          <a:pt x="2107" y="1501"/>
                        </a:lnTo>
                        <a:lnTo>
                          <a:pt x="2110" y="1501"/>
                        </a:lnTo>
                        <a:lnTo>
                          <a:pt x="2110" y="1496"/>
                        </a:lnTo>
                        <a:lnTo>
                          <a:pt x="2114" y="1496"/>
                        </a:lnTo>
                        <a:lnTo>
                          <a:pt x="2114" y="1491"/>
                        </a:lnTo>
                        <a:lnTo>
                          <a:pt x="2122" y="1487"/>
                        </a:lnTo>
                        <a:lnTo>
                          <a:pt x="2126" y="1491"/>
                        </a:lnTo>
                        <a:lnTo>
                          <a:pt x="2126" y="1487"/>
                        </a:lnTo>
                        <a:lnTo>
                          <a:pt x="2130" y="1487"/>
                        </a:lnTo>
                        <a:lnTo>
                          <a:pt x="2133" y="1487"/>
                        </a:lnTo>
                        <a:lnTo>
                          <a:pt x="2137" y="1487"/>
                        </a:lnTo>
                        <a:lnTo>
                          <a:pt x="2143" y="1483"/>
                        </a:lnTo>
                        <a:lnTo>
                          <a:pt x="2147" y="1483"/>
                        </a:lnTo>
                        <a:lnTo>
                          <a:pt x="2151" y="1483"/>
                        </a:lnTo>
                        <a:lnTo>
                          <a:pt x="2155" y="1483"/>
                        </a:lnTo>
                        <a:lnTo>
                          <a:pt x="2159" y="1478"/>
                        </a:lnTo>
                        <a:lnTo>
                          <a:pt x="2162" y="1478"/>
                        </a:lnTo>
                        <a:lnTo>
                          <a:pt x="2166" y="1474"/>
                        </a:lnTo>
                        <a:lnTo>
                          <a:pt x="2171" y="1469"/>
                        </a:lnTo>
                        <a:lnTo>
                          <a:pt x="2178" y="1464"/>
                        </a:lnTo>
                        <a:lnTo>
                          <a:pt x="2181" y="1464"/>
                        </a:lnTo>
                        <a:lnTo>
                          <a:pt x="2185" y="1464"/>
                        </a:lnTo>
                        <a:lnTo>
                          <a:pt x="2190" y="1461"/>
                        </a:lnTo>
                        <a:lnTo>
                          <a:pt x="2194" y="1461"/>
                        </a:lnTo>
                        <a:lnTo>
                          <a:pt x="2194" y="1456"/>
                        </a:lnTo>
                        <a:lnTo>
                          <a:pt x="2194" y="1446"/>
                        </a:lnTo>
                        <a:lnTo>
                          <a:pt x="2194" y="1443"/>
                        </a:lnTo>
                        <a:lnTo>
                          <a:pt x="2197" y="1443"/>
                        </a:lnTo>
                        <a:lnTo>
                          <a:pt x="2201" y="1438"/>
                        </a:lnTo>
                        <a:lnTo>
                          <a:pt x="2201" y="1433"/>
                        </a:lnTo>
                        <a:lnTo>
                          <a:pt x="2204" y="1433"/>
                        </a:lnTo>
                        <a:lnTo>
                          <a:pt x="2208" y="1427"/>
                        </a:lnTo>
                        <a:lnTo>
                          <a:pt x="2213" y="1427"/>
                        </a:lnTo>
                        <a:lnTo>
                          <a:pt x="2216" y="1427"/>
                        </a:lnTo>
                        <a:lnTo>
                          <a:pt x="2220" y="1427"/>
                        </a:lnTo>
                        <a:lnTo>
                          <a:pt x="2224" y="1427"/>
                        </a:lnTo>
                        <a:lnTo>
                          <a:pt x="2224" y="1422"/>
                        </a:lnTo>
                        <a:lnTo>
                          <a:pt x="2224" y="1419"/>
                        </a:lnTo>
                        <a:lnTo>
                          <a:pt x="2224" y="1414"/>
                        </a:lnTo>
                        <a:lnTo>
                          <a:pt x="2227" y="1414"/>
                        </a:lnTo>
                        <a:lnTo>
                          <a:pt x="2227" y="1409"/>
                        </a:lnTo>
                        <a:lnTo>
                          <a:pt x="2233" y="1409"/>
                        </a:lnTo>
                        <a:lnTo>
                          <a:pt x="2233" y="1404"/>
                        </a:lnTo>
                        <a:lnTo>
                          <a:pt x="2233" y="1401"/>
                        </a:lnTo>
                        <a:lnTo>
                          <a:pt x="2233" y="1396"/>
                        </a:lnTo>
                        <a:lnTo>
                          <a:pt x="2237" y="1396"/>
                        </a:lnTo>
                        <a:lnTo>
                          <a:pt x="2242" y="1391"/>
                        </a:lnTo>
                        <a:lnTo>
                          <a:pt x="2245" y="1391"/>
                        </a:lnTo>
                        <a:lnTo>
                          <a:pt x="2245" y="1387"/>
                        </a:lnTo>
                        <a:lnTo>
                          <a:pt x="2242" y="1387"/>
                        </a:lnTo>
                        <a:lnTo>
                          <a:pt x="2242" y="1382"/>
                        </a:lnTo>
                        <a:lnTo>
                          <a:pt x="2242" y="1378"/>
                        </a:lnTo>
                        <a:lnTo>
                          <a:pt x="2242" y="1374"/>
                        </a:lnTo>
                        <a:lnTo>
                          <a:pt x="2245" y="1369"/>
                        </a:lnTo>
                        <a:lnTo>
                          <a:pt x="2249" y="1369"/>
                        </a:lnTo>
                        <a:lnTo>
                          <a:pt x="2253" y="1364"/>
                        </a:lnTo>
                        <a:lnTo>
                          <a:pt x="2256" y="1364"/>
                        </a:lnTo>
                        <a:lnTo>
                          <a:pt x="2260" y="1364"/>
                        </a:lnTo>
                        <a:lnTo>
                          <a:pt x="2265" y="1364"/>
                        </a:lnTo>
                        <a:lnTo>
                          <a:pt x="2268" y="1364"/>
                        </a:lnTo>
                        <a:lnTo>
                          <a:pt x="2268" y="1361"/>
                        </a:lnTo>
                        <a:lnTo>
                          <a:pt x="2272" y="1361"/>
                        </a:lnTo>
                        <a:lnTo>
                          <a:pt x="2276" y="1361"/>
                        </a:lnTo>
                        <a:lnTo>
                          <a:pt x="2279" y="1356"/>
                        </a:lnTo>
                        <a:lnTo>
                          <a:pt x="2284" y="1356"/>
                        </a:lnTo>
                        <a:lnTo>
                          <a:pt x="2288" y="1356"/>
                        </a:lnTo>
                        <a:lnTo>
                          <a:pt x="2291" y="1356"/>
                        </a:lnTo>
                        <a:lnTo>
                          <a:pt x="2295" y="1356"/>
                        </a:lnTo>
                        <a:lnTo>
                          <a:pt x="2295" y="1349"/>
                        </a:lnTo>
                        <a:lnTo>
                          <a:pt x="2298" y="1349"/>
                        </a:lnTo>
                        <a:lnTo>
                          <a:pt x="2298" y="1345"/>
                        </a:lnTo>
                        <a:lnTo>
                          <a:pt x="2303" y="1345"/>
                        </a:lnTo>
                        <a:lnTo>
                          <a:pt x="2307" y="1345"/>
                        </a:lnTo>
                        <a:lnTo>
                          <a:pt x="2311" y="1345"/>
                        </a:lnTo>
                        <a:lnTo>
                          <a:pt x="2311" y="1340"/>
                        </a:lnTo>
                        <a:lnTo>
                          <a:pt x="2314" y="1340"/>
                        </a:lnTo>
                        <a:lnTo>
                          <a:pt x="2318" y="1340"/>
                        </a:lnTo>
                        <a:lnTo>
                          <a:pt x="2324" y="1340"/>
                        </a:lnTo>
                        <a:lnTo>
                          <a:pt x="2324" y="1335"/>
                        </a:lnTo>
                        <a:lnTo>
                          <a:pt x="2327" y="1335"/>
                        </a:lnTo>
                        <a:lnTo>
                          <a:pt x="2331" y="1335"/>
                        </a:lnTo>
                        <a:lnTo>
                          <a:pt x="2336" y="1332"/>
                        </a:lnTo>
                        <a:lnTo>
                          <a:pt x="2339" y="1332"/>
                        </a:lnTo>
                        <a:lnTo>
                          <a:pt x="2343" y="1332"/>
                        </a:lnTo>
                        <a:lnTo>
                          <a:pt x="2347" y="1332"/>
                        </a:lnTo>
                        <a:lnTo>
                          <a:pt x="2347" y="1327"/>
                        </a:lnTo>
                        <a:lnTo>
                          <a:pt x="2350" y="1327"/>
                        </a:lnTo>
                        <a:lnTo>
                          <a:pt x="2350" y="1322"/>
                        </a:lnTo>
                        <a:lnTo>
                          <a:pt x="2355" y="1322"/>
                        </a:lnTo>
                        <a:lnTo>
                          <a:pt x="2359" y="1322"/>
                        </a:lnTo>
                        <a:lnTo>
                          <a:pt x="2359" y="1319"/>
                        </a:lnTo>
                        <a:lnTo>
                          <a:pt x="2362" y="1319"/>
                        </a:lnTo>
                        <a:lnTo>
                          <a:pt x="2366" y="1314"/>
                        </a:lnTo>
                        <a:lnTo>
                          <a:pt x="2370" y="1314"/>
                        </a:lnTo>
                        <a:lnTo>
                          <a:pt x="2370" y="1309"/>
                        </a:lnTo>
                        <a:lnTo>
                          <a:pt x="2374" y="1309"/>
                        </a:lnTo>
                        <a:lnTo>
                          <a:pt x="2374" y="1305"/>
                        </a:lnTo>
                        <a:lnTo>
                          <a:pt x="2378" y="1305"/>
                        </a:lnTo>
                        <a:lnTo>
                          <a:pt x="2382" y="1305"/>
                        </a:lnTo>
                        <a:lnTo>
                          <a:pt x="2385" y="1305"/>
                        </a:lnTo>
                        <a:lnTo>
                          <a:pt x="2389" y="1305"/>
                        </a:lnTo>
                        <a:lnTo>
                          <a:pt x="2389" y="1309"/>
                        </a:lnTo>
                        <a:lnTo>
                          <a:pt x="2389" y="1305"/>
                        </a:lnTo>
                        <a:lnTo>
                          <a:pt x="2397" y="1305"/>
                        </a:lnTo>
                        <a:lnTo>
                          <a:pt x="2401" y="1305"/>
                        </a:lnTo>
                        <a:lnTo>
                          <a:pt x="2405" y="1305"/>
                        </a:lnTo>
                        <a:lnTo>
                          <a:pt x="2411" y="1305"/>
                        </a:lnTo>
                        <a:lnTo>
                          <a:pt x="2414" y="1305"/>
                        </a:lnTo>
                        <a:lnTo>
                          <a:pt x="2418" y="1305"/>
                        </a:lnTo>
                        <a:lnTo>
                          <a:pt x="2421" y="1305"/>
                        </a:lnTo>
                        <a:lnTo>
                          <a:pt x="2421" y="1300"/>
                        </a:lnTo>
                        <a:lnTo>
                          <a:pt x="2421" y="1291"/>
                        </a:lnTo>
                        <a:lnTo>
                          <a:pt x="2421" y="1287"/>
                        </a:lnTo>
                        <a:lnTo>
                          <a:pt x="2426" y="1282"/>
                        </a:lnTo>
                        <a:lnTo>
                          <a:pt x="2430" y="1282"/>
                        </a:lnTo>
                        <a:lnTo>
                          <a:pt x="2430" y="1276"/>
                        </a:lnTo>
                        <a:lnTo>
                          <a:pt x="2434" y="1276"/>
                        </a:lnTo>
                        <a:lnTo>
                          <a:pt x="2434" y="1272"/>
                        </a:lnTo>
                        <a:lnTo>
                          <a:pt x="2434" y="1267"/>
                        </a:lnTo>
                        <a:lnTo>
                          <a:pt x="2437" y="1267"/>
                        </a:lnTo>
                        <a:lnTo>
                          <a:pt x="2437" y="1262"/>
                        </a:lnTo>
                        <a:lnTo>
                          <a:pt x="2441" y="1262"/>
                        </a:lnTo>
                        <a:lnTo>
                          <a:pt x="2444" y="1258"/>
                        </a:lnTo>
                        <a:lnTo>
                          <a:pt x="2449" y="1258"/>
                        </a:lnTo>
                        <a:lnTo>
                          <a:pt x="2449" y="1253"/>
                        </a:lnTo>
                        <a:lnTo>
                          <a:pt x="2453" y="1253"/>
                        </a:lnTo>
                        <a:lnTo>
                          <a:pt x="2456" y="1253"/>
                        </a:lnTo>
                        <a:lnTo>
                          <a:pt x="2456" y="1249"/>
                        </a:lnTo>
                        <a:lnTo>
                          <a:pt x="2460" y="1249"/>
                        </a:lnTo>
                        <a:lnTo>
                          <a:pt x="2464" y="1245"/>
                        </a:lnTo>
                        <a:lnTo>
                          <a:pt x="2468" y="1245"/>
                        </a:lnTo>
                        <a:lnTo>
                          <a:pt x="2472" y="1240"/>
                        </a:lnTo>
                        <a:lnTo>
                          <a:pt x="2476" y="1240"/>
                        </a:lnTo>
                        <a:lnTo>
                          <a:pt x="2476" y="1235"/>
                        </a:lnTo>
                        <a:lnTo>
                          <a:pt x="2476" y="1232"/>
                        </a:lnTo>
                        <a:lnTo>
                          <a:pt x="2476" y="1227"/>
                        </a:lnTo>
                        <a:lnTo>
                          <a:pt x="2479" y="1227"/>
                        </a:lnTo>
                        <a:lnTo>
                          <a:pt x="2483" y="1227"/>
                        </a:lnTo>
                        <a:lnTo>
                          <a:pt x="2488" y="1227"/>
                        </a:lnTo>
                        <a:lnTo>
                          <a:pt x="2491" y="1227"/>
                        </a:lnTo>
                        <a:lnTo>
                          <a:pt x="2495" y="1222"/>
                        </a:lnTo>
                        <a:lnTo>
                          <a:pt x="2495" y="1227"/>
                        </a:lnTo>
                        <a:lnTo>
                          <a:pt x="2501" y="1227"/>
                        </a:lnTo>
                        <a:lnTo>
                          <a:pt x="2501" y="1222"/>
                        </a:lnTo>
                        <a:lnTo>
                          <a:pt x="2505" y="1222"/>
                        </a:lnTo>
                        <a:lnTo>
                          <a:pt x="2505" y="1218"/>
                        </a:lnTo>
                        <a:lnTo>
                          <a:pt x="2508" y="1218"/>
                        </a:lnTo>
                        <a:lnTo>
                          <a:pt x="2512" y="1214"/>
                        </a:lnTo>
                        <a:lnTo>
                          <a:pt x="2516" y="1209"/>
                        </a:lnTo>
                        <a:lnTo>
                          <a:pt x="2520" y="1209"/>
                        </a:lnTo>
                        <a:lnTo>
                          <a:pt x="2520" y="1205"/>
                        </a:lnTo>
                        <a:lnTo>
                          <a:pt x="2524" y="1198"/>
                        </a:lnTo>
                        <a:lnTo>
                          <a:pt x="2524" y="1193"/>
                        </a:lnTo>
                        <a:lnTo>
                          <a:pt x="2528" y="1193"/>
                        </a:lnTo>
                        <a:lnTo>
                          <a:pt x="2531" y="1190"/>
                        </a:lnTo>
                        <a:lnTo>
                          <a:pt x="2531" y="1185"/>
                        </a:lnTo>
                        <a:lnTo>
                          <a:pt x="2535" y="1180"/>
                        </a:lnTo>
                        <a:lnTo>
                          <a:pt x="2540" y="1180"/>
                        </a:lnTo>
                        <a:lnTo>
                          <a:pt x="2540" y="1176"/>
                        </a:lnTo>
                        <a:lnTo>
                          <a:pt x="2543" y="1176"/>
                        </a:lnTo>
                        <a:lnTo>
                          <a:pt x="2543" y="1171"/>
                        </a:lnTo>
                        <a:lnTo>
                          <a:pt x="2547" y="1171"/>
                        </a:lnTo>
                        <a:lnTo>
                          <a:pt x="2550" y="1167"/>
                        </a:lnTo>
                        <a:lnTo>
                          <a:pt x="2554" y="1167"/>
                        </a:lnTo>
                        <a:lnTo>
                          <a:pt x="2559" y="1163"/>
                        </a:lnTo>
                        <a:lnTo>
                          <a:pt x="2566" y="1158"/>
                        </a:lnTo>
                        <a:lnTo>
                          <a:pt x="2566" y="1153"/>
                        </a:lnTo>
                        <a:lnTo>
                          <a:pt x="2570" y="1149"/>
                        </a:lnTo>
                        <a:lnTo>
                          <a:pt x="2573" y="1149"/>
                        </a:lnTo>
                        <a:lnTo>
                          <a:pt x="2573" y="1145"/>
                        </a:lnTo>
                        <a:lnTo>
                          <a:pt x="2577" y="1145"/>
                        </a:lnTo>
                        <a:lnTo>
                          <a:pt x="2577" y="1140"/>
                        </a:lnTo>
                        <a:lnTo>
                          <a:pt x="2582" y="1140"/>
                        </a:lnTo>
                        <a:lnTo>
                          <a:pt x="2585" y="1140"/>
                        </a:lnTo>
                        <a:lnTo>
                          <a:pt x="2591" y="1140"/>
                        </a:lnTo>
                        <a:lnTo>
                          <a:pt x="2591" y="1135"/>
                        </a:lnTo>
                        <a:lnTo>
                          <a:pt x="2595" y="1135"/>
                        </a:lnTo>
                        <a:lnTo>
                          <a:pt x="2599" y="1132"/>
                        </a:lnTo>
                        <a:lnTo>
                          <a:pt x="2599" y="1135"/>
                        </a:lnTo>
                        <a:lnTo>
                          <a:pt x="2599" y="1140"/>
                        </a:lnTo>
                        <a:lnTo>
                          <a:pt x="2602" y="1140"/>
                        </a:lnTo>
                        <a:lnTo>
                          <a:pt x="2606" y="1140"/>
                        </a:lnTo>
                        <a:lnTo>
                          <a:pt x="2606" y="1145"/>
                        </a:lnTo>
                        <a:lnTo>
                          <a:pt x="2606" y="1149"/>
                        </a:lnTo>
                        <a:lnTo>
                          <a:pt x="2606" y="1153"/>
                        </a:lnTo>
                        <a:lnTo>
                          <a:pt x="2606" y="1158"/>
                        </a:lnTo>
                        <a:lnTo>
                          <a:pt x="2611" y="1158"/>
                        </a:lnTo>
                        <a:lnTo>
                          <a:pt x="2611" y="1163"/>
                        </a:lnTo>
                        <a:lnTo>
                          <a:pt x="2614" y="1163"/>
                        </a:lnTo>
                        <a:lnTo>
                          <a:pt x="2618" y="1163"/>
                        </a:lnTo>
                        <a:lnTo>
                          <a:pt x="2622" y="1163"/>
                        </a:lnTo>
                        <a:lnTo>
                          <a:pt x="2625" y="1163"/>
                        </a:lnTo>
                        <a:lnTo>
                          <a:pt x="2625" y="1158"/>
                        </a:lnTo>
                        <a:lnTo>
                          <a:pt x="2630" y="1158"/>
                        </a:lnTo>
                        <a:lnTo>
                          <a:pt x="2630" y="1163"/>
                        </a:lnTo>
                        <a:lnTo>
                          <a:pt x="2634" y="1163"/>
                        </a:lnTo>
                        <a:lnTo>
                          <a:pt x="2630" y="1163"/>
                        </a:lnTo>
                        <a:lnTo>
                          <a:pt x="2625" y="1163"/>
                        </a:lnTo>
                        <a:lnTo>
                          <a:pt x="2625" y="1167"/>
                        </a:lnTo>
                        <a:lnTo>
                          <a:pt x="2625" y="1171"/>
                        </a:lnTo>
                        <a:lnTo>
                          <a:pt x="2630" y="1171"/>
                        </a:lnTo>
                        <a:lnTo>
                          <a:pt x="2634" y="1176"/>
                        </a:lnTo>
                        <a:lnTo>
                          <a:pt x="2634" y="1180"/>
                        </a:lnTo>
                        <a:lnTo>
                          <a:pt x="2634" y="1185"/>
                        </a:lnTo>
                        <a:lnTo>
                          <a:pt x="2634" y="1190"/>
                        </a:lnTo>
                        <a:lnTo>
                          <a:pt x="2637" y="1190"/>
                        </a:lnTo>
                        <a:lnTo>
                          <a:pt x="2641" y="1193"/>
                        </a:lnTo>
                        <a:lnTo>
                          <a:pt x="2645" y="1198"/>
                        </a:lnTo>
                        <a:lnTo>
                          <a:pt x="2648" y="1198"/>
                        </a:lnTo>
                        <a:lnTo>
                          <a:pt x="2648" y="1205"/>
                        </a:lnTo>
                        <a:lnTo>
                          <a:pt x="2653" y="1205"/>
                        </a:lnTo>
                        <a:lnTo>
                          <a:pt x="2657" y="1205"/>
                        </a:lnTo>
                        <a:lnTo>
                          <a:pt x="2660" y="1198"/>
                        </a:lnTo>
                        <a:lnTo>
                          <a:pt x="2664" y="1198"/>
                        </a:lnTo>
                        <a:lnTo>
                          <a:pt x="2667" y="1198"/>
                        </a:lnTo>
                        <a:lnTo>
                          <a:pt x="2667" y="1205"/>
                        </a:lnTo>
                        <a:lnTo>
                          <a:pt x="2667" y="1209"/>
                        </a:lnTo>
                        <a:lnTo>
                          <a:pt x="2672" y="1214"/>
                        </a:lnTo>
                        <a:lnTo>
                          <a:pt x="2677" y="1214"/>
                        </a:lnTo>
                        <a:lnTo>
                          <a:pt x="2677" y="1209"/>
                        </a:lnTo>
                        <a:lnTo>
                          <a:pt x="2682" y="1209"/>
                        </a:lnTo>
                        <a:lnTo>
                          <a:pt x="2682" y="1205"/>
                        </a:lnTo>
                        <a:lnTo>
                          <a:pt x="2686" y="1198"/>
                        </a:lnTo>
                        <a:lnTo>
                          <a:pt x="2686" y="1193"/>
                        </a:lnTo>
                        <a:lnTo>
                          <a:pt x="2689" y="1193"/>
                        </a:lnTo>
                        <a:lnTo>
                          <a:pt x="2689" y="1190"/>
                        </a:lnTo>
                        <a:lnTo>
                          <a:pt x="2693" y="1190"/>
                        </a:lnTo>
                        <a:lnTo>
                          <a:pt x="2693" y="1185"/>
                        </a:lnTo>
                        <a:lnTo>
                          <a:pt x="2696" y="1185"/>
                        </a:lnTo>
                        <a:lnTo>
                          <a:pt x="2696" y="1180"/>
                        </a:lnTo>
                        <a:lnTo>
                          <a:pt x="2700" y="1180"/>
                        </a:lnTo>
                        <a:lnTo>
                          <a:pt x="2700" y="1176"/>
                        </a:lnTo>
                        <a:lnTo>
                          <a:pt x="2700" y="1171"/>
                        </a:lnTo>
                        <a:lnTo>
                          <a:pt x="2705" y="1171"/>
                        </a:lnTo>
                        <a:lnTo>
                          <a:pt x="2708" y="1167"/>
                        </a:lnTo>
                        <a:lnTo>
                          <a:pt x="2708" y="1163"/>
                        </a:lnTo>
                        <a:lnTo>
                          <a:pt x="2705" y="1163"/>
                        </a:lnTo>
                        <a:lnTo>
                          <a:pt x="2700" y="1163"/>
                        </a:lnTo>
                        <a:lnTo>
                          <a:pt x="2696" y="1163"/>
                        </a:lnTo>
                        <a:lnTo>
                          <a:pt x="2696" y="1158"/>
                        </a:lnTo>
                        <a:lnTo>
                          <a:pt x="2696" y="1153"/>
                        </a:lnTo>
                        <a:lnTo>
                          <a:pt x="2696" y="1149"/>
                        </a:lnTo>
                        <a:lnTo>
                          <a:pt x="2696" y="1145"/>
                        </a:lnTo>
                        <a:lnTo>
                          <a:pt x="2693" y="1145"/>
                        </a:lnTo>
                        <a:lnTo>
                          <a:pt x="2693" y="1140"/>
                        </a:lnTo>
                        <a:lnTo>
                          <a:pt x="2696" y="1140"/>
                        </a:lnTo>
                        <a:lnTo>
                          <a:pt x="2696" y="1135"/>
                        </a:lnTo>
                        <a:lnTo>
                          <a:pt x="2700" y="1132"/>
                        </a:lnTo>
                        <a:lnTo>
                          <a:pt x="2700" y="1127"/>
                        </a:lnTo>
                        <a:lnTo>
                          <a:pt x="2705" y="1120"/>
                        </a:lnTo>
                        <a:lnTo>
                          <a:pt x="2705" y="1116"/>
                        </a:lnTo>
                        <a:lnTo>
                          <a:pt x="2700" y="1111"/>
                        </a:lnTo>
                        <a:lnTo>
                          <a:pt x="2696" y="1111"/>
                        </a:lnTo>
                        <a:lnTo>
                          <a:pt x="2693" y="1111"/>
                        </a:lnTo>
                        <a:lnTo>
                          <a:pt x="2689" y="1106"/>
                        </a:lnTo>
                        <a:lnTo>
                          <a:pt x="2689" y="1103"/>
                        </a:lnTo>
                        <a:lnTo>
                          <a:pt x="2686" y="1098"/>
                        </a:lnTo>
                        <a:lnTo>
                          <a:pt x="2682" y="1098"/>
                        </a:lnTo>
                        <a:lnTo>
                          <a:pt x="2682" y="1093"/>
                        </a:lnTo>
                        <a:lnTo>
                          <a:pt x="2677" y="1093"/>
                        </a:lnTo>
                        <a:lnTo>
                          <a:pt x="2682" y="1089"/>
                        </a:lnTo>
                        <a:lnTo>
                          <a:pt x="2686" y="1089"/>
                        </a:lnTo>
                        <a:lnTo>
                          <a:pt x="2689" y="1085"/>
                        </a:lnTo>
                        <a:lnTo>
                          <a:pt x="2693" y="1080"/>
                        </a:lnTo>
                        <a:lnTo>
                          <a:pt x="2696" y="1080"/>
                        </a:lnTo>
                        <a:lnTo>
                          <a:pt x="2700" y="1080"/>
                        </a:lnTo>
                        <a:lnTo>
                          <a:pt x="2700" y="1076"/>
                        </a:lnTo>
                        <a:lnTo>
                          <a:pt x="2696" y="1076"/>
                        </a:lnTo>
                        <a:lnTo>
                          <a:pt x="2689" y="1076"/>
                        </a:lnTo>
                        <a:lnTo>
                          <a:pt x="2682" y="1080"/>
                        </a:lnTo>
                        <a:lnTo>
                          <a:pt x="2677" y="1076"/>
                        </a:lnTo>
                        <a:lnTo>
                          <a:pt x="2677" y="1071"/>
                        </a:lnTo>
                        <a:lnTo>
                          <a:pt x="2672" y="1071"/>
                        </a:lnTo>
                        <a:lnTo>
                          <a:pt x="2672" y="1067"/>
                        </a:lnTo>
                        <a:lnTo>
                          <a:pt x="2677" y="1067"/>
                        </a:lnTo>
                        <a:lnTo>
                          <a:pt x="2677" y="1063"/>
                        </a:lnTo>
                        <a:lnTo>
                          <a:pt x="2682" y="1058"/>
                        </a:lnTo>
                        <a:lnTo>
                          <a:pt x="2686" y="1058"/>
                        </a:lnTo>
                        <a:lnTo>
                          <a:pt x="2686" y="1053"/>
                        </a:lnTo>
                        <a:lnTo>
                          <a:pt x="2686" y="1048"/>
                        </a:lnTo>
                        <a:lnTo>
                          <a:pt x="2689" y="1042"/>
                        </a:lnTo>
                        <a:lnTo>
                          <a:pt x="2693" y="1038"/>
                        </a:lnTo>
                        <a:lnTo>
                          <a:pt x="2696" y="1034"/>
                        </a:lnTo>
                        <a:lnTo>
                          <a:pt x="2700" y="1034"/>
                        </a:lnTo>
                        <a:lnTo>
                          <a:pt x="2700" y="1029"/>
                        </a:lnTo>
                        <a:lnTo>
                          <a:pt x="2705" y="1029"/>
                        </a:lnTo>
                        <a:lnTo>
                          <a:pt x="2700" y="1029"/>
                        </a:lnTo>
                        <a:lnTo>
                          <a:pt x="2700" y="1024"/>
                        </a:lnTo>
                        <a:lnTo>
                          <a:pt x="2700" y="1021"/>
                        </a:lnTo>
                        <a:lnTo>
                          <a:pt x="2705" y="1021"/>
                        </a:lnTo>
                        <a:lnTo>
                          <a:pt x="2708" y="1021"/>
                        </a:lnTo>
                        <a:lnTo>
                          <a:pt x="2712" y="1021"/>
                        </a:lnTo>
                        <a:lnTo>
                          <a:pt x="2719" y="1011"/>
                        </a:lnTo>
                        <a:lnTo>
                          <a:pt x="2724" y="1006"/>
                        </a:lnTo>
                        <a:lnTo>
                          <a:pt x="2728" y="1006"/>
                        </a:lnTo>
                        <a:lnTo>
                          <a:pt x="2728" y="1003"/>
                        </a:lnTo>
                        <a:lnTo>
                          <a:pt x="2731" y="1003"/>
                        </a:lnTo>
                        <a:lnTo>
                          <a:pt x="2735" y="1003"/>
                        </a:lnTo>
                        <a:lnTo>
                          <a:pt x="2739" y="1003"/>
                        </a:lnTo>
                        <a:lnTo>
                          <a:pt x="2743" y="1003"/>
                        </a:lnTo>
                        <a:lnTo>
                          <a:pt x="2743" y="998"/>
                        </a:lnTo>
                        <a:lnTo>
                          <a:pt x="2747" y="998"/>
                        </a:lnTo>
                        <a:lnTo>
                          <a:pt x="2751" y="998"/>
                        </a:lnTo>
                        <a:lnTo>
                          <a:pt x="2751" y="993"/>
                        </a:lnTo>
                        <a:lnTo>
                          <a:pt x="2754" y="993"/>
                        </a:lnTo>
                        <a:lnTo>
                          <a:pt x="2758" y="989"/>
                        </a:lnTo>
                        <a:lnTo>
                          <a:pt x="2758" y="985"/>
                        </a:lnTo>
                        <a:lnTo>
                          <a:pt x="2761" y="985"/>
                        </a:lnTo>
                        <a:lnTo>
                          <a:pt x="2768" y="980"/>
                        </a:lnTo>
                        <a:lnTo>
                          <a:pt x="2771" y="980"/>
                        </a:lnTo>
                        <a:lnTo>
                          <a:pt x="2771" y="976"/>
                        </a:lnTo>
                        <a:lnTo>
                          <a:pt x="2776" y="971"/>
                        </a:lnTo>
                        <a:lnTo>
                          <a:pt x="2780" y="971"/>
                        </a:lnTo>
                        <a:lnTo>
                          <a:pt x="2780" y="964"/>
                        </a:lnTo>
                        <a:lnTo>
                          <a:pt x="2783" y="960"/>
                        </a:lnTo>
                        <a:lnTo>
                          <a:pt x="2787" y="956"/>
                        </a:lnTo>
                        <a:lnTo>
                          <a:pt x="2790" y="951"/>
                        </a:lnTo>
                        <a:lnTo>
                          <a:pt x="2799" y="951"/>
                        </a:lnTo>
                        <a:lnTo>
                          <a:pt x="2802" y="951"/>
                        </a:lnTo>
                        <a:lnTo>
                          <a:pt x="2806" y="951"/>
                        </a:lnTo>
                        <a:lnTo>
                          <a:pt x="2810" y="947"/>
                        </a:lnTo>
                        <a:lnTo>
                          <a:pt x="2818" y="947"/>
                        </a:lnTo>
                        <a:lnTo>
                          <a:pt x="2822" y="947"/>
                        </a:lnTo>
                        <a:lnTo>
                          <a:pt x="2825" y="947"/>
                        </a:lnTo>
                        <a:lnTo>
                          <a:pt x="2825" y="942"/>
                        </a:lnTo>
                        <a:lnTo>
                          <a:pt x="2829" y="942"/>
                        </a:lnTo>
                        <a:lnTo>
                          <a:pt x="2833" y="942"/>
                        </a:lnTo>
                        <a:lnTo>
                          <a:pt x="2833" y="938"/>
                        </a:lnTo>
                        <a:lnTo>
                          <a:pt x="2837" y="938"/>
                        </a:lnTo>
                        <a:lnTo>
                          <a:pt x="2837" y="934"/>
                        </a:lnTo>
                        <a:lnTo>
                          <a:pt x="2841" y="934"/>
                        </a:lnTo>
                        <a:lnTo>
                          <a:pt x="2845" y="934"/>
                        </a:lnTo>
                        <a:lnTo>
                          <a:pt x="2854" y="934"/>
                        </a:lnTo>
                        <a:lnTo>
                          <a:pt x="2858" y="934"/>
                        </a:lnTo>
                        <a:lnTo>
                          <a:pt x="2866" y="929"/>
                        </a:lnTo>
                        <a:lnTo>
                          <a:pt x="2866" y="924"/>
                        </a:lnTo>
                        <a:lnTo>
                          <a:pt x="2870" y="924"/>
                        </a:lnTo>
                        <a:lnTo>
                          <a:pt x="2874" y="924"/>
                        </a:lnTo>
                        <a:lnTo>
                          <a:pt x="2877" y="924"/>
                        </a:lnTo>
                        <a:lnTo>
                          <a:pt x="2877" y="921"/>
                        </a:lnTo>
                        <a:lnTo>
                          <a:pt x="2881" y="921"/>
                        </a:lnTo>
                        <a:lnTo>
                          <a:pt x="2886" y="921"/>
                        </a:lnTo>
                        <a:lnTo>
                          <a:pt x="2889" y="921"/>
                        </a:lnTo>
                        <a:lnTo>
                          <a:pt x="2893" y="921"/>
                        </a:lnTo>
                        <a:lnTo>
                          <a:pt x="2897" y="921"/>
                        </a:lnTo>
                        <a:lnTo>
                          <a:pt x="2897" y="916"/>
                        </a:lnTo>
                        <a:lnTo>
                          <a:pt x="2900" y="916"/>
                        </a:lnTo>
                        <a:lnTo>
                          <a:pt x="2904" y="916"/>
                        </a:lnTo>
                        <a:lnTo>
                          <a:pt x="2904" y="911"/>
                        </a:lnTo>
                        <a:lnTo>
                          <a:pt x="2912" y="911"/>
                        </a:lnTo>
                        <a:lnTo>
                          <a:pt x="2912" y="906"/>
                        </a:lnTo>
                        <a:lnTo>
                          <a:pt x="2919" y="906"/>
                        </a:lnTo>
                        <a:lnTo>
                          <a:pt x="2923" y="903"/>
                        </a:lnTo>
                        <a:lnTo>
                          <a:pt x="2928" y="903"/>
                        </a:lnTo>
                        <a:lnTo>
                          <a:pt x="2932" y="903"/>
                        </a:lnTo>
                        <a:lnTo>
                          <a:pt x="2935" y="903"/>
                        </a:lnTo>
                        <a:lnTo>
                          <a:pt x="2939" y="898"/>
                        </a:lnTo>
                        <a:lnTo>
                          <a:pt x="2945" y="898"/>
                        </a:lnTo>
                        <a:lnTo>
                          <a:pt x="2948" y="898"/>
                        </a:lnTo>
                        <a:lnTo>
                          <a:pt x="2948" y="892"/>
                        </a:lnTo>
                        <a:lnTo>
                          <a:pt x="2952" y="887"/>
                        </a:lnTo>
                        <a:lnTo>
                          <a:pt x="2956" y="887"/>
                        </a:lnTo>
                        <a:lnTo>
                          <a:pt x="2956" y="882"/>
                        </a:lnTo>
                        <a:lnTo>
                          <a:pt x="2960" y="882"/>
                        </a:lnTo>
                        <a:lnTo>
                          <a:pt x="2964" y="882"/>
                        </a:lnTo>
                        <a:lnTo>
                          <a:pt x="2968" y="882"/>
                        </a:lnTo>
                        <a:lnTo>
                          <a:pt x="2968" y="878"/>
                        </a:lnTo>
                        <a:lnTo>
                          <a:pt x="2964" y="878"/>
                        </a:lnTo>
                        <a:lnTo>
                          <a:pt x="2964" y="874"/>
                        </a:lnTo>
                        <a:lnTo>
                          <a:pt x="2964" y="869"/>
                        </a:lnTo>
                        <a:lnTo>
                          <a:pt x="2960" y="869"/>
                        </a:lnTo>
                        <a:lnTo>
                          <a:pt x="2960" y="864"/>
                        </a:lnTo>
                        <a:lnTo>
                          <a:pt x="2956" y="864"/>
                        </a:lnTo>
                        <a:lnTo>
                          <a:pt x="2956" y="860"/>
                        </a:lnTo>
                        <a:lnTo>
                          <a:pt x="2952" y="860"/>
                        </a:lnTo>
                        <a:lnTo>
                          <a:pt x="2948" y="860"/>
                        </a:lnTo>
                        <a:lnTo>
                          <a:pt x="2945" y="860"/>
                        </a:lnTo>
                        <a:lnTo>
                          <a:pt x="2939" y="860"/>
                        </a:lnTo>
                        <a:lnTo>
                          <a:pt x="2935" y="860"/>
                        </a:lnTo>
                        <a:lnTo>
                          <a:pt x="2932" y="860"/>
                        </a:lnTo>
                        <a:lnTo>
                          <a:pt x="2928" y="856"/>
                        </a:lnTo>
                        <a:lnTo>
                          <a:pt x="2923" y="856"/>
                        </a:lnTo>
                        <a:lnTo>
                          <a:pt x="2919" y="856"/>
                        </a:lnTo>
                        <a:lnTo>
                          <a:pt x="2919" y="851"/>
                        </a:lnTo>
                        <a:lnTo>
                          <a:pt x="2928" y="851"/>
                        </a:lnTo>
                        <a:lnTo>
                          <a:pt x="2932" y="851"/>
                        </a:lnTo>
                        <a:lnTo>
                          <a:pt x="2935" y="847"/>
                        </a:lnTo>
                        <a:lnTo>
                          <a:pt x="2939" y="847"/>
                        </a:lnTo>
                        <a:lnTo>
                          <a:pt x="2945" y="847"/>
                        </a:lnTo>
                        <a:lnTo>
                          <a:pt x="2945" y="842"/>
                        </a:lnTo>
                        <a:lnTo>
                          <a:pt x="2948" y="842"/>
                        </a:lnTo>
                        <a:lnTo>
                          <a:pt x="2952" y="842"/>
                        </a:lnTo>
                        <a:lnTo>
                          <a:pt x="2956" y="837"/>
                        </a:lnTo>
                        <a:lnTo>
                          <a:pt x="2960" y="834"/>
                        </a:lnTo>
                        <a:lnTo>
                          <a:pt x="2964" y="834"/>
                        </a:lnTo>
                        <a:lnTo>
                          <a:pt x="2968" y="834"/>
                        </a:lnTo>
                        <a:lnTo>
                          <a:pt x="2971" y="834"/>
                        </a:lnTo>
                        <a:lnTo>
                          <a:pt x="2971" y="829"/>
                        </a:lnTo>
                        <a:lnTo>
                          <a:pt x="2975" y="829"/>
                        </a:lnTo>
                        <a:lnTo>
                          <a:pt x="2980" y="829"/>
                        </a:lnTo>
                        <a:lnTo>
                          <a:pt x="2987" y="824"/>
                        </a:lnTo>
                        <a:lnTo>
                          <a:pt x="2991" y="821"/>
                        </a:lnTo>
                        <a:lnTo>
                          <a:pt x="2994" y="821"/>
                        </a:lnTo>
                        <a:lnTo>
                          <a:pt x="2999" y="821"/>
                        </a:lnTo>
                        <a:lnTo>
                          <a:pt x="3003" y="813"/>
                        </a:lnTo>
                        <a:lnTo>
                          <a:pt x="3006" y="813"/>
                        </a:lnTo>
                        <a:lnTo>
                          <a:pt x="3006" y="821"/>
                        </a:lnTo>
                        <a:lnTo>
                          <a:pt x="3006" y="824"/>
                        </a:lnTo>
                        <a:lnTo>
                          <a:pt x="3010" y="824"/>
                        </a:lnTo>
                        <a:lnTo>
                          <a:pt x="3013" y="829"/>
                        </a:lnTo>
                        <a:lnTo>
                          <a:pt x="3017" y="829"/>
                        </a:lnTo>
                        <a:lnTo>
                          <a:pt x="3022" y="824"/>
                        </a:lnTo>
                        <a:lnTo>
                          <a:pt x="3026" y="821"/>
                        </a:lnTo>
                        <a:lnTo>
                          <a:pt x="3029" y="821"/>
                        </a:lnTo>
                        <a:lnTo>
                          <a:pt x="3035" y="813"/>
                        </a:lnTo>
                        <a:lnTo>
                          <a:pt x="3042" y="813"/>
                        </a:lnTo>
                        <a:lnTo>
                          <a:pt x="3046" y="813"/>
                        </a:lnTo>
                        <a:lnTo>
                          <a:pt x="3051" y="813"/>
                        </a:lnTo>
                        <a:lnTo>
                          <a:pt x="3051" y="809"/>
                        </a:lnTo>
                        <a:lnTo>
                          <a:pt x="3054" y="809"/>
                        </a:lnTo>
                        <a:lnTo>
                          <a:pt x="3058" y="805"/>
                        </a:lnTo>
                        <a:lnTo>
                          <a:pt x="3062" y="805"/>
                        </a:lnTo>
                        <a:lnTo>
                          <a:pt x="3062" y="800"/>
                        </a:lnTo>
                        <a:lnTo>
                          <a:pt x="3065" y="800"/>
                        </a:lnTo>
                        <a:lnTo>
                          <a:pt x="3070" y="800"/>
                        </a:lnTo>
                        <a:lnTo>
                          <a:pt x="3074" y="800"/>
                        </a:lnTo>
                        <a:lnTo>
                          <a:pt x="3077" y="795"/>
                        </a:lnTo>
                        <a:lnTo>
                          <a:pt x="3077" y="792"/>
                        </a:lnTo>
                        <a:lnTo>
                          <a:pt x="3081" y="792"/>
                        </a:lnTo>
                        <a:lnTo>
                          <a:pt x="3085" y="792"/>
                        </a:lnTo>
                        <a:lnTo>
                          <a:pt x="3088" y="792"/>
                        </a:lnTo>
                        <a:lnTo>
                          <a:pt x="3093" y="792"/>
                        </a:lnTo>
                        <a:lnTo>
                          <a:pt x="3097" y="792"/>
                        </a:lnTo>
                        <a:lnTo>
                          <a:pt x="3097" y="787"/>
                        </a:lnTo>
                        <a:lnTo>
                          <a:pt x="3100" y="787"/>
                        </a:lnTo>
                        <a:lnTo>
                          <a:pt x="3104" y="792"/>
                        </a:lnTo>
                        <a:lnTo>
                          <a:pt x="3108" y="795"/>
                        </a:lnTo>
                        <a:lnTo>
                          <a:pt x="3116" y="795"/>
                        </a:lnTo>
                        <a:lnTo>
                          <a:pt x="3116" y="800"/>
                        </a:lnTo>
                        <a:lnTo>
                          <a:pt x="3122" y="800"/>
                        </a:lnTo>
                        <a:lnTo>
                          <a:pt x="3122" y="795"/>
                        </a:lnTo>
                        <a:lnTo>
                          <a:pt x="3126" y="795"/>
                        </a:lnTo>
                        <a:lnTo>
                          <a:pt x="3126" y="792"/>
                        </a:lnTo>
                        <a:lnTo>
                          <a:pt x="3129" y="792"/>
                        </a:lnTo>
                        <a:lnTo>
                          <a:pt x="3133" y="792"/>
                        </a:lnTo>
                        <a:lnTo>
                          <a:pt x="3140" y="787"/>
                        </a:lnTo>
                        <a:lnTo>
                          <a:pt x="3140" y="782"/>
                        </a:lnTo>
                        <a:lnTo>
                          <a:pt x="3145" y="778"/>
                        </a:lnTo>
                        <a:lnTo>
                          <a:pt x="3149" y="778"/>
                        </a:lnTo>
                        <a:lnTo>
                          <a:pt x="3152" y="778"/>
                        </a:lnTo>
                        <a:lnTo>
                          <a:pt x="3152" y="782"/>
                        </a:lnTo>
                        <a:lnTo>
                          <a:pt x="3152" y="787"/>
                        </a:lnTo>
                        <a:lnTo>
                          <a:pt x="3156" y="792"/>
                        </a:lnTo>
                        <a:lnTo>
                          <a:pt x="3156" y="795"/>
                        </a:lnTo>
                        <a:lnTo>
                          <a:pt x="3156" y="800"/>
                        </a:lnTo>
                        <a:lnTo>
                          <a:pt x="3156" y="805"/>
                        </a:lnTo>
                        <a:lnTo>
                          <a:pt x="3159" y="809"/>
                        </a:lnTo>
                        <a:lnTo>
                          <a:pt x="3164" y="809"/>
                        </a:lnTo>
                        <a:lnTo>
                          <a:pt x="3171" y="809"/>
                        </a:lnTo>
                        <a:lnTo>
                          <a:pt x="3175" y="809"/>
                        </a:lnTo>
                        <a:lnTo>
                          <a:pt x="3175" y="805"/>
                        </a:lnTo>
                        <a:lnTo>
                          <a:pt x="3179" y="805"/>
                        </a:lnTo>
                        <a:lnTo>
                          <a:pt x="3184" y="805"/>
                        </a:lnTo>
                        <a:lnTo>
                          <a:pt x="3187" y="805"/>
                        </a:lnTo>
                        <a:lnTo>
                          <a:pt x="3191" y="805"/>
                        </a:lnTo>
                        <a:lnTo>
                          <a:pt x="3191" y="809"/>
                        </a:lnTo>
                        <a:lnTo>
                          <a:pt x="3194" y="809"/>
                        </a:lnTo>
                        <a:lnTo>
                          <a:pt x="3194" y="813"/>
                        </a:lnTo>
                        <a:lnTo>
                          <a:pt x="3198" y="813"/>
                        </a:lnTo>
                        <a:lnTo>
                          <a:pt x="3202" y="813"/>
                        </a:lnTo>
                        <a:lnTo>
                          <a:pt x="3206" y="813"/>
                        </a:lnTo>
                        <a:lnTo>
                          <a:pt x="3211" y="813"/>
                        </a:lnTo>
                        <a:lnTo>
                          <a:pt x="3216" y="813"/>
                        </a:lnTo>
                        <a:lnTo>
                          <a:pt x="3220" y="813"/>
                        </a:lnTo>
                        <a:lnTo>
                          <a:pt x="3223" y="813"/>
                        </a:lnTo>
                        <a:lnTo>
                          <a:pt x="3223" y="821"/>
                        </a:lnTo>
                        <a:lnTo>
                          <a:pt x="3227" y="821"/>
                        </a:lnTo>
                        <a:lnTo>
                          <a:pt x="3227" y="824"/>
                        </a:lnTo>
                        <a:lnTo>
                          <a:pt x="3231" y="824"/>
                        </a:lnTo>
                        <a:lnTo>
                          <a:pt x="3231" y="829"/>
                        </a:lnTo>
                        <a:lnTo>
                          <a:pt x="3235" y="829"/>
                        </a:lnTo>
                        <a:lnTo>
                          <a:pt x="3235" y="824"/>
                        </a:lnTo>
                        <a:lnTo>
                          <a:pt x="3239" y="824"/>
                        </a:lnTo>
                        <a:lnTo>
                          <a:pt x="3243" y="824"/>
                        </a:lnTo>
                        <a:lnTo>
                          <a:pt x="3246" y="824"/>
                        </a:lnTo>
                        <a:lnTo>
                          <a:pt x="3250" y="824"/>
                        </a:lnTo>
                        <a:lnTo>
                          <a:pt x="3255" y="824"/>
                        </a:lnTo>
                        <a:lnTo>
                          <a:pt x="3258" y="821"/>
                        </a:lnTo>
                        <a:lnTo>
                          <a:pt x="3262" y="821"/>
                        </a:lnTo>
                        <a:lnTo>
                          <a:pt x="3266" y="821"/>
                        </a:lnTo>
                        <a:lnTo>
                          <a:pt x="3269" y="813"/>
                        </a:lnTo>
                        <a:lnTo>
                          <a:pt x="3273" y="813"/>
                        </a:lnTo>
                        <a:lnTo>
                          <a:pt x="3278" y="813"/>
                        </a:lnTo>
                        <a:lnTo>
                          <a:pt x="3281" y="813"/>
                        </a:lnTo>
                        <a:lnTo>
                          <a:pt x="3285" y="813"/>
                        </a:lnTo>
                        <a:lnTo>
                          <a:pt x="3285" y="809"/>
                        </a:lnTo>
                        <a:lnTo>
                          <a:pt x="3288" y="809"/>
                        </a:lnTo>
                        <a:lnTo>
                          <a:pt x="3292" y="809"/>
                        </a:lnTo>
                        <a:lnTo>
                          <a:pt x="3297" y="809"/>
                        </a:lnTo>
                        <a:lnTo>
                          <a:pt x="3302" y="809"/>
                        </a:lnTo>
                        <a:lnTo>
                          <a:pt x="3307" y="809"/>
                        </a:lnTo>
                        <a:lnTo>
                          <a:pt x="3310" y="809"/>
                        </a:lnTo>
                        <a:lnTo>
                          <a:pt x="3310" y="813"/>
                        </a:lnTo>
                        <a:lnTo>
                          <a:pt x="3314" y="813"/>
                        </a:lnTo>
                        <a:lnTo>
                          <a:pt x="3317" y="813"/>
                        </a:lnTo>
                        <a:lnTo>
                          <a:pt x="3321" y="813"/>
                        </a:lnTo>
                        <a:lnTo>
                          <a:pt x="3329" y="813"/>
                        </a:lnTo>
                        <a:lnTo>
                          <a:pt x="3333" y="805"/>
                        </a:lnTo>
                        <a:lnTo>
                          <a:pt x="3329" y="800"/>
                        </a:lnTo>
                        <a:lnTo>
                          <a:pt x="3329" y="795"/>
                        </a:lnTo>
                        <a:lnTo>
                          <a:pt x="3329" y="792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98793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403640" y="1948680"/>
                    <a:ext cx="39816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7" h="820">
                        <a:moveTo>
                          <a:pt x="734" y="18"/>
                        </a:moveTo>
                        <a:lnTo>
                          <a:pt x="739" y="18"/>
                        </a:lnTo>
                        <a:lnTo>
                          <a:pt x="743" y="18"/>
                        </a:lnTo>
                        <a:lnTo>
                          <a:pt x="749" y="24"/>
                        </a:lnTo>
                        <a:lnTo>
                          <a:pt x="756" y="24"/>
                        </a:lnTo>
                        <a:lnTo>
                          <a:pt x="779" y="34"/>
                        </a:lnTo>
                        <a:lnTo>
                          <a:pt x="798" y="39"/>
                        </a:lnTo>
                        <a:lnTo>
                          <a:pt x="828" y="61"/>
                        </a:lnTo>
                        <a:lnTo>
                          <a:pt x="857" y="74"/>
                        </a:lnTo>
                        <a:lnTo>
                          <a:pt x="892" y="92"/>
                        </a:lnTo>
                        <a:lnTo>
                          <a:pt x="925" y="111"/>
                        </a:lnTo>
                        <a:lnTo>
                          <a:pt x="951" y="121"/>
                        </a:lnTo>
                        <a:lnTo>
                          <a:pt x="979" y="139"/>
                        </a:lnTo>
                        <a:lnTo>
                          <a:pt x="983" y="143"/>
                        </a:lnTo>
                        <a:lnTo>
                          <a:pt x="986" y="143"/>
                        </a:lnTo>
                        <a:lnTo>
                          <a:pt x="990" y="143"/>
                        </a:lnTo>
                        <a:lnTo>
                          <a:pt x="995" y="143"/>
                        </a:lnTo>
                        <a:lnTo>
                          <a:pt x="995" y="139"/>
                        </a:lnTo>
                        <a:lnTo>
                          <a:pt x="998" y="139"/>
                        </a:lnTo>
                        <a:lnTo>
                          <a:pt x="1002" y="139"/>
                        </a:lnTo>
                        <a:lnTo>
                          <a:pt x="1006" y="139"/>
                        </a:lnTo>
                        <a:lnTo>
                          <a:pt x="1009" y="139"/>
                        </a:lnTo>
                        <a:lnTo>
                          <a:pt x="1009" y="143"/>
                        </a:lnTo>
                        <a:lnTo>
                          <a:pt x="1015" y="147"/>
                        </a:lnTo>
                        <a:lnTo>
                          <a:pt x="1019" y="147"/>
                        </a:lnTo>
                        <a:lnTo>
                          <a:pt x="1022" y="147"/>
                        </a:lnTo>
                        <a:lnTo>
                          <a:pt x="1027" y="147"/>
                        </a:lnTo>
                        <a:lnTo>
                          <a:pt x="1031" y="143"/>
                        </a:lnTo>
                        <a:lnTo>
                          <a:pt x="1031" y="147"/>
                        </a:lnTo>
                        <a:lnTo>
                          <a:pt x="1034" y="147"/>
                        </a:lnTo>
                        <a:lnTo>
                          <a:pt x="1034" y="143"/>
                        </a:lnTo>
                        <a:lnTo>
                          <a:pt x="1038" y="143"/>
                        </a:lnTo>
                        <a:lnTo>
                          <a:pt x="1042" y="143"/>
                        </a:lnTo>
                        <a:lnTo>
                          <a:pt x="1047" y="143"/>
                        </a:lnTo>
                        <a:lnTo>
                          <a:pt x="1047" y="147"/>
                        </a:lnTo>
                        <a:lnTo>
                          <a:pt x="1050" y="147"/>
                        </a:lnTo>
                        <a:lnTo>
                          <a:pt x="1050" y="152"/>
                        </a:lnTo>
                        <a:lnTo>
                          <a:pt x="1050" y="156"/>
                        </a:lnTo>
                        <a:lnTo>
                          <a:pt x="1054" y="156"/>
                        </a:lnTo>
                        <a:lnTo>
                          <a:pt x="1054" y="161"/>
                        </a:lnTo>
                        <a:lnTo>
                          <a:pt x="1054" y="166"/>
                        </a:lnTo>
                        <a:lnTo>
                          <a:pt x="1054" y="169"/>
                        </a:lnTo>
                        <a:lnTo>
                          <a:pt x="1057" y="169"/>
                        </a:lnTo>
                        <a:lnTo>
                          <a:pt x="1057" y="174"/>
                        </a:lnTo>
                        <a:lnTo>
                          <a:pt x="1057" y="181"/>
                        </a:lnTo>
                        <a:lnTo>
                          <a:pt x="1061" y="181"/>
                        </a:lnTo>
                        <a:lnTo>
                          <a:pt x="1061" y="185"/>
                        </a:lnTo>
                        <a:lnTo>
                          <a:pt x="1066" y="185"/>
                        </a:lnTo>
                        <a:lnTo>
                          <a:pt x="1069" y="190"/>
                        </a:lnTo>
                        <a:lnTo>
                          <a:pt x="1073" y="190"/>
                        </a:lnTo>
                        <a:lnTo>
                          <a:pt x="1077" y="190"/>
                        </a:lnTo>
                        <a:lnTo>
                          <a:pt x="1080" y="190"/>
                        </a:lnTo>
                        <a:lnTo>
                          <a:pt x="1080" y="194"/>
                        </a:lnTo>
                        <a:lnTo>
                          <a:pt x="1084" y="194"/>
                        </a:lnTo>
                        <a:lnTo>
                          <a:pt x="1084" y="198"/>
                        </a:lnTo>
                        <a:lnTo>
                          <a:pt x="1089" y="198"/>
                        </a:lnTo>
                        <a:lnTo>
                          <a:pt x="1089" y="203"/>
                        </a:lnTo>
                        <a:lnTo>
                          <a:pt x="1092" y="208"/>
                        </a:lnTo>
                        <a:lnTo>
                          <a:pt x="1096" y="203"/>
                        </a:lnTo>
                        <a:lnTo>
                          <a:pt x="1100" y="203"/>
                        </a:lnTo>
                        <a:lnTo>
                          <a:pt x="1100" y="198"/>
                        </a:lnTo>
                        <a:lnTo>
                          <a:pt x="1106" y="198"/>
                        </a:lnTo>
                        <a:lnTo>
                          <a:pt x="1109" y="198"/>
                        </a:lnTo>
                        <a:lnTo>
                          <a:pt x="1113" y="198"/>
                        </a:lnTo>
                        <a:lnTo>
                          <a:pt x="1113" y="203"/>
                        </a:lnTo>
                        <a:lnTo>
                          <a:pt x="1118" y="203"/>
                        </a:lnTo>
                        <a:lnTo>
                          <a:pt x="1118" y="208"/>
                        </a:lnTo>
                        <a:lnTo>
                          <a:pt x="1121" y="203"/>
                        </a:lnTo>
                        <a:lnTo>
                          <a:pt x="1118" y="211"/>
                        </a:lnTo>
                        <a:lnTo>
                          <a:pt x="1118" y="216"/>
                        </a:lnTo>
                        <a:lnTo>
                          <a:pt x="1118" y="221"/>
                        </a:lnTo>
                        <a:lnTo>
                          <a:pt x="1118" y="225"/>
                        </a:lnTo>
                        <a:lnTo>
                          <a:pt x="1121" y="234"/>
                        </a:lnTo>
                        <a:lnTo>
                          <a:pt x="1121" y="238"/>
                        </a:lnTo>
                        <a:lnTo>
                          <a:pt x="1125" y="243"/>
                        </a:lnTo>
                        <a:lnTo>
                          <a:pt x="1125" y="248"/>
                        </a:lnTo>
                        <a:lnTo>
                          <a:pt x="1129" y="248"/>
                        </a:lnTo>
                        <a:lnTo>
                          <a:pt x="1129" y="252"/>
                        </a:lnTo>
                        <a:lnTo>
                          <a:pt x="1129" y="258"/>
                        </a:lnTo>
                        <a:lnTo>
                          <a:pt x="1132" y="258"/>
                        </a:lnTo>
                        <a:lnTo>
                          <a:pt x="1132" y="263"/>
                        </a:lnTo>
                        <a:lnTo>
                          <a:pt x="1141" y="267"/>
                        </a:lnTo>
                        <a:lnTo>
                          <a:pt x="1144" y="272"/>
                        </a:lnTo>
                        <a:lnTo>
                          <a:pt x="1148" y="272"/>
                        </a:lnTo>
                        <a:lnTo>
                          <a:pt x="1148" y="276"/>
                        </a:lnTo>
                        <a:lnTo>
                          <a:pt x="1151" y="276"/>
                        </a:lnTo>
                        <a:lnTo>
                          <a:pt x="1151" y="281"/>
                        </a:lnTo>
                        <a:lnTo>
                          <a:pt x="1155" y="285"/>
                        </a:lnTo>
                        <a:lnTo>
                          <a:pt x="1155" y="290"/>
                        </a:lnTo>
                        <a:lnTo>
                          <a:pt x="1160" y="295"/>
                        </a:lnTo>
                        <a:lnTo>
                          <a:pt x="1163" y="295"/>
                        </a:lnTo>
                        <a:lnTo>
                          <a:pt x="1163" y="298"/>
                        </a:lnTo>
                        <a:lnTo>
                          <a:pt x="1167" y="298"/>
                        </a:lnTo>
                        <a:lnTo>
                          <a:pt x="1167" y="303"/>
                        </a:lnTo>
                        <a:lnTo>
                          <a:pt x="1167" y="311"/>
                        </a:lnTo>
                        <a:lnTo>
                          <a:pt x="1167" y="316"/>
                        </a:lnTo>
                        <a:lnTo>
                          <a:pt x="1163" y="316"/>
                        </a:lnTo>
                        <a:lnTo>
                          <a:pt x="1163" y="321"/>
                        </a:lnTo>
                        <a:lnTo>
                          <a:pt x="1160" y="325"/>
                        </a:lnTo>
                        <a:lnTo>
                          <a:pt x="1155" y="332"/>
                        </a:lnTo>
                        <a:lnTo>
                          <a:pt x="1160" y="332"/>
                        </a:lnTo>
                        <a:lnTo>
                          <a:pt x="1160" y="337"/>
                        </a:lnTo>
                        <a:lnTo>
                          <a:pt x="1160" y="340"/>
                        </a:lnTo>
                        <a:lnTo>
                          <a:pt x="1160" y="345"/>
                        </a:lnTo>
                        <a:lnTo>
                          <a:pt x="1163" y="350"/>
                        </a:lnTo>
                        <a:lnTo>
                          <a:pt x="1167" y="350"/>
                        </a:lnTo>
                        <a:lnTo>
                          <a:pt x="1167" y="354"/>
                        </a:lnTo>
                        <a:lnTo>
                          <a:pt x="1167" y="358"/>
                        </a:lnTo>
                        <a:lnTo>
                          <a:pt x="1171" y="358"/>
                        </a:lnTo>
                        <a:lnTo>
                          <a:pt x="1174" y="363"/>
                        </a:lnTo>
                        <a:lnTo>
                          <a:pt x="1174" y="367"/>
                        </a:lnTo>
                        <a:lnTo>
                          <a:pt x="1174" y="372"/>
                        </a:lnTo>
                        <a:lnTo>
                          <a:pt x="1174" y="377"/>
                        </a:lnTo>
                        <a:lnTo>
                          <a:pt x="1174" y="380"/>
                        </a:lnTo>
                        <a:lnTo>
                          <a:pt x="1174" y="385"/>
                        </a:lnTo>
                        <a:lnTo>
                          <a:pt x="1174" y="390"/>
                        </a:lnTo>
                        <a:lnTo>
                          <a:pt x="1174" y="395"/>
                        </a:lnTo>
                        <a:lnTo>
                          <a:pt x="1174" y="398"/>
                        </a:lnTo>
                        <a:lnTo>
                          <a:pt x="1167" y="398"/>
                        </a:lnTo>
                        <a:lnTo>
                          <a:pt x="1174" y="398"/>
                        </a:lnTo>
                        <a:lnTo>
                          <a:pt x="1174" y="403"/>
                        </a:lnTo>
                        <a:lnTo>
                          <a:pt x="1179" y="403"/>
                        </a:lnTo>
                        <a:lnTo>
                          <a:pt x="1179" y="409"/>
                        </a:lnTo>
                        <a:lnTo>
                          <a:pt x="1179" y="414"/>
                        </a:lnTo>
                        <a:lnTo>
                          <a:pt x="1179" y="419"/>
                        </a:lnTo>
                        <a:lnTo>
                          <a:pt x="1183" y="419"/>
                        </a:lnTo>
                        <a:lnTo>
                          <a:pt x="1186" y="419"/>
                        </a:lnTo>
                        <a:lnTo>
                          <a:pt x="1186" y="422"/>
                        </a:lnTo>
                        <a:lnTo>
                          <a:pt x="1186" y="427"/>
                        </a:lnTo>
                        <a:lnTo>
                          <a:pt x="1186" y="432"/>
                        </a:lnTo>
                        <a:lnTo>
                          <a:pt x="1192" y="437"/>
                        </a:lnTo>
                        <a:lnTo>
                          <a:pt x="1196" y="437"/>
                        </a:lnTo>
                        <a:lnTo>
                          <a:pt x="1203" y="440"/>
                        </a:lnTo>
                        <a:lnTo>
                          <a:pt x="1203" y="445"/>
                        </a:lnTo>
                        <a:lnTo>
                          <a:pt x="1203" y="450"/>
                        </a:lnTo>
                        <a:lnTo>
                          <a:pt x="1203" y="454"/>
                        </a:lnTo>
                        <a:lnTo>
                          <a:pt x="1207" y="454"/>
                        </a:lnTo>
                        <a:lnTo>
                          <a:pt x="1203" y="459"/>
                        </a:lnTo>
                        <a:lnTo>
                          <a:pt x="1203" y="463"/>
                        </a:lnTo>
                        <a:lnTo>
                          <a:pt x="1200" y="463"/>
                        </a:lnTo>
                        <a:lnTo>
                          <a:pt x="1196" y="463"/>
                        </a:lnTo>
                        <a:lnTo>
                          <a:pt x="1196" y="467"/>
                        </a:lnTo>
                        <a:lnTo>
                          <a:pt x="1196" y="472"/>
                        </a:lnTo>
                        <a:lnTo>
                          <a:pt x="1200" y="472"/>
                        </a:lnTo>
                        <a:lnTo>
                          <a:pt x="1203" y="477"/>
                        </a:lnTo>
                        <a:lnTo>
                          <a:pt x="1192" y="480"/>
                        </a:lnTo>
                        <a:lnTo>
                          <a:pt x="1186" y="480"/>
                        </a:lnTo>
                        <a:lnTo>
                          <a:pt x="1186" y="487"/>
                        </a:lnTo>
                        <a:lnTo>
                          <a:pt x="1186" y="492"/>
                        </a:lnTo>
                        <a:lnTo>
                          <a:pt x="1183" y="492"/>
                        </a:lnTo>
                        <a:lnTo>
                          <a:pt x="1179" y="492"/>
                        </a:lnTo>
                        <a:lnTo>
                          <a:pt x="1179" y="496"/>
                        </a:lnTo>
                        <a:lnTo>
                          <a:pt x="1174" y="496"/>
                        </a:lnTo>
                        <a:lnTo>
                          <a:pt x="1171" y="496"/>
                        </a:lnTo>
                        <a:lnTo>
                          <a:pt x="1167" y="501"/>
                        </a:lnTo>
                        <a:lnTo>
                          <a:pt x="1163" y="501"/>
                        </a:lnTo>
                        <a:lnTo>
                          <a:pt x="1160" y="506"/>
                        </a:lnTo>
                        <a:lnTo>
                          <a:pt x="1155" y="506"/>
                        </a:lnTo>
                        <a:lnTo>
                          <a:pt x="1155" y="509"/>
                        </a:lnTo>
                        <a:lnTo>
                          <a:pt x="1151" y="509"/>
                        </a:lnTo>
                        <a:lnTo>
                          <a:pt x="1151" y="514"/>
                        </a:lnTo>
                        <a:lnTo>
                          <a:pt x="1148" y="514"/>
                        </a:lnTo>
                        <a:lnTo>
                          <a:pt x="1148" y="519"/>
                        </a:lnTo>
                        <a:lnTo>
                          <a:pt x="1144" y="514"/>
                        </a:lnTo>
                        <a:lnTo>
                          <a:pt x="1141" y="514"/>
                        </a:lnTo>
                        <a:lnTo>
                          <a:pt x="1141" y="519"/>
                        </a:lnTo>
                        <a:lnTo>
                          <a:pt x="1136" y="519"/>
                        </a:lnTo>
                        <a:lnTo>
                          <a:pt x="1132" y="519"/>
                        </a:lnTo>
                        <a:lnTo>
                          <a:pt x="1129" y="519"/>
                        </a:lnTo>
                        <a:lnTo>
                          <a:pt x="1129" y="522"/>
                        </a:lnTo>
                        <a:lnTo>
                          <a:pt x="1125" y="522"/>
                        </a:lnTo>
                        <a:lnTo>
                          <a:pt x="1121" y="522"/>
                        </a:lnTo>
                        <a:lnTo>
                          <a:pt x="1121" y="527"/>
                        </a:lnTo>
                        <a:lnTo>
                          <a:pt x="1121" y="522"/>
                        </a:lnTo>
                        <a:lnTo>
                          <a:pt x="1118" y="522"/>
                        </a:lnTo>
                        <a:lnTo>
                          <a:pt x="1118" y="519"/>
                        </a:lnTo>
                        <a:lnTo>
                          <a:pt x="1113" y="519"/>
                        </a:lnTo>
                        <a:lnTo>
                          <a:pt x="1109" y="519"/>
                        </a:lnTo>
                        <a:lnTo>
                          <a:pt x="1106" y="519"/>
                        </a:lnTo>
                        <a:lnTo>
                          <a:pt x="1100" y="519"/>
                        </a:lnTo>
                        <a:lnTo>
                          <a:pt x="1096" y="519"/>
                        </a:lnTo>
                        <a:lnTo>
                          <a:pt x="1092" y="519"/>
                        </a:lnTo>
                        <a:lnTo>
                          <a:pt x="1092" y="522"/>
                        </a:lnTo>
                        <a:lnTo>
                          <a:pt x="1092" y="527"/>
                        </a:lnTo>
                        <a:lnTo>
                          <a:pt x="1089" y="527"/>
                        </a:lnTo>
                        <a:lnTo>
                          <a:pt x="1089" y="532"/>
                        </a:lnTo>
                        <a:lnTo>
                          <a:pt x="1084" y="532"/>
                        </a:lnTo>
                        <a:lnTo>
                          <a:pt x="1080" y="532"/>
                        </a:lnTo>
                        <a:lnTo>
                          <a:pt x="1080" y="537"/>
                        </a:lnTo>
                        <a:lnTo>
                          <a:pt x="1080" y="541"/>
                        </a:lnTo>
                        <a:lnTo>
                          <a:pt x="1080" y="545"/>
                        </a:lnTo>
                        <a:lnTo>
                          <a:pt x="1077" y="545"/>
                        </a:lnTo>
                        <a:lnTo>
                          <a:pt x="1073" y="545"/>
                        </a:lnTo>
                        <a:lnTo>
                          <a:pt x="1066" y="545"/>
                        </a:lnTo>
                        <a:lnTo>
                          <a:pt x="1066" y="550"/>
                        </a:lnTo>
                        <a:lnTo>
                          <a:pt x="1061" y="554"/>
                        </a:lnTo>
                        <a:lnTo>
                          <a:pt x="1057" y="554"/>
                        </a:lnTo>
                        <a:lnTo>
                          <a:pt x="1054" y="554"/>
                        </a:lnTo>
                        <a:lnTo>
                          <a:pt x="1054" y="559"/>
                        </a:lnTo>
                        <a:lnTo>
                          <a:pt x="1054" y="565"/>
                        </a:lnTo>
                        <a:lnTo>
                          <a:pt x="1050" y="569"/>
                        </a:lnTo>
                        <a:lnTo>
                          <a:pt x="1047" y="574"/>
                        </a:lnTo>
                        <a:lnTo>
                          <a:pt x="1042" y="574"/>
                        </a:lnTo>
                        <a:lnTo>
                          <a:pt x="1038" y="574"/>
                        </a:lnTo>
                        <a:lnTo>
                          <a:pt x="1034" y="574"/>
                        </a:lnTo>
                        <a:lnTo>
                          <a:pt x="1034" y="579"/>
                        </a:lnTo>
                        <a:lnTo>
                          <a:pt x="1031" y="579"/>
                        </a:lnTo>
                        <a:lnTo>
                          <a:pt x="1027" y="583"/>
                        </a:lnTo>
                        <a:lnTo>
                          <a:pt x="1022" y="579"/>
                        </a:lnTo>
                        <a:lnTo>
                          <a:pt x="1019" y="583"/>
                        </a:lnTo>
                        <a:lnTo>
                          <a:pt x="1009" y="583"/>
                        </a:lnTo>
                        <a:lnTo>
                          <a:pt x="1009" y="588"/>
                        </a:lnTo>
                        <a:lnTo>
                          <a:pt x="1006" y="592"/>
                        </a:lnTo>
                        <a:lnTo>
                          <a:pt x="1002" y="592"/>
                        </a:lnTo>
                        <a:lnTo>
                          <a:pt x="998" y="592"/>
                        </a:lnTo>
                        <a:lnTo>
                          <a:pt x="998" y="596"/>
                        </a:lnTo>
                        <a:lnTo>
                          <a:pt x="990" y="596"/>
                        </a:lnTo>
                        <a:lnTo>
                          <a:pt x="986" y="596"/>
                        </a:lnTo>
                        <a:lnTo>
                          <a:pt x="986" y="601"/>
                        </a:lnTo>
                        <a:lnTo>
                          <a:pt x="983" y="601"/>
                        </a:lnTo>
                        <a:lnTo>
                          <a:pt x="983" y="606"/>
                        </a:lnTo>
                        <a:lnTo>
                          <a:pt x="979" y="606"/>
                        </a:lnTo>
                        <a:lnTo>
                          <a:pt x="979" y="609"/>
                        </a:lnTo>
                        <a:lnTo>
                          <a:pt x="983" y="609"/>
                        </a:lnTo>
                        <a:lnTo>
                          <a:pt x="983" y="614"/>
                        </a:lnTo>
                        <a:lnTo>
                          <a:pt x="983" y="619"/>
                        </a:lnTo>
                        <a:lnTo>
                          <a:pt x="983" y="623"/>
                        </a:lnTo>
                        <a:lnTo>
                          <a:pt x="983" y="627"/>
                        </a:lnTo>
                        <a:lnTo>
                          <a:pt x="979" y="632"/>
                        </a:lnTo>
                        <a:lnTo>
                          <a:pt x="975" y="627"/>
                        </a:lnTo>
                        <a:lnTo>
                          <a:pt x="971" y="627"/>
                        </a:lnTo>
                        <a:lnTo>
                          <a:pt x="971" y="632"/>
                        </a:lnTo>
                        <a:lnTo>
                          <a:pt x="967" y="632"/>
                        </a:lnTo>
                        <a:lnTo>
                          <a:pt x="967" y="636"/>
                        </a:lnTo>
                        <a:lnTo>
                          <a:pt x="963" y="636"/>
                        </a:lnTo>
                        <a:lnTo>
                          <a:pt x="963" y="643"/>
                        </a:lnTo>
                        <a:lnTo>
                          <a:pt x="960" y="643"/>
                        </a:lnTo>
                        <a:lnTo>
                          <a:pt x="956" y="643"/>
                        </a:lnTo>
                        <a:lnTo>
                          <a:pt x="951" y="643"/>
                        </a:lnTo>
                        <a:lnTo>
                          <a:pt x="951" y="648"/>
                        </a:lnTo>
                        <a:lnTo>
                          <a:pt x="948" y="648"/>
                        </a:lnTo>
                        <a:lnTo>
                          <a:pt x="944" y="651"/>
                        </a:lnTo>
                        <a:lnTo>
                          <a:pt x="937" y="651"/>
                        </a:lnTo>
                        <a:lnTo>
                          <a:pt x="933" y="648"/>
                        </a:lnTo>
                        <a:lnTo>
                          <a:pt x="928" y="648"/>
                        </a:lnTo>
                        <a:lnTo>
                          <a:pt x="925" y="648"/>
                        </a:lnTo>
                        <a:lnTo>
                          <a:pt x="925" y="643"/>
                        </a:lnTo>
                        <a:lnTo>
                          <a:pt x="925" y="636"/>
                        </a:lnTo>
                        <a:lnTo>
                          <a:pt x="919" y="636"/>
                        </a:lnTo>
                        <a:lnTo>
                          <a:pt x="915" y="636"/>
                        </a:lnTo>
                        <a:lnTo>
                          <a:pt x="911" y="636"/>
                        </a:lnTo>
                        <a:lnTo>
                          <a:pt x="908" y="636"/>
                        </a:lnTo>
                        <a:lnTo>
                          <a:pt x="908" y="632"/>
                        </a:lnTo>
                        <a:lnTo>
                          <a:pt x="904" y="632"/>
                        </a:lnTo>
                        <a:lnTo>
                          <a:pt x="899" y="632"/>
                        </a:lnTo>
                        <a:lnTo>
                          <a:pt x="896" y="632"/>
                        </a:lnTo>
                        <a:lnTo>
                          <a:pt x="896" y="636"/>
                        </a:lnTo>
                        <a:lnTo>
                          <a:pt x="892" y="636"/>
                        </a:lnTo>
                        <a:lnTo>
                          <a:pt x="889" y="636"/>
                        </a:lnTo>
                        <a:lnTo>
                          <a:pt x="889" y="643"/>
                        </a:lnTo>
                        <a:lnTo>
                          <a:pt x="885" y="648"/>
                        </a:lnTo>
                        <a:lnTo>
                          <a:pt x="880" y="648"/>
                        </a:lnTo>
                        <a:lnTo>
                          <a:pt x="877" y="648"/>
                        </a:lnTo>
                        <a:lnTo>
                          <a:pt x="877" y="651"/>
                        </a:lnTo>
                        <a:lnTo>
                          <a:pt x="877" y="656"/>
                        </a:lnTo>
                        <a:lnTo>
                          <a:pt x="877" y="661"/>
                        </a:lnTo>
                        <a:lnTo>
                          <a:pt x="877" y="665"/>
                        </a:lnTo>
                        <a:lnTo>
                          <a:pt x="877" y="670"/>
                        </a:lnTo>
                        <a:lnTo>
                          <a:pt x="880" y="670"/>
                        </a:lnTo>
                        <a:lnTo>
                          <a:pt x="880" y="674"/>
                        </a:lnTo>
                        <a:lnTo>
                          <a:pt x="877" y="679"/>
                        </a:lnTo>
                        <a:lnTo>
                          <a:pt x="877" y="683"/>
                        </a:lnTo>
                        <a:lnTo>
                          <a:pt x="873" y="683"/>
                        </a:lnTo>
                        <a:lnTo>
                          <a:pt x="869" y="683"/>
                        </a:lnTo>
                        <a:lnTo>
                          <a:pt x="869" y="688"/>
                        </a:lnTo>
                        <a:lnTo>
                          <a:pt x="866" y="688"/>
                        </a:lnTo>
                        <a:lnTo>
                          <a:pt x="862" y="692"/>
                        </a:lnTo>
                        <a:lnTo>
                          <a:pt x="862" y="696"/>
                        </a:lnTo>
                        <a:lnTo>
                          <a:pt x="857" y="696"/>
                        </a:lnTo>
                        <a:lnTo>
                          <a:pt x="857" y="701"/>
                        </a:lnTo>
                        <a:lnTo>
                          <a:pt x="854" y="701"/>
                        </a:lnTo>
                        <a:lnTo>
                          <a:pt x="854" y="706"/>
                        </a:lnTo>
                        <a:lnTo>
                          <a:pt x="857" y="706"/>
                        </a:lnTo>
                        <a:lnTo>
                          <a:pt x="857" y="709"/>
                        </a:lnTo>
                        <a:lnTo>
                          <a:pt x="854" y="721"/>
                        </a:lnTo>
                        <a:lnTo>
                          <a:pt x="850" y="721"/>
                        </a:lnTo>
                        <a:lnTo>
                          <a:pt x="850" y="725"/>
                        </a:lnTo>
                        <a:lnTo>
                          <a:pt x="846" y="725"/>
                        </a:lnTo>
                        <a:lnTo>
                          <a:pt x="843" y="730"/>
                        </a:lnTo>
                        <a:lnTo>
                          <a:pt x="843" y="735"/>
                        </a:lnTo>
                        <a:lnTo>
                          <a:pt x="838" y="735"/>
                        </a:lnTo>
                        <a:lnTo>
                          <a:pt x="833" y="735"/>
                        </a:lnTo>
                        <a:lnTo>
                          <a:pt x="833" y="738"/>
                        </a:lnTo>
                        <a:lnTo>
                          <a:pt x="828" y="735"/>
                        </a:lnTo>
                        <a:lnTo>
                          <a:pt x="825" y="730"/>
                        </a:lnTo>
                        <a:lnTo>
                          <a:pt x="821" y="730"/>
                        </a:lnTo>
                        <a:lnTo>
                          <a:pt x="814" y="730"/>
                        </a:lnTo>
                        <a:lnTo>
                          <a:pt x="810" y="730"/>
                        </a:lnTo>
                        <a:lnTo>
                          <a:pt x="805" y="730"/>
                        </a:lnTo>
                        <a:lnTo>
                          <a:pt x="805" y="725"/>
                        </a:lnTo>
                        <a:lnTo>
                          <a:pt x="802" y="725"/>
                        </a:lnTo>
                        <a:lnTo>
                          <a:pt x="802" y="721"/>
                        </a:lnTo>
                        <a:lnTo>
                          <a:pt x="798" y="721"/>
                        </a:lnTo>
                        <a:lnTo>
                          <a:pt x="795" y="721"/>
                        </a:lnTo>
                        <a:lnTo>
                          <a:pt x="791" y="721"/>
                        </a:lnTo>
                        <a:lnTo>
                          <a:pt x="791" y="714"/>
                        </a:lnTo>
                        <a:lnTo>
                          <a:pt x="786" y="714"/>
                        </a:lnTo>
                        <a:lnTo>
                          <a:pt x="786" y="709"/>
                        </a:lnTo>
                        <a:lnTo>
                          <a:pt x="782" y="709"/>
                        </a:lnTo>
                        <a:lnTo>
                          <a:pt x="779" y="709"/>
                        </a:lnTo>
                        <a:lnTo>
                          <a:pt x="775" y="709"/>
                        </a:lnTo>
                        <a:lnTo>
                          <a:pt x="775" y="714"/>
                        </a:lnTo>
                        <a:lnTo>
                          <a:pt x="772" y="721"/>
                        </a:lnTo>
                        <a:lnTo>
                          <a:pt x="767" y="721"/>
                        </a:lnTo>
                        <a:lnTo>
                          <a:pt x="763" y="721"/>
                        </a:lnTo>
                        <a:lnTo>
                          <a:pt x="760" y="725"/>
                        </a:lnTo>
                        <a:lnTo>
                          <a:pt x="756" y="725"/>
                        </a:lnTo>
                        <a:lnTo>
                          <a:pt x="752" y="725"/>
                        </a:lnTo>
                        <a:lnTo>
                          <a:pt x="749" y="725"/>
                        </a:lnTo>
                        <a:lnTo>
                          <a:pt x="743" y="725"/>
                        </a:lnTo>
                        <a:lnTo>
                          <a:pt x="739" y="730"/>
                        </a:lnTo>
                        <a:lnTo>
                          <a:pt x="734" y="730"/>
                        </a:lnTo>
                        <a:lnTo>
                          <a:pt x="734" y="735"/>
                        </a:lnTo>
                        <a:lnTo>
                          <a:pt x="731" y="738"/>
                        </a:lnTo>
                        <a:lnTo>
                          <a:pt x="727" y="738"/>
                        </a:lnTo>
                        <a:lnTo>
                          <a:pt x="727" y="743"/>
                        </a:lnTo>
                        <a:lnTo>
                          <a:pt x="727" y="748"/>
                        </a:lnTo>
                        <a:lnTo>
                          <a:pt x="723" y="748"/>
                        </a:lnTo>
                        <a:lnTo>
                          <a:pt x="720" y="748"/>
                        </a:lnTo>
                        <a:lnTo>
                          <a:pt x="711" y="748"/>
                        </a:lnTo>
                        <a:lnTo>
                          <a:pt x="708" y="748"/>
                        </a:lnTo>
                        <a:lnTo>
                          <a:pt x="704" y="748"/>
                        </a:lnTo>
                        <a:lnTo>
                          <a:pt x="700" y="748"/>
                        </a:lnTo>
                        <a:lnTo>
                          <a:pt x="692" y="748"/>
                        </a:lnTo>
                        <a:lnTo>
                          <a:pt x="692" y="752"/>
                        </a:lnTo>
                        <a:lnTo>
                          <a:pt x="688" y="752"/>
                        </a:lnTo>
                        <a:lnTo>
                          <a:pt x="685" y="756"/>
                        </a:lnTo>
                        <a:lnTo>
                          <a:pt x="681" y="756"/>
                        </a:lnTo>
                        <a:lnTo>
                          <a:pt x="678" y="756"/>
                        </a:lnTo>
                        <a:lnTo>
                          <a:pt x="673" y="756"/>
                        </a:lnTo>
                        <a:lnTo>
                          <a:pt x="669" y="752"/>
                        </a:lnTo>
                        <a:lnTo>
                          <a:pt x="669" y="748"/>
                        </a:lnTo>
                        <a:lnTo>
                          <a:pt x="665" y="748"/>
                        </a:lnTo>
                        <a:lnTo>
                          <a:pt x="662" y="748"/>
                        </a:lnTo>
                        <a:lnTo>
                          <a:pt x="658" y="748"/>
                        </a:lnTo>
                        <a:lnTo>
                          <a:pt x="652" y="748"/>
                        </a:lnTo>
                        <a:lnTo>
                          <a:pt x="644" y="752"/>
                        </a:lnTo>
                        <a:lnTo>
                          <a:pt x="640" y="752"/>
                        </a:lnTo>
                        <a:lnTo>
                          <a:pt x="637" y="752"/>
                        </a:lnTo>
                        <a:lnTo>
                          <a:pt x="633" y="752"/>
                        </a:lnTo>
                        <a:lnTo>
                          <a:pt x="633" y="748"/>
                        </a:lnTo>
                        <a:lnTo>
                          <a:pt x="629" y="748"/>
                        </a:lnTo>
                        <a:lnTo>
                          <a:pt x="626" y="748"/>
                        </a:lnTo>
                        <a:lnTo>
                          <a:pt x="621" y="748"/>
                        </a:lnTo>
                        <a:lnTo>
                          <a:pt x="617" y="748"/>
                        </a:lnTo>
                        <a:lnTo>
                          <a:pt x="614" y="752"/>
                        </a:lnTo>
                        <a:lnTo>
                          <a:pt x="614" y="756"/>
                        </a:lnTo>
                        <a:lnTo>
                          <a:pt x="610" y="756"/>
                        </a:lnTo>
                        <a:lnTo>
                          <a:pt x="606" y="756"/>
                        </a:lnTo>
                        <a:lnTo>
                          <a:pt x="602" y="756"/>
                        </a:lnTo>
                        <a:lnTo>
                          <a:pt x="602" y="752"/>
                        </a:lnTo>
                        <a:lnTo>
                          <a:pt x="606" y="748"/>
                        </a:lnTo>
                        <a:lnTo>
                          <a:pt x="602" y="743"/>
                        </a:lnTo>
                        <a:lnTo>
                          <a:pt x="598" y="743"/>
                        </a:lnTo>
                        <a:lnTo>
                          <a:pt x="598" y="738"/>
                        </a:lnTo>
                        <a:lnTo>
                          <a:pt x="594" y="738"/>
                        </a:lnTo>
                        <a:lnTo>
                          <a:pt x="591" y="738"/>
                        </a:lnTo>
                        <a:lnTo>
                          <a:pt x="591" y="743"/>
                        </a:lnTo>
                        <a:lnTo>
                          <a:pt x="591" y="738"/>
                        </a:lnTo>
                        <a:lnTo>
                          <a:pt x="587" y="738"/>
                        </a:lnTo>
                        <a:lnTo>
                          <a:pt x="582" y="738"/>
                        </a:lnTo>
                        <a:lnTo>
                          <a:pt x="579" y="738"/>
                        </a:lnTo>
                        <a:lnTo>
                          <a:pt x="575" y="738"/>
                        </a:lnTo>
                        <a:lnTo>
                          <a:pt x="571" y="738"/>
                        </a:lnTo>
                        <a:lnTo>
                          <a:pt x="562" y="743"/>
                        </a:lnTo>
                        <a:lnTo>
                          <a:pt x="558" y="743"/>
                        </a:lnTo>
                        <a:lnTo>
                          <a:pt x="555" y="743"/>
                        </a:lnTo>
                        <a:lnTo>
                          <a:pt x="550" y="743"/>
                        </a:lnTo>
                        <a:lnTo>
                          <a:pt x="546" y="743"/>
                        </a:lnTo>
                        <a:lnTo>
                          <a:pt x="546" y="738"/>
                        </a:lnTo>
                        <a:lnTo>
                          <a:pt x="543" y="738"/>
                        </a:lnTo>
                        <a:lnTo>
                          <a:pt x="539" y="738"/>
                        </a:lnTo>
                        <a:lnTo>
                          <a:pt x="535" y="743"/>
                        </a:lnTo>
                        <a:lnTo>
                          <a:pt x="530" y="748"/>
                        </a:lnTo>
                        <a:lnTo>
                          <a:pt x="527" y="748"/>
                        </a:lnTo>
                        <a:lnTo>
                          <a:pt x="527" y="752"/>
                        </a:lnTo>
                        <a:lnTo>
                          <a:pt x="523" y="752"/>
                        </a:lnTo>
                        <a:lnTo>
                          <a:pt x="523" y="756"/>
                        </a:lnTo>
                        <a:lnTo>
                          <a:pt x="520" y="756"/>
                        </a:lnTo>
                        <a:lnTo>
                          <a:pt x="516" y="756"/>
                        </a:lnTo>
                        <a:lnTo>
                          <a:pt x="511" y="752"/>
                        </a:lnTo>
                        <a:lnTo>
                          <a:pt x="511" y="748"/>
                        </a:lnTo>
                        <a:lnTo>
                          <a:pt x="511" y="743"/>
                        </a:lnTo>
                        <a:lnTo>
                          <a:pt x="511" y="738"/>
                        </a:lnTo>
                        <a:lnTo>
                          <a:pt x="508" y="738"/>
                        </a:lnTo>
                        <a:lnTo>
                          <a:pt x="508" y="735"/>
                        </a:lnTo>
                        <a:lnTo>
                          <a:pt x="508" y="730"/>
                        </a:lnTo>
                        <a:lnTo>
                          <a:pt x="508" y="725"/>
                        </a:lnTo>
                        <a:lnTo>
                          <a:pt x="504" y="721"/>
                        </a:lnTo>
                        <a:lnTo>
                          <a:pt x="500" y="721"/>
                        </a:lnTo>
                        <a:lnTo>
                          <a:pt x="497" y="721"/>
                        </a:lnTo>
                        <a:lnTo>
                          <a:pt x="497" y="714"/>
                        </a:lnTo>
                        <a:lnTo>
                          <a:pt x="497" y="709"/>
                        </a:lnTo>
                        <a:lnTo>
                          <a:pt x="497" y="706"/>
                        </a:lnTo>
                        <a:lnTo>
                          <a:pt x="493" y="706"/>
                        </a:lnTo>
                        <a:lnTo>
                          <a:pt x="493" y="701"/>
                        </a:lnTo>
                        <a:lnTo>
                          <a:pt x="497" y="701"/>
                        </a:lnTo>
                        <a:lnTo>
                          <a:pt x="497" y="696"/>
                        </a:lnTo>
                        <a:lnTo>
                          <a:pt x="497" y="692"/>
                        </a:lnTo>
                        <a:lnTo>
                          <a:pt x="500" y="692"/>
                        </a:lnTo>
                        <a:lnTo>
                          <a:pt x="500" y="688"/>
                        </a:lnTo>
                        <a:lnTo>
                          <a:pt x="500" y="683"/>
                        </a:lnTo>
                        <a:lnTo>
                          <a:pt x="500" y="679"/>
                        </a:lnTo>
                        <a:lnTo>
                          <a:pt x="497" y="679"/>
                        </a:lnTo>
                        <a:lnTo>
                          <a:pt x="493" y="679"/>
                        </a:lnTo>
                        <a:lnTo>
                          <a:pt x="488" y="679"/>
                        </a:lnTo>
                        <a:lnTo>
                          <a:pt x="485" y="679"/>
                        </a:lnTo>
                        <a:lnTo>
                          <a:pt x="481" y="679"/>
                        </a:lnTo>
                        <a:lnTo>
                          <a:pt x="481" y="674"/>
                        </a:lnTo>
                        <a:lnTo>
                          <a:pt x="475" y="679"/>
                        </a:lnTo>
                        <a:lnTo>
                          <a:pt x="475" y="674"/>
                        </a:lnTo>
                        <a:lnTo>
                          <a:pt x="471" y="674"/>
                        </a:lnTo>
                        <a:lnTo>
                          <a:pt x="468" y="674"/>
                        </a:lnTo>
                        <a:lnTo>
                          <a:pt x="464" y="674"/>
                        </a:lnTo>
                        <a:lnTo>
                          <a:pt x="459" y="674"/>
                        </a:lnTo>
                        <a:lnTo>
                          <a:pt x="456" y="674"/>
                        </a:lnTo>
                        <a:lnTo>
                          <a:pt x="456" y="670"/>
                        </a:lnTo>
                        <a:lnTo>
                          <a:pt x="452" y="670"/>
                        </a:lnTo>
                        <a:lnTo>
                          <a:pt x="452" y="665"/>
                        </a:lnTo>
                        <a:lnTo>
                          <a:pt x="448" y="665"/>
                        </a:lnTo>
                        <a:lnTo>
                          <a:pt x="445" y="665"/>
                        </a:lnTo>
                        <a:lnTo>
                          <a:pt x="440" y="665"/>
                        </a:lnTo>
                        <a:lnTo>
                          <a:pt x="436" y="661"/>
                        </a:lnTo>
                        <a:lnTo>
                          <a:pt x="436" y="651"/>
                        </a:lnTo>
                        <a:lnTo>
                          <a:pt x="436" y="648"/>
                        </a:lnTo>
                        <a:lnTo>
                          <a:pt x="433" y="648"/>
                        </a:lnTo>
                        <a:lnTo>
                          <a:pt x="429" y="648"/>
                        </a:lnTo>
                        <a:lnTo>
                          <a:pt x="426" y="648"/>
                        </a:lnTo>
                        <a:lnTo>
                          <a:pt x="426" y="643"/>
                        </a:lnTo>
                        <a:lnTo>
                          <a:pt x="426" y="636"/>
                        </a:lnTo>
                        <a:lnTo>
                          <a:pt x="422" y="636"/>
                        </a:lnTo>
                        <a:lnTo>
                          <a:pt x="422" y="632"/>
                        </a:lnTo>
                        <a:lnTo>
                          <a:pt x="417" y="632"/>
                        </a:lnTo>
                        <a:lnTo>
                          <a:pt x="413" y="632"/>
                        </a:lnTo>
                        <a:lnTo>
                          <a:pt x="413" y="627"/>
                        </a:lnTo>
                        <a:lnTo>
                          <a:pt x="410" y="627"/>
                        </a:lnTo>
                        <a:lnTo>
                          <a:pt x="406" y="627"/>
                        </a:lnTo>
                        <a:lnTo>
                          <a:pt x="406" y="623"/>
                        </a:lnTo>
                        <a:lnTo>
                          <a:pt x="403" y="623"/>
                        </a:lnTo>
                        <a:lnTo>
                          <a:pt x="398" y="623"/>
                        </a:lnTo>
                        <a:lnTo>
                          <a:pt x="398" y="627"/>
                        </a:lnTo>
                        <a:lnTo>
                          <a:pt x="394" y="632"/>
                        </a:lnTo>
                        <a:lnTo>
                          <a:pt x="391" y="632"/>
                        </a:lnTo>
                        <a:lnTo>
                          <a:pt x="385" y="632"/>
                        </a:lnTo>
                        <a:lnTo>
                          <a:pt x="385" y="636"/>
                        </a:lnTo>
                        <a:lnTo>
                          <a:pt x="381" y="636"/>
                        </a:lnTo>
                        <a:lnTo>
                          <a:pt x="377" y="636"/>
                        </a:lnTo>
                        <a:lnTo>
                          <a:pt x="381" y="643"/>
                        </a:lnTo>
                        <a:lnTo>
                          <a:pt x="381" y="648"/>
                        </a:lnTo>
                        <a:lnTo>
                          <a:pt x="377" y="648"/>
                        </a:lnTo>
                        <a:lnTo>
                          <a:pt x="374" y="648"/>
                        </a:lnTo>
                        <a:lnTo>
                          <a:pt x="374" y="651"/>
                        </a:lnTo>
                        <a:lnTo>
                          <a:pt x="370" y="651"/>
                        </a:lnTo>
                        <a:lnTo>
                          <a:pt x="370" y="656"/>
                        </a:lnTo>
                        <a:lnTo>
                          <a:pt x="365" y="661"/>
                        </a:lnTo>
                        <a:lnTo>
                          <a:pt x="365" y="665"/>
                        </a:lnTo>
                        <a:lnTo>
                          <a:pt x="362" y="665"/>
                        </a:lnTo>
                        <a:lnTo>
                          <a:pt x="358" y="670"/>
                        </a:lnTo>
                        <a:lnTo>
                          <a:pt x="358" y="674"/>
                        </a:lnTo>
                        <a:lnTo>
                          <a:pt x="358" y="679"/>
                        </a:lnTo>
                        <a:lnTo>
                          <a:pt x="358" y="683"/>
                        </a:lnTo>
                        <a:lnTo>
                          <a:pt x="358" y="688"/>
                        </a:lnTo>
                        <a:lnTo>
                          <a:pt x="358" y="692"/>
                        </a:lnTo>
                        <a:lnTo>
                          <a:pt x="358" y="696"/>
                        </a:lnTo>
                        <a:lnTo>
                          <a:pt x="354" y="696"/>
                        </a:lnTo>
                        <a:lnTo>
                          <a:pt x="351" y="696"/>
                        </a:lnTo>
                        <a:lnTo>
                          <a:pt x="346" y="696"/>
                        </a:lnTo>
                        <a:lnTo>
                          <a:pt x="339" y="696"/>
                        </a:lnTo>
                        <a:lnTo>
                          <a:pt x="335" y="696"/>
                        </a:lnTo>
                        <a:lnTo>
                          <a:pt x="335" y="692"/>
                        </a:lnTo>
                        <a:lnTo>
                          <a:pt x="331" y="692"/>
                        </a:lnTo>
                        <a:lnTo>
                          <a:pt x="331" y="688"/>
                        </a:lnTo>
                        <a:lnTo>
                          <a:pt x="327" y="688"/>
                        </a:lnTo>
                        <a:lnTo>
                          <a:pt x="327" y="683"/>
                        </a:lnTo>
                        <a:lnTo>
                          <a:pt x="327" y="679"/>
                        </a:lnTo>
                        <a:lnTo>
                          <a:pt x="327" y="674"/>
                        </a:lnTo>
                        <a:lnTo>
                          <a:pt x="327" y="670"/>
                        </a:lnTo>
                        <a:lnTo>
                          <a:pt x="331" y="670"/>
                        </a:lnTo>
                        <a:lnTo>
                          <a:pt x="331" y="665"/>
                        </a:lnTo>
                        <a:lnTo>
                          <a:pt x="331" y="661"/>
                        </a:lnTo>
                        <a:lnTo>
                          <a:pt x="331" y="656"/>
                        </a:lnTo>
                        <a:lnTo>
                          <a:pt x="327" y="656"/>
                        </a:lnTo>
                        <a:lnTo>
                          <a:pt x="327" y="651"/>
                        </a:lnTo>
                        <a:lnTo>
                          <a:pt x="327" y="648"/>
                        </a:lnTo>
                        <a:lnTo>
                          <a:pt x="327" y="643"/>
                        </a:lnTo>
                        <a:lnTo>
                          <a:pt x="331" y="643"/>
                        </a:lnTo>
                        <a:lnTo>
                          <a:pt x="335" y="643"/>
                        </a:lnTo>
                        <a:lnTo>
                          <a:pt x="335" y="636"/>
                        </a:lnTo>
                        <a:lnTo>
                          <a:pt x="339" y="632"/>
                        </a:lnTo>
                        <a:lnTo>
                          <a:pt x="339" y="627"/>
                        </a:lnTo>
                        <a:lnTo>
                          <a:pt x="342" y="627"/>
                        </a:lnTo>
                        <a:lnTo>
                          <a:pt x="346" y="627"/>
                        </a:lnTo>
                        <a:lnTo>
                          <a:pt x="346" y="623"/>
                        </a:lnTo>
                        <a:lnTo>
                          <a:pt x="342" y="619"/>
                        </a:lnTo>
                        <a:lnTo>
                          <a:pt x="339" y="619"/>
                        </a:lnTo>
                        <a:lnTo>
                          <a:pt x="339" y="614"/>
                        </a:lnTo>
                        <a:lnTo>
                          <a:pt x="339" y="609"/>
                        </a:lnTo>
                        <a:lnTo>
                          <a:pt x="335" y="609"/>
                        </a:lnTo>
                        <a:lnTo>
                          <a:pt x="335" y="606"/>
                        </a:lnTo>
                        <a:lnTo>
                          <a:pt x="331" y="609"/>
                        </a:lnTo>
                        <a:lnTo>
                          <a:pt x="327" y="609"/>
                        </a:lnTo>
                        <a:lnTo>
                          <a:pt x="323" y="609"/>
                        </a:lnTo>
                        <a:lnTo>
                          <a:pt x="319" y="609"/>
                        </a:lnTo>
                        <a:lnTo>
                          <a:pt x="316" y="609"/>
                        </a:lnTo>
                        <a:lnTo>
                          <a:pt x="312" y="609"/>
                        </a:lnTo>
                        <a:lnTo>
                          <a:pt x="312" y="614"/>
                        </a:lnTo>
                        <a:lnTo>
                          <a:pt x="309" y="614"/>
                        </a:lnTo>
                        <a:lnTo>
                          <a:pt x="309" y="619"/>
                        </a:lnTo>
                        <a:lnTo>
                          <a:pt x="304" y="614"/>
                        </a:lnTo>
                        <a:lnTo>
                          <a:pt x="299" y="614"/>
                        </a:lnTo>
                        <a:lnTo>
                          <a:pt x="299" y="609"/>
                        </a:lnTo>
                        <a:lnTo>
                          <a:pt x="299" y="606"/>
                        </a:lnTo>
                        <a:lnTo>
                          <a:pt x="294" y="606"/>
                        </a:lnTo>
                        <a:lnTo>
                          <a:pt x="294" y="601"/>
                        </a:lnTo>
                        <a:lnTo>
                          <a:pt x="290" y="601"/>
                        </a:lnTo>
                        <a:lnTo>
                          <a:pt x="287" y="606"/>
                        </a:lnTo>
                        <a:lnTo>
                          <a:pt x="283" y="606"/>
                        </a:lnTo>
                        <a:lnTo>
                          <a:pt x="283" y="609"/>
                        </a:lnTo>
                        <a:lnTo>
                          <a:pt x="283" y="614"/>
                        </a:lnTo>
                        <a:lnTo>
                          <a:pt x="280" y="619"/>
                        </a:lnTo>
                        <a:lnTo>
                          <a:pt x="275" y="619"/>
                        </a:lnTo>
                        <a:lnTo>
                          <a:pt x="271" y="623"/>
                        </a:lnTo>
                        <a:lnTo>
                          <a:pt x="268" y="623"/>
                        </a:lnTo>
                        <a:lnTo>
                          <a:pt x="264" y="623"/>
                        </a:lnTo>
                        <a:lnTo>
                          <a:pt x="260" y="623"/>
                        </a:lnTo>
                        <a:lnTo>
                          <a:pt x="260" y="627"/>
                        </a:lnTo>
                        <a:lnTo>
                          <a:pt x="260" y="632"/>
                        </a:lnTo>
                        <a:lnTo>
                          <a:pt x="256" y="632"/>
                        </a:lnTo>
                        <a:lnTo>
                          <a:pt x="252" y="627"/>
                        </a:lnTo>
                        <a:lnTo>
                          <a:pt x="248" y="627"/>
                        </a:lnTo>
                        <a:lnTo>
                          <a:pt x="248" y="632"/>
                        </a:lnTo>
                        <a:lnTo>
                          <a:pt x="245" y="632"/>
                        </a:lnTo>
                        <a:lnTo>
                          <a:pt x="245" y="627"/>
                        </a:lnTo>
                        <a:lnTo>
                          <a:pt x="241" y="627"/>
                        </a:lnTo>
                        <a:lnTo>
                          <a:pt x="237" y="627"/>
                        </a:lnTo>
                        <a:lnTo>
                          <a:pt x="233" y="627"/>
                        </a:lnTo>
                        <a:lnTo>
                          <a:pt x="233" y="632"/>
                        </a:lnTo>
                        <a:lnTo>
                          <a:pt x="233" y="636"/>
                        </a:lnTo>
                        <a:lnTo>
                          <a:pt x="233" y="643"/>
                        </a:lnTo>
                        <a:lnTo>
                          <a:pt x="233" y="648"/>
                        </a:lnTo>
                        <a:lnTo>
                          <a:pt x="229" y="648"/>
                        </a:lnTo>
                        <a:lnTo>
                          <a:pt x="225" y="648"/>
                        </a:lnTo>
                        <a:lnTo>
                          <a:pt x="225" y="651"/>
                        </a:lnTo>
                        <a:lnTo>
                          <a:pt x="229" y="651"/>
                        </a:lnTo>
                        <a:lnTo>
                          <a:pt x="229" y="656"/>
                        </a:lnTo>
                        <a:lnTo>
                          <a:pt x="229" y="661"/>
                        </a:lnTo>
                        <a:lnTo>
                          <a:pt x="225" y="661"/>
                        </a:lnTo>
                        <a:lnTo>
                          <a:pt x="225" y="665"/>
                        </a:lnTo>
                        <a:lnTo>
                          <a:pt x="225" y="670"/>
                        </a:lnTo>
                        <a:lnTo>
                          <a:pt x="225" y="674"/>
                        </a:lnTo>
                        <a:lnTo>
                          <a:pt x="222" y="674"/>
                        </a:lnTo>
                        <a:lnTo>
                          <a:pt x="218" y="670"/>
                        </a:lnTo>
                        <a:lnTo>
                          <a:pt x="213" y="670"/>
                        </a:lnTo>
                        <a:lnTo>
                          <a:pt x="209" y="674"/>
                        </a:lnTo>
                        <a:lnTo>
                          <a:pt x="204" y="674"/>
                        </a:lnTo>
                        <a:lnTo>
                          <a:pt x="200" y="674"/>
                        </a:lnTo>
                        <a:lnTo>
                          <a:pt x="200" y="679"/>
                        </a:lnTo>
                        <a:lnTo>
                          <a:pt x="196" y="679"/>
                        </a:lnTo>
                        <a:lnTo>
                          <a:pt x="193" y="679"/>
                        </a:lnTo>
                        <a:lnTo>
                          <a:pt x="189" y="679"/>
                        </a:lnTo>
                        <a:lnTo>
                          <a:pt x="184" y="679"/>
                        </a:lnTo>
                        <a:lnTo>
                          <a:pt x="181" y="679"/>
                        </a:lnTo>
                        <a:lnTo>
                          <a:pt x="177" y="679"/>
                        </a:lnTo>
                        <a:lnTo>
                          <a:pt x="174" y="679"/>
                        </a:lnTo>
                        <a:lnTo>
                          <a:pt x="170" y="679"/>
                        </a:lnTo>
                        <a:lnTo>
                          <a:pt x="170" y="683"/>
                        </a:lnTo>
                        <a:lnTo>
                          <a:pt x="166" y="683"/>
                        </a:lnTo>
                        <a:lnTo>
                          <a:pt x="161" y="683"/>
                        </a:lnTo>
                        <a:lnTo>
                          <a:pt x="161" y="679"/>
                        </a:lnTo>
                        <a:lnTo>
                          <a:pt x="158" y="679"/>
                        </a:lnTo>
                        <a:lnTo>
                          <a:pt x="154" y="679"/>
                        </a:lnTo>
                        <a:lnTo>
                          <a:pt x="154" y="683"/>
                        </a:lnTo>
                        <a:lnTo>
                          <a:pt x="151" y="683"/>
                        </a:lnTo>
                        <a:lnTo>
                          <a:pt x="147" y="679"/>
                        </a:lnTo>
                        <a:lnTo>
                          <a:pt x="142" y="683"/>
                        </a:lnTo>
                        <a:lnTo>
                          <a:pt x="142" y="688"/>
                        </a:lnTo>
                        <a:lnTo>
                          <a:pt x="142" y="692"/>
                        </a:lnTo>
                        <a:lnTo>
                          <a:pt x="142" y="696"/>
                        </a:lnTo>
                        <a:lnTo>
                          <a:pt x="139" y="696"/>
                        </a:lnTo>
                        <a:lnTo>
                          <a:pt x="135" y="701"/>
                        </a:lnTo>
                        <a:lnTo>
                          <a:pt x="131" y="706"/>
                        </a:lnTo>
                        <a:lnTo>
                          <a:pt x="128" y="706"/>
                        </a:lnTo>
                        <a:lnTo>
                          <a:pt x="122" y="709"/>
                        </a:lnTo>
                        <a:lnTo>
                          <a:pt x="118" y="709"/>
                        </a:lnTo>
                        <a:lnTo>
                          <a:pt x="114" y="714"/>
                        </a:lnTo>
                        <a:lnTo>
                          <a:pt x="114" y="721"/>
                        </a:lnTo>
                        <a:lnTo>
                          <a:pt x="110" y="725"/>
                        </a:lnTo>
                        <a:lnTo>
                          <a:pt x="106" y="730"/>
                        </a:lnTo>
                        <a:lnTo>
                          <a:pt x="102" y="730"/>
                        </a:lnTo>
                        <a:lnTo>
                          <a:pt x="102" y="735"/>
                        </a:lnTo>
                        <a:lnTo>
                          <a:pt x="99" y="735"/>
                        </a:lnTo>
                        <a:lnTo>
                          <a:pt x="95" y="738"/>
                        </a:lnTo>
                        <a:lnTo>
                          <a:pt x="90" y="738"/>
                        </a:lnTo>
                        <a:lnTo>
                          <a:pt x="87" y="738"/>
                        </a:lnTo>
                        <a:lnTo>
                          <a:pt x="83" y="738"/>
                        </a:lnTo>
                        <a:lnTo>
                          <a:pt x="79" y="738"/>
                        </a:lnTo>
                        <a:lnTo>
                          <a:pt x="79" y="743"/>
                        </a:lnTo>
                        <a:lnTo>
                          <a:pt x="76" y="748"/>
                        </a:lnTo>
                        <a:lnTo>
                          <a:pt x="71" y="752"/>
                        </a:lnTo>
                        <a:lnTo>
                          <a:pt x="67" y="756"/>
                        </a:lnTo>
                        <a:lnTo>
                          <a:pt x="67" y="761"/>
                        </a:lnTo>
                        <a:lnTo>
                          <a:pt x="64" y="765"/>
                        </a:lnTo>
                        <a:lnTo>
                          <a:pt x="64" y="770"/>
                        </a:lnTo>
                        <a:lnTo>
                          <a:pt x="64" y="774"/>
                        </a:lnTo>
                        <a:lnTo>
                          <a:pt x="60" y="774"/>
                        </a:lnTo>
                        <a:lnTo>
                          <a:pt x="57" y="783"/>
                        </a:lnTo>
                        <a:lnTo>
                          <a:pt x="53" y="783"/>
                        </a:lnTo>
                        <a:lnTo>
                          <a:pt x="53" y="788"/>
                        </a:lnTo>
                        <a:lnTo>
                          <a:pt x="53" y="794"/>
                        </a:lnTo>
                        <a:lnTo>
                          <a:pt x="48" y="794"/>
                        </a:lnTo>
                        <a:lnTo>
                          <a:pt x="48" y="799"/>
                        </a:lnTo>
                        <a:lnTo>
                          <a:pt x="45" y="799"/>
                        </a:lnTo>
                        <a:lnTo>
                          <a:pt x="45" y="803"/>
                        </a:lnTo>
                        <a:lnTo>
                          <a:pt x="41" y="807"/>
                        </a:lnTo>
                        <a:lnTo>
                          <a:pt x="41" y="812"/>
                        </a:lnTo>
                        <a:lnTo>
                          <a:pt x="37" y="812"/>
                        </a:lnTo>
                        <a:lnTo>
                          <a:pt x="31" y="817"/>
                        </a:lnTo>
                        <a:lnTo>
                          <a:pt x="28" y="817"/>
                        </a:lnTo>
                        <a:lnTo>
                          <a:pt x="24" y="817"/>
                        </a:lnTo>
                        <a:lnTo>
                          <a:pt x="24" y="820"/>
                        </a:lnTo>
                        <a:lnTo>
                          <a:pt x="19" y="820"/>
                        </a:lnTo>
                        <a:lnTo>
                          <a:pt x="12" y="820"/>
                        </a:lnTo>
                        <a:lnTo>
                          <a:pt x="8" y="820"/>
                        </a:lnTo>
                        <a:lnTo>
                          <a:pt x="0" y="817"/>
                        </a:lnTo>
                        <a:lnTo>
                          <a:pt x="12" y="799"/>
                        </a:lnTo>
                        <a:lnTo>
                          <a:pt x="16" y="774"/>
                        </a:lnTo>
                        <a:lnTo>
                          <a:pt x="19" y="770"/>
                        </a:lnTo>
                        <a:lnTo>
                          <a:pt x="19" y="756"/>
                        </a:lnTo>
                        <a:lnTo>
                          <a:pt x="16" y="756"/>
                        </a:lnTo>
                        <a:lnTo>
                          <a:pt x="12" y="761"/>
                        </a:lnTo>
                        <a:lnTo>
                          <a:pt x="12" y="756"/>
                        </a:lnTo>
                        <a:lnTo>
                          <a:pt x="12" y="752"/>
                        </a:lnTo>
                        <a:lnTo>
                          <a:pt x="12" y="748"/>
                        </a:lnTo>
                        <a:lnTo>
                          <a:pt x="12" y="743"/>
                        </a:lnTo>
                        <a:lnTo>
                          <a:pt x="12" y="738"/>
                        </a:lnTo>
                        <a:lnTo>
                          <a:pt x="16" y="735"/>
                        </a:lnTo>
                        <a:lnTo>
                          <a:pt x="19" y="730"/>
                        </a:lnTo>
                        <a:lnTo>
                          <a:pt x="19" y="725"/>
                        </a:lnTo>
                        <a:lnTo>
                          <a:pt x="19" y="721"/>
                        </a:lnTo>
                        <a:lnTo>
                          <a:pt x="19" y="714"/>
                        </a:lnTo>
                        <a:lnTo>
                          <a:pt x="19" y="709"/>
                        </a:lnTo>
                        <a:lnTo>
                          <a:pt x="19" y="706"/>
                        </a:lnTo>
                        <a:lnTo>
                          <a:pt x="19" y="701"/>
                        </a:lnTo>
                        <a:lnTo>
                          <a:pt x="19" y="696"/>
                        </a:lnTo>
                        <a:lnTo>
                          <a:pt x="16" y="696"/>
                        </a:lnTo>
                        <a:lnTo>
                          <a:pt x="19" y="692"/>
                        </a:lnTo>
                        <a:lnTo>
                          <a:pt x="19" y="688"/>
                        </a:lnTo>
                        <a:lnTo>
                          <a:pt x="19" y="683"/>
                        </a:lnTo>
                        <a:lnTo>
                          <a:pt x="19" y="679"/>
                        </a:lnTo>
                        <a:lnTo>
                          <a:pt x="19" y="674"/>
                        </a:lnTo>
                        <a:lnTo>
                          <a:pt x="19" y="670"/>
                        </a:lnTo>
                        <a:lnTo>
                          <a:pt x="19" y="665"/>
                        </a:lnTo>
                        <a:lnTo>
                          <a:pt x="19" y="661"/>
                        </a:lnTo>
                        <a:lnTo>
                          <a:pt x="24" y="651"/>
                        </a:lnTo>
                        <a:lnTo>
                          <a:pt x="19" y="648"/>
                        </a:lnTo>
                        <a:lnTo>
                          <a:pt x="19" y="643"/>
                        </a:lnTo>
                        <a:lnTo>
                          <a:pt x="19" y="636"/>
                        </a:lnTo>
                        <a:lnTo>
                          <a:pt x="19" y="632"/>
                        </a:lnTo>
                        <a:lnTo>
                          <a:pt x="19" y="627"/>
                        </a:lnTo>
                        <a:lnTo>
                          <a:pt x="19" y="623"/>
                        </a:lnTo>
                        <a:lnTo>
                          <a:pt x="19" y="619"/>
                        </a:lnTo>
                        <a:lnTo>
                          <a:pt x="19" y="614"/>
                        </a:lnTo>
                        <a:lnTo>
                          <a:pt x="19" y="609"/>
                        </a:lnTo>
                        <a:lnTo>
                          <a:pt x="19" y="606"/>
                        </a:lnTo>
                        <a:lnTo>
                          <a:pt x="16" y="606"/>
                        </a:lnTo>
                        <a:lnTo>
                          <a:pt x="12" y="606"/>
                        </a:lnTo>
                        <a:lnTo>
                          <a:pt x="12" y="601"/>
                        </a:lnTo>
                        <a:lnTo>
                          <a:pt x="12" y="596"/>
                        </a:lnTo>
                        <a:lnTo>
                          <a:pt x="12" y="592"/>
                        </a:lnTo>
                        <a:lnTo>
                          <a:pt x="12" y="588"/>
                        </a:lnTo>
                        <a:lnTo>
                          <a:pt x="12" y="583"/>
                        </a:lnTo>
                        <a:lnTo>
                          <a:pt x="12" y="579"/>
                        </a:lnTo>
                        <a:lnTo>
                          <a:pt x="16" y="579"/>
                        </a:lnTo>
                        <a:lnTo>
                          <a:pt x="19" y="574"/>
                        </a:lnTo>
                        <a:lnTo>
                          <a:pt x="19" y="569"/>
                        </a:lnTo>
                        <a:lnTo>
                          <a:pt x="19" y="565"/>
                        </a:lnTo>
                        <a:lnTo>
                          <a:pt x="19" y="559"/>
                        </a:lnTo>
                        <a:lnTo>
                          <a:pt x="24" y="559"/>
                        </a:lnTo>
                        <a:lnTo>
                          <a:pt x="24" y="554"/>
                        </a:lnTo>
                        <a:lnTo>
                          <a:pt x="24" y="550"/>
                        </a:lnTo>
                        <a:lnTo>
                          <a:pt x="28" y="550"/>
                        </a:lnTo>
                        <a:lnTo>
                          <a:pt x="28" y="545"/>
                        </a:lnTo>
                        <a:lnTo>
                          <a:pt x="28" y="541"/>
                        </a:lnTo>
                        <a:lnTo>
                          <a:pt x="31" y="532"/>
                        </a:lnTo>
                        <a:lnTo>
                          <a:pt x="28" y="519"/>
                        </a:lnTo>
                        <a:lnTo>
                          <a:pt x="28" y="514"/>
                        </a:lnTo>
                        <a:lnTo>
                          <a:pt x="31" y="509"/>
                        </a:lnTo>
                        <a:lnTo>
                          <a:pt x="31" y="506"/>
                        </a:lnTo>
                        <a:lnTo>
                          <a:pt x="31" y="501"/>
                        </a:lnTo>
                        <a:lnTo>
                          <a:pt x="31" y="496"/>
                        </a:lnTo>
                        <a:lnTo>
                          <a:pt x="37" y="492"/>
                        </a:lnTo>
                        <a:lnTo>
                          <a:pt x="37" y="487"/>
                        </a:lnTo>
                        <a:lnTo>
                          <a:pt x="37" y="480"/>
                        </a:lnTo>
                        <a:lnTo>
                          <a:pt x="37" y="477"/>
                        </a:lnTo>
                        <a:lnTo>
                          <a:pt x="37" y="467"/>
                        </a:lnTo>
                        <a:lnTo>
                          <a:pt x="37" y="463"/>
                        </a:lnTo>
                        <a:lnTo>
                          <a:pt x="31" y="459"/>
                        </a:lnTo>
                        <a:lnTo>
                          <a:pt x="28" y="454"/>
                        </a:lnTo>
                        <a:lnTo>
                          <a:pt x="24" y="454"/>
                        </a:lnTo>
                        <a:lnTo>
                          <a:pt x="24" y="450"/>
                        </a:lnTo>
                        <a:lnTo>
                          <a:pt x="19" y="450"/>
                        </a:lnTo>
                        <a:lnTo>
                          <a:pt x="19" y="445"/>
                        </a:lnTo>
                        <a:lnTo>
                          <a:pt x="19" y="440"/>
                        </a:lnTo>
                        <a:lnTo>
                          <a:pt x="19" y="437"/>
                        </a:lnTo>
                        <a:lnTo>
                          <a:pt x="19" y="432"/>
                        </a:lnTo>
                        <a:lnTo>
                          <a:pt x="19" y="427"/>
                        </a:lnTo>
                        <a:lnTo>
                          <a:pt x="19" y="422"/>
                        </a:lnTo>
                        <a:lnTo>
                          <a:pt x="24" y="422"/>
                        </a:lnTo>
                        <a:lnTo>
                          <a:pt x="24" y="419"/>
                        </a:lnTo>
                        <a:lnTo>
                          <a:pt x="28" y="414"/>
                        </a:lnTo>
                        <a:lnTo>
                          <a:pt x="31" y="409"/>
                        </a:lnTo>
                        <a:lnTo>
                          <a:pt x="31" y="403"/>
                        </a:lnTo>
                        <a:lnTo>
                          <a:pt x="37" y="403"/>
                        </a:lnTo>
                        <a:lnTo>
                          <a:pt x="41" y="398"/>
                        </a:lnTo>
                        <a:lnTo>
                          <a:pt x="45" y="390"/>
                        </a:lnTo>
                        <a:lnTo>
                          <a:pt x="48" y="385"/>
                        </a:lnTo>
                        <a:lnTo>
                          <a:pt x="53" y="380"/>
                        </a:lnTo>
                        <a:lnTo>
                          <a:pt x="53" y="377"/>
                        </a:lnTo>
                        <a:lnTo>
                          <a:pt x="53" y="367"/>
                        </a:lnTo>
                        <a:lnTo>
                          <a:pt x="53" y="363"/>
                        </a:lnTo>
                        <a:lnTo>
                          <a:pt x="57" y="363"/>
                        </a:lnTo>
                        <a:lnTo>
                          <a:pt x="60" y="363"/>
                        </a:lnTo>
                        <a:lnTo>
                          <a:pt x="64" y="358"/>
                        </a:lnTo>
                        <a:lnTo>
                          <a:pt x="67" y="358"/>
                        </a:lnTo>
                        <a:lnTo>
                          <a:pt x="67" y="354"/>
                        </a:lnTo>
                        <a:lnTo>
                          <a:pt x="71" y="354"/>
                        </a:lnTo>
                        <a:lnTo>
                          <a:pt x="76" y="350"/>
                        </a:lnTo>
                        <a:lnTo>
                          <a:pt x="76" y="345"/>
                        </a:lnTo>
                        <a:lnTo>
                          <a:pt x="79" y="345"/>
                        </a:lnTo>
                        <a:lnTo>
                          <a:pt x="79" y="340"/>
                        </a:lnTo>
                        <a:lnTo>
                          <a:pt x="83" y="337"/>
                        </a:lnTo>
                        <a:lnTo>
                          <a:pt x="87" y="332"/>
                        </a:lnTo>
                        <a:lnTo>
                          <a:pt x="87" y="321"/>
                        </a:lnTo>
                        <a:lnTo>
                          <a:pt x="90" y="321"/>
                        </a:lnTo>
                        <a:lnTo>
                          <a:pt x="90" y="316"/>
                        </a:lnTo>
                        <a:lnTo>
                          <a:pt x="90" y="311"/>
                        </a:lnTo>
                        <a:lnTo>
                          <a:pt x="90" y="308"/>
                        </a:lnTo>
                        <a:lnTo>
                          <a:pt x="95" y="303"/>
                        </a:lnTo>
                        <a:lnTo>
                          <a:pt x="95" y="298"/>
                        </a:lnTo>
                        <a:lnTo>
                          <a:pt x="95" y="295"/>
                        </a:lnTo>
                        <a:lnTo>
                          <a:pt x="95" y="290"/>
                        </a:lnTo>
                        <a:lnTo>
                          <a:pt x="95" y="285"/>
                        </a:lnTo>
                        <a:lnTo>
                          <a:pt x="99" y="285"/>
                        </a:lnTo>
                        <a:lnTo>
                          <a:pt x="99" y="281"/>
                        </a:lnTo>
                        <a:lnTo>
                          <a:pt x="99" y="276"/>
                        </a:lnTo>
                        <a:lnTo>
                          <a:pt x="99" y="272"/>
                        </a:lnTo>
                        <a:lnTo>
                          <a:pt x="99" y="267"/>
                        </a:lnTo>
                        <a:lnTo>
                          <a:pt x="99" y="263"/>
                        </a:lnTo>
                        <a:lnTo>
                          <a:pt x="102" y="263"/>
                        </a:lnTo>
                        <a:lnTo>
                          <a:pt x="102" y="258"/>
                        </a:lnTo>
                        <a:lnTo>
                          <a:pt x="106" y="258"/>
                        </a:lnTo>
                        <a:lnTo>
                          <a:pt x="106" y="252"/>
                        </a:lnTo>
                        <a:lnTo>
                          <a:pt x="110" y="248"/>
                        </a:lnTo>
                        <a:lnTo>
                          <a:pt x="110" y="243"/>
                        </a:lnTo>
                        <a:lnTo>
                          <a:pt x="114" y="243"/>
                        </a:lnTo>
                        <a:lnTo>
                          <a:pt x="114" y="238"/>
                        </a:lnTo>
                        <a:lnTo>
                          <a:pt x="118" y="238"/>
                        </a:lnTo>
                        <a:lnTo>
                          <a:pt x="122" y="238"/>
                        </a:lnTo>
                        <a:lnTo>
                          <a:pt x="128" y="234"/>
                        </a:lnTo>
                        <a:lnTo>
                          <a:pt x="128" y="229"/>
                        </a:lnTo>
                        <a:lnTo>
                          <a:pt x="131" y="225"/>
                        </a:lnTo>
                        <a:lnTo>
                          <a:pt x="135" y="225"/>
                        </a:lnTo>
                        <a:lnTo>
                          <a:pt x="135" y="221"/>
                        </a:lnTo>
                        <a:lnTo>
                          <a:pt x="139" y="216"/>
                        </a:lnTo>
                        <a:lnTo>
                          <a:pt x="142" y="216"/>
                        </a:lnTo>
                        <a:lnTo>
                          <a:pt x="142" y="211"/>
                        </a:lnTo>
                        <a:lnTo>
                          <a:pt x="147" y="208"/>
                        </a:lnTo>
                        <a:lnTo>
                          <a:pt x="147" y="203"/>
                        </a:lnTo>
                        <a:lnTo>
                          <a:pt x="151" y="203"/>
                        </a:lnTo>
                        <a:lnTo>
                          <a:pt x="151" y="198"/>
                        </a:lnTo>
                        <a:lnTo>
                          <a:pt x="154" y="198"/>
                        </a:lnTo>
                        <a:lnTo>
                          <a:pt x="154" y="194"/>
                        </a:lnTo>
                        <a:lnTo>
                          <a:pt x="154" y="190"/>
                        </a:lnTo>
                        <a:lnTo>
                          <a:pt x="158" y="190"/>
                        </a:lnTo>
                        <a:lnTo>
                          <a:pt x="161" y="185"/>
                        </a:lnTo>
                        <a:lnTo>
                          <a:pt x="170" y="174"/>
                        </a:lnTo>
                        <a:lnTo>
                          <a:pt x="174" y="169"/>
                        </a:lnTo>
                        <a:lnTo>
                          <a:pt x="177" y="166"/>
                        </a:lnTo>
                        <a:lnTo>
                          <a:pt x="181" y="161"/>
                        </a:lnTo>
                        <a:lnTo>
                          <a:pt x="181" y="156"/>
                        </a:lnTo>
                        <a:lnTo>
                          <a:pt x="189" y="152"/>
                        </a:lnTo>
                        <a:lnTo>
                          <a:pt x="193" y="147"/>
                        </a:lnTo>
                        <a:lnTo>
                          <a:pt x="196" y="143"/>
                        </a:lnTo>
                        <a:lnTo>
                          <a:pt x="196" y="139"/>
                        </a:lnTo>
                        <a:lnTo>
                          <a:pt x="204" y="129"/>
                        </a:lnTo>
                        <a:lnTo>
                          <a:pt x="209" y="125"/>
                        </a:lnTo>
                        <a:lnTo>
                          <a:pt x="213" y="121"/>
                        </a:lnTo>
                        <a:lnTo>
                          <a:pt x="218" y="121"/>
                        </a:lnTo>
                        <a:lnTo>
                          <a:pt x="218" y="116"/>
                        </a:lnTo>
                        <a:lnTo>
                          <a:pt x="233" y="116"/>
                        </a:lnTo>
                        <a:lnTo>
                          <a:pt x="245" y="103"/>
                        </a:lnTo>
                        <a:lnTo>
                          <a:pt x="260" y="74"/>
                        </a:lnTo>
                        <a:lnTo>
                          <a:pt x="275" y="52"/>
                        </a:lnTo>
                        <a:lnTo>
                          <a:pt x="280" y="52"/>
                        </a:lnTo>
                        <a:lnTo>
                          <a:pt x="283" y="47"/>
                        </a:lnTo>
                        <a:lnTo>
                          <a:pt x="283" y="43"/>
                        </a:lnTo>
                        <a:lnTo>
                          <a:pt x="290" y="43"/>
                        </a:lnTo>
                        <a:lnTo>
                          <a:pt x="290" y="39"/>
                        </a:lnTo>
                        <a:lnTo>
                          <a:pt x="294" y="39"/>
                        </a:lnTo>
                        <a:lnTo>
                          <a:pt x="294" y="34"/>
                        </a:lnTo>
                        <a:lnTo>
                          <a:pt x="299" y="34"/>
                        </a:lnTo>
                        <a:lnTo>
                          <a:pt x="304" y="29"/>
                        </a:lnTo>
                        <a:lnTo>
                          <a:pt x="309" y="29"/>
                        </a:lnTo>
                        <a:lnTo>
                          <a:pt x="312" y="29"/>
                        </a:lnTo>
                        <a:lnTo>
                          <a:pt x="312" y="34"/>
                        </a:lnTo>
                        <a:lnTo>
                          <a:pt x="316" y="34"/>
                        </a:lnTo>
                        <a:lnTo>
                          <a:pt x="319" y="34"/>
                        </a:lnTo>
                        <a:lnTo>
                          <a:pt x="323" y="34"/>
                        </a:lnTo>
                        <a:lnTo>
                          <a:pt x="327" y="34"/>
                        </a:lnTo>
                        <a:lnTo>
                          <a:pt x="331" y="34"/>
                        </a:lnTo>
                        <a:lnTo>
                          <a:pt x="335" y="34"/>
                        </a:lnTo>
                        <a:lnTo>
                          <a:pt x="335" y="39"/>
                        </a:lnTo>
                        <a:lnTo>
                          <a:pt x="339" y="39"/>
                        </a:lnTo>
                        <a:lnTo>
                          <a:pt x="342" y="39"/>
                        </a:lnTo>
                        <a:lnTo>
                          <a:pt x="346" y="39"/>
                        </a:lnTo>
                        <a:lnTo>
                          <a:pt x="346" y="43"/>
                        </a:lnTo>
                        <a:lnTo>
                          <a:pt x="351" y="47"/>
                        </a:lnTo>
                        <a:lnTo>
                          <a:pt x="351" y="52"/>
                        </a:lnTo>
                        <a:lnTo>
                          <a:pt x="354" y="52"/>
                        </a:lnTo>
                        <a:lnTo>
                          <a:pt x="358" y="52"/>
                        </a:lnTo>
                        <a:lnTo>
                          <a:pt x="358" y="56"/>
                        </a:lnTo>
                        <a:lnTo>
                          <a:pt x="358" y="61"/>
                        </a:lnTo>
                        <a:lnTo>
                          <a:pt x="362" y="61"/>
                        </a:lnTo>
                        <a:lnTo>
                          <a:pt x="365" y="65"/>
                        </a:lnTo>
                        <a:lnTo>
                          <a:pt x="365" y="69"/>
                        </a:lnTo>
                        <a:lnTo>
                          <a:pt x="370" y="69"/>
                        </a:lnTo>
                        <a:lnTo>
                          <a:pt x="374" y="69"/>
                        </a:lnTo>
                        <a:lnTo>
                          <a:pt x="374" y="74"/>
                        </a:lnTo>
                        <a:lnTo>
                          <a:pt x="377" y="74"/>
                        </a:lnTo>
                        <a:lnTo>
                          <a:pt x="381" y="79"/>
                        </a:lnTo>
                        <a:lnTo>
                          <a:pt x="385" y="79"/>
                        </a:lnTo>
                        <a:lnTo>
                          <a:pt x="385" y="82"/>
                        </a:lnTo>
                        <a:lnTo>
                          <a:pt x="391" y="82"/>
                        </a:lnTo>
                        <a:lnTo>
                          <a:pt x="391" y="79"/>
                        </a:lnTo>
                        <a:lnTo>
                          <a:pt x="394" y="79"/>
                        </a:lnTo>
                        <a:lnTo>
                          <a:pt x="398" y="74"/>
                        </a:lnTo>
                        <a:lnTo>
                          <a:pt x="403" y="69"/>
                        </a:lnTo>
                        <a:lnTo>
                          <a:pt x="403" y="65"/>
                        </a:lnTo>
                        <a:lnTo>
                          <a:pt x="406" y="65"/>
                        </a:lnTo>
                        <a:lnTo>
                          <a:pt x="406" y="61"/>
                        </a:lnTo>
                        <a:lnTo>
                          <a:pt x="410" y="56"/>
                        </a:lnTo>
                        <a:lnTo>
                          <a:pt x="413" y="56"/>
                        </a:lnTo>
                        <a:lnTo>
                          <a:pt x="413" y="61"/>
                        </a:lnTo>
                        <a:lnTo>
                          <a:pt x="413" y="65"/>
                        </a:lnTo>
                        <a:lnTo>
                          <a:pt x="426" y="69"/>
                        </a:lnTo>
                        <a:lnTo>
                          <a:pt x="426" y="74"/>
                        </a:lnTo>
                        <a:lnTo>
                          <a:pt x="426" y="79"/>
                        </a:lnTo>
                        <a:lnTo>
                          <a:pt x="426" y="82"/>
                        </a:lnTo>
                        <a:lnTo>
                          <a:pt x="429" y="82"/>
                        </a:lnTo>
                        <a:lnTo>
                          <a:pt x="433" y="82"/>
                        </a:lnTo>
                        <a:lnTo>
                          <a:pt x="436" y="82"/>
                        </a:lnTo>
                        <a:lnTo>
                          <a:pt x="440" y="82"/>
                        </a:lnTo>
                        <a:lnTo>
                          <a:pt x="445" y="82"/>
                        </a:lnTo>
                        <a:lnTo>
                          <a:pt x="448" y="82"/>
                        </a:lnTo>
                        <a:lnTo>
                          <a:pt x="452" y="82"/>
                        </a:lnTo>
                        <a:lnTo>
                          <a:pt x="456" y="79"/>
                        </a:lnTo>
                        <a:lnTo>
                          <a:pt x="459" y="79"/>
                        </a:lnTo>
                        <a:lnTo>
                          <a:pt x="464" y="74"/>
                        </a:lnTo>
                        <a:lnTo>
                          <a:pt x="468" y="74"/>
                        </a:lnTo>
                        <a:lnTo>
                          <a:pt x="471" y="74"/>
                        </a:lnTo>
                        <a:lnTo>
                          <a:pt x="475" y="74"/>
                        </a:lnTo>
                        <a:lnTo>
                          <a:pt x="481" y="74"/>
                        </a:lnTo>
                        <a:lnTo>
                          <a:pt x="481" y="69"/>
                        </a:lnTo>
                        <a:lnTo>
                          <a:pt x="485" y="69"/>
                        </a:lnTo>
                        <a:lnTo>
                          <a:pt x="488" y="69"/>
                        </a:lnTo>
                        <a:lnTo>
                          <a:pt x="493" y="69"/>
                        </a:lnTo>
                        <a:lnTo>
                          <a:pt x="493" y="65"/>
                        </a:lnTo>
                        <a:lnTo>
                          <a:pt x="497" y="65"/>
                        </a:lnTo>
                        <a:lnTo>
                          <a:pt x="497" y="61"/>
                        </a:lnTo>
                        <a:lnTo>
                          <a:pt x="500" y="61"/>
                        </a:lnTo>
                        <a:lnTo>
                          <a:pt x="504" y="61"/>
                        </a:lnTo>
                        <a:lnTo>
                          <a:pt x="504" y="56"/>
                        </a:lnTo>
                        <a:lnTo>
                          <a:pt x="504" y="52"/>
                        </a:lnTo>
                        <a:lnTo>
                          <a:pt x="504" y="47"/>
                        </a:lnTo>
                        <a:lnTo>
                          <a:pt x="504" y="43"/>
                        </a:lnTo>
                        <a:lnTo>
                          <a:pt x="500" y="43"/>
                        </a:lnTo>
                        <a:lnTo>
                          <a:pt x="500" y="39"/>
                        </a:lnTo>
                        <a:lnTo>
                          <a:pt x="500" y="34"/>
                        </a:lnTo>
                        <a:lnTo>
                          <a:pt x="504" y="34"/>
                        </a:lnTo>
                        <a:lnTo>
                          <a:pt x="504" y="29"/>
                        </a:lnTo>
                        <a:lnTo>
                          <a:pt x="508" y="29"/>
                        </a:lnTo>
                        <a:lnTo>
                          <a:pt x="511" y="29"/>
                        </a:lnTo>
                        <a:lnTo>
                          <a:pt x="511" y="34"/>
                        </a:lnTo>
                        <a:lnTo>
                          <a:pt x="516" y="34"/>
                        </a:lnTo>
                        <a:lnTo>
                          <a:pt x="516" y="39"/>
                        </a:lnTo>
                        <a:lnTo>
                          <a:pt x="520" y="39"/>
                        </a:lnTo>
                        <a:lnTo>
                          <a:pt x="523" y="39"/>
                        </a:lnTo>
                        <a:lnTo>
                          <a:pt x="527" y="43"/>
                        </a:lnTo>
                        <a:lnTo>
                          <a:pt x="527" y="47"/>
                        </a:lnTo>
                        <a:lnTo>
                          <a:pt x="527" y="52"/>
                        </a:lnTo>
                        <a:lnTo>
                          <a:pt x="527" y="56"/>
                        </a:lnTo>
                        <a:lnTo>
                          <a:pt x="530" y="56"/>
                        </a:lnTo>
                        <a:lnTo>
                          <a:pt x="530" y="61"/>
                        </a:lnTo>
                        <a:lnTo>
                          <a:pt x="535" y="61"/>
                        </a:lnTo>
                        <a:lnTo>
                          <a:pt x="535" y="65"/>
                        </a:lnTo>
                        <a:lnTo>
                          <a:pt x="535" y="61"/>
                        </a:lnTo>
                        <a:lnTo>
                          <a:pt x="539" y="61"/>
                        </a:lnTo>
                        <a:lnTo>
                          <a:pt x="543" y="61"/>
                        </a:lnTo>
                        <a:lnTo>
                          <a:pt x="543" y="56"/>
                        </a:lnTo>
                        <a:lnTo>
                          <a:pt x="546" y="56"/>
                        </a:lnTo>
                        <a:lnTo>
                          <a:pt x="546" y="52"/>
                        </a:lnTo>
                        <a:lnTo>
                          <a:pt x="546" y="47"/>
                        </a:lnTo>
                        <a:lnTo>
                          <a:pt x="550" y="47"/>
                        </a:lnTo>
                        <a:lnTo>
                          <a:pt x="550" y="52"/>
                        </a:lnTo>
                        <a:lnTo>
                          <a:pt x="550" y="56"/>
                        </a:lnTo>
                        <a:lnTo>
                          <a:pt x="555" y="56"/>
                        </a:lnTo>
                        <a:lnTo>
                          <a:pt x="555" y="61"/>
                        </a:lnTo>
                        <a:lnTo>
                          <a:pt x="558" y="61"/>
                        </a:lnTo>
                        <a:lnTo>
                          <a:pt x="562" y="61"/>
                        </a:lnTo>
                        <a:lnTo>
                          <a:pt x="565" y="56"/>
                        </a:lnTo>
                        <a:lnTo>
                          <a:pt x="571" y="56"/>
                        </a:lnTo>
                        <a:lnTo>
                          <a:pt x="571" y="61"/>
                        </a:lnTo>
                        <a:lnTo>
                          <a:pt x="575" y="61"/>
                        </a:lnTo>
                        <a:lnTo>
                          <a:pt x="579" y="61"/>
                        </a:lnTo>
                        <a:lnTo>
                          <a:pt x="582" y="61"/>
                        </a:lnTo>
                        <a:lnTo>
                          <a:pt x="587" y="61"/>
                        </a:lnTo>
                        <a:lnTo>
                          <a:pt x="594" y="61"/>
                        </a:lnTo>
                        <a:lnTo>
                          <a:pt x="598" y="61"/>
                        </a:lnTo>
                        <a:lnTo>
                          <a:pt x="602" y="56"/>
                        </a:lnTo>
                        <a:lnTo>
                          <a:pt x="606" y="56"/>
                        </a:lnTo>
                        <a:lnTo>
                          <a:pt x="610" y="56"/>
                        </a:lnTo>
                        <a:lnTo>
                          <a:pt x="614" y="56"/>
                        </a:lnTo>
                        <a:lnTo>
                          <a:pt x="617" y="56"/>
                        </a:lnTo>
                        <a:lnTo>
                          <a:pt x="621" y="56"/>
                        </a:lnTo>
                        <a:lnTo>
                          <a:pt x="626" y="56"/>
                        </a:lnTo>
                        <a:lnTo>
                          <a:pt x="629" y="56"/>
                        </a:lnTo>
                        <a:lnTo>
                          <a:pt x="629" y="52"/>
                        </a:lnTo>
                        <a:lnTo>
                          <a:pt x="633" y="52"/>
                        </a:lnTo>
                        <a:lnTo>
                          <a:pt x="633" y="47"/>
                        </a:lnTo>
                        <a:lnTo>
                          <a:pt x="633" y="43"/>
                        </a:lnTo>
                        <a:lnTo>
                          <a:pt x="637" y="43"/>
                        </a:lnTo>
                        <a:lnTo>
                          <a:pt x="637" y="39"/>
                        </a:lnTo>
                        <a:lnTo>
                          <a:pt x="637" y="34"/>
                        </a:lnTo>
                        <a:lnTo>
                          <a:pt x="640" y="34"/>
                        </a:lnTo>
                        <a:lnTo>
                          <a:pt x="644" y="34"/>
                        </a:lnTo>
                        <a:lnTo>
                          <a:pt x="644" y="29"/>
                        </a:lnTo>
                        <a:lnTo>
                          <a:pt x="644" y="24"/>
                        </a:lnTo>
                        <a:lnTo>
                          <a:pt x="644" y="18"/>
                        </a:lnTo>
                        <a:lnTo>
                          <a:pt x="649" y="18"/>
                        </a:lnTo>
                        <a:lnTo>
                          <a:pt x="652" y="14"/>
                        </a:lnTo>
                        <a:lnTo>
                          <a:pt x="658" y="14"/>
                        </a:lnTo>
                        <a:lnTo>
                          <a:pt x="658" y="10"/>
                        </a:lnTo>
                        <a:lnTo>
                          <a:pt x="665" y="10"/>
                        </a:lnTo>
                        <a:lnTo>
                          <a:pt x="669" y="10"/>
                        </a:lnTo>
                        <a:lnTo>
                          <a:pt x="673" y="10"/>
                        </a:lnTo>
                        <a:lnTo>
                          <a:pt x="678" y="10"/>
                        </a:lnTo>
                        <a:lnTo>
                          <a:pt x="681" y="10"/>
                        </a:lnTo>
                        <a:lnTo>
                          <a:pt x="685" y="5"/>
                        </a:lnTo>
                        <a:lnTo>
                          <a:pt x="688" y="5"/>
                        </a:lnTo>
                        <a:lnTo>
                          <a:pt x="692" y="0"/>
                        </a:lnTo>
                        <a:lnTo>
                          <a:pt x="700" y="0"/>
                        </a:lnTo>
                        <a:lnTo>
                          <a:pt x="704" y="0"/>
                        </a:lnTo>
                        <a:lnTo>
                          <a:pt x="708" y="5"/>
                        </a:lnTo>
                        <a:lnTo>
                          <a:pt x="708" y="10"/>
                        </a:lnTo>
                        <a:lnTo>
                          <a:pt x="711" y="10"/>
                        </a:lnTo>
                        <a:lnTo>
                          <a:pt x="711" y="14"/>
                        </a:lnTo>
                        <a:lnTo>
                          <a:pt x="715" y="14"/>
                        </a:lnTo>
                        <a:lnTo>
                          <a:pt x="720" y="14"/>
                        </a:lnTo>
                        <a:lnTo>
                          <a:pt x="723" y="14"/>
                        </a:lnTo>
                        <a:lnTo>
                          <a:pt x="723" y="18"/>
                        </a:lnTo>
                        <a:lnTo>
                          <a:pt x="727" y="18"/>
                        </a:lnTo>
                        <a:lnTo>
                          <a:pt x="731" y="18"/>
                        </a:lnTo>
                        <a:lnTo>
                          <a:pt x="734" y="18"/>
                        </a:lnTo>
                        <a:close/>
                      </a:path>
                    </a:pathLst>
                  </a:custGeom>
                  <a:solidFill>
                    <a:srgbClr val="660033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3c001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385280" y="2109240"/>
                    <a:ext cx="3477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1033">
                        <a:moveTo>
                          <a:pt x="455" y="64"/>
                        </a:moveTo>
                        <a:lnTo>
                          <a:pt x="451" y="60"/>
                        </a:lnTo>
                        <a:lnTo>
                          <a:pt x="451" y="50"/>
                        </a:lnTo>
                        <a:lnTo>
                          <a:pt x="451" y="47"/>
                        </a:lnTo>
                        <a:lnTo>
                          <a:pt x="448" y="47"/>
                        </a:lnTo>
                        <a:lnTo>
                          <a:pt x="444" y="47"/>
                        </a:lnTo>
                        <a:lnTo>
                          <a:pt x="441" y="47"/>
                        </a:lnTo>
                        <a:lnTo>
                          <a:pt x="441" y="42"/>
                        </a:lnTo>
                        <a:lnTo>
                          <a:pt x="441" y="35"/>
                        </a:lnTo>
                        <a:lnTo>
                          <a:pt x="437" y="35"/>
                        </a:lnTo>
                        <a:lnTo>
                          <a:pt x="437" y="31"/>
                        </a:lnTo>
                        <a:lnTo>
                          <a:pt x="432" y="31"/>
                        </a:lnTo>
                        <a:lnTo>
                          <a:pt x="428" y="31"/>
                        </a:lnTo>
                        <a:lnTo>
                          <a:pt x="428" y="26"/>
                        </a:lnTo>
                        <a:lnTo>
                          <a:pt x="425" y="26"/>
                        </a:lnTo>
                        <a:lnTo>
                          <a:pt x="421" y="26"/>
                        </a:lnTo>
                        <a:lnTo>
                          <a:pt x="421" y="22"/>
                        </a:lnTo>
                        <a:lnTo>
                          <a:pt x="418" y="22"/>
                        </a:lnTo>
                        <a:lnTo>
                          <a:pt x="413" y="22"/>
                        </a:lnTo>
                        <a:lnTo>
                          <a:pt x="413" y="26"/>
                        </a:lnTo>
                        <a:lnTo>
                          <a:pt x="409" y="31"/>
                        </a:lnTo>
                        <a:lnTo>
                          <a:pt x="406" y="31"/>
                        </a:lnTo>
                        <a:lnTo>
                          <a:pt x="400" y="31"/>
                        </a:lnTo>
                        <a:lnTo>
                          <a:pt x="400" y="35"/>
                        </a:lnTo>
                        <a:lnTo>
                          <a:pt x="396" y="35"/>
                        </a:lnTo>
                        <a:lnTo>
                          <a:pt x="392" y="35"/>
                        </a:lnTo>
                        <a:lnTo>
                          <a:pt x="396" y="42"/>
                        </a:lnTo>
                        <a:lnTo>
                          <a:pt x="396" y="47"/>
                        </a:lnTo>
                        <a:lnTo>
                          <a:pt x="392" y="47"/>
                        </a:lnTo>
                        <a:lnTo>
                          <a:pt x="389" y="47"/>
                        </a:lnTo>
                        <a:lnTo>
                          <a:pt x="389" y="50"/>
                        </a:lnTo>
                        <a:lnTo>
                          <a:pt x="385" y="50"/>
                        </a:lnTo>
                        <a:lnTo>
                          <a:pt x="385" y="55"/>
                        </a:lnTo>
                        <a:lnTo>
                          <a:pt x="380" y="60"/>
                        </a:lnTo>
                        <a:lnTo>
                          <a:pt x="380" y="64"/>
                        </a:lnTo>
                        <a:lnTo>
                          <a:pt x="377" y="64"/>
                        </a:lnTo>
                        <a:lnTo>
                          <a:pt x="373" y="69"/>
                        </a:lnTo>
                        <a:lnTo>
                          <a:pt x="373" y="73"/>
                        </a:lnTo>
                        <a:lnTo>
                          <a:pt x="373" y="78"/>
                        </a:lnTo>
                        <a:lnTo>
                          <a:pt x="373" y="82"/>
                        </a:lnTo>
                        <a:lnTo>
                          <a:pt x="373" y="87"/>
                        </a:lnTo>
                        <a:lnTo>
                          <a:pt x="373" y="91"/>
                        </a:lnTo>
                        <a:lnTo>
                          <a:pt x="373" y="95"/>
                        </a:lnTo>
                        <a:lnTo>
                          <a:pt x="369" y="95"/>
                        </a:lnTo>
                        <a:lnTo>
                          <a:pt x="366" y="95"/>
                        </a:lnTo>
                        <a:lnTo>
                          <a:pt x="361" y="95"/>
                        </a:lnTo>
                        <a:lnTo>
                          <a:pt x="354" y="95"/>
                        </a:lnTo>
                        <a:lnTo>
                          <a:pt x="350" y="95"/>
                        </a:lnTo>
                        <a:lnTo>
                          <a:pt x="350" y="91"/>
                        </a:lnTo>
                        <a:lnTo>
                          <a:pt x="346" y="91"/>
                        </a:lnTo>
                        <a:lnTo>
                          <a:pt x="346" y="87"/>
                        </a:lnTo>
                        <a:lnTo>
                          <a:pt x="342" y="87"/>
                        </a:lnTo>
                        <a:lnTo>
                          <a:pt x="342" y="82"/>
                        </a:lnTo>
                        <a:lnTo>
                          <a:pt x="342" y="78"/>
                        </a:lnTo>
                        <a:lnTo>
                          <a:pt x="342" y="73"/>
                        </a:lnTo>
                        <a:lnTo>
                          <a:pt x="342" y="69"/>
                        </a:lnTo>
                        <a:lnTo>
                          <a:pt x="346" y="69"/>
                        </a:lnTo>
                        <a:lnTo>
                          <a:pt x="346" y="64"/>
                        </a:lnTo>
                        <a:lnTo>
                          <a:pt x="346" y="60"/>
                        </a:lnTo>
                        <a:lnTo>
                          <a:pt x="346" y="55"/>
                        </a:lnTo>
                        <a:lnTo>
                          <a:pt x="342" y="55"/>
                        </a:lnTo>
                        <a:lnTo>
                          <a:pt x="342" y="50"/>
                        </a:lnTo>
                        <a:lnTo>
                          <a:pt x="342" y="47"/>
                        </a:lnTo>
                        <a:lnTo>
                          <a:pt x="342" y="42"/>
                        </a:lnTo>
                        <a:lnTo>
                          <a:pt x="346" y="42"/>
                        </a:lnTo>
                        <a:lnTo>
                          <a:pt x="350" y="42"/>
                        </a:lnTo>
                        <a:lnTo>
                          <a:pt x="350" y="35"/>
                        </a:lnTo>
                        <a:lnTo>
                          <a:pt x="354" y="31"/>
                        </a:lnTo>
                        <a:lnTo>
                          <a:pt x="354" y="26"/>
                        </a:lnTo>
                        <a:lnTo>
                          <a:pt x="357" y="26"/>
                        </a:lnTo>
                        <a:lnTo>
                          <a:pt x="361" y="26"/>
                        </a:lnTo>
                        <a:lnTo>
                          <a:pt x="361" y="22"/>
                        </a:lnTo>
                        <a:lnTo>
                          <a:pt x="357" y="18"/>
                        </a:lnTo>
                        <a:lnTo>
                          <a:pt x="354" y="18"/>
                        </a:lnTo>
                        <a:lnTo>
                          <a:pt x="354" y="13"/>
                        </a:lnTo>
                        <a:lnTo>
                          <a:pt x="354" y="8"/>
                        </a:lnTo>
                        <a:lnTo>
                          <a:pt x="350" y="8"/>
                        </a:lnTo>
                        <a:lnTo>
                          <a:pt x="350" y="5"/>
                        </a:lnTo>
                        <a:lnTo>
                          <a:pt x="346" y="8"/>
                        </a:lnTo>
                        <a:lnTo>
                          <a:pt x="342" y="8"/>
                        </a:lnTo>
                        <a:lnTo>
                          <a:pt x="338" y="8"/>
                        </a:lnTo>
                        <a:lnTo>
                          <a:pt x="334" y="8"/>
                        </a:lnTo>
                        <a:lnTo>
                          <a:pt x="331" y="8"/>
                        </a:lnTo>
                        <a:lnTo>
                          <a:pt x="327" y="8"/>
                        </a:lnTo>
                        <a:lnTo>
                          <a:pt x="327" y="13"/>
                        </a:lnTo>
                        <a:lnTo>
                          <a:pt x="324" y="13"/>
                        </a:lnTo>
                        <a:lnTo>
                          <a:pt x="324" y="18"/>
                        </a:lnTo>
                        <a:lnTo>
                          <a:pt x="319" y="13"/>
                        </a:lnTo>
                        <a:lnTo>
                          <a:pt x="314" y="13"/>
                        </a:lnTo>
                        <a:lnTo>
                          <a:pt x="314" y="8"/>
                        </a:lnTo>
                        <a:lnTo>
                          <a:pt x="314" y="5"/>
                        </a:lnTo>
                        <a:lnTo>
                          <a:pt x="309" y="5"/>
                        </a:lnTo>
                        <a:lnTo>
                          <a:pt x="309" y="0"/>
                        </a:lnTo>
                        <a:lnTo>
                          <a:pt x="305" y="0"/>
                        </a:lnTo>
                        <a:lnTo>
                          <a:pt x="302" y="5"/>
                        </a:lnTo>
                        <a:lnTo>
                          <a:pt x="298" y="5"/>
                        </a:lnTo>
                        <a:lnTo>
                          <a:pt x="298" y="8"/>
                        </a:lnTo>
                        <a:lnTo>
                          <a:pt x="298" y="13"/>
                        </a:lnTo>
                        <a:lnTo>
                          <a:pt x="295" y="18"/>
                        </a:lnTo>
                        <a:lnTo>
                          <a:pt x="290" y="18"/>
                        </a:lnTo>
                        <a:lnTo>
                          <a:pt x="286" y="22"/>
                        </a:lnTo>
                        <a:lnTo>
                          <a:pt x="283" y="22"/>
                        </a:lnTo>
                        <a:lnTo>
                          <a:pt x="279" y="22"/>
                        </a:lnTo>
                        <a:lnTo>
                          <a:pt x="275" y="22"/>
                        </a:lnTo>
                        <a:lnTo>
                          <a:pt x="275" y="26"/>
                        </a:lnTo>
                        <a:lnTo>
                          <a:pt x="275" y="31"/>
                        </a:lnTo>
                        <a:lnTo>
                          <a:pt x="271" y="31"/>
                        </a:lnTo>
                        <a:lnTo>
                          <a:pt x="267" y="26"/>
                        </a:lnTo>
                        <a:lnTo>
                          <a:pt x="263" y="26"/>
                        </a:lnTo>
                        <a:lnTo>
                          <a:pt x="263" y="31"/>
                        </a:lnTo>
                        <a:lnTo>
                          <a:pt x="260" y="31"/>
                        </a:lnTo>
                        <a:lnTo>
                          <a:pt x="260" y="26"/>
                        </a:lnTo>
                        <a:lnTo>
                          <a:pt x="256" y="26"/>
                        </a:lnTo>
                        <a:lnTo>
                          <a:pt x="252" y="26"/>
                        </a:lnTo>
                        <a:lnTo>
                          <a:pt x="248" y="26"/>
                        </a:lnTo>
                        <a:lnTo>
                          <a:pt x="248" y="31"/>
                        </a:lnTo>
                        <a:lnTo>
                          <a:pt x="248" y="35"/>
                        </a:lnTo>
                        <a:lnTo>
                          <a:pt x="248" y="42"/>
                        </a:lnTo>
                        <a:lnTo>
                          <a:pt x="248" y="47"/>
                        </a:lnTo>
                        <a:lnTo>
                          <a:pt x="244" y="47"/>
                        </a:lnTo>
                        <a:lnTo>
                          <a:pt x="240" y="47"/>
                        </a:lnTo>
                        <a:lnTo>
                          <a:pt x="240" y="50"/>
                        </a:lnTo>
                        <a:lnTo>
                          <a:pt x="244" y="50"/>
                        </a:lnTo>
                        <a:lnTo>
                          <a:pt x="244" y="55"/>
                        </a:lnTo>
                        <a:lnTo>
                          <a:pt x="244" y="60"/>
                        </a:lnTo>
                        <a:lnTo>
                          <a:pt x="240" y="60"/>
                        </a:lnTo>
                        <a:lnTo>
                          <a:pt x="240" y="64"/>
                        </a:lnTo>
                        <a:lnTo>
                          <a:pt x="240" y="69"/>
                        </a:lnTo>
                        <a:lnTo>
                          <a:pt x="240" y="73"/>
                        </a:lnTo>
                        <a:lnTo>
                          <a:pt x="237" y="73"/>
                        </a:lnTo>
                        <a:lnTo>
                          <a:pt x="233" y="69"/>
                        </a:lnTo>
                        <a:lnTo>
                          <a:pt x="228" y="69"/>
                        </a:lnTo>
                        <a:lnTo>
                          <a:pt x="224" y="73"/>
                        </a:lnTo>
                        <a:lnTo>
                          <a:pt x="219" y="73"/>
                        </a:lnTo>
                        <a:lnTo>
                          <a:pt x="215" y="73"/>
                        </a:lnTo>
                        <a:lnTo>
                          <a:pt x="215" y="78"/>
                        </a:lnTo>
                        <a:lnTo>
                          <a:pt x="211" y="78"/>
                        </a:lnTo>
                        <a:lnTo>
                          <a:pt x="208" y="78"/>
                        </a:lnTo>
                        <a:lnTo>
                          <a:pt x="204" y="78"/>
                        </a:lnTo>
                        <a:lnTo>
                          <a:pt x="199" y="78"/>
                        </a:lnTo>
                        <a:lnTo>
                          <a:pt x="196" y="78"/>
                        </a:lnTo>
                        <a:lnTo>
                          <a:pt x="192" y="78"/>
                        </a:lnTo>
                        <a:lnTo>
                          <a:pt x="189" y="78"/>
                        </a:lnTo>
                        <a:lnTo>
                          <a:pt x="185" y="78"/>
                        </a:lnTo>
                        <a:lnTo>
                          <a:pt x="185" y="82"/>
                        </a:lnTo>
                        <a:lnTo>
                          <a:pt x="181" y="82"/>
                        </a:lnTo>
                        <a:lnTo>
                          <a:pt x="176" y="82"/>
                        </a:lnTo>
                        <a:lnTo>
                          <a:pt x="176" y="78"/>
                        </a:lnTo>
                        <a:lnTo>
                          <a:pt x="173" y="78"/>
                        </a:lnTo>
                        <a:lnTo>
                          <a:pt x="169" y="78"/>
                        </a:lnTo>
                        <a:lnTo>
                          <a:pt x="169" y="82"/>
                        </a:lnTo>
                        <a:lnTo>
                          <a:pt x="166" y="82"/>
                        </a:lnTo>
                        <a:lnTo>
                          <a:pt x="162" y="78"/>
                        </a:lnTo>
                        <a:lnTo>
                          <a:pt x="157" y="82"/>
                        </a:lnTo>
                        <a:lnTo>
                          <a:pt x="157" y="87"/>
                        </a:lnTo>
                        <a:lnTo>
                          <a:pt x="157" y="91"/>
                        </a:lnTo>
                        <a:lnTo>
                          <a:pt x="157" y="95"/>
                        </a:lnTo>
                        <a:lnTo>
                          <a:pt x="154" y="95"/>
                        </a:lnTo>
                        <a:lnTo>
                          <a:pt x="150" y="100"/>
                        </a:lnTo>
                        <a:lnTo>
                          <a:pt x="146" y="105"/>
                        </a:lnTo>
                        <a:lnTo>
                          <a:pt x="143" y="105"/>
                        </a:lnTo>
                        <a:lnTo>
                          <a:pt x="137" y="108"/>
                        </a:lnTo>
                        <a:lnTo>
                          <a:pt x="133" y="108"/>
                        </a:lnTo>
                        <a:lnTo>
                          <a:pt x="129" y="113"/>
                        </a:lnTo>
                        <a:lnTo>
                          <a:pt x="129" y="120"/>
                        </a:lnTo>
                        <a:lnTo>
                          <a:pt x="125" y="124"/>
                        </a:lnTo>
                        <a:lnTo>
                          <a:pt x="121" y="129"/>
                        </a:lnTo>
                        <a:lnTo>
                          <a:pt x="117" y="129"/>
                        </a:lnTo>
                        <a:lnTo>
                          <a:pt x="117" y="134"/>
                        </a:lnTo>
                        <a:lnTo>
                          <a:pt x="114" y="134"/>
                        </a:lnTo>
                        <a:lnTo>
                          <a:pt x="110" y="137"/>
                        </a:lnTo>
                        <a:lnTo>
                          <a:pt x="105" y="137"/>
                        </a:lnTo>
                        <a:lnTo>
                          <a:pt x="102" y="137"/>
                        </a:lnTo>
                        <a:lnTo>
                          <a:pt x="98" y="137"/>
                        </a:lnTo>
                        <a:lnTo>
                          <a:pt x="94" y="137"/>
                        </a:lnTo>
                        <a:lnTo>
                          <a:pt x="94" y="142"/>
                        </a:lnTo>
                        <a:lnTo>
                          <a:pt x="91" y="147"/>
                        </a:lnTo>
                        <a:lnTo>
                          <a:pt x="86" y="151"/>
                        </a:lnTo>
                        <a:lnTo>
                          <a:pt x="82" y="155"/>
                        </a:lnTo>
                        <a:lnTo>
                          <a:pt x="82" y="160"/>
                        </a:lnTo>
                        <a:lnTo>
                          <a:pt x="79" y="164"/>
                        </a:lnTo>
                        <a:lnTo>
                          <a:pt x="79" y="169"/>
                        </a:lnTo>
                        <a:lnTo>
                          <a:pt x="79" y="173"/>
                        </a:lnTo>
                        <a:lnTo>
                          <a:pt x="75" y="173"/>
                        </a:lnTo>
                        <a:lnTo>
                          <a:pt x="72" y="182"/>
                        </a:lnTo>
                        <a:lnTo>
                          <a:pt x="68" y="182"/>
                        </a:lnTo>
                        <a:lnTo>
                          <a:pt x="68" y="187"/>
                        </a:lnTo>
                        <a:lnTo>
                          <a:pt x="68" y="193"/>
                        </a:lnTo>
                        <a:lnTo>
                          <a:pt x="63" y="193"/>
                        </a:lnTo>
                        <a:lnTo>
                          <a:pt x="63" y="198"/>
                        </a:lnTo>
                        <a:lnTo>
                          <a:pt x="60" y="198"/>
                        </a:lnTo>
                        <a:lnTo>
                          <a:pt x="60" y="202"/>
                        </a:lnTo>
                        <a:lnTo>
                          <a:pt x="56" y="206"/>
                        </a:lnTo>
                        <a:lnTo>
                          <a:pt x="56" y="211"/>
                        </a:lnTo>
                        <a:lnTo>
                          <a:pt x="52" y="211"/>
                        </a:lnTo>
                        <a:lnTo>
                          <a:pt x="46" y="216"/>
                        </a:lnTo>
                        <a:lnTo>
                          <a:pt x="43" y="216"/>
                        </a:lnTo>
                        <a:lnTo>
                          <a:pt x="39" y="216"/>
                        </a:lnTo>
                        <a:lnTo>
                          <a:pt x="39" y="219"/>
                        </a:lnTo>
                        <a:lnTo>
                          <a:pt x="34" y="219"/>
                        </a:lnTo>
                        <a:lnTo>
                          <a:pt x="27" y="219"/>
                        </a:lnTo>
                        <a:lnTo>
                          <a:pt x="23" y="219"/>
                        </a:lnTo>
                        <a:lnTo>
                          <a:pt x="15" y="216"/>
                        </a:lnTo>
                        <a:lnTo>
                          <a:pt x="8" y="237"/>
                        </a:lnTo>
                        <a:lnTo>
                          <a:pt x="4" y="237"/>
                        </a:lnTo>
                        <a:lnTo>
                          <a:pt x="0" y="242"/>
                        </a:lnTo>
                        <a:lnTo>
                          <a:pt x="15" y="276"/>
                        </a:lnTo>
                        <a:lnTo>
                          <a:pt x="20" y="276"/>
                        </a:lnTo>
                        <a:lnTo>
                          <a:pt x="27" y="276"/>
                        </a:lnTo>
                        <a:lnTo>
                          <a:pt x="39" y="284"/>
                        </a:lnTo>
                        <a:lnTo>
                          <a:pt x="39" y="289"/>
                        </a:lnTo>
                        <a:lnTo>
                          <a:pt x="46" y="298"/>
                        </a:lnTo>
                        <a:lnTo>
                          <a:pt x="56" y="302"/>
                        </a:lnTo>
                        <a:lnTo>
                          <a:pt x="56" y="306"/>
                        </a:lnTo>
                        <a:lnTo>
                          <a:pt x="60" y="306"/>
                        </a:lnTo>
                        <a:lnTo>
                          <a:pt x="60" y="311"/>
                        </a:lnTo>
                        <a:lnTo>
                          <a:pt x="60" y="316"/>
                        </a:lnTo>
                        <a:lnTo>
                          <a:pt x="68" y="324"/>
                        </a:lnTo>
                        <a:lnTo>
                          <a:pt x="75" y="324"/>
                        </a:lnTo>
                        <a:lnTo>
                          <a:pt x="79" y="329"/>
                        </a:lnTo>
                        <a:lnTo>
                          <a:pt x="86" y="353"/>
                        </a:lnTo>
                        <a:lnTo>
                          <a:pt x="94" y="362"/>
                        </a:lnTo>
                        <a:lnTo>
                          <a:pt x="94" y="366"/>
                        </a:lnTo>
                        <a:lnTo>
                          <a:pt x="98" y="371"/>
                        </a:lnTo>
                        <a:lnTo>
                          <a:pt x="98" y="380"/>
                        </a:lnTo>
                        <a:lnTo>
                          <a:pt x="102" y="380"/>
                        </a:lnTo>
                        <a:lnTo>
                          <a:pt x="102" y="398"/>
                        </a:lnTo>
                        <a:lnTo>
                          <a:pt x="105" y="403"/>
                        </a:lnTo>
                        <a:lnTo>
                          <a:pt x="117" y="406"/>
                        </a:lnTo>
                        <a:lnTo>
                          <a:pt x="117" y="411"/>
                        </a:lnTo>
                        <a:lnTo>
                          <a:pt x="117" y="416"/>
                        </a:lnTo>
                        <a:lnTo>
                          <a:pt x="117" y="427"/>
                        </a:lnTo>
                        <a:lnTo>
                          <a:pt x="117" y="431"/>
                        </a:lnTo>
                        <a:lnTo>
                          <a:pt x="117" y="435"/>
                        </a:lnTo>
                        <a:lnTo>
                          <a:pt x="114" y="440"/>
                        </a:lnTo>
                        <a:lnTo>
                          <a:pt x="114" y="448"/>
                        </a:lnTo>
                        <a:lnTo>
                          <a:pt x="110" y="462"/>
                        </a:lnTo>
                        <a:lnTo>
                          <a:pt x="110" y="466"/>
                        </a:lnTo>
                        <a:lnTo>
                          <a:pt x="110" y="471"/>
                        </a:lnTo>
                        <a:lnTo>
                          <a:pt x="110" y="476"/>
                        </a:lnTo>
                        <a:lnTo>
                          <a:pt x="105" y="476"/>
                        </a:lnTo>
                        <a:lnTo>
                          <a:pt x="105" y="484"/>
                        </a:lnTo>
                        <a:lnTo>
                          <a:pt x="102" y="489"/>
                        </a:lnTo>
                        <a:lnTo>
                          <a:pt x="102" y="498"/>
                        </a:lnTo>
                        <a:lnTo>
                          <a:pt x="102" y="504"/>
                        </a:lnTo>
                        <a:lnTo>
                          <a:pt x="102" y="509"/>
                        </a:lnTo>
                        <a:lnTo>
                          <a:pt x="98" y="522"/>
                        </a:lnTo>
                        <a:lnTo>
                          <a:pt x="94" y="532"/>
                        </a:lnTo>
                        <a:lnTo>
                          <a:pt x="94" y="540"/>
                        </a:lnTo>
                        <a:lnTo>
                          <a:pt x="94" y="545"/>
                        </a:lnTo>
                        <a:lnTo>
                          <a:pt x="94" y="548"/>
                        </a:lnTo>
                        <a:lnTo>
                          <a:pt x="91" y="558"/>
                        </a:lnTo>
                        <a:lnTo>
                          <a:pt x="91" y="562"/>
                        </a:lnTo>
                        <a:lnTo>
                          <a:pt x="86" y="571"/>
                        </a:lnTo>
                        <a:lnTo>
                          <a:pt x="82" y="582"/>
                        </a:lnTo>
                        <a:lnTo>
                          <a:pt x="82" y="591"/>
                        </a:lnTo>
                        <a:lnTo>
                          <a:pt x="91" y="591"/>
                        </a:lnTo>
                        <a:lnTo>
                          <a:pt x="91" y="595"/>
                        </a:lnTo>
                        <a:lnTo>
                          <a:pt x="86" y="595"/>
                        </a:lnTo>
                        <a:lnTo>
                          <a:pt x="86" y="600"/>
                        </a:lnTo>
                        <a:lnTo>
                          <a:pt x="86" y="604"/>
                        </a:lnTo>
                        <a:lnTo>
                          <a:pt x="86" y="609"/>
                        </a:lnTo>
                        <a:lnTo>
                          <a:pt x="86" y="614"/>
                        </a:lnTo>
                        <a:lnTo>
                          <a:pt x="86" y="618"/>
                        </a:lnTo>
                        <a:lnTo>
                          <a:pt x="86" y="622"/>
                        </a:lnTo>
                        <a:lnTo>
                          <a:pt x="86" y="627"/>
                        </a:lnTo>
                        <a:lnTo>
                          <a:pt x="86" y="632"/>
                        </a:lnTo>
                        <a:lnTo>
                          <a:pt x="86" y="635"/>
                        </a:lnTo>
                        <a:lnTo>
                          <a:pt x="86" y="640"/>
                        </a:lnTo>
                        <a:lnTo>
                          <a:pt x="86" y="645"/>
                        </a:lnTo>
                        <a:lnTo>
                          <a:pt x="82" y="645"/>
                        </a:lnTo>
                        <a:lnTo>
                          <a:pt x="82" y="648"/>
                        </a:lnTo>
                        <a:lnTo>
                          <a:pt x="82" y="656"/>
                        </a:lnTo>
                        <a:lnTo>
                          <a:pt x="79" y="661"/>
                        </a:lnTo>
                        <a:lnTo>
                          <a:pt x="79" y="664"/>
                        </a:lnTo>
                        <a:lnTo>
                          <a:pt x="75" y="664"/>
                        </a:lnTo>
                        <a:lnTo>
                          <a:pt x="75" y="669"/>
                        </a:lnTo>
                        <a:lnTo>
                          <a:pt x="72" y="664"/>
                        </a:lnTo>
                        <a:lnTo>
                          <a:pt x="68" y="664"/>
                        </a:lnTo>
                        <a:lnTo>
                          <a:pt x="68" y="669"/>
                        </a:lnTo>
                        <a:lnTo>
                          <a:pt x="68" y="674"/>
                        </a:lnTo>
                        <a:lnTo>
                          <a:pt x="68" y="677"/>
                        </a:lnTo>
                        <a:lnTo>
                          <a:pt x="68" y="682"/>
                        </a:lnTo>
                        <a:lnTo>
                          <a:pt x="63" y="682"/>
                        </a:lnTo>
                        <a:lnTo>
                          <a:pt x="68" y="687"/>
                        </a:lnTo>
                        <a:lnTo>
                          <a:pt x="68" y="691"/>
                        </a:lnTo>
                        <a:lnTo>
                          <a:pt x="68" y="695"/>
                        </a:lnTo>
                        <a:lnTo>
                          <a:pt x="72" y="695"/>
                        </a:lnTo>
                        <a:lnTo>
                          <a:pt x="72" y="700"/>
                        </a:lnTo>
                        <a:lnTo>
                          <a:pt x="75" y="704"/>
                        </a:lnTo>
                        <a:lnTo>
                          <a:pt x="79" y="704"/>
                        </a:lnTo>
                        <a:lnTo>
                          <a:pt x="79" y="709"/>
                        </a:lnTo>
                        <a:lnTo>
                          <a:pt x="82" y="709"/>
                        </a:lnTo>
                        <a:lnTo>
                          <a:pt x="82" y="714"/>
                        </a:lnTo>
                        <a:lnTo>
                          <a:pt x="82" y="717"/>
                        </a:lnTo>
                        <a:lnTo>
                          <a:pt x="86" y="722"/>
                        </a:lnTo>
                        <a:lnTo>
                          <a:pt x="86" y="727"/>
                        </a:lnTo>
                        <a:lnTo>
                          <a:pt x="91" y="733"/>
                        </a:lnTo>
                        <a:lnTo>
                          <a:pt x="91" y="738"/>
                        </a:lnTo>
                        <a:lnTo>
                          <a:pt x="91" y="743"/>
                        </a:lnTo>
                        <a:lnTo>
                          <a:pt x="91" y="746"/>
                        </a:lnTo>
                        <a:lnTo>
                          <a:pt x="91" y="751"/>
                        </a:lnTo>
                        <a:lnTo>
                          <a:pt x="91" y="756"/>
                        </a:lnTo>
                        <a:lnTo>
                          <a:pt x="91" y="759"/>
                        </a:lnTo>
                        <a:lnTo>
                          <a:pt x="86" y="759"/>
                        </a:lnTo>
                        <a:lnTo>
                          <a:pt x="86" y="764"/>
                        </a:lnTo>
                        <a:lnTo>
                          <a:pt x="86" y="769"/>
                        </a:lnTo>
                        <a:lnTo>
                          <a:pt x="86" y="774"/>
                        </a:lnTo>
                        <a:lnTo>
                          <a:pt x="91" y="774"/>
                        </a:lnTo>
                        <a:lnTo>
                          <a:pt x="94" y="777"/>
                        </a:lnTo>
                        <a:lnTo>
                          <a:pt x="94" y="782"/>
                        </a:lnTo>
                        <a:lnTo>
                          <a:pt x="94" y="787"/>
                        </a:lnTo>
                        <a:lnTo>
                          <a:pt x="98" y="787"/>
                        </a:lnTo>
                        <a:lnTo>
                          <a:pt x="102" y="787"/>
                        </a:lnTo>
                        <a:lnTo>
                          <a:pt x="102" y="791"/>
                        </a:lnTo>
                        <a:lnTo>
                          <a:pt x="102" y="796"/>
                        </a:lnTo>
                        <a:lnTo>
                          <a:pt x="105" y="800"/>
                        </a:lnTo>
                        <a:lnTo>
                          <a:pt x="105" y="804"/>
                        </a:lnTo>
                        <a:lnTo>
                          <a:pt x="110" y="804"/>
                        </a:lnTo>
                        <a:lnTo>
                          <a:pt x="110" y="811"/>
                        </a:lnTo>
                        <a:lnTo>
                          <a:pt x="110" y="816"/>
                        </a:lnTo>
                        <a:lnTo>
                          <a:pt x="110" y="820"/>
                        </a:lnTo>
                        <a:lnTo>
                          <a:pt x="110" y="825"/>
                        </a:lnTo>
                        <a:lnTo>
                          <a:pt x="105" y="825"/>
                        </a:lnTo>
                        <a:lnTo>
                          <a:pt x="105" y="829"/>
                        </a:lnTo>
                        <a:lnTo>
                          <a:pt x="105" y="833"/>
                        </a:lnTo>
                        <a:lnTo>
                          <a:pt x="102" y="838"/>
                        </a:lnTo>
                        <a:lnTo>
                          <a:pt x="98" y="838"/>
                        </a:lnTo>
                        <a:lnTo>
                          <a:pt x="98" y="843"/>
                        </a:lnTo>
                        <a:lnTo>
                          <a:pt x="98" y="846"/>
                        </a:lnTo>
                        <a:lnTo>
                          <a:pt x="94" y="846"/>
                        </a:lnTo>
                        <a:lnTo>
                          <a:pt x="94" y="851"/>
                        </a:lnTo>
                        <a:lnTo>
                          <a:pt x="94" y="856"/>
                        </a:lnTo>
                        <a:lnTo>
                          <a:pt x="94" y="859"/>
                        </a:lnTo>
                        <a:lnTo>
                          <a:pt x="94" y="864"/>
                        </a:lnTo>
                        <a:lnTo>
                          <a:pt x="94" y="869"/>
                        </a:lnTo>
                        <a:lnTo>
                          <a:pt x="94" y="874"/>
                        </a:lnTo>
                        <a:lnTo>
                          <a:pt x="94" y="878"/>
                        </a:lnTo>
                        <a:lnTo>
                          <a:pt x="98" y="882"/>
                        </a:lnTo>
                        <a:lnTo>
                          <a:pt x="98" y="888"/>
                        </a:lnTo>
                        <a:lnTo>
                          <a:pt x="98" y="893"/>
                        </a:lnTo>
                        <a:lnTo>
                          <a:pt x="102" y="893"/>
                        </a:lnTo>
                        <a:lnTo>
                          <a:pt x="102" y="898"/>
                        </a:lnTo>
                        <a:lnTo>
                          <a:pt x="102" y="902"/>
                        </a:lnTo>
                        <a:lnTo>
                          <a:pt x="105" y="906"/>
                        </a:lnTo>
                        <a:lnTo>
                          <a:pt x="105" y="911"/>
                        </a:lnTo>
                        <a:lnTo>
                          <a:pt x="110" y="916"/>
                        </a:lnTo>
                        <a:lnTo>
                          <a:pt x="110" y="920"/>
                        </a:lnTo>
                        <a:lnTo>
                          <a:pt x="110" y="925"/>
                        </a:lnTo>
                        <a:lnTo>
                          <a:pt x="114" y="929"/>
                        </a:lnTo>
                        <a:lnTo>
                          <a:pt x="110" y="938"/>
                        </a:lnTo>
                        <a:lnTo>
                          <a:pt x="110" y="943"/>
                        </a:lnTo>
                        <a:lnTo>
                          <a:pt x="110" y="946"/>
                        </a:lnTo>
                        <a:lnTo>
                          <a:pt x="105" y="951"/>
                        </a:lnTo>
                        <a:lnTo>
                          <a:pt x="102" y="960"/>
                        </a:lnTo>
                        <a:lnTo>
                          <a:pt x="102" y="967"/>
                        </a:lnTo>
                        <a:lnTo>
                          <a:pt x="98" y="967"/>
                        </a:lnTo>
                        <a:lnTo>
                          <a:pt x="94" y="967"/>
                        </a:lnTo>
                        <a:lnTo>
                          <a:pt x="98" y="972"/>
                        </a:lnTo>
                        <a:lnTo>
                          <a:pt x="98" y="975"/>
                        </a:lnTo>
                        <a:lnTo>
                          <a:pt x="94" y="980"/>
                        </a:lnTo>
                        <a:lnTo>
                          <a:pt x="94" y="988"/>
                        </a:lnTo>
                        <a:lnTo>
                          <a:pt x="91" y="993"/>
                        </a:lnTo>
                        <a:lnTo>
                          <a:pt x="91" y="998"/>
                        </a:lnTo>
                        <a:lnTo>
                          <a:pt x="94" y="1002"/>
                        </a:lnTo>
                        <a:lnTo>
                          <a:pt x="94" y="1007"/>
                        </a:lnTo>
                        <a:lnTo>
                          <a:pt x="94" y="1011"/>
                        </a:lnTo>
                        <a:lnTo>
                          <a:pt x="98" y="1016"/>
                        </a:lnTo>
                        <a:lnTo>
                          <a:pt x="102" y="1016"/>
                        </a:lnTo>
                        <a:lnTo>
                          <a:pt x="105" y="1016"/>
                        </a:lnTo>
                        <a:lnTo>
                          <a:pt x="110" y="1020"/>
                        </a:lnTo>
                        <a:lnTo>
                          <a:pt x="110" y="1025"/>
                        </a:lnTo>
                        <a:lnTo>
                          <a:pt x="114" y="1029"/>
                        </a:lnTo>
                        <a:lnTo>
                          <a:pt x="117" y="1029"/>
                        </a:lnTo>
                        <a:lnTo>
                          <a:pt x="121" y="1029"/>
                        </a:lnTo>
                        <a:lnTo>
                          <a:pt x="125" y="1029"/>
                        </a:lnTo>
                        <a:lnTo>
                          <a:pt x="125" y="1033"/>
                        </a:lnTo>
                        <a:lnTo>
                          <a:pt x="129" y="1033"/>
                        </a:lnTo>
                        <a:lnTo>
                          <a:pt x="133" y="1029"/>
                        </a:lnTo>
                        <a:lnTo>
                          <a:pt x="143" y="1025"/>
                        </a:lnTo>
                        <a:lnTo>
                          <a:pt x="150" y="1016"/>
                        </a:lnTo>
                        <a:lnTo>
                          <a:pt x="150" y="1011"/>
                        </a:lnTo>
                        <a:lnTo>
                          <a:pt x="157" y="1011"/>
                        </a:lnTo>
                        <a:lnTo>
                          <a:pt x="162" y="1011"/>
                        </a:lnTo>
                        <a:lnTo>
                          <a:pt x="166" y="1011"/>
                        </a:lnTo>
                        <a:lnTo>
                          <a:pt x="166" y="1016"/>
                        </a:lnTo>
                        <a:lnTo>
                          <a:pt x="166" y="1020"/>
                        </a:lnTo>
                        <a:lnTo>
                          <a:pt x="169" y="1016"/>
                        </a:lnTo>
                        <a:lnTo>
                          <a:pt x="173" y="1016"/>
                        </a:lnTo>
                        <a:lnTo>
                          <a:pt x="176" y="1016"/>
                        </a:lnTo>
                        <a:lnTo>
                          <a:pt x="181" y="1016"/>
                        </a:lnTo>
                        <a:lnTo>
                          <a:pt x="181" y="1011"/>
                        </a:lnTo>
                        <a:lnTo>
                          <a:pt x="185" y="1011"/>
                        </a:lnTo>
                        <a:lnTo>
                          <a:pt x="185" y="1007"/>
                        </a:lnTo>
                        <a:lnTo>
                          <a:pt x="189" y="1002"/>
                        </a:lnTo>
                        <a:lnTo>
                          <a:pt x="196" y="1002"/>
                        </a:lnTo>
                        <a:lnTo>
                          <a:pt x="199" y="1002"/>
                        </a:lnTo>
                        <a:lnTo>
                          <a:pt x="204" y="1002"/>
                        </a:lnTo>
                        <a:lnTo>
                          <a:pt x="208" y="1002"/>
                        </a:lnTo>
                        <a:lnTo>
                          <a:pt x="211" y="1007"/>
                        </a:lnTo>
                        <a:lnTo>
                          <a:pt x="215" y="1007"/>
                        </a:lnTo>
                        <a:lnTo>
                          <a:pt x="219" y="1007"/>
                        </a:lnTo>
                        <a:lnTo>
                          <a:pt x="219" y="1002"/>
                        </a:lnTo>
                        <a:lnTo>
                          <a:pt x="224" y="1002"/>
                        </a:lnTo>
                        <a:lnTo>
                          <a:pt x="228" y="1002"/>
                        </a:lnTo>
                        <a:lnTo>
                          <a:pt x="224" y="998"/>
                        </a:lnTo>
                        <a:lnTo>
                          <a:pt x="224" y="993"/>
                        </a:lnTo>
                        <a:lnTo>
                          <a:pt x="228" y="993"/>
                        </a:lnTo>
                        <a:lnTo>
                          <a:pt x="228" y="988"/>
                        </a:lnTo>
                        <a:lnTo>
                          <a:pt x="233" y="988"/>
                        </a:lnTo>
                        <a:lnTo>
                          <a:pt x="233" y="993"/>
                        </a:lnTo>
                        <a:lnTo>
                          <a:pt x="237" y="993"/>
                        </a:lnTo>
                        <a:lnTo>
                          <a:pt x="237" y="988"/>
                        </a:lnTo>
                        <a:lnTo>
                          <a:pt x="244" y="988"/>
                        </a:lnTo>
                        <a:lnTo>
                          <a:pt x="248" y="988"/>
                        </a:lnTo>
                        <a:lnTo>
                          <a:pt x="248" y="993"/>
                        </a:lnTo>
                        <a:lnTo>
                          <a:pt x="252" y="993"/>
                        </a:lnTo>
                        <a:lnTo>
                          <a:pt x="252" y="988"/>
                        </a:lnTo>
                        <a:lnTo>
                          <a:pt x="256" y="988"/>
                        </a:lnTo>
                        <a:lnTo>
                          <a:pt x="256" y="985"/>
                        </a:lnTo>
                        <a:lnTo>
                          <a:pt x="260" y="985"/>
                        </a:lnTo>
                        <a:lnTo>
                          <a:pt x="260" y="980"/>
                        </a:lnTo>
                        <a:lnTo>
                          <a:pt x="260" y="985"/>
                        </a:lnTo>
                        <a:lnTo>
                          <a:pt x="263" y="985"/>
                        </a:lnTo>
                        <a:lnTo>
                          <a:pt x="267" y="985"/>
                        </a:lnTo>
                        <a:lnTo>
                          <a:pt x="267" y="988"/>
                        </a:lnTo>
                        <a:lnTo>
                          <a:pt x="271" y="993"/>
                        </a:lnTo>
                        <a:lnTo>
                          <a:pt x="275" y="993"/>
                        </a:lnTo>
                        <a:lnTo>
                          <a:pt x="279" y="993"/>
                        </a:lnTo>
                        <a:lnTo>
                          <a:pt x="279" y="998"/>
                        </a:lnTo>
                        <a:lnTo>
                          <a:pt x="283" y="998"/>
                        </a:lnTo>
                        <a:lnTo>
                          <a:pt x="286" y="993"/>
                        </a:lnTo>
                        <a:lnTo>
                          <a:pt x="290" y="993"/>
                        </a:lnTo>
                        <a:lnTo>
                          <a:pt x="290" y="988"/>
                        </a:lnTo>
                        <a:lnTo>
                          <a:pt x="295" y="988"/>
                        </a:lnTo>
                        <a:lnTo>
                          <a:pt x="295" y="985"/>
                        </a:lnTo>
                        <a:lnTo>
                          <a:pt x="298" y="980"/>
                        </a:lnTo>
                        <a:lnTo>
                          <a:pt x="298" y="975"/>
                        </a:lnTo>
                        <a:lnTo>
                          <a:pt x="302" y="975"/>
                        </a:lnTo>
                        <a:lnTo>
                          <a:pt x="305" y="972"/>
                        </a:lnTo>
                        <a:lnTo>
                          <a:pt x="305" y="967"/>
                        </a:lnTo>
                        <a:lnTo>
                          <a:pt x="309" y="967"/>
                        </a:lnTo>
                        <a:lnTo>
                          <a:pt x="309" y="960"/>
                        </a:lnTo>
                        <a:lnTo>
                          <a:pt x="314" y="960"/>
                        </a:lnTo>
                        <a:lnTo>
                          <a:pt x="314" y="956"/>
                        </a:lnTo>
                        <a:lnTo>
                          <a:pt x="319" y="956"/>
                        </a:lnTo>
                        <a:lnTo>
                          <a:pt x="319" y="951"/>
                        </a:lnTo>
                        <a:lnTo>
                          <a:pt x="319" y="956"/>
                        </a:lnTo>
                        <a:lnTo>
                          <a:pt x="324" y="956"/>
                        </a:lnTo>
                        <a:lnTo>
                          <a:pt x="324" y="951"/>
                        </a:lnTo>
                        <a:lnTo>
                          <a:pt x="327" y="951"/>
                        </a:lnTo>
                        <a:lnTo>
                          <a:pt x="327" y="956"/>
                        </a:lnTo>
                        <a:lnTo>
                          <a:pt x="334" y="956"/>
                        </a:lnTo>
                        <a:lnTo>
                          <a:pt x="334" y="951"/>
                        </a:lnTo>
                        <a:lnTo>
                          <a:pt x="334" y="946"/>
                        </a:lnTo>
                        <a:lnTo>
                          <a:pt x="338" y="946"/>
                        </a:lnTo>
                        <a:lnTo>
                          <a:pt x="338" y="943"/>
                        </a:lnTo>
                        <a:lnTo>
                          <a:pt x="342" y="938"/>
                        </a:lnTo>
                        <a:lnTo>
                          <a:pt x="346" y="929"/>
                        </a:lnTo>
                        <a:lnTo>
                          <a:pt x="346" y="925"/>
                        </a:lnTo>
                        <a:lnTo>
                          <a:pt x="346" y="920"/>
                        </a:lnTo>
                        <a:lnTo>
                          <a:pt x="350" y="920"/>
                        </a:lnTo>
                        <a:lnTo>
                          <a:pt x="350" y="916"/>
                        </a:lnTo>
                        <a:lnTo>
                          <a:pt x="354" y="920"/>
                        </a:lnTo>
                        <a:lnTo>
                          <a:pt x="357" y="920"/>
                        </a:lnTo>
                        <a:lnTo>
                          <a:pt x="361" y="920"/>
                        </a:lnTo>
                        <a:lnTo>
                          <a:pt x="361" y="916"/>
                        </a:lnTo>
                        <a:lnTo>
                          <a:pt x="366" y="916"/>
                        </a:lnTo>
                        <a:lnTo>
                          <a:pt x="369" y="911"/>
                        </a:lnTo>
                        <a:lnTo>
                          <a:pt x="373" y="916"/>
                        </a:lnTo>
                        <a:lnTo>
                          <a:pt x="373" y="920"/>
                        </a:lnTo>
                        <a:lnTo>
                          <a:pt x="377" y="920"/>
                        </a:lnTo>
                        <a:lnTo>
                          <a:pt x="380" y="925"/>
                        </a:lnTo>
                        <a:lnTo>
                          <a:pt x="385" y="925"/>
                        </a:lnTo>
                        <a:lnTo>
                          <a:pt x="389" y="925"/>
                        </a:lnTo>
                        <a:lnTo>
                          <a:pt x="389" y="920"/>
                        </a:lnTo>
                        <a:lnTo>
                          <a:pt x="392" y="920"/>
                        </a:lnTo>
                        <a:lnTo>
                          <a:pt x="396" y="920"/>
                        </a:lnTo>
                        <a:lnTo>
                          <a:pt x="400" y="920"/>
                        </a:lnTo>
                        <a:lnTo>
                          <a:pt x="406" y="920"/>
                        </a:lnTo>
                        <a:lnTo>
                          <a:pt x="406" y="916"/>
                        </a:lnTo>
                        <a:lnTo>
                          <a:pt x="406" y="911"/>
                        </a:lnTo>
                        <a:lnTo>
                          <a:pt x="406" y="906"/>
                        </a:lnTo>
                        <a:lnTo>
                          <a:pt x="406" y="902"/>
                        </a:lnTo>
                        <a:lnTo>
                          <a:pt x="406" y="893"/>
                        </a:lnTo>
                        <a:lnTo>
                          <a:pt x="406" y="888"/>
                        </a:lnTo>
                        <a:lnTo>
                          <a:pt x="409" y="888"/>
                        </a:lnTo>
                        <a:lnTo>
                          <a:pt x="409" y="882"/>
                        </a:lnTo>
                        <a:lnTo>
                          <a:pt x="406" y="878"/>
                        </a:lnTo>
                        <a:lnTo>
                          <a:pt x="409" y="878"/>
                        </a:lnTo>
                        <a:lnTo>
                          <a:pt x="409" y="874"/>
                        </a:lnTo>
                        <a:lnTo>
                          <a:pt x="413" y="874"/>
                        </a:lnTo>
                        <a:lnTo>
                          <a:pt x="418" y="874"/>
                        </a:lnTo>
                        <a:lnTo>
                          <a:pt x="421" y="874"/>
                        </a:lnTo>
                        <a:lnTo>
                          <a:pt x="421" y="869"/>
                        </a:lnTo>
                        <a:lnTo>
                          <a:pt x="425" y="869"/>
                        </a:lnTo>
                        <a:lnTo>
                          <a:pt x="428" y="864"/>
                        </a:lnTo>
                        <a:lnTo>
                          <a:pt x="428" y="859"/>
                        </a:lnTo>
                        <a:lnTo>
                          <a:pt x="432" y="859"/>
                        </a:lnTo>
                        <a:lnTo>
                          <a:pt x="437" y="856"/>
                        </a:lnTo>
                        <a:lnTo>
                          <a:pt x="437" y="851"/>
                        </a:lnTo>
                        <a:lnTo>
                          <a:pt x="441" y="851"/>
                        </a:lnTo>
                        <a:lnTo>
                          <a:pt x="441" y="846"/>
                        </a:lnTo>
                        <a:lnTo>
                          <a:pt x="441" y="843"/>
                        </a:lnTo>
                        <a:lnTo>
                          <a:pt x="441" y="846"/>
                        </a:lnTo>
                        <a:lnTo>
                          <a:pt x="444" y="846"/>
                        </a:lnTo>
                        <a:lnTo>
                          <a:pt x="448" y="846"/>
                        </a:lnTo>
                        <a:lnTo>
                          <a:pt x="451" y="851"/>
                        </a:lnTo>
                        <a:lnTo>
                          <a:pt x="451" y="846"/>
                        </a:lnTo>
                        <a:lnTo>
                          <a:pt x="455" y="843"/>
                        </a:lnTo>
                        <a:lnTo>
                          <a:pt x="455" y="838"/>
                        </a:lnTo>
                        <a:lnTo>
                          <a:pt x="460" y="833"/>
                        </a:lnTo>
                        <a:lnTo>
                          <a:pt x="460" y="829"/>
                        </a:lnTo>
                        <a:lnTo>
                          <a:pt x="463" y="829"/>
                        </a:lnTo>
                        <a:lnTo>
                          <a:pt x="467" y="829"/>
                        </a:lnTo>
                        <a:lnTo>
                          <a:pt x="471" y="829"/>
                        </a:lnTo>
                        <a:lnTo>
                          <a:pt x="471" y="825"/>
                        </a:lnTo>
                        <a:lnTo>
                          <a:pt x="474" y="820"/>
                        </a:lnTo>
                        <a:lnTo>
                          <a:pt x="479" y="820"/>
                        </a:lnTo>
                        <a:lnTo>
                          <a:pt x="483" y="820"/>
                        </a:lnTo>
                        <a:lnTo>
                          <a:pt x="486" y="820"/>
                        </a:lnTo>
                        <a:lnTo>
                          <a:pt x="490" y="820"/>
                        </a:lnTo>
                        <a:lnTo>
                          <a:pt x="496" y="816"/>
                        </a:lnTo>
                        <a:lnTo>
                          <a:pt x="496" y="820"/>
                        </a:lnTo>
                        <a:lnTo>
                          <a:pt x="496" y="816"/>
                        </a:lnTo>
                        <a:lnTo>
                          <a:pt x="500" y="811"/>
                        </a:lnTo>
                        <a:lnTo>
                          <a:pt x="503" y="811"/>
                        </a:lnTo>
                        <a:lnTo>
                          <a:pt x="503" y="816"/>
                        </a:lnTo>
                        <a:lnTo>
                          <a:pt x="508" y="820"/>
                        </a:lnTo>
                        <a:lnTo>
                          <a:pt x="508" y="816"/>
                        </a:lnTo>
                        <a:lnTo>
                          <a:pt x="512" y="816"/>
                        </a:lnTo>
                        <a:lnTo>
                          <a:pt x="512" y="811"/>
                        </a:lnTo>
                        <a:lnTo>
                          <a:pt x="512" y="804"/>
                        </a:lnTo>
                        <a:lnTo>
                          <a:pt x="515" y="804"/>
                        </a:lnTo>
                        <a:lnTo>
                          <a:pt x="515" y="800"/>
                        </a:lnTo>
                        <a:lnTo>
                          <a:pt x="512" y="800"/>
                        </a:lnTo>
                        <a:lnTo>
                          <a:pt x="512" y="796"/>
                        </a:lnTo>
                        <a:lnTo>
                          <a:pt x="512" y="791"/>
                        </a:lnTo>
                        <a:lnTo>
                          <a:pt x="512" y="787"/>
                        </a:lnTo>
                        <a:lnTo>
                          <a:pt x="515" y="787"/>
                        </a:lnTo>
                        <a:lnTo>
                          <a:pt x="515" y="782"/>
                        </a:lnTo>
                        <a:lnTo>
                          <a:pt x="519" y="782"/>
                        </a:lnTo>
                        <a:lnTo>
                          <a:pt x="519" y="777"/>
                        </a:lnTo>
                        <a:lnTo>
                          <a:pt x="523" y="774"/>
                        </a:lnTo>
                        <a:lnTo>
                          <a:pt x="526" y="774"/>
                        </a:lnTo>
                        <a:lnTo>
                          <a:pt x="531" y="769"/>
                        </a:lnTo>
                        <a:lnTo>
                          <a:pt x="531" y="764"/>
                        </a:lnTo>
                        <a:lnTo>
                          <a:pt x="526" y="764"/>
                        </a:lnTo>
                        <a:lnTo>
                          <a:pt x="526" y="759"/>
                        </a:lnTo>
                        <a:lnTo>
                          <a:pt x="526" y="756"/>
                        </a:lnTo>
                        <a:lnTo>
                          <a:pt x="523" y="751"/>
                        </a:lnTo>
                        <a:lnTo>
                          <a:pt x="523" y="746"/>
                        </a:lnTo>
                        <a:lnTo>
                          <a:pt x="526" y="746"/>
                        </a:lnTo>
                        <a:lnTo>
                          <a:pt x="523" y="746"/>
                        </a:lnTo>
                        <a:lnTo>
                          <a:pt x="523" y="743"/>
                        </a:lnTo>
                        <a:lnTo>
                          <a:pt x="523" y="738"/>
                        </a:lnTo>
                        <a:lnTo>
                          <a:pt x="523" y="733"/>
                        </a:lnTo>
                        <a:lnTo>
                          <a:pt x="526" y="733"/>
                        </a:lnTo>
                        <a:lnTo>
                          <a:pt x="531" y="733"/>
                        </a:lnTo>
                        <a:lnTo>
                          <a:pt x="535" y="733"/>
                        </a:lnTo>
                        <a:lnTo>
                          <a:pt x="538" y="733"/>
                        </a:lnTo>
                        <a:lnTo>
                          <a:pt x="538" y="727"/>
                        </a:lnTo>
                        <a:lnTo>
                          <a:pt x="538" y="722"/>
                        </a:lnTo>
                        <a:lnTo>
                          <a:pt x="538" y="717"/>
                        </a:lnTo>
                        <a:lnTo>
                          <a:pt x="538" y="714"/>
                        </a:lnTo>
                        <a:lnTo>
                          <a:pt x="538" y="709"/>
                        </a:lnTo>
                        <a:lnTo>
                          <a:pt x="538" y="704"/>
                        </a:lnTo>
                        <a:lnTo>
                          <a:pt x="538" y="700"/>
                        </a:lnTo>
                        <a:lnTo>
                          <a:pt x="535" y="695"/>
                        </a:lnTo>
                        <a:lnTo>
                          <a:pt x="535" y="691"/>
                        </a:lnTo>
                        <a:lnTo>
                          <a:pt x="538" y="691"/>
                        </a:lnTo>
                        <a:lnTo>
                          <a:pt x="538" y="687"/>
                        </a:lnTo>
                        <a:lnTo>
                          <a:pt x="538" y="682"/>
                        </a:lnTo>
                        <a:lnTo>
                          <a:pt x="542" y="682"/>
                        </a:lnTo>
                        <a:lnTo>
                          <a:pt x="545" y="682"/>
                        </a:lnTo>
                        <a:lnTo>
                          <a:pt x="550" y="682"/>
                        </a:lnTo>
                        <a:lnTo>
                          <a:pt x="554" y="682"/>
                        </a:lnTo>
                        <a:lnTo>
                          <a:pt x="558" y="682"/>
                        </a:lnTo>
                        <a:lnTo>
                          <a:pt x="561" y="682"/>
                        </a:lnTo>
                        <a:lnTo>
                          <a:pt x="561" y="677"/>
                        </a:lnTo>
                        <a:lnTo>
                          <a:pt x="561" y="674"/>
                        </a:lnTo>
                        <a:lnTo>
                          <a:pt x="561" y="669"/>
                        </a:lnTo>
                        <a:lnTo>
                          <a:pt x="565" y="669"/>
                        </a:lnTo>
                        <a:lnTo>
                          <a:pt x="561" y="664"/>
                        </a:lnTo>
                        <a:lnTo>
                          <a:pt x="561" y="661"/>
                        </a:lnTo>
                        <a:lnTo>
                          <a:pt x="558" y="656"/>
                        </a:lnTo>
                        <a:lnTo>
                          <a:pt x="558" y="648"/>
                        </a:lnTo>
                        <a:lnTo>
                          <a:pt x="554" y="648"/>
                        </a:lnTo>
                        <a:lnTo>
                          <a:pt x="550" y="648"/>
                        </a:lnTo>
                        <a:lnTo>
                          <a:pt x="550" y="645"/>
                        </a:lnTo>
                        <a:lnTo>
                          <a:pt x="550" y="640"/>
                        </a:lnTo>
                        <a:lnTo>
                          <a:pt x="554" y="640"/>
                        </a:lnTo>
                        <a:lnTo>
                          <a:pt x="558" y="635"/>
                        </a:lnTo>
                        <a:lnTo>
                          <a:pt x="561" y="632"/>
                        </a:lnTo>
                        <a:lnTo>
                          <a:pt x="565" y="632"/>
                        </a:lnTo>
                        <a:lnTo>
                          <a:pt x="565" y="627"/>
                        </a:lnTo>
                        <a:lnTo>
                          <a:pt x="570" y="627"/>
                        </a:lnTo>
                        <a:lnTo>
                          <a:pt x="570" y="632"/>
                        </a:lnTo>
                        <a:lnTo>
                          <a:pt x="573" y="632"/>
                        </a:lnTo>
                        <a:lnTo>
                          <a:pt x="577" y="632"/>
                        </a:lnTo>
                        <a:lnTo>
                          <a:pt x="577" y="627"/>
                        </a:lnTo>
                        <a:lnTo>
                          <a:pt x="580" y="627"/>
                        </a:lnTo>
                        <a:lnTo>
                          <a:pt x="580" y="622"/>
                        </a:lnTo>
                        <a:lnTo>
                          <a:pt x="586" y="618"/>
                        </a:lnTo>
                        <a:lnTo>
                          <a:pt x="590" y="618"/>
                        </a:lnTo>
                        <a:lnTo>
                          <a:pt x="594" y="618"/>
                        </a:lnTo>
                        <a:lnTo>
                          <a:pt x="597" y="618"/>
                        </a:lnTo>
                        <a:lnTo>
                          <a:pt x="597" y="614"/>
                        </a:lnTo>
                        <a:lnTo>
                          <a:pt x="602" y="614"/>
                        </a:lnTo>
                        <a:lnTo>
                          <a:pt x="606" y="614"/>
                        </a:lnTo>
                        <a:lnTo>
                          <a:pt x="609" y="614"/>
                        </a:lnTo>
                        <a:lnTo>
                          <a:pt x="613" y="614"/>
                        </a:lnTo>
                        <a:lnTo>
                          <a:pt x="613" y="618"/>
                        </a:lnTo>
                        <a:lnTo>
                          <a:pt x="617" y="614"/>
                        </a:lnTo>
                        <a:lnTo>
                          <a:pt x="621" y="609"/>
                        </a:lnTo>
                        <a:lnTo>
                          <a:pt x="625" y="609"/>
                        </a:lnTo>
                        <a:lnTo>
                          <a:pt x="625" y="604"/>
                        </a:lnTo>
                        <a:lnTo>
                          <a:pt x="629" y="604"/>
                        </a:lnTo>
                        <a:lnTo>
                          <a:pt x="629" y="600"/>
                        </a:lnTo>
                        <a:lnTo>
                          <a:pt x="629" y="595"/>
                        </a:lnTo>
                        <a:lnTo>
                          <a:pt x="632" y="595"/>
                        </a:lnTo>
                        <a:lnTo>
                          <a:pt x="636" y="595"/>
                        </a:lnTo>
                        <a:lnTo>
                          <a:pt x="636" y="600"/>
                        </a:lnTo>
                        <a:lnTo>
                          <a:pt x="641" y="600"/>
                        </a:lnTo>
                        <a:lnTo>
                          <a:pt x="644" y="600"/>
                        </a:lnTo>
                        <a:lnTo>
                          <a:pt x="648" y="600"/>
                        </a:lnTo>
                        <a:lnTo>
                          <a:pt x="652" y="600"/>
                        </a:lnTo>
                        <a:lnTo>
                          <a:pt x="655" y="600"/>
                        </a:lnTo>
                        <a:lnTo>
                          <a:pt x="655" y="595"/>
                        </a:lnTo>
                        <a:lnTo>
                          <a:pt x="659" y="595"/>
                        </a:lnTo>
                        <a:lnTo>
                          <a:pt x="659" y="591"/>
                        </a:lnTo>
                        <a:lnTo>
                          <a:pt x="664" y="591"/>
                        </a:lnTo>
                        <a:lnTo>
                          <a:pt x="667" y="591"/>
                        </a:lnTo>
                        <a:lnTo>
                          <a:pt x="673" y="587"/>
                        </a:lnTo>
                        <a:lnTo>
                          <a:pt x="673" y="591"/>
                        </a:lnTo>
                        <a:lnTo>
                          <a:pt x="680" y="591"/>
                        </a:lnTo>
                        <a:lnTo>
                          <a:pt x="680" y="587"/>
                        </a:lnTo>
                        <a:lnTo>
                          <a:pt x="684" y="587"/>
                        </a:lnTo>
                        <a:lnTo>
                          <a:pt x="684" y="582"/>
                        </a:lnTo>
                        <a:lnTo>
                          <a:pt x="688" y="582"/>
                        </a:lnTo>
                        <a:lnTo>
                          <a:pt x="693" y="582"/>
                        </a:lnTo>
                        <a:lnTo>
                          <a:pt x="693" y="577"/>
                        </a:lnTo>
                        <a:lnTo>
                          <a:pt x="696" y="577"/>
                        </a:lnTo>
                        <a:lnTo>
                          <a:pt x="700" y="577"/>
                        </a:lnTo>
                        <a:lnTo>
                          <a:pt x="703" y="577"/>
                        </a:lnTo>
                        <a:lnTo>
                          <a:pt x="703" y="571"/>
                        </a:lnTo>
                        <a:lnTo>
                          <a:pt x="707" y="571"/>
                        </a:lnTo>
                        <a:lnTo>
                          <a:pt x="715" y="571"/>
                        </a:lnTo>
                        <a:lnTo>
                          <a:pt x="715" y="582"/>
                        </a:lnTo>
                        <a:lnTo>
                          <a:pt x="715" y="587"/>
                        </a:lnTo>
                        <a:lnTo>
                          <a:pt x="719" y="587"/>
                        </a:lnTo>
                        <a:lnTo>
                          <a:pt x="723" y="591"/>
                        </a:lnTo>
                        <a:lnTo>
                          <a:pt x="726" y="595"/>
                        </a:lnTo>
                        <a:lnTo>
                          <a:pt x="726" y="591"/>
                        </a:lnTo>
                        <a:lnTo>
                          <a:pt x="726" y="587"/>
                        </a:lnTo>
                        <a:lnTo>
                          <a:pt x="730" y="582"/>
                        </a:lnTo>
                        <a:lnTo>
                          <a:pt x="735" y="582"/>
                        </a:lnTo>
                        <a:lnTo>
                          <a:pt x="738" y="582"/>
                        </a:lnTo>
                        <a:lnTo>
                          <a:pt x="738" y="577"/>
                        </a:lnTo>
                        <a:lnTo>
                          <a:pt x="738" y="571"/>
                        </a:lnTo>
                        <a:lnTo>
                          <a:pt x="742" y="571"/>
                        </a:lnTo>
                        <a:lnTo>
                          <a:pt x="742" y="566"/>
                        </a:lnTo>
                        <a:lnTo>
                          <a:pt x="742" y="562"/>
                        </a:lnTo>
                        <a:lnTo>
                          <a:pt x="746" y="558"/>
                        </a:lnTo>
                        <a:lnTo>
                          <a:pt x="749" y="558"/>
                        </a:lnTo>
                        <a:lnTo>
                          <a:pt x="754" y="558"/>
                        </a:lnTo>
                        <a:lnTo>
                          <a:pt x="758" y="558"/>
                        </a:lnTo>
                        <a:lnTo>
                          <a:pt x="764" y="558"/>
                        </a:lnTo>
                        <a:lnTo>
                          <a:pt x="767" y="558"/>
                        </a:lnTo>
                        <a:lnTo>
                          <a:pt x="771" y="558"/>
                        </a:lnTo>
                        <a:lnTo>
                          <a:pt x="775" y="558"/>
                        </a:lnTo>
                        <a:lnTo>
                          <a:pt x="775" y="553"/>
                        </a:lnTo>
                        <a:lnTo>
                          <a:pt x="778" y="553"/>
                        </a:lnTo>
                        <a:lnTo>
                          <a:pt x="778" y="548"/>
                        </a:lnTo>
                        <a:lnTo>
                          <a:pt x="782" y="548"/>
                        </a:lnTo>
                        <a:lnTo>
                          <a:pt x="782" y="545"/>
                        </a:lnTo>
                        <a:lnTo>
                          <a:pt x="787" y="545"/>
                        </a:lnTo>
                        <a:lnTo>
                          <a:pt x="794" y="545"/>
                        </a:lnTo>
                        <a:lnTo>
                          <a:pt x="794" y="540"/>
                        </a:lnTo>
                        <a:lnTo>
                          <a:pt x="794" y="535"/>
                        </a:lnTo>
                        <a:lnTo>
                          <a:pt x="794" y="532"/>
                        </a:lnTo>
                        <a:lnTo>
                          <a:pt x="801" y="532"/>
                        </a:lnTo>
                        <a:lnTo>
                          <a:pt x="806" y="535"/>
                        </a:lnTo>
                        <a:lnTo>
                          <a:pt x="806" y="540"/>
                        </a:lnTo>
                        <a:lnTo>
                          <a:pt x="806" y="545"/>
                        </a:lnTo>
                        <a:lnTo>
                          <a:pt x="810" y="545"/>
                        </a:lnTo>
                        <a:lnTo>
                          <a:pt x="813" y="540"/>
                        </a:lnTo>
                        <a:lnTo>
                          <a:pt x="813" y="545"/>
                        </a:lnTo>
                        <a:lnTo>
                          <a:pt x="817" y="545"/>
                        </a:lnTo>
                        <a:lnTo>
                          <a:pt x="820" y="548"/>
                        </a:lnTo>
                        <a:lnTo>
                          <a:pt x="825" y="548"/>
                        </a:lnTo>
                        <a:lnTo>
                          <a:pt x="825" y="553"/>
                        </a:lnTo>
                        <a:lnTo>
                          <a:pt x="829" y="553"/>
                        </a:lnTo>
                        <a:lnTo>
                          <a:pt x="836" y="553"/>
                        </a:lnTo>
                        <a:lnTo>
                          <a:pt x="840" y="553"/>
                        </a:lnTo>
                        <a:lnTo>
                          <a:pt x="843" y="553"/>
                        </a:lnTo>
                        <a:lnTo>
                          <a:pt x="843" y="558"/>
                        </a:lnTo>
                        <a:lnTo>
                          <a:pt x="848" y="553"/>
                        </a:lnTo>
                        <a:lnTo>
                          <a:pt x="848" y="558"/>
                        </a:lnTo>
                        <a:lnTo>
                          <a:pt x="853" y="558"/>
                        </a:lnTo>
                        <a:lnTo>
                          <a:pt x="858" y="558"/>
                        </a:lnTo>
                        <a:lnTo>
                          <a:pt x="861" y="558"/>
                        </a:lnTo>
                        <a:lnTo>
                          <a:pt x="865" y="558"/>
                        </a:lnTo>
                        <a:lnTo>
                          <a:pt x="869" y="558"/>
                        </a:lnTo>
                        <a:lnTo>
                          <a:pt x="872" y="558"/>
                        </a:lnTo>
                        <a:lnTo>
                          <a:pt x="877" y="558"/>
                        </a:lnTo>
                        <a:lnTo>
                          <a:pt x="877" y="553"/>
                        </a:lnTo>
                        <a:lnTo>
                          <a:pt x="877" y="548"/>
                        </a:lnTo>
                        <a:lnTo>
                          <a:pt x="881" y="548"/>
                        </a:lnTo>
                        <a:lnTo>
                          <a:pt x="884" y="545"/>
                        </a:lnTo>
                        <a:lnTo>
                          <a:pt x="892" y="545"/>
                        </a:lnTo>
                        <a:lnTo>
                          <a:pt x="895" y="545"/>
                        </a:lnTo>
                        <a:lnTo>
                          <a:pt x="900" y="545"/>
                        </a:lnTo>
                        <a:lnTo>
                          <a:pt x="904" y="548"/>
                        </a:lnTo>
                        <a:lnTo>
                          <a:pt x="904" y="553"/>
                        </a:lnTo>
                        <a:lnTo>
                          <a:pt x="907" y="553"/>
                        </a:lnTo>
                        <a:lnTo>
                          <a:pt x="907" y="558"/>
                        </a:lnTo>
                        <a:lnTo>
                          <a:pt x="911" y="558"/>
                        </a:lnTo>
                        <a:lnTo>
                          <a:pt x="911" y="553"/>
                        </a:lnTo>
                        <a:lnTo>
                          <a:pt x="914" y="553"/>
                        </a:lnTo>
                        <a:lnTo>
                          <a:pt x="919" y="548"/>
                        </a:lnTo>
                        <a:lnTo>
                          <a:pt x="923" y="545"/>
                        </a:lnTo>
                        <a:lnTo>
                          <a:pt x="926" y="545"/>
                        </a:lnTo>
                        <a:lnTo>
                          <a:pt x="930" y="545"/>
                        </a:lnTo>
                        <a:lnTo>
                          <a:pt x="934" y="548"/>
                        </a:lnTo>
                        <a:lnTo>
                          <a:pt x="940" y="548"/>
                        </a:lnTo>
                        <a:lnTo>
                          <a:pt x="943" y="553"/>
                        </a:lnTo>
                        <a:lnTo>
                          <a:pt x="948" y="548"/>
                        </a:lnTo>
                        <a:lnTo>
                          <a:pt x="952" y="548"/>
                        </a:lnTo>
                        <a:lnTo>
                          <a:pt x="952" y="545"/>
                        </a:lnTo>
                        <a:lnTo>
                          <a:pt x="959" y="540"/>
                        </a:lnTo>
                        <a:lnTo>
                          <a:pt x="959" y="535"/>
                        </a:lnTo>
                        <a:lnTo>
                          <a:pt x="963" y="535"/>
                        </a:lnTo>
                        <a:lnTo>
                          <a:pt x="963" y="532"/>
                        </a:lnTo>
                        <a:lnTo>
                          <a:pt x="966" y="532"/>
                        </a:lnTo>
                        <a:lnTo>
                          <a:pt x="966" y="527"/>
                        </a:lnTo>
                        <a:lnTo>
                          <a:pt x="971" y="527"/>
                        </a:lnTo>
                        <a:lnTo>
                          <a:pt x="971" y="522"/>
                        </a:lnTo>
                        <a:lnTo>
                          <a:pt x="975" y="522"/>
                        </a:lnTo>
                        <a:lnTo>
                          <a:pt x="975" y="518"/>
                        </a:lnTo>
                        <a:lnTo>
                          <a:pt x="975" y="513"/>
                        </a:lnTo>
                        <a:lnTo>
                          <a:pt x="978" y="509"/>
                        </a:lnTo>
                        <a:lnTo>
                          <a:pt x="982" y="509"/>
                        </a:lnTo>
                        <a:lnTo>
                          <a:pt x="986" y="509"/>
                        </a:lnTo>
                        <a:lnTo>
                          <a:pt x="986" y="504"/>
                        </a:lnTo>
                        <a:lnTo>
                          <a:pt x="986" y="509"/>
                        </a:lnTo>
                        <a:lnTo>
                          <a:pt x="990" y="509"/>
                        </a:lnTo>
                        <a:lnTo>
                          <a:pt x="990" y="504"/>
                        </a:lnTo>
                        <a:lnTo>
                          <a:pt x="994" y="504"/>
                        </a:lnTo>
                        <a:lnTo>
                          <a:pt x="998" y="504"/>
                        </a:lnTo>
                        <a:lnTo>
                          <a:pt x="1001" y="504"/>
                        </a:lnTo>
                        <a:lnTo>
                          <a:pt x="1010" y="504"/>
                        </a:lnTo>
                        <a:lnTo>
                          <a:pt x="1013" y="504"/>
                        </a:lnTo>
                        <a:lnTo>
                          <a:pt x="1013" y="498"/>
                        </a:lnTo>
                        <a:lnTo>
                          <a:pt x="1017" y="498"/>
                        </a:lnTo>
                        <a:lnTo>
                          <a:pt x="1021" y="493"/>
                        </a:lnTo>
                        <a:lnTo>
                          <a:pt x="1021" y="489"/>
                        </a:lnTo>
                        <a:lnTo>
                          <a:pt x="1024" y="484"/>
                        </a:lnTo>
                        <a:lnTo>
                          <a:pt x="1024" y="480"/>
                        </a:lnTo>
                        <a:lnTo>
                          <a:pt x="1013" y="462"/>
                        </a:lnTo>
                        <a:lnTo>
                          <a:pt x="1013" y="458"/>
                        </a:lnTo>
                        <a:lnTo>
                          <a:pt x="1013" y="445"/>
                        </a:lnTo>
                        <a:lnTo>
                          <a:pt x="1013" y="440"/>
                        </a:lnTo>
                        <a:lnTo>
                          <a:pt x="1013" y="435"/>
                        </a:lnTo>
                        <a:lnTo>
                          <a:pt x="1013" y="427"/>
                        </a:lnTo>
                        <a:lnTo>
                          <a:pt x="1013" y="419"/>
                        </a:lnTo>
                        <a:lnTo>
                          <a:pt x="1021" y="411"/>
                        </a:lnTo>
                        <a:lnTo>
                          <a:pt x="1021" y="406"/>
                        </a:lnTo>
                        <a:lnTo>
                          <a:pt x="1021" y="403"/>
                        </a:lnTo>
                        <a:lnTo>
                          <a:pt x="1024" y="393"/>
                        </a:lnTo>
                        <a:lnTo>
                          <a:pt x="1024" y="389"/>
                        </a:lnTo>
                        <a:lnTo>
                          <a:pt x="1024" y="384"/>
                        </a:lnTo>
                        <a:lnTo>
                          <a:pt x="1024" y="380"/>
                        </a:lnTo>
                        <a:lnTo>
                          <a:pt x="1030" y="380"/>
                        </a:lnTo>
                        <a:lnTo>
                          <a:pt x="1034" y="371"/>
                        </a:lnTo>
                        <a:lnTo>
                          <a:pt x="1037" y="366"/>
                        </a:lnTo>
                        <a:lnTo>
                          <a:pt x="1042" y="358"/>
                        </a:lnTo>
                        <a:lnTo>
                          <a:pt x="1046" y="353"/>
                        </a:lnTo>
                        <a:lnTo>
                          <a:pt x="1046" y="348"/>
                        </a:lnTo>
                        <a:lnTo>
                          <a:pt x="1049" y="342"/>
                        </a:lnTo>
                        <a:lnTo>
                          <a:pt x="1049" y="337"/>
                        </a:lnTo>
                        <a:lnTo>
                          <a:pt x="1049" y="302"/>
                        </a:lnTo>
                        <a:lnTo>
                          <a:pt x="1049" y="298"/>
                        </a:lnTo>
                        <a:lnTo>
                          <a:pt x="1049" y="293"/>
                        </a:lnTo>
                        <a:lnTo>
                          <a:pt x="1049" y="289"/>
                        </a:lnTo>
                        <a:lnTo>
                          <a:pt x="1053" y="284"/>
                        </a:lnTo>
                        <a:lnTo>
                          <a:pt x="1053" y="280"/>
                        </a:lnTo>
                        <a:lnTo>
                          <a:pt x="1049" y="276"/>
                        </a:lnTo>
                        <a:lnTo>
                          <a:pt x="1049" y="247"/>
                        </a:lnTo>
                        <a:lnTo>
                          <a:pt x="1046" y="242"/>
                        </a:lnTo>
                        <a:lnTo>
                          <a:pt x="1042" y="229"/>
                        </a:lnTo>
                        <a:lnTo>
                          <a:pt x="1042" y="224"/>
                        </a:lnTo>
                        <a:lnTo>
                          <a:pt x="1042" y="219"/>
                        </a:lnTo>
                        <a:lnTo>
                          <a:pt x="1030" y="160"/>
                        </a:lnTo>
                        <a:lnTo>
                          <a:pt x="1024" y="160"/>
                        </a:lnTo>
                        <a:lnTo>
                          <a:pt x="1024" y="151"/>
                        </a:lnTo>
                        <a:lnTo>
                          <a:pt x="1013" y="137"/>
                        </a:lnTo>
                        <a:lnTo>
                          <a:pt x="1013" y="134"/>
                        </a:lnTo>
                        <a:lnTo>
                          <a:pt x="994" y="108"/>
                        </a:lnTo>
                        <a:lnTo>
                          <a:pt x="994" y="105"/>
                        </a:lnTo>
                        <a:lnTo>
                          <a:pt x="978" y="82"/>
                        </a:lnTo>
                        <a:lnTo>
                          <a:pt x="978" y="78"/>
                        </a:lnTo>
                        <a:lnTo>
                          <a:pt x="975" y="73"/>
                        </a:lnTo>
                        <a:lnTo>
                          <a:pt x="971" y="69"/>
                        </a:lnTo>
                        <a:lnTo>
                          <a:pt x="971" y="64"/>
                        </a:lnTo>
                        <a:lnTo>
                          <a:pt x="959" y="50"/>
                        </a:lnTo>
                        <a:lnTo>
                          <a:pt x="963" y="47"/>
                        </a:lnTo>
                        <a:lnTo>
                          <a:pt x="959" y="50"/>
                        </a:lnTo>
                        <a:lnTo>
                          <a:pt x="952" y="50"/>
                        </a:lnTo>
                        <a:lnTo>
                          <a:pt x="948" y="47"/>
                        </a:lnTo>
                        <a:lnTo>
                          <a:pt x="943" y="47"/>
                        </a:lnTo>
                        <a:lnTo>
                          <a:pt x="940" y="47"/>
                        </a:lnTo>
                        <a:lnTo>
                          <a:pt x="940" y="42"/>
                        </a:lnTo>
                        <a:lnTo>
                          <a:pt x="940" y="35"/>
                        </a:lnTo>
                        <a:lnTo>
                          <a:pt x="934" y="35"/>
                        </a:lnTo>
                        <a:lnTo>
                          <a:pt x="930" y="35"/>
                        </a:lnTo>
                        <a:lnTo>
                          <a:pt x="926" y="35"/>
                        </a:lnTo>
                        <a:lnTo>
                          <a:pt x="923" y="35"/>
                        </a:lnTo>
                        <a:lnTo>
                          <a:pt x="923" y="31"/>
                        </a:lnTo>
                        <a:lnTo>
                          <a:pt x="919" y="31"/>
                        </a:lnTo>
                        <a:lnTo>
                          <a:pt x="914" y="31"/>
                        </a:lnTo>
                        <a:lnTo>
                          <a:pt x="911" y="31"/>
                        </a:lnTo>
                        <a:lnTo>
                          <a:pt x="911" y="35"/>
                        </a:lnTo>
                        <a:lnTo>
                          <a:pt x="907" y="35"/>
                        </a:lnTo>
                        <a:lnTo>
                          <a:pt x="904" y="35"/>
                        </a:lnTo>
                        <a:lnTo>
                          <a:pt x="904" y="42"/>
                        </a:lnTo>
                        <a:lnTo>
                          <a:pt x="900" y="47"/>
                        </a:lnTo>
                        <a:lnTo>
                          <a:pt x="895" y="47"/>
                        </a:lnTo>
                        <a:lnTo>
                          <a:pt x="892" y="47"/>
                        </a:lnTo>
                        <a:lnTo>
                          <a:pt x="892" y="50"/>
                        </a:lnTo>
                        <a:lnTo>
                          <a:pt x="892" y="55"/>
                        </a:lnTo>
                        <a:lnTo>
                          <a:pt x="892" y="60"/>
                        </a:lnTo>
                        <a:lnTo>
                          <a:pt x="892" y="64"/>
                        </a:lnTo>
                        <a:lnTo>
                          <a:pt x="892" y="69"/>
                        </a:lnTo>
                        <a:lnTo>
                          <a:pt x="895" y="69"/>
                        </a:lnTo>
                        <a:lnTo>
                          <a:pt x="895" y="73"/>
                        </a:lnTo>
                        <a:lnTo>
                          <a:pt x="892" y="78"/>
                        </a:lnTo>
                        <a:lnTo>
                          <a:pt x="892" y="82"/>
                        </a:lnTo>
                        <a:lnTo>
                          <a:pt x="888" y="82"/>
                        </a:lnTo>
                        <a:lnTo>
                          <a:pt x="884" y="82"/>
                        </a:lnTo>
                        <a:lnTo>
                          <a:pt x="884" y="87"/>
                        </a:lnTo>
                        <a:lnTo>
                          <a:pt x="881" y="87"/>
                        </a:lnTo>
                        <a:lnTo>
                          <a:pt x="877" y="91"/>
                        </a:lnTo>
                        <a:lnTo>
                          <a:pt x="877" y="95"/>
                        </a:lnTo>
                        <a:lnTo>
                          <a:pt x="872" y="95"/>
                        </a:lnTo>
                        <a:lnTo>
                          <a:pt x="872" y="100"/>
                        </a:lnTo>
                        <a:lnTo>
                          <a:pt x="869" y="100"/>
                        </a:lnTo>
                        <a:lnTo>
                          <a:pt x="869" y="105"/>
                        </a:lnTo>
                        <a:lnTo>
                          <a:pt x="872" y="105"/>
                        </a:lnTo>
                        <a:lnTo>
                          <a:pt x="872" y="108"/>
                        </a:lnTo>
                        <a:lnTo>
                          <a:pt x="869" y="120"/>
                        </a:lnTo>
                        <a:lnTo>
                          <a:pt x="865" y="120"/>
                        </a:lnTo>
                        <a:lnTo>
                          <a:pt x="865" y="124"/>
                        </a:lnTo>
                        <a:lnTo>
                          <a:pt x="861" y="124"/>
                        </a:lnTo>
                        <a:lnTo>
                          <a:pt x="858" y="129"/>
                        </a:lnTo>
                        <a:lnTo>
                          <a:pt x="858" y="134"/>
                        </a:lnTo>
                        <a:lnTo>
                          <a:pt x="853" y="134"/>
                        </a:lnTo>
                        <a:lnTo>
                          <a:pt x="848" y="134"/>
                        </a:lnTo>
                        <a:lnTo>
                          <a:pt x="848" y="137"/>
                        </a:lnTo>
                        <a:lnTo>
                          <a:pt x="843" y="134"/>
                        </a:lnTo>
                        <a:lnTo>
                          <a:pt x="840" y="129"/>
                        </a:lnTo>
                        <a:lnTo>
                          <a:pt x="836" y="129"/>
                        </a:lnTo>
                        <a:lnTo>
                          <a:pt x="829" y="129"/>
                        </a:lnTo>
                        <a:lnTo>
                          <a:pt x="825" y="129"/>
                        </a:lnTo>
                        <a:lnTo>
                          <a:pt x="820" y="129"/>
                        </a:lnTo>
                        <a:lnTo>
                          <a:pt x="820" y="124"/>
                        </a:lnTo>
                        <a:lnTo>
                          <a:pt x="817" y="124"/>
                        </a:lnTo>
                        <a:lnTo>
                          <a:pt x="817" y="120"/>
                        </a:lnTo>
                        <a:lnTo>
                          <a:pt x="813" y="120"/>
                        </a:lnTo>
                        <a:lnTo>
                          <a:pt x="810" y="120"/>
                        </a:lnTo>
                        <a:lnTo>
                          <a:pt x="806" y="120"/>
                        </a:lnTo>
                        <a:lnTo>
                          <a:pt x="806" y="113"/>
                        </a:lnTo>
                        <a:lnTo>
                          <a:pt x="801" y="113"/>
                        </a:lnTo>
                        <a:lnTo>
                          <a:pt x="801" y="108"/>
                        </a:lnTo>
                        <a:lnTo>
                          <a:pt x="797" y="108"/>
                        </a:lnTo>
                        <a:lnTo>
                          <a:pt x="794" y="108"/>
                        </a:lnTo>
                        <a:lnTo>
                          <a:pt x="790" y="108"/>
                        </a:lnTo>
                        <a:lnTo>
                          <a:pt x="790" y="113"/>
                        </a:lnTo>
                        <a:lnTo>
                          <a:pt x="787" y="120"/>
                        </a:lnTo>
                        <a:lnTo>
                          <a:pt x="782" y="120"/>
                        </a:lnTo>
                        <a:lnTo>
                          <a:pt x="778" y="120"/>
                        </a:lnTo>
                        <a:lnTo>
                          <a:pt x="775" y="124"/>
                        </a:lnTo>
                        <a:lnTo>
                          <a:pt x="771" y="124"/>
                        </a:lnTo>
                        <a:lnTo>
                          <a:pt x="767" y="124"/>
                        </a:lnTo>
                        <a:lnTo>
                          <a:pt x="764" y="124"/>
                        </a:lnTo>
                        <a:lnTo>
                          <a:pt x="758" y="124"/>
                        </a:lnTo>
                        <a:lnTo>
                          <a:pt x="754" y="129"/>
                        </a:lnTo>
                        <a:lnTo>
                          <a:pt x="749" y="129"/>
                        </a:lnTo>
                        <a:lnTo>
                          <a:pt x="749" y="134"/>
                        </a:lnTo>
                        <a:lnTo>
                          <a:pt x="746" y="137"/>
                        </a:lnTo>
                        <a:lnTo>
                          <a:pt x="742" y="137"/>
                        </a:lnTo>
                        <a:lnTo>
                          <a:pt x="742" y="142"/>
                        </a:lnTo>
                        <a:lnTo>
                          <a:pt x="742" y="147"/>
                        </a:lnTo>
                        <a:lnTo>
                          <a:pt x="738" y="147"/>
                        </a:lnTo>
                        <a:lnTo>
                          <a:pt x="735" y="147"/>
                        </a:lnTo>
                        <a:lnTo>
                          <a:pt x="726" y="147"/>
                        </a:lnTo>
                        <a:lnTo>
                          <a:pt x="723" y="147"/>
                        </a:lnTo>
                        <a:lnTo>
                          <a:pt x="719" y="147"/>
                        </a:lnTo>
                        <a:lnTo>
                          <a:pt x="715" y="147"/>
                        </a:lnTo>
                        <a:lnTo>
                          <a:pt x="707" y="147"/>
                        </a:lnTo>
                        <a:lnTo>
                          <a:pt x="707" y="151"/>
                        </a:lnTo>
                        <a:lnTo>
                          <a:pt x="703" y="151"/>
                        </a:lnTo>
                        <a:lnTo>
                          <a:pt x="700" y="155"/>
                        </a:lnTo>
                        <a:lnTo>
                          <a:pt x="696" y="155"/>
                        </a:lnTo>
                        <a:lnTo>
                          <a:pt x="693" y="155"/>
                        </a:lnTo>
                        <a:lnTo>
                          <a:pt x="688" y="155"/>
                        </a:lnTo>
                        <a:lnTo>
                          <a:pt x="684" y="151"/>
                        </a:lnTo>
                        <a:lnTo>
                          <a:pt x="684" y="147"/>
                        </a:lnTo>
                        <a:lnTo>
                          <a:pt x="680" y="147"/>
                        </a:lnTo>
                        <a:lnTo>
                          <a:pt x="677" y="147"/>
                        </a:lnTo>
                        <a:lnTo>
                          <a:pt x="673" y="147"/>
                        </a:lnTo>
                        <a:lnTo>
                          <a:pt x="667" y="147"/>
                        </a:lnTo>
                        <a:lnTo>
                          <a:pt x="659" y="151"/>
                        </a:lnTo>
                        <a:lnTo>
                          <a:pt x="655" y="151"/>
                        </a:lnTo>
                        <a:lnTo>
                          <a:pt x="652" y="151"/>
                        </a:lnTo>
                        <a:lnTo>
                          <a:pt x="648" y="151"/>
                        </a:lnTo>
                        <a:lnTo>
                          <a:pt x="648" y="147"/>
                        </a:lnTo>
                        <a:lnTo>
                          <a:pt x="644" y="147"/>
                        </a:lnTo>
                        <a:lnTo>
                          <a:pt x="641" y="147"/>
                        </a:lnTo>
                        <a:lnTo>
                          <a:pt x="636" y="147"/>
                        </a:lnTo>
                        <a:lnTo>
                          <a:pt x="632" y="147"/>
                        </a:lnTo>
                        <a:lnTo>
                          <a:pt x="629" y="151"/>
                        </a:lnTo>
                        <a:lnTo>
                          <a:pt x="629" y="155"/>
                        </a:lnTo>
                        <a:lnTo>
                          <a:pt x="625" y="155"/>
                        </a:lnTo>
                        <a:lnTo>
                          <a:pt x="621" y="155"/>
                        </a:lnTo>
                        <a:lnTo>
                          <a:pt x="617" y="155"/>
                        </a:lnTo>
                        <a:lnTo>
                          <a:pt x="617" y="151"/>
                        </a:lnTo>
                        <a:lnTo>
                          <a:pt x="621" y="147"/>
                        </a:lnTo>
                        <a:lnTo>
                          <a:pt x="617" y="142"/>
                        </a:lnTo>
                        <a:lnTo>
                          <a:pt x="613" y="142"/>
                        </a:lnTo>
                        <a:lnTo>
                          <a:pt x="613" y="137"/>
                        </a:lnTo>
                        <a:lnTo>
                          <a:pt x="609" y="137"/>
                        </a:lnTo>
                        <a:lnTo>
                          <a:pt x="606" y="137"/>
                        </a:lnTo>
                        <a:lnTo>
                          <a:pt x="606" y="142"/>
                        </a:lnTo>
                        <a:lnTo>
                          <a:pt x="606" y="137"/>
                        </a:lnTo>
                        <a:lnTo>
                          <a:pt x="602" y="137"/>
                        </a:lnTo>
                        <a:lnTo>
                          <a:pt x="597" y="137"/>
                        </a:lnTo>
                        <a:lnTo>
                          <a:pt x="594" y="137"/>
                        </a:lnTo>
                        <a:lnTo>
                          <a:pt x="590" y="137"/>
                        </a:lnTo>
                        <a:lnTo>
                          <a:pt x="586" y="137"/>
                        </a:lnTo>
                        <a:lnTo>
                          <a:pt x="577" y="142"/>
                        </a:lnTo>
                        <a:lnTo>
                          <a:pt x="573" y="142"/>
                        </a:lnTo>
                        <a:lnTo>
                          <a:pt x="570" y="142"/>
                        </a:lnTo>
                        <a:lnTo>
                          <a:pt x="565" y="142"/>
                        </a:lnTo>
                        <a:lnTo>
                          <a:pt x="561" y="142"/>
                        </a:lnTo>
                        <a:lnTo>
                          <a:pt x="561" y="137"/>
                        </a:lnTo>
                        <a:lnTo>
                          <a:pt x="558" y="137"/>
                        </a:lnTo>
                        <a:lnTo>
                          <a:pt x="554" y="137"/>
                        </a:lnTo>
                        <a:lnTo>
                          <a:pt x="550" y="142"/>
                        </a:lnTo>
                        <a:lnTo>
                          <a:pt x="545" y="147"/>
                        </a:lnTo>
                        <a:lnTo>
                          <a:pt x="542" y="147"/>
                        </a:lnTo>
                        <a:lnTo>
                          <a:pt x="542" y="151"/>
                        </a:lnTo>
                        <a:lnTo>
                          <a:pt x="538" y="151"/>
                        </a:lnTo>
                        <a:lnTo>
                          <a:pt x="538" y="155"/>
                        </a:lnTo>
                        <a:lnTo>
                          <a:pt x="535" y="155"/>
                        </a:lnTo>
                        <a:lnTo>
                          <a:pt x="531" y="155"/>
                        </a:lnTo>
                        <a:lnTo>
                          <a:pt x="526" y="151"/>
                        </a:lnTo>
                        <a:lnTo>
                          <a:pt x="526" y="147"/>
                        </a:lnTo>
                        <a:lnTo>
                          <a:pt x="526" y="142"/>
                        </a:lnTo>
                        <a:lnTo>
                          <a:pt x="526" y="137"/>
                        </a:lnTo>
                        <a:lnTo>
                          <a:pt x="523" y="137"/>
                        </a:lnTo>
                        <a:lnTo>
                          <a:pt x="523" y="134"/>
                        </a:lnTo>
                        <a:lnTo>
                          <a:pt x="523" y="129"/>
                        </a:lnTo>
                        <a:lnTo>
                          <a:pt x="523" y="124"/>
                        </a:lnTo>
                        <a:lnTo>
                          <a:pt x="519" y="120"/>
                        </a:lnTo>
                        <a:lnTo>
                          <a:pt x="515" y="120"/>
                        </a:lnTo>
                        <a:lnTo>
                          <a:pt x="512" y="120"/>
                        </a:lnTo>
                        <a:lnTo>
                          <a:pt x="512" y="113"/>
                        </a:lnTo>
                        <a:lnTo>
                          <a:pt x="512" y="108"/>
                        </a:lnTo>
                        <a:lnTo>
                          <a:pt x="512" y="105"/>
                        </a:lnTo>
                        <a:lnTo>
                          <a:pt x="508" y="105"/>
                        </a:lnTo>
                        <a:lnTo>
                          <a:pt x="508" y="100"/>
                        </a:lnTo>
                        <a:lnTo>
                          <a:pt x="512" y="100"/>
                        </a:lnTo>
                        <a:lnTo>
                          <a:pt x="512" y="95"/>
                        </a:lnTo>
                        <a:lnTo>
                          <a:pt x="512" y="91"/>
                        </a:lnTo>
                        <a:lnTo>
                          <a:pt x="515" y="91"/>
                        </a:lnTo>
                        <a:lnTo>
                          <a:pt x="515" y="87"/>
                        </a:lnTo>
                        <a:lnTo>
                          <a:pt x="515" y="82"/>
                        </a:lnTo>
                        <a:lnTo>
                          <a:pt x="515" y="78"/>
                        </a:lnTo>
                        <a:lnTo>
                          <a:pt x="512" y="78"/>
                        </a:lnTo>
                        <a:lnTo>
                          <a:pt x="508" y="78"/>
                        </a:lnTo>
                        <a:lnTo>
                          <a:pt x="503" y="78"/>
                        </a:lnTo>
                        <a:lnTo>
                          <a:pt x="500" y="78"/>
                        </a:lnTo>
                        <a:lnTo>
                          <a:pt x="496" y="78"/>
                        </a:lnTo>
                        <a:lnTo>
                          <a:pt x="496" y="73"/>
                        </a:lnTo>
                        <a:lnTo>
                          <a:pt x="490" y="78"/>
                        </a:lnTo>
                        <a:lnTo>
                          <a:pt x="490" y="73"/>
                        </a:lnTo>
                        <a:lnTo>
                          <a:pt x="486" y="73"/>
                        </a:lnTo>
                        <a:lnTo>
                          <a:pt x="483" y="73"/>
                        </a:lnTo>
                        <a:lnTo>
                          <a:pt x="479" y="73"/>
                        </a:lnTo>
                        <a:lnTo>
                          <a:pt x="474" y="73"/>
                        </a:lnTo>
                        <a:lnTo>
                          <a:pt x="471" y="73"/>
                        </a:lnTo>
                        <a:lnTo>
                          <a:pt x="471" y="69"/>
                        </a:lnTo>
                        <a:lnTo>
                          <a:pt x="467" y="69"/>
                        </a:lnTo>
                        <a:lnTo>
                          <a:pt x="467" y="64"/>
                        </a:lnTo>
                        <a:lnTo>
                          <a:pt x="463" y="64"/>
                        </a:lnTo>
                        <a:lnTo>
                          <a:pt x="460" y="64"/>
                        </a:lnTo>
                        <a:lnTo>
                          <a:pt x="455" y="64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983c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29960" y="1529640"/>
                    <a:ext cx="407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200" spc="-1" strike="noStrike">
                        <a:solidFill>
                          <a:srgbClr val="ff3300"/>
                        </a:solidFill>
                        <a:latin typeface="Arial Black"/>
                      </a:rPr>
                      <a:t>Seu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" name=""/>
              <p:cNvSpPr/>
              <p:nvPr/>
            </p:nvSpPr>
            <p:spPr>
              <a:xfrm>
                <a:off x="1874160" y="1454400"/>
                <a:ext cx="413280" cy="350280"/>
              </a:xfrm>
              <a:custGeom>
                <a:avLst/>
                <a:gdLst/>
                <a:ahLst/>
                <a:rect l="l" t="t" r="r" b="b"/>
                <a:pathLst>
                  <a:path w="1253" h="1241">
                    <a:moveTo>
                      <a:pt x="848" y="1067"/>
                    </a:moveTo>
                    <a:lnTo>
                      <a:pt x="843" y="1067"/>
                    </a:lnTo>
                    <a:lnTo>
                      <a:pt x="840" y="1067"/>
                    </a:lnTo>
                    <a:lnTo>
                      <a:pt x="836" y="1067"/>
                    </a:lnTo>
                    <a:lnTo>
                      <a:pt x="829" y="1067"/>
                    </a:lnTo>
                    <a:lnTo>
                      <a:pt x="829" y="1072"/>
                    </a:lnTo>
                    <a:lnTo>
                      <a:pt x="824" y="1072"/>
                    </a:lnTo>
                    <a:lnTo>
                      <a:pt x="820" y="1072"/>
                    </a:lnTo>
                    <a:lnTo>
                      <a:pt x="817" y="1072"/>
                    </a:lnTo>
                    <a:lnTo>
                      <a:pt x="817" y="1077"/>
                    </a:lnTo>
                    <a:lnTo>
                      <a:pt x="813" y="1077"/>
                    </a:lnTo>
                    <a:lnTo>
                      <a:pt x="813" y="1080"/>
                    </a:lnTo>
                    <a:lnTo>
                      <a:pt x="809" y="1080"/>
                    </a:lnTo>
                    <a:lnTo>
                      <a:pt x="809" y="1085"/>
                    </a:lnTo>
                    <a:lnTo>
                      <a:pt x="805" y="1085"/>
                    </a:lnTo>
                    <a:lnTo>
                      <a:pt x="805" y="1090"/>
                    </a:lnTo>
                    <a:lnTo>
                      <a:pt x="805" y="1094"/>
                    </a:lnTo>
                    <a:lnTo>
                      <a:pt x="801" y="1094"/>
                    </a:lnTo>
                    <a:lnTo>
                      <a:pt x="801" y="1098"/>
                    </a:lnTo>
                    <a:lnTo>
                      <a:pt x="797" y="1098"/>
                    </a:lnTo>
                    <a:lnTo>
                      <a:pt x="794" y="1098"/>
                    </a:lnTo>
                    <a:lnTo>
                      <a:pt x="794" y="1103"/>
                    </a:lnTo>
                    <a:lnTo>
                      <a:pt x="788" y="1107"/>
                    </a:lnTo>
                    <a:lnTo>
                      <a:pt x="788" y="1112"/>
                    </a:lnTo>
                    <a:lnTo>
                      <a:pt x="788" y="1119"/>
                    </a:lnTo>
                    <a:lnTo>
                      <a:pt x="788" y="1123"/>
                    </a:lnTo>
                    <a:lnTo>
                      <a:pt x="794" y="1127"/>
                    </a:lnTo>
                    <a:lnTo>
                      <a:pt x="794" y="1132"/>
                    </a:lnTo>
                    <a:lnTo>
                      <a:pt x="794" y="1136"/>
                    </a:lnTo>
                    <a:lnTo>
                      <a:pt x="794" y="1141"/>
                    </a:lnTo>
                    <a:lnTo>
                      <a:pt x="788" y="1141"/>
                    </a:lnTo>
                    <a:lnTo>
                      <a:pt x="788" y="1146"/>
                    </a:lnTo>
                    <a:lnTo>
                      <a:pt x="784" y="1146"/>
                    </a:lnTo>
                    <a:lnTo>
                      <a:pt x="784" y="1149"/>
                    </a:lnTo>
                    <a:lnTo>
                      <a:pt x="781" y="1149"/>
                    </a:lnTo>
                    <a:lnTo>
                      <a:pt x="781" y="1154"/>
                    </a:lnTo>
                    <a:lnTo>
                      <a:pt x="781" y="1159"/>
                    </a:lnTo>
                    <a:lnTo>
                      <a:pt x="777" y="1159"/>
                    </a:lnTo>
                    <a:lnTo>
                      <a:pt x="772" y="1164"/>
                    </a:lnTo>
                    <a:lnTo>
                      <a:pt x="768" y="1164"/>
                    </a:lnTo>
                    <a:lnTo>
                      <a:pt x="768" y="1167"/>
                    </a:lnTo>
                    <a:lnTo>
                      <a:pt x="765" y="1167"/>
                    </a:lnTo>
                    <a:lnTo>
                      <a:pt x="761" y="1167"/>
                    </a:lnTo>
                    <a:lnTo>
                      <a:pt x="761" y="1172"/>
                    </a:lnTo>
                    <a:lnTo>
                      <a:pt x="761" y="1177"/>
                    </a:lnTo>
                    <a:lnTo>
                      <a:pt x="765" y="1180"/>
                    </a:lnTo>
                    <a:lnTo>
                      <a:pt x="765" y="1185"/>
                    </a:lnTo>
                    <a:lnTo>
                      <a:pt x="761" y="1185"/>
                    </a:lnTo>
                    <a:lnTo>
                      <a:pt x="758" y="1185"/>
                    </a:lnTo>
                    <a:lnTo>
                      <a:pt x="753" y="1185"/>
                    </a:lnTo>
                    <a:lnTo>
                      <a:pt x="753" y="1191"/>
                    </a:lnTo>
                    <a:lnTo>
                      <a:pt x="749" y="1191"/>
                    </a:lnTo>
                    <a:lnTo>
                      <a:pt x="746" y="1191"/>
                    </a:lnTo>
                    <a:lnTo>
                      <a:pt x="746" y="1196"/>
                    </a:lnTo>
                    <a:lnTo>
                      <a:pt x="742" y="1196"/>
                    </a:lnTo>
                    <a:lnTo>
                      <a:pt x="738" y="1201"/>
                    </a:lnTo>
                    <a:lnTo>
                      <a:pt x="738" y="1206"/>
                    </a:lnTo>
                    <a:lnTo>
                      <a:pt x="738" y="1209"/>
                    </a:lnTo>
                    <a:lnTo>
                      <a:pt x="735" y="1209"/>
                    </a:lnTo>
                    <a:lnTo>
                      <a:pt x="735" y="1214"/>
                    </a:lnTo>
                    <a:lnTo>
                      <a:pt x="730" y="1214"/>
                    </a:lnTo>
                    <a:lnTo>
                      <a:pt x="726" y="1214"/>
                    </a:lnTo>
                    <a:lnTo>
                      <a:pt x="726" y="1219"/>
                    </a:lnTo>
                    <a:lnTo>
                      <a:pt x="723" y="1219"/>
                    </a:lnTo>
                    <a:lnTo>
                      <a:pt x="719" y="1219"/>
                    </a:lnTo>
                    <a:lnTo>
                      <a:pt x="715" y="1223"/>
                    </a:lnTo>
                    <a:lnTo>
                      <a:pt x="707" y="1227"/>
                    </a:lnTo>
                    <a:lnTo>
                      <a:pt x="703" y="1227"/>
                    </a:lnTo>
                    <a:lnTo>
                      <a:pt x="703" y="1223"/>
                    </a:lnTo>
                    <a:lnTo>
                      <a:pt x="697" y="1223"/>
                    </a:lnTo>
                    <a:lnTo>
                      <a:pt x="697" y="1227"/>
                    </a:lnTo>
                    <a:lnTo>
                      <a:pt x="697" y="1232"/>
                    </a:lnTo>
                    <a:lnTo>
                      <a:pt x="703" y="1232"/>
                    </a:lnTo>
                    <a:lnTo>
                      <a:pt x="703" y="1236"/>
                    </a:lnTo>
                    <a:lnTo>
                      <a:pt x="697" y="1236"/>
                    </a:lnTo>
                    <a:lnTo>
                      <a:pt x="694" y="1236"/>
                    </a:lnTo>
                    <a:lnTo>
                      <a:pt x="690" y="1236"/>
                    </a:lnTo>
                    <a:lnTo>
                      <a:pt x="686" y="1236"/>
                    </a:lnTo>
                    <a:lnTo>
                      <a:pt x="686" y="1241"/>
                    </a:lnTo>
                    <a:lnTo>
                      <a:pt x="682" y="1241"/>
                    </a:lnTo>
                    <a:lnTo>
                      <a:pt x="697" y="1214"/>
                    </a:lnTo>
                    <a:lnTo>
                      <a:pt x="697" y="1209"/>
                    </a:lnTo>
                    <a:lnTo>
                      <a:pt x="703" y="1209"/>
                    </a:lnTo>
                    <a:lnTo>
                      <a:pt x="703" y="1206"/>
                    </a:lnTo>
                    <a:lnTo>
                      <a:pt x="697" y="1206"/>
                    </a:lnTo>
                    <a:lnTo>
                      <a:pt x="694" y="1206"/>
                    </a:lnTo>
                    <a:lnTo>
                      <a:pt x="690" y="1201"/>
                    </a:lnTo>
                    <a:lnTo>
                      <a:pt x="682" y="1201"/>
                    </a:lnTo>
                    <a:lnTo>
                      <a:pt x="682" y="1196"/>
                    </a:lnTo>
                    <a:lnTo>
                      <a:pt x="682" y="1191"/>
                    </a:lnTo>
                    <a:lnTo>
                      <a:pt x="682" y="1185"/>
                    </a:lnTo>
                    <a:lnTo>
                      <a:pt x="678" y="1185"/>
                    </a:lnTo>
                    <a:lnTo>
                      <a:pt x="678" y="1180"/>
                    </a:lnTo>
                    <a:lnTo>
                      <a:pt x="674" y="1180"/>
                    </a:lnTo>
                    <a:lnTo>
                      <a:pt x="671" y="1180"/>
                    </a:lnTo>
                    <a:lnTo>
                      <a:pt x="667" y="1180"/>
                    </a:lnTo>
                    <a:lnTo>
                      <a:pt x="667" y="1172"/>
                    </a:lnTo>
                    <a:lnTo>
                      <a:pt x="671" y="1172"/>
                    </a:lnTo>
                    <a:lnTo>
                      <a:pt x="674" y="1172"/>
                    </a:lnTo>
                    <a:lnTo>
                      <a:pt x="674" y="1167"/>
                    </a:lnTo>
                    <a:lnTo>
                      <a:pt x="678" y="1167"/>
                    </a:lnTo>
                    <a:lnTo>
                      <a:pt x="682" y="1167"/>
                    </a:lnTo>
                    <a:lnTo>
                      <a:pt x="682" y="1164"/>
                    </a:lnTo>
                    <a:lnTo>
                      <a:pt x="678" y="1164"/>
                    </a:lnTo>
                    <a:lnTo>
                      <a:pt x="678" y="1159"/>
                    </a:lnTo>
                    <a:lnTo>
                      <a:pt x="678" y="1149"/>
                    </a:lnTo>
                    <a:lnTo>
                      <a:pt x="674" y="1149"/>
                    </a:lnTo>
                    <a:lnTo>
                      <a:pt x="674" y="1146"/>
                    </a:lnTo>
                    <a:lnTo>
                      <a:pt x="674" y="1141"/>
                    </a:lnTo>
                    <a:lnTo>
                      <a:pt x="671" y="1141"/>
                    </a:lnTo>
                    <a:lnTo>
                      <a:pt x="671" y="1136"/>
                    </a:lnTo>
                    <a:lnTo>
                      <a:pt x="671" y="1132"/>
                    </a:lnTo>
                    <a:lnTo>
                      <a:pt x="667" y="1132"/>
                    </a:lnTo>
                    <a:lnTo>
                      <a:pt x="664" y="1132"/>
                    </a:lnTo>
                    <a:lnTo>
                      <a:pt x="659" y="1132"/>
                    </a:lnTo>
                    <a:lnTo>
                      <a:pt x="659" y="1127"/>
                    </a:lnTo>
                    <a:lnTo>
                      <a:pt x="655" y="1123"/>
                    </a:lnTo>
                    <a:lnTo>
                      <a:pt x="651" y="1123"/>
                    </a:lnTo>
                    <a:lnTo>
                      <a:pt x="648" y="1123"/>
                    </a:lnTo>
                    <a:lnTo>
                      <a:pt x="644" y="1123"/>
                    </a:lnTo>
                    <a:lnTo>
                      <a:pt x="639" y="1123"/>
                    </a:lnTo>
                    <a:lnTo>
                      <a:pt x="636" y="1127"/>
                    </a:lnTo>
                    <a:lnTo>
                      <a:pt x="632" y="1127"/>
                    </a:lnTo>
                    <a:lnTo>
                      <a:pt x="632" y="1132"/>
                    </a:lnTo>
                    <a:lnTo>
                      <a:pt x="629" y="1132"/>
                    </a:lnTo>
                    <a:lnTo>
                      <a:pt x="629" y="1136"/>
                    </a:lnTo>
                    <a:lnTo>
                      <a:pt x="625" y="1136"/>
                    </a:lnTo>
                    <a:lnTo>
                      <a:pt x="620" y="1136"/>
                    </a:lnTo>
                    <a:lnTo>
                      <a:pt x="617" y="1136"/>
                    </a:lnTo>
                    <a:lnTo>
                      <a:pt x="617" y="1132"/>
                    </a:lnTo>
                    <a:lnTo>
                      <a:pt x="610" y="1132"/>
                    </a:lnTo>
                    <a:lnTo>
                      <a:pt x="610" y="1127"/>
                    </a:lnTo>
                    <a:lnTo>
                      <a:pt x="607" y="1127"/>
                    </a:lnTo>
                    <a:lnTo>
                      <a:pt x="603" y="1127"/>
                    </a:lnTo>
                    <a:lnTo>
                      <a:pt x="603" y="1132"/>
                    </a:lnTo>
                    <a:lnTo>
                      <a:pt x="600" y="1132"/>
                    </a:lnTo>
                    <a:lnTo>
                      <a:pt x="596" y="1132"/>
                    </a:lnTo>
                    <a:lnTo>
                      <a:pt x="592" y="1132"/>
                    </a:lnTo>
                    <a:lnTo>
                      <a:pt x="592" y="1136"/>
                    </a:lnTo>
                    <a:lnTo>
                      <a:pt x="588" y="1136"/>
                    </a:lnTo>
                    <a:lnTo>
                      <a:pt x="584" y="1136"/>
                    </a:lnTo>
                    <a:lnTo>
                      <a:pt x="580" y="1136"/>
                    </a:lnTo>
                    <a:lnTo>
                      <a:pt x="577" y="1136"/>
                    </a:lnTo>
                    <a:lnTo>
                      <a:pt x="573" y="1136"/>
                    </a:lnTo>
                    <a:lnTo>
                      <a:pt x="568" y="1136"/>
                    </a:lnTo>
                    <a:lnTo>
                      <a:pt x="565" y="1136"/>
                    </a:lnTo>
                    <a:lnTo>
                      <a:pt x="561" y="1136"/>
                    </a:lnTo>
                    <a:lnTo>
                      <a:pt x="557" y="1136"/>
                    </a:lnTo>
                    <a:lnTo>
                      <a:pt x="554" y="1136"/>
                    </a:lnTo>
                    <a:lnTo>
                      <a:pt x="549" y="1136"/>
                    </a:lnTo>
                    <a:lnTo>
                      <a:pt x="545" y="1141"/>
                    </a:lnTo>
                    <a:lnTo>
                      <a:pt x="542" y="1141"/>
                    </a:lnTo>
                    <a:lnTo>
                      <a:pt x="538" y="1141"/>
                    </a:lnTo>
                    <a:lnTo>
                      <a:pt x="535" y="1141"/>
                    </a:lnTo>
                    <a:lnTo>
                      <a:pt x="531" y="1146"/>
                    </a:lnTo>
                    <a:lnTo>
                      <a:pt x="526" y="1146"/>
                    </a:lnTo>
                    <a:lnTo>
                      <a:pt x="526" y="1149"/>
                    </a:lnTo>
                    <a:lnTo>
                      <a:pt x="526" y="1154"/>
                    </a:lnTo>
                    <a:lnTo>
                      <a:pt x="516" y="1159"/>
                    </a:lnTo>
                    <a:lnTo>
                      <a:pt x="513" y="1159"/>
                    </a:lnTo>
                    <a:lnTo>
                      <a:pt x="509" y="1164"/>
                    </a:lnTo>
                    <a:lnTo>
                      <a:pt x="506" y="1164"/>
                    </a:lnTo>
                    <a:lnTo>
                      <a:pt x="506" y="1159"/>
                    </a:lnTo>
                    <a:lnTo>
                      <a:pt x="506" y="1154"/>
                    </a:lnTo>
                    <a:lnTo>
                      <a:pt x="506" y="1149"/>
                    </a:lnTo>
                    <a:lnTo>
                      <a:pt x="506" y="1146"/>
                    </a:lnTo>
                    <a:lnTo>
                      <a:pt x="502" y="1146"/>
                    </a:lnTo>
                    <a:lnTo>
                      <a:pt x="502" y="1141"/>
                    </a:lnTo>
                    <a:lnTo>
                      <a:pt x="502" y="1136"/>
                    </a:lnTo>
                    <a:lnTo>
                      <a:pt x="497" y="1136"/>
                    </a:lnTo>
                    <a:lnTo>
                      <a:pt x="497" y="1132"/>
                    </a:lnTo>
                    <a:lnTo>
                      <a:pt x="497" y="1127"/>
                    </a:lnTo>
                    <a:lnTo>
                      <a:pt x="494" y="1132"/>
                    </a:lnTo>
                    <a:lnTo>
                      <a:pt x="490" y="1132"/>
                    </a:lnTo>
                    <a:lnTo>
                      <a:pt x="483" y="1132"/>
                    </a:lnTo>
                    <a:lnTo>
                      <a:pt x="479" y="1127"/>
                    </a:lnTo>
                    <a:lnTo>
                      <a:pt x="474" y="1127"/>
                    </a:lnTo>
                    <a:lnTo>
                      <a:pt x="474" y="1123"/>
                    </a:lnTo>
                    <a:lnTo>
                      <a:pt x="471" y="1127"/>
                    </a:lnTo>
                    <a:lnTo>
                      <a:pt x="471" y="1123"/>
                    </a:lnTo>
                    <a:lnTo>
                      <a:pt x="471" y="1112"/>
                    </a:lnTo>
                    <a:lnTo>
                      <a:pt x="467" y="1119"/>
                    </a:lnTo>
                    <a:lnTo>
                      <a:pt x="463" y="1123"/>
                    </a:lnTo>
                    <a:lnTo>
                      <a:pt x="460" y="1123"/>
                    </a:lnTo>
                    <a:lnTo>
                      <a:pt x="455" y="1123"/>
                    </a:lnTo>
                    <a:lnTo>
                      <a:pt x="455" y="1119"/>
                    </a:lnTo>
                    <a:lnTo>
                      <a:pt x="455" y="1112"/>
                    </a:lnTo>
                    <a:lnTo>
                      <a:pt x="460" y="1107"/>
                    </a:lnTo>
                    <a:lnTo>
                      <a:pt x="460" y="1103"/>
                    </a:lnTo>
                    <a:lnTo>
                      <a:pt x="455" y="1103"/>
                    </a:lnTo>
                    <a:lnTo>
                      <a:pt x="451" y="1103"/>
                    </a:lnTo>
                    <a:lnTo>
                      <a:pt x="448" y="1107"/>
                    </a:lnTo>
                    <a:lnTo>
                      <a:pt x="448" y="1103"/>
                    </a:lnTo>
                    <a:lnTo>
                      <a:pt x="444" y="1103"/>
                    </a:lnTo>
                    <a:lnTo>
                      <a:pt x="440" y="1103"/>
                    </a:lnTo>
                    <a:lnTo>
                      <a:pt x="434" y="1098"/>
                    </a:lnTo>
                    <a:lnTo>
                      <a:pt x="431" y="1098"/>
                    </a:lnTo>
                    <a:lnTo>
                      <a:pt x="426" y="1098"/>
                    </a:lnTo>
                    <a:lnTo>
                      <a:pt x="426" y="1094"/>
                    </a:lnTo>
                    <a:lnTo>
                      <a:pt x="426" y="1090"/>
                    </a:lnTo>
                    <a:lnTo>
                      <a:pt x="426" y="1085"/>
                    </a:lnTo>
                    <a:lnTo>
                      <a:pt x="426" y="1080"/>
                    </a:lnTo>
                    <a:lnTo>
                      <a:pt x="426" y="1077"/>
                    </a:lnTo>
                    <a:lnTo>
                      <a:pt x="422" y="1072"/>
                    </a:lnTo>
                    <a:lnTo>
                      <a:pt x="426" y="1067"/>
                    </a:lnTo>
                    <a:lnTo>
                      <a:pt x="426" y="1064"/>
                    </a:lnTo>
                    <a:lnTo>
                      <a:pt x="426" y="1059"/>
                    </a:lnTo>
                    <a:lnTo>
                      <a:pt x="431" y="1059"/>
                    </a:lnTo>
                    <a:lnTo>
                      <a:pt x="426" y="1059"/>
                    </a:lnTo>
                    <a:lnTo>
                      <a:pt x="426" y="1054"/>
                    </a:lnTo>
                    <a:lnTo>
                      <a:pt x="422" y="1054"/>
                    </a:lnTo>
                    <a:lnTo>
                      <a:pt x="422" y="1049"/>
                    </a:lnTo>
                    <a:lnTo>
                      <a:pt x="419" y="1049"/>
                    </a:lnTo>
                    <a:lnTo>
                      <a:pt x="415" y="1049"/>
                    </a:lnTo>
                    <a:lnTo>
                      <a:pt x="415" y="1054"/>
                    </a:lnTo>
                    <a:lnTo>
                      <a:pt x="412" y="1059"/>
                    </a:lnTo>
                    <a:lnTo>
                      <a:pt x="408" y="1059"/>
                    </a:lnTo>
                    <a:lnTo>
                      <a:pt x="403" y="1059"/>
                    </a:lnTo>
                    <a:lnTo>
                      <a:pt x="403" y="1054"/>
                    </a:lnTo>
                    <a:lnTo>
                      <a:pt x="403" y="1049"/>
                    </a:lnTo>
                    <a:lnTo>
                      <a:pt x="399" y="1045"/>
                    </a:lnTo>
                    <a:lnTo>
                      <a:pt x="399" y="1041"/>
                    </a:lnTo>
                    <a:lnTo>
                      <a:pt x="396" y="1041"/>
                    </a:lnTo>
                    <a:lnTo>
                      <a:pt x="396" y="1035"/>
                    </a:lnTo>
                    <a:lnTo>
                      <a:pt x="392" y="1030"/>
                    </a:lnTo>
                    <a:lnTo>
                      <a:pt x="392" y="1025"/>
                    </a:lnTo>
                    <a:lnTo>
                      <a:pt x="389" y="1021"/>
                    </a:lnTo>
                    <a:lnTo>
                      <a:pt x="384" y="1021"/>
                    </a:lnTo>
                    <a:lnTo>
                      <a:pt x="380" y="1021"/>
                    </a:lnTo>
                    <a:lnTo>
                      <a:pt x="377" y="1021"/>
                    </a:lnTo>
                    <a:lnTo>
                      <a:pt x="373" y="1021"/>
                    </a:lnTo>
                    <a:lnTo>
                      <a:pt x="369" y="1021"/>
                    </a:lnTo>
                    <a:lnTo>
                      <a:pt x="365" y="1016"/>
                    </a:lnTo>
                    <a:lnTo>
                      <a:pt x="361" y="1016"/>
                    </a:lnTo>
                    <a:lnTo>
                      <a:pt x="361" y="1012"/>
                    </a:lnTo>
                    <a:lnTo>
                      <a:pt x="354" y="1007"/>
                    </a:lnTo>
                    <a:lnTo>
                      <a:pt x="350" y="1007"/>
                    </a:lnTo>
                    <a:lnTo>
                      <a:pt x="350" y="1003"/>
                    </a:lnTo>
                    <a:lnTo>
                      <a:pt x="350" y="994"/>
                    </a:lnTo>
                    <a:lnTo>
                      <a:pt x="350" y="990"/>
                    </a:lnTo>
                    <a:lnTo>
                      <a:pt x="344" y="990"/>
                    </a:lnTo>
                    <a:lnTo>
                      <a:pt x="340" y="990"/>
                    </a:lnTo>
                    <a:lnTo>
                      <a:pt x="340" y="985"/>
                    </a:lnTo>
                    <a:lnTo>
                      <a:pt x="337" y="980"/>
                    </a:lnTo>
                    <a:lnTo>
                      <a:pt x="337" y="977"/>
                    </a:lnTo>
                    <a:lnTo>
                      <a:pt x="332" y="977"/>
                    </a:lnTo>
                    <a:lnTo>
                      <a:pt x="332" y="972"/>
                    </a:lnTo>
                    <a:lnTo>
                      <a:pt x="328" y="972"/>
                    </a:lnTo>
                    <a:lnTo>
                      <a:pt x="328" y="967"/>
                    </a:lnTo>
                    <a:lnTo>
                      <a:pt x="325" y="967"/>
                    </a:lnTo>
                    <a:lnTo>
                      <a:pt x="321" y="967"/>
                    </a:lnTo>
                    <a:lnTo>
                      <a:pt x="317" y="967"/>
                    </a:lnTo>
                    <a:lnTo>
                      <a:pt x="313" y="967"/>
                    </a:lnTo>
                    <a:lnTo>
                      <a:pt x="313" y="963"/>
                    </a:lnTo>
                    <a:lnTo>
                      <a:pt x="305" y="956"/>
                    </a:lnTo>
                    <a:lnTo>
                      <a:pt x="302" y="956"/>
                    </a:lnTo>
                    <a:lnTo>
                      <a:pt x="298" y="956"/>
                    </a:lnTo>
                    <a:lnTo>
                      <a:pt x="298" y="948"/>
                    </a:lnTo>
                    <a:lnTo>
                      <a:pt x="298" y="943"/>
                    </a:lnTo>
                    <a:lnTo>
                      <a:pt x="298" y="938"/>
                    </a:lnTo>
                    <a:lnTo>
                      <a:pt x="298" y="935"/>
                    </a:lnTo>
                    <a:lnTo>
                      <a:pt x="293" y="930"/>
                    </a:lnTo>
                    <a:lnTo>
                      <a:pt x="293" y="925"/>
                    </a:lnTo>
                    <a:lnTo>
                      <a:pt x="290" y="925"/>
                    </a:lnTo>
                    <a:lnTo>
                      <a:pt x="286" y="925"/>
                    </a:lnTo>
                    <a:lnTo>
                      <a:pt x="286" y="921"/>
                    </a:lnTo>
                    <a:lnTo>
                      <a:pt x="283" y="921"/>
                    </a:lnTo>
                    <a:lnTo>
                      <a:pt x="279" y="921"/>
                    </a:lnTo>
                    <a:lnTo>
                      <a:pt x="275" y="921"/>
                    </a:lnTo>
                    <a:lnTo>
                      <a:pt x="270" y="921"/>
                    </a:lnTo>
                    <a:lnTo>
                      <a:pt x="267" y="921"/>
                    </a:lnTo>
                    <a:lnTo>
                      <a:pt x="267" y="916"/>
                    </a:lnTo>
                    <a:lnTo>
                      <a:pt x="267" y="912"/>
                    </a:lnTo>
                    <a:lnTo>
                      <a:pt x="267" y="908"/>
                    </a:lnTo>
                    <a:lnTo>
                      <a:pt x="267" y="903"/>
                    </a:lnTo>
                    <a:lnTo>
                      <a:pt x="267" y="898"/>
                    </a:lnTo>
                    <a:lnTo>
                      <a:pt x="267" y="894"/>
                    </a:lnTo>
                    <a:lnTo>
                      <a:pt x="263" y="890"/>
                    </a:lnTo>
                    <a:lnTo>
                      <a:pt x="260" y="885"/>
                    </a:lnTo>
                    <a:lnTo>
                      <a:pt x="260" y="879"/>
                    </a:lnTo>
                    <a:lnTo>
                      <a:pt x="254" y="879"/>
                    </a:lnTo>
                    <a:lnTo>
                      <a:pt x="254" y="869"/>
                    </a:lnTo>
                    <a:lnTo>
                      <a:pt x="260" y="865"/>
                    </a:lnTo>
                    <a:lnTo>
                      <a:pt x="260" y="861"/>
                    </a:lnTo>
                    <a:lnTo>
                      <a:pt x="260" y="856"/>
                    </a:lnTo>
                    <a:lnTo>
                      <a:pt x="260" y="851"/>
                    </a:lnTo>
                    <a:lnTo>
                      <a:pt x="254" y="848"/>
                    </a:lnTo>
                    <a:lnTo>
                      <a:pt x="260" y="848"/>
                    </a:lnTo>
                    <a:lnTo>
                      <a:pt x="260" y="843"/>
                    </a:lnTo>
                    <a:lnTo>
                      <a:pt x="260" y="838"/>
                    </a:lnTo>
                    <a:lnTo>
                      <a:pt x="250" y="834"/>
                    </a:lnTo>
                    <a:lnTo>
                      <a:pt x="246" y="834"/>
                    </a:lnTo>
                    <a:lnTo>
                      <a:pt x="242" y="830"/>
                    </a:lnTo>
                    <a:lnTo>
                      <a:pt x="238" y="830"/>
                    </a:lnTo>
                    <a:lnTo>
                      <a:pt x="234" y="825"/>
                    </a:lnTo>
                    <a:lnTo>
                      <a:pt x="231" y="825"/>
                    </a:lnTo>
                    <a:lnTo>
                      <a:pt x="223" y="825"/>
                    </a:lnTo>
                    <a:lnTo>
                      <a:pt x="219" y="821"/>
                    </a:lnTo>
                    <a:lnTo>
                      <a:pt x="219" y="816"/>
                    </a:lnTo>
                    <a:lnTo>
                      <a:pt x="223" y="816"/>
                    </a:lnTo>
                    <a:lnTo>
                      <a:pt x="223" y="812"/>
                    </a:lnTo>
                    <a:lnTo>
                      <a:pt x="227" y="812"/>
                    </a:lnTo>
                    <a:lnTo>
                      <a:pt x="231" y="812"/>
                    </a:lnTo>
                    <a:lnTo>
                      <a:pt x="231" y="808"/>
                    </a:lnTo>
                    <a:lnTo>
                      <a:pt x="238" y="801"/>
                    </a:lnTo>
                    <a:lnTo>
                      <a:pt x="238" y="796"/>
                    </a:lnTo>
                    <a:lnTo>
                      <a:pt x="238" y="792"/>
                    </a:lnTo>
                    <a:lnTo>
                      <a:pt x="238" y="787"/>
                    </a:lnTo>
                    <a:lnTo>
                      <a:pt x="242" y="787"/>
                    </a:lnTo>
                    <a:lnTo>
                      <a:pt x="242" y="792"/>
                    </a:lnTo>
                    <a:lnTo>
                      <a:pt x="246" y="787"/>
                    </a:lnTo>
                    <a:lnTo>
                      <a:pt x="246" y="783"/>
                    </a:lnTo>
                    <a:lnTo>
                      <a:pt x="246" y="779"/>
                    </a:lnTo>
                    <a:lnTo>
                      <a:pt x="246" y="774"/>
                    </a:lnTo>
                    <a:lnTo>
                      <a:pt x="246" y="769"/>
                    </a:lnTo>
                    <a:lnTo>
                      <a:pt x="246" y="766"/>
                    </a:lnTo>
                    <a:lnTo>
                      <a:pt x="246" y="761"/>
                    </a:lnTo>
                    <a:lnTo>
                      <a:pt x="246" y="756"/>
                    </a:lnTo>
                    <a:lnTo>
                      <a:pt x="238" y="756"/>
                    </a:lnTo>
                    <a:lnTo>
                      <a:pt x="234" y="756"/>
                    </a:lnTo>
                    <a:lnTo>
                      <a:pt x="231" y="756"/>
                    </a:lnTo>
                    <a:lnTo>
                      <a:pt x="223" y="756"/>
                    </a:lnTo>
                    <a:lnTo>
                      <a:pt x="219" y="756"/>
                    </a:lnTo>
                    <a:lnTo>
                      <a:pt x="215" y="756"/>
                    </a:lnTo>
                    <a:lnTo>
                      <a:pt x="211" y="756"/>
                    </a:lnTo>
                    <a:lnTo>
                      <a:pt x="211" y="761"/>
                    </a:lnTo>
                    <a:lnTo>
                      <a:pt x="208" y="761"/>
                    </a:lnTo>
                    <a:lnTo>
                      <a:pt x="208" y="766"/>
                    </a:lnTo>
                    <a:lnTo>
                      <a:pt x="204" y="769"/>
                    </a:lnTo>
                    <a:lnTo>
                      <a:pt x="199" y="774"/>
                    </a:lnTo>
                    <a:lnTo>
                      <a:pt x="196" y="774"/>
                    </a:lnTo>
                    <a:lnTo>
                      <a:pt x="196" y="779"/>
                    </a:lnTo>
                    <a:lnTo>
                      <a:pt x="192" y="779"/>
                    </a:lnTo>
                    <a:lnTo>
                      <a:pt x="188" y="779"/>
                    </a:lnTo>
                    <a:lnTo>
                      <a:pt x="185" y="779"/>
                    </a:lnTo>
                    <a:lnTo>
                      <a:pt x="180" y="779"/>
                    </a:lnTo>
                    <a:lnTo>
                      <a:pt x="176" y="779"/>
                    </a:lnTo>
                    <a:lnTo>
                      <a:pt x="173" y="783"/>
                    </a:lnTo>
                    <a:lnTo>
                      <a:pt x="173" y="787"/>
                    </a:lnTo>
                    <a:lnTo>
                      <a:pt x="167" y="787"/>
                    </a:lnTo>
                    <a:lnTo>
                      <a:pt x="163" y="792"/>
                    </a:lnTo>
                    <a:lnTo>
                      <a:pt x="160" y="796"/>
                    </a:lnTo>
                    <a:lnTo>
                      <a:pt x="160" y="792"/>
                    </a:lnTo>
                    <a:lnTo>
                      <a:pt x="156" y="792"/>
                    </a:lnTo>
                    <a:lnTo>
                      <a:pt x="156" y="787"/>
                    </a:lnTo>
                    <a:lnTo>
                      <a:pt x="147" y="779"/>
                    </a:lnTo>
                    <a:lnTo>
                      <a:pt x="144" y="779"/>
                    </a:lnTo>
                    <a:lnTo>
                      <a:pt x="144" y="774"/>
                    </a:lnTo>
                    <a:lnTo>
                      <a:pt x="144" y="769"/>
                    </a:lnTo>
                    <a:lnTo>
                      <a:pt x="144" y="766"/>
                    </a:lnTo>
                    <a:lnTo>
                      <a:pt x="147" y="761"/>
                    </a:lnTo>
                    <a:lnTo>
                      <a:pt x="147" y="756"/>
                    </a:lnTo>
                    <a:lnTo>
                      <a:pt x="147" y="751"/>
                    </a:lnTo>
                    <a:lnTo>
                      <a:pt x="144" y="751"/>
                    </a:lnTo>
                    <a:lnTo>
                      <a:pt x="140" y="751"/>
                    </a:lnTo>
                    <a:lnTo>
                      <a:pt x="140" y="748"/>
                    </a:lnTo>
                    <a:lnTo>
                      <a:pt x="140" y="743"/>
                    </a:lnTo>
                    <a:lnTo>
                      <a:pt x="144" y="743"/>
                    </a:lnTo>
                    <a:lnTo>
                      <a:pt x="144" y="738"/>
                    </a:lnTo>
                    <a:lnTo>
                      <a:pt x="147" y="738"/>
                    </a:lnTo>
                    <a:lnTo>
                      <a:pt x="152" y="738"/>
                    </a:lnTo>
                    <a:lnTo>
                      <a:pt x="152" y="734"/>
                    </a:lnTo>
                    <a:lnTo>
                      <a:pt x="152" y="727"/>
                    </a:lnTo>
                    <a:lnTo>
                      <a:pt x="147" y="727"/>
                    </a:lnTo>
                    <a:lnTo>
                      <a:pt x="144" y="722"/>
                    </a:lnTo>
                    <a:lnTo>
                      <a:pt x="140" y="722"/>
                    </a:lnTo>
                    <a:lnTo>
                      <a:pt x="137" y="722"/>
                    </a:lnTo>
                    <a:lnTo>
                      <a:pt x="133" y="722"/>
                    </a:lnTo>
                    <a:lnTo>
                      <a:pt x="128" y="722"/>
                    </a:lnTo>
                    <a:lnTo>
                      <a:pt x="125" y="719"/>
                    </a:lnTo>
                    <a:lnTo>
                      <a:pt x="121" y="719"/>
                    </a:lnTo>
                    <a:lnTo>
                      <a:pt x="117" y="714"/>
                    </a:lnTo>
                    <a:lnTo>
                      <a:pt x="117" y="709"/>
                    </a:lnTo>
                    <a:lnTo>
                      <a:pt x="114" y="705"/>
                    </a:lnTo>
                    <a:lnTo>
                      <a:pt x="109" y="705"/>
                    </a:lnTo>
                    <a:lnTo>
                      <a:pt x="105" y="705"/>
                    </a:lnTo>
                    <a:lnTo>
                      <a:pt x="102" y="705"/>
                    </a:lnTo>
                    <a:lnTo>
                      <a:pt x="98" y="701"/>
                    </a:lnTo>
                    <a:lnTo>
                      <a:pt x="94" y="701"/>
                    </a:lnTo>
                    <a:lnTo>
                      <a:pt x="91" y="701"/>
                    </a:lnTo>
                    <a:lnTo>
                      <a:pt x="91" y="696"/>
                    </a:lnTo>
                    <a:lnTo>
                      <a:pt x="86" y="692"/>
                    </a:lnTo>
                    <a:lnTo>
                      <a:pt x="86" y="687"/>
                    </a:lnTo>
                    <a:lnTo>
                      <a:pt x="86" y="683"/>
                    </a:lnTo>
                    <a:lnTo>
                      <a:pt x="86" y="674"/>
                    </a:lnTo>
                    <a:lnTo>
                      <a:pt x="82" y="674"/>
                    </a:lnTo>
                    <a:lnTo>
                      <a:pt x="76" y="674"/>
                    </a:lnTo>
                    <a:lnTo>
                      <a:pt x="73" y="669"/>
                    </a:lnTo>
                    <a:lnTo>
                      <a:pt x="69" y="669"/>
                    </a:lnTo>
                    <a:lnTo>
                      <a:pt x="69" y="666"/>
                    </a:lnTo>
                    <a:lnTo>
                      <a:pt x="65" y="666"/>
                    </a:lnTo>
                    <a:lnTo>
                      <a:pt x="65" y="661"/>
                    </a:lnTo>
                    <a:lnTo>
                      <a:pt x="62" y="661"/>
                    </a:lnTo>
                    <a:lnTo>
                      <a:pt x="62" y="656"/>
                    </a:lnTo>
                    <a:lnTo>
                      <a:pt x="57" y="650"/>
                    </a:lnTo>
                    <a:lnTo>
                      <a:pt x="53" y="650"/>
                    </a:lnTo>
                    <a:lnTo>
                      <a:pt x="50" y="645"/>
                    </a:lnTo>
                    <a:lnTo>
                      <a:pt x="46" y="645"/>
                    </a:lnTo>
                    <a:lnTo>
                      <a:pt x="39" y="645"/>
                    </a:lnTo>
                    <a:lnTo>
                      <a:pt x="34" y="645"/>
                    </a:lnTo>
                    <a:lnTo>
                      <a:pt x="27" y="645"/>
                    </a:lnTo>
                    <a:lnTo>
                      <a:pt x="23" y="650"/>
                    </a:lnTo>
                    <a:lnTo>
                      <a:pt x="20" y="650"/>
                    </a:lnTo>
                    <a:lnTo>
                      <a:pt x="20" y="656"/>
                    </a:lnTo>
                    <a:lnTo>
                      <a:pt x="15" y="656"/>
                    </a:lnTo>
                    <a:lnTo>
                      <a:pt x="15" y="650"/>
                    </a:lnTo>
                    <a:lnTo>
                      <a:pt x="11" y="650"/>
                    </a:lnTo>
                    <a:lnTo>
                      <a:pt x="8" y="650"/>
                    </a:lnTo>
                    <a:lnTo>
                      <a:pt x="8" y="645"/>
                    </a:lnTo>
                    <a:lnTo>
                      <a:pt x="4" y="640"/>
                    </a:lnTo>
                    <a:lnTo>
                      <a:pt x="4" y="637"/>
                    </a:lnTo>
                    <a:lnTo>
                      <a:pt x="4" y="632"/>
                    </a:lnTo>
                    <a:lnTo>
                      <a:pt x="4" y="627"/>
                    </a:lnTo>
                    <a:lnTo>
                      <a:pt x="0" y="619"/>
                    </a:lnTo>
                    <a:lnTo>
                      <a:pt x="0" y="614"/>
                    </a:lnTo>
                    <a:lnTo>
                      <a:pt x="0" y="609"/>
                    </a:lnTo>
                    <a:lnTo>
                      <a:pt x="4" y="605"/>
                    </a:lnTo>
                    <a:lnTo>
                      <a:pt x="4" y="601"/>
                    </a:lnTo>
                    <a:lnTo>
                      <a:pt x="4" y="596"/>
                    </a:lnTo>
                    <a:lnTo>
                      <a:pt x="4" y="592"/>
                    </a:lnTo>
                    <a:lnTo>
                      <a:pt x="4" y="582"/>
                    </a:lnTo>
                    <a:lnTo>
                      <a:pt x="0" y="579"/>
                    </a:lnTo>
                    <a:lnTo>
                      <a:pt x="0" y="572"/>
                    </a:lnTo>
                    <a:lnTo>
                      <a:pt x="0" y="567"/>
                    </a:lnTo>
                    <a:lnTo>
                      <a:pt x="0" y="563"/>
                    </a:lnTo>
                    <a:lnTo>
                      <a:pt x="0" y="558"/>
                    </a:lnTo>
                    <a:lnTo>
                      <a:pt x="4" y="554"/>
                    </a:lnTo>
                    <a:lnTo>
                      <a:pt x="4" y="550"/>
                    </a:lnTo>
                    <a:lnTo>
                      <a:pt x="4" y="545"/>
                    </a:lnTo>
                    <a:lnTo>
                      <a:pt x="8" y="540"/>
                    </a:lnTo>
                    <a:lnTo>
                      <a:pt x="8" y="537"/>
                    </a:lnTo>
                    <a:lnTo>
                      <a:pt x="8" y="532"/>
                    </a:lnTo>
                    <a:lnTo>
                      <a:pt x="11" y="527"/>
                    </a:lnTo>
                    <a:lnTo>
                      <a:pt x="11" y="523"/>
                    </a:lnTo>
                    <a:lnTo>
                      <a:pt x="11" y="519"/>
                    </a:lnTo>
                    <a:lnTo>
                      <a:pt x="11" y="514"/>
                    </a:lnTo>
                    <a:lnTo>
                      <a:pt x="8" y="514"/>
                    </a:lnTo>
                    <a:lnTo>
                      <a:pt x="4" y="510"/>
                    </a:lnTo>
                    <a:lnTo>
                      <a:pt x="0" y="505"/>
                    </a:lnTo>
                    <a:lnTo>
                      <a:pt x="4" y="500"/>
                    </a:lnTo>
                    <a:lnTo>
                      <a:pt x="4" y="494"/>
                    </a:lnTo>
                    <a:lnTo>
                      <a:pt x="27" y="458"/>
                    </a:lnTo>
                    <a:lnTo>
                      <a:pt x="34" y="445"/>
                    </a:lnTo>
                    <a:lnTo>
                      <a:pt x="43" y="427"/>
                    </a:lnTo>
                    <a:lnTo>
                      <a:pt x="46" y="423"/>
                    </a:lnTo>
                    <a:lnTo>
                      <a:pt x="50" y="423"/>
                    </a:lnTo>
                    <a:lnTo>
                      <a:pt x="50" y="416"/>
                    </a:lnTo>
                    <a:lnTo>
                      <a:pt x="62" y="394"/>
                    </a:lnTo>
                    <a:lnTo>
                      <a:pt x="65" y="394"/>
                    </a:lnTo>
                    <a:lnTo>
                      <a:pt x="73" y="381"/>
                    </a:lnTo>
                    <a:lnTo>
                      <a:pt x="76" y="376"/>
                    </a:lnTo>
                    <a:lnTo>
                      <a:pt x="82" y="371"/>
                    </a:lnTo>
                    <a:lnTo>
                      <a:pt x="91" y="353"/>
                    </a:lnTo>
                    <a:lnTo>
                      <a:pt x="94" y="339"/>
                    </a:lnTo>
                    <a:lnTo>
                      <a:pt x="98" y="329"/>
                    </a:lnTo>
                    <a:lnTo>
                      <a:pt x="98" y="324"/>
                    </a:lnTo>
                    <a:lnTo>
                      <a:pt x="105" y="321"/>
                    </a:lnTo>
                    <a:lnTo>
                      <a:pt x="109" y="316"/>
                    </a:lnTo>
                    <a:lnTo>
                      <a:pt x="114" y="316"/>
                    </a:lnTo>
                    <a:lnTo>
                      <a:pt x="117" y="316"/>
                    </a:lnTo>
                    <a:lnTo>
                      <a:pt x="117" y="311"/>
                    </a:lnTo>
                    <a:lnTo>
                      <a:pt x="121" y="308"/>
                    </a:lnTo>
                    <a:lnTo>
                      <a:pt x="125" y="308"/>
                    </a:lnTo>
                    <a:lnTo>
                      <a:pt x="128" y="308"/>
                    </a:lnTo>
                    <a:lnTo>
                      <a:pt x="128" y="303"/>
                    </a:lnTo>
                    <a:lnTo>
                      <a:pt x="133" y="303"/>
                    </a:lnTo>
                    <a:lnTo>
                      <a:pt x="137" y="303"/>
                    </a:lnTo>
                    <a:lnTo>
                      <a:pt x="140" y="303"/>
                    </a:lnTo>
                    <a:lnTo>
                      <a:pt x="144" y="303"/>
                    </a:lnTo>
                    <a:lnTo>
                      <a:pt x="144" y="298"/>
                    </a:lnTo>
                    <a:lnTo>
                      <a:pt x="147" y="298"/>
                    </a:lnTo>
                    <a:lnTo>
                      <a:pt x="152" y="298"/>
                    </a:lnTo>
                    <a:lnTo>
                      <a:pt x="156" y="298"/>
                    </a:lnTo>
                    <a:lnTo>
                      <a:pt x="160" y="298"/>
                    </a:lnTo>
                    <a:lnTo>
                      <a:pt x="163" y="298"/>
                    </a:lnTo>
                    <a:lnTo>
                      <a:pt x="163" y="294"/>
                    </a:lnTo>
                    <a:lnTo>
                      <a:pt x="167" y="294"/>
                    </a:lnTo>
                    <a:lnTo>
                      <a:pt x="173" y="294"/>
                    </a:lnTo>
                    <a:lnTo>
                      <a:pt x="173" y="289"/>
                    </a:lnTo>
                    <a:lnTo>
                      <a:pt x="176" y="289"/>
                    </a:lnTo>
                    <a:lnTo>
                      <a:pt x="185" y="285"/>
                    </a:lnTo>
                    <a:lnTo>
                      <a:pt x="188" y="285"/>
                    </a:lnTo>
                    <a:lnTo>
                      <a:pt x="192" y="285"/>
                    </a:lnTo>
                    <a:lnTo>
                      <a:pt x="192" y="281"/>
                    </a:lnTo>
                    <a:lnTo>
                      <a:pt x="199" y="271"/>
                    </a:lnTo>
                    <a:lnTo>
                      <a:pt x="204" y="271"/>
                    </a:lnTo>
                    <a:lnTo>
                      <a:pt x="208" y="271"/>
                    </a:lnTo>
                    <a:lnTo>
                      <a:pt x="211" y="271"/>
                    </a:lnTo>
                    <a:lnTo>
                      <a:pt x="215" y="271"/>
                    </a:lnTo>
                    <a:lnTo>
                      <a:pt x="219" y="271"/>
                    </a:lnTo>
                    <a:lnTo>
                      <a:pt x="223" y="265"/>
                    </a:lnTo>
                    <a:lnTo>
                      <a:pt x="227" y="265"/>
                    </a:lnTo>
                    <a:lnTo>
                      <a:pt x="231" y="265"/>
                    </a:lnTo>
                    <a:lnTo>
                      <a:pt x="234" y="265"/>
                    </a:lnTo>
                    <a:lnTo>
                      <a:pt x="238" y="265"/>
                    </a:lnTo>
                    <a:lnTo>
                      <a:pt x="242" y="265"/>
                    </a:lnTo>
                    <a:lnTo>
                      <a:pt x="246" y="265"/>
                    </a:lnTo>
                    <a:lnTo>
                      <a:pt x="260" y="265"/>
                    </a:lnTo>
                    <a:lnTo>
                      <a:pt x="263" y="265"/>
                    </a:lnTo>
                    <a:lnTo>
                      <a:pt x="267" y="265"/>
                    </a:lnTo>
                    <a:lnTo>
                      <a:pt x="270" y="265"/>
                    </a:lnTo>
                    <a:lnTo>
                      <a:pt x="275" y="261"/>
                    </a:lnTo>
                    <a:lnTo>
                      <a:pt x="279" y="261"/>
                    </a:lnTo>
                    <a:lnTo>
                      <a:pt x="283" y="261"/>
                    </a:lnTo>
                    <a:lnTo>
                      <a:pt x="283" y="256"/>
                    </a:lnTo>
                    <a:lnTo>
                      <a:pt x="286" y="256"/>
                    </a:lnTo>
                    <a:lnTo>
                      <a:pt x="290" y="256"/>
                    </a:lnTo>
                    <a:lnTo>
                      <a:pt x="293" y="256"/>
                    </a:lnTo>
                    <a:lnTo>
                      <a:pt x="298" y="256"/>
                    </a:lnTo>
                    <a:lnTo>
                      <a:pt x="302" y="261"/>
                    </a:lnTo>
                    <a:lnTo>
                      <a:pt x="305" y="261"/>
                    </a:lnTo>
                    <a:lnTo>
                      <a:pt x="305" y="265"/>
                    </a:lnTo>
                    <a:lnTo>
                      <a:pt x="309" y="265"/>
                    </a:lnTo>
                    <a:lnTo>
                      <a:pt x="309" y="271"/>
                    </a:lnTo>
                    <a:lnTo>
                      <a:pt x="313" y="271"/>
                    </a:lnTo>
                    <a:lnTo>
                      <a:pt x="317" y="271"/>
                    </a:lnTo>
                    <a:lnTo>
                      <a:pt x="321" y="271"/>
                    </a:lnTo>
                    <a:lnTo>
                      <a:pt x="325" y="265"/>
                    </a:lnTo>
                    <a:lnTo>
                      <a:pt x="325" y="261"/>
                    </a:lnTo>
                    <a:lnTo>
                      <a:pt x="325" y="256"/>
                    </a:lnTo>
                    <a:lnTo>
                      <a:pt x="328" y="256"/>
                    </a:lnTo>
                    <a:lnTo>
                      <a:pt x="328" y="252"/>
                    </a:lnTo>
                    <a:lnTo>
                      <a:pt x="332" y="252"/>
                    </a:lnTo>
                    <a:lnTo>
                      <a:pt x="332" y="247"/>
                    </a:lnTo>
                    <a:lnTo>
                      <a:pt x="337" y="247"/>
                    </a:lnTo>
                    <a:lnTo>
                      <a:pt x="337" y="242"/>
                    </a:lnTo>
                    <a:lnTo>
                      <a:pt x="337" y="239"/>
                    </a:lnTo>
                    <a:lnTo>
                      <a:pt x="337" y="234"/>
                    </a:lnTo>
                    <a:lnTo>
                      <a:pt x="332" y="229"/>
                    </a:lnTo>
                    <a:lnTo>
                      <a:pt x="337" y="226"/>
                    </a:lnTo>
                    <a:lnTo>
                      <a:pt x="337" y="216"/>
                    </a:lnTo>
                    <a:lnTo>
                      <a:pt x="337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198"/>
                    </a:lnTo>
                    <a:lnTo>
                      <a:pt x="340" y="198"/>
                    </a:lnTo>
                    <a:lnTo>
                      <a:pt x="344" y="198"/>
                    </a:lnTo>
                    <a:lnTo>
                      <a:pt x="350" y="203"/>
                    </a:lnTo>
                    <a:lnTo>
                      <a:pt x="354" y="203"/>
                    </a:lnTo>
                    <a:lnTo>
                      <a:pt x="357" y="203"/>
                    </a:lnTo>
                    <a:lnTo>
                      <a:pt x="357" y="198"/>
                    </a:lnTo>
                    <a:lnTo>
                      <a:pt x="361" y="198"/>
                    </a:lnTo>
                    <a:lnTo>
                      <a:pt x="361" y="194"/>
                    </a:lnTo>
                    <a:lnTo>
                      <a:pt x="365" y="194"/>
                    </a:lnTo>
                    <a:lnTo>
                      <a:pt x="369" y="194"/>
                    </a:lnTo>
                    <a:lnTo>
                      <a:pt x="369" y="198"/>
                    </a:lnTo>
                    <a:lnTo>
                      <a:pt x="373" y="198"/>
                    </a:lnTo>
                    <a:lnTo>
                      <a:pt x="373" y="203"/>
                    </a:lnTo>
                    <a:lnTo>
                      <a:pt x="373" y="207"/>
                    </a:lnTo>
                    <a:lnTo>
                      <a:pt x="377" y="207"/>
                    </a:lnTo>
                    <a:lnTo>
                      <a:pt x="380" y="207"/>
                    </a:lnTo>
                    <a:lnTo>
                      <a:pt x="384" y="207"/>
                    </a:lnTo>
                    <a:lnTo>
                      <a:pt x="384" y="203"/>
                    </a:lnTo>
                    <a:lnTo>
                      <a:pt x="389" y="207"/>
                    </a:lnTo>
                    <a:lnTo>
                      <a:pt x="392" y="207"/>
                    </a:lnTo>
                    <a:lnTo>
                      <a:pt x="392" y="211"/>
                    </a:lnTo>
                    <a:lnTo>
                      <a:pt x="396" y="211"/>
                    </a:lnTo>
                    <a:lnTo>
                      <a:pt x="396" y="216"/>
                    </a:lnTo>
                    <a:lnTo>
                      <a:pt x="396" y="221"/>
                    </a:lnTo>
                    <a:lnTo>
                      <a:pt x="399" y="216"/>
                    </a:lnTo>
                    <a:lnTo>
                      <a:pt x="403" y="216"/>
                    </a:lnTo>
                    <a:lnTo>
                      <a:pt x="408" y="216"/>
                    </a:lnTo>
                    <a:lnTo>
                      <a:pt x="412" y="216"/>
                    </a:lnTo>
                    <a:lnTo>
                      <a:pt x="415" y="211"/>
                    </a:lnTo>
                    <a:lnTo>
                      <a:pt x="419" y="216"/>
                    </a:lnTo>
                    <a:lnTo>
                      <a:pt x="422" y="216"/>
                    </a:lnTo>
                    <a:lnTo>
                      <a:pt x="426" y="221"/>
                    </a:lnTo>
                    <a:lnTo>
                      <a:pt x="426" y="226"/>
                    </a:lnTo>
                    <a:lnTo>
                      <a:pt x="431" y="221"/>
                    </a:lnTo>
                    <a:lnTo>
                      <a:pt x="434" y="221"/>
                    </a:lnTo>
                    <a:lnTo>
                      <a:pt x="440" y="221"/>
                    </a:lnTo>
                    <a:lnTo>
                      <a:pt x="444" y="221"/>
                    </a:lnTo>
                    <a:lnTo>
                      <a:pt x="448" y="221"/>
                    </a:lnTo>
                    <a:lnTo>
                      <a:pt x="451" y="221"/>
                    </a:lnTo>
                    <a:lnTo>
                      <a:pt x="455" y="216"/>
                    </a:lnTo>
                    <a:lnTo>
                      <a:pt x="460" y="216"/>
                    </a:lnTo>
                    <a:lnTo>
                      <a:pt x="463" y="216"/>
                    </a:lnTo>
                    <a:lnTo>
                      <a:pt x="463" y="211"/>
                    </a:lnTo>
                    <a:lnTo>
                      <a:pt x="467" y="207"/>
                    </a:lnTo>
                    <a:lnTo>
                      <a:pt x="471" y="203"/>
                    </a:lnTo>
                    <a:lnTo>
                      <a:pt x="474" y="203"/>
                    </a:lnTo>
                    <a:lnTo>
                      <a:pt x="479" y="203"/>
                    </a:lnTo>
                    <a:lnTo>
                      <a:pt x="479" y="198"/>
                    </a:lnTo>
                    <a:lnTo>
                      <a:pt x="483" y="198"/>
                    </a:lnTo>
                    <a:lnTo>
                      <a:pt x="483" y="194"/>
                    </a:lnTo>
                    <a:lnTo>
                      <a:pt x="483" y="187"/>
                    </a:lnTo>
                    <a:lnTo>
                      <a:pt x="486" y="182"/>
                    </a:lnTo>
                    <a:lnTo>
                      <a:pt x="490" y="182"/>
                    </a:lnTo>
                    <a:lnTo>
                      <a:pt x="494" y="182"/>
                    </a:lnTo>
                    <a:lnTo>
                      <a:pt x="494" y="187"/>
                    </a:lnTo>
                    <a:lnTo>
                      <a:pt x="497" y="187"/>
                    </a:lnTo>
                    <a:lnTo>
                      <a:pt x="497" y="194"/>
                    </a:lnTo>
                    <a:lnTo>
                      <a:pt x="502" y="194"/>
                    </a:lnTo>
                    <a:lnTo>
                      <a:pt x="506" y="198"/>
                    </a:lnTo>
                    <a:lnTo>
                      <a:pt x="506" y="194"/>
                    </a:lnTo>
                    <a:lnTo>
                      <a:pt x="509" y="194"/>
                    </a:lnTo>
                    <a:lnTo>
                      <a:pt x="513" y="187"/>
                    </a:lnTo>
                    <a:lnTo>
                      <a:pt x="516" y="187"/>
                    </a:lnTo>
                    <a:lnTo>
                      <a:pt x="521" y="187"/>
                    </a:lnTo>
                    <a:lnTo>
                      <a:pt x="521" y="194"/>
                    </a:lnTo>
                    <a:lnTo>
                      <a:pt x="526" y="198"/>
                    </a:lnTo>
                    <a:lnTo>
                      <a:pt x="526" y="203"/>
                    </a:lnTo>
                    <a:lnTo>
                      <a:pt x="531" y="198"/>
                    </a:lnTo>
                    <a:lnTo>
                      <a:pt x="535" y="198"/>
                    </a:lnTo>
                    <a:lnTo>
                      <a:pt x="538" y="194"/>
                    </a:lnTo>
                    <a:lnTo>
                      <a:pt x="545" y="194"/>
                    </a:lnTo>
                    <a:lnTo>
                      <a:pt x="545" y="187"/>
                    </a:lnTo>
                    <a:lnTo>
                      <a:pt x="549" y="187"/>
                    </a:lnTo>
                    <a:lnTo>
                      <a:pt x="554" y="187"/>
                    </a:lnTo>
                    <a:lnTo>
                      <a:pt x="557" y="187"/>
                    </a:lnTo>
                    <a:lnTo>
                      <a:pt x="561" y="194"/>
                    </a:lnTo>
                    <a:lnTo>
                      <a:pt x="565" y="194"/>
                    </a:lnTo>
                    <a:lnTo>
                      <a:pt x="565" y="187"/>
                    </a:lnTo>
                    <a:lnTo>
                      <a:pt x="568" y="187"/>
                    </a:lnTo>
                    <a:lnTo>
                      <a:pt x="568" y="182"/>
                    </a:lnTo>
                    <a:lnTo>
                      <a:pt x="568" y="179"/>
                    </a:lnTo>
                    <a:lnTo>
                      <a:pt x="568" y="174"/>
                    </a:lnTo>
                    <a:lnTo>
                      <a:pt x="573" y="174"/>
                    </a:lnTo>
                    <a:lnTo>
                      <a:pt x="573" y="169"/>
                    </a:lnTo>
                    <a:lnTo>
                      <a:pt x="573" y="165"/>
                    </a:lnTo>
                    <a:lnTo>
                      <a:pt x="573" y="160"/>
                    </a:lnTo>
                    <a:lnTo>
                      <a:pt x="573" y="156"/>
                    </a:lnTo>
                    <a:lnTo>
                      <a:pt x="573" y="152"/>
                    </a:lnTo>
                    <a:lnTo>
                      <a:pt x="577" y="152"/>
                    </a:lnTo>
                    <a:lnTo>
                      <a:pt x="577" y="147"/>
                    </a:lnTo>
                    <a:lnTo>
                      <a:pt x="577" y="142"/>
                    </a:lnTo>
                    <a:lnTo>
                      <a:pt x="580" y="142"/>
                    </a:lnTo>
                    <a:lnTo>
                      <a:pt x="580" y="139"/>
                    </a:lnTo>
                    <a:lnTo>
                      <a:pt x="580" y="134"/>
                    </a:lnTo>
                    <a:lnTo>
                      <a:pt x="580" y="129"/>
                    </a:lnTo>
                    <a:lnTo>
                      <a:pt x="577" y="129"/>
                    </a:lnTo>
                    <a:lnTo>
                      <a:pt x="577" y="125"/>
                    </a:lnTo>
                    <a:lnTo>
                      <a:pt x="577" y="121"/>
                    </a:lnTo>
                    <a:lnTo>
                      <a:pt x="573" y="121"/>
                    </a:lnTo>
                    <a:lnTo>
                      <a:pt x="573" y="116"/>
                    </a:lnTo>
                    <a:lnTo>
                      <a:pt x="573" y="110"/>
                    </a:lnTo>
                    <a:lnTo>
                      <a:pt x="568" y="110"/>
                    </a:lnTo>
                    <a:lnTo>
                      <a:pt x="568" y="116"/>
                    </a:lnTo>
                    <a:lnTo>
                      <a:pt x="565" y="116"/>
                    </a:lnTo>
                    <a:lnTo>
                      <a:pt x="565" y="110"/>
                    </a:lnTo>
                    <a:lnTo>
                      <a:pt x="565" y="105"/>
                    </a:lnTo>
                    <a:lnTo>
                      <a:pt x="568" y="105"/>
                    </a:lnTo>
                    <a:lnTo>
                      <a:pt x="568" y="100"/>
                    </a:lnTo>
                    <a:lnTo>
                      <a:pt x="573" y="100"/>
                    </a:lnTo>
                    <a:lnTo>
                      <a:pt x="577" y="100"/>
                    </a:lnTo>
                    <a:lnTo>
                      <a:pt x="577" y="97"/>
                    </a:lnTo>
                    <a:lnTo>
                      <a:pt x="577" y="92"/>
                    </a:lnTo>
                    <a:lnTo>
                      <a:pt x="577" y="97"/>
                    </a:lnTo>
                    <a:lnTo>
                      <a:pt x="580" y="97"/>
                    </a:lnTo>
                    <a:lnTo>
                      <a:pt x="580" y="100"/>
                    </a:lnTo>
                    <a:lnTo>
                      <a:pt x="584" y="97"/>
                    </a:lnTo>
                    <a:lnTo>
                      <a:pt x="584" y="100"/>
                    </a:lnTo>
                    <a:lnTo>
                      <a:pt x="588" y="100"/>
                    </a:lnTo>
                    <a:lnTo>
                      <a:pt x="588" y="105"/>
                    </a:lnTo>
                    <a:lnTo>
                      <a:pt x="592" y="105"/>
                    </a:lnTo>
                    <a:lnTo>
                      <a:pt x="592" y="110"/>
                    </a:lnTo>
                    <a:lnTo>
                      <a:pt x="596" y="110"/>
                    </a:lnTo>
                    <a:lnTo>
                      <a:pt x="596" y="116"/>
                    </a:lnTo>
                    <a:lnTo>
                      <a:pt x="600" y="116"/>
                    </a:lnTo>
                    <a:lnTo>
                      <a:pt x="600" y="121"/>
                    </a:lnTo>
                    <a:lnTo>
                      <a:pt x="603" y="121"/>
                    </a:lnTo>
                    <a:lnTo>
                      <a:pt x="603" y="116"/>
                    </a:lnTo>
                    <a:lnTo>
                      <a:pt x="607" y="116"/>
                    </a:lnTo>
                    <a:lnTo>
                      <a:pt x="610" y="116"/>
                    </a:lnTo>
                    <a:lnTo>
                      <a:pt x="610" y="110"/>
                    </a:lnTo>
                    <a:lnTo>
                      <a:pt x="610" y="105"/>
                    </a:lnTo>
                    <a:lnTo>
                      <a:pt x="610" y="100"/>
                    </a:lnTo>
                    <a:lnTo>
                      <a:pt x="610" y="97"/>
                    </a:lnTo>
                    <a:lnTo>
                      <a:pt x="610" y="92"/>
                    </a:lnTo>
                    <a:lnTo>
                      <a:pt x="610" y="87"/>
                    </a:lnTo>
                    <a:lnTo>
                      <a:pt x="610" y="83"/>
                    </a:lnTo>
                    <a:lnTo>
                      <a:pt x="617" y="78"/>
                    </a:lnTo>
                    <a:lnTo>
                      <a:pt x="620" y="69"/>
                    </a:lnTo>
                    <a:lnTo>
                      <a:pt x="625" y="69"/>
                    </a:lnTo>
                    <a:lnTo>
                      <a:pt x="629" y="69"/>
                    </a:lnTo>
                    <a:lnTo>
                      <a:pt x="629" y="74"/>
                    </a:lnTo>
                    <a:lnTo>
                      <a:pt x="629" y="69"/>
                    </a:lnTo>
                    <a:lnTo>
                      <a:pt x="629" y="65"/>
                    </a:lnTo>
                    <a:lnTo>
                      <a:pt x="632" y="65"/>
                    </a:lnTo>
                    <a:lnTo>
                      <a:pt x="632" y="60"/>
                    </a:lnTo>
                    <a:lnTo>
                      <a:pt x="632" y="56"/>
                    </a:lnTo>
                    <a:lnTo>
                      <a:pt x="632" y="52"/>
                    </a:lnTo>
                    <a:lnTo>
                      <a:pt x="636" y="47"/>
                    </a:lnTo>
                    <a:lnTo>
                      <a:pt x="636" y="42"/>
                    </a:lnTo>
                    <a:lnTo>
                      <a:pt x="639" y="42"/>
                    </a:lnTo>
                    <a:lnTo>
                      <a:pt x="648" y="42"/>
                    </a:lnTo>
                    <a:lnTo>
                      <a:pt x="648" y="39"/>
                    </a:lnTo>
                    <a:lnTo>
                      <a:pt x="651" y="31"/>
                    </a:lnTo>
                    <a:lnTo>
                      <a:pt x="651" y="27"/>
                    </a:lnTo>
                    <a:lnTo>
                      <a:pt x="655" y="27"/>
                    </a:lnTo>
                    <a:lnTo>
                      <a:pt x="659" y="27"/>
                    </a:lnTo>
                    <a:lnTo>
                      <a:pt x="664" y="27"/>
                    </a:lnTo>
                    <a:lnTo>
                      <a:pt x="667" y="27"/>
                    </a:lnTo>
                    <a:lnTo>
                      <a:pt x="671" y="23"/>
                    </a:lnTo>
                    <a:lnTo>
                      <a:pt x="671" y="18"/>
                    </a:lnTo>
                    <a:lnTo>
                      <a:pt x="671" y="13"/>
                    </a:lnTo>
                    <a:lnTo>
                      <a:pt x="667" y="13"/>
                    </a:lnTo>
                    <a:lnTo>
                      <a:pt x="667" y="10"/>
                    </a:lnTo>
                    <a:lnTo>
                      <a:pt x="664" y="10"/>
                    </a:lnTo>
                    <a:lnTo>
                      <a:pt x="659" y="5"/>
                    </a:lnTo>
                    <a:lnTo>
                      <a:pt x="659" y="0"/>
                    </a:lnTo>
                    <a:lnTo>
                      <a:pt x="667" y="0"/>
                    </a:lnTo>
                    <a:lnTo>
                      <a:pt x="671" y="0"/>
                    </a:lnTo>
                    <a:lnTo>
                      <a:pt x="674" y="5"/>
                    </a:lnTo>
                    <a:lnTo>
                      <a:pt x="678" y="5"/>
                    </a:lnTo>
                    <a:lnTo>
                      <a:pt x="678" y="10"/>
                    </a:lnTo>
                    <a:lnTo>
                      <a:pt x="682" y="10"/>
                    </a:lnTo>
                    <a:lnTo>
                      <a:pt x="682" y="13"/>
                    </a:lnTo>
                    <a:lnTo>
                      <a:pt x="686" y="18"/>
                    </a:lnTo>
                    <a:lnTo>
                      <a:pt x="690" y="18"/>
                    </a:lnTo>
                    <a:lnTo>
                      <a:pt x="690" y="23"/>
                    </a:lnTo>
                    <a:lnTo>
                      <a:pt x="694" y="23"/>
                    </a:lnTo>
                    <a:lnTo>
                      <a:pt x="697" y="27"/>
                    </a:lnTo>
                    <a:lnTo>
                      <a:pt x="703" y="31"/>
                    </a:lnTo>
                    <a:lnTo>
                      <a:pt x="707" y="39"/>
                    </a:lnTo>
                    <a:lnTo>
                      <a:pt x="707" y="42"/>
                    </a:lnTo>
                    <a:lnTo>
                      <a:pt x="715" y="47"/>
                    </a:lnTo>
                    <a:lnTo>
                      <a:pt x="715" y="52"/>
                    </a:lnTo>
                    <a:lnTo>
                      <a:pt x="715" y="56"/>
                    </a:lnTo>
                    <a:lnTo>
                      <a:pt x="719" y="56"/>
                    </a:lnTo>
                    <a:lnTo>
                      <a:pt x="723" y="56"/>
                    </a:lnTo>
                    <a:lnTo>
                      <a:pt x="723" y="60"/>
                    </a:lnTo>
                    <a:lnTo>
                      <a:pt x="726" y="60"/>
                    </a:lnTo>
                    <a:lnTo>
                      <a:pt x="730" y="60"/>
                    </a:lnTo>
                    <a:lnTo>
                      <a:pt x="730" y="65"/>
                    </a:lnTo>
                    <a:lnTo>
                      <a:pt x="735" y="65"/>
                    </a:lnTo>
                    <a:lnTo>
                      <a:pt x="738" y="65"/>
                    </a:lnTo>
                    <a:lnTo>
                      <a:pt x="742" y="65"/>
                    </a:lnTo>
                    <a:lnTo>
                      <a:pt x="742" y="69"/>
                    </a:lnTo>
                    <a:lnTo>
                      <a:pt x="746" y="69"/>
                    </a:lnTo>
                    <a:lnTo>
                      <a:pt x="746" y="65"/>
                    </a:lnTo>
                    <a:lnTo>
                      <a:pt x="749" y="65"/>
                    </a:lnTo>
                    <a:lnTo>
                      <a:pt x="749" y="69"/>
                    </a:lnTo>
                    <a:lnTo>
                      <a:pt x="753" y="69"/>
                    </a:lnTo>
                    <a:lnTo>
                      <a:pt x="758" y="69"/>
                    </a:lnTo>
                    <a:lnTo>
                      <a:pt x="761" y="69"/>
                    </a:lnTo>
                    <a:lnTo>
                      <a:pt x="761" y="74"/>
                    </a:lnTo>
                    <a:lnTo>
                      <a:pt x="765" y="74"/>
                    </a:lnTo>
                    <a:lnTo>
                      <a:pt x="765" y="78"/>
                    </a:lnTo>
                    <a:lnTo>
                      <a:pt x="768" y="78"/>
                    </a:lnTo>
                    <a:lnTo>
                      <a:pt x="777" y="78"/>
                    </a:lnTo>
                    <a:lnTo>
                      <a:pt x="781" y="78"/>
                    </a:lnTo>
                    <a:lnTo>
                      <a:pt x="784" y="78"/>
                    </a:lnTo>
                    <a:lnTo>
                      <a:pt x="788" y="78"/>
                    </a:lnTo>
                    <a:lnTo>
                      <a:pt x="788" y="83"/>
                    </a:lnTo>
                    <a:lnTo>
                      <a:pt x="794" y="83"/>
                    </a:lnTo>
                    <a:lnTo>
                      <a:pt x="797" y="83"/>
                    </a:lnTo>
                    <a:lnTo>
                      <a:pt x="801" y="87"/>
                    </a:lnTo>
                    <a:lnTo>
                      <a:pt x="805" y="87"/>
                    </a:lnTo>
                    <a:lnTo>
                      <a:pt x="809" y="87"/>
                    </a:lnTo>
                    <a:lnTo>
                      <a:pt x="809" y="92"/>
                    </a:lnTo>
                    <a:lnTo>
                      <a:pt x="813" y="92"/>
                    </a:lnTo>
                    <a:lnTo>
                      <a:pt x="817" y="92"/>
                    </a:lnTo>
                    <a:lnTo>
                      <a:pt x="824" y="92"/>
                    </a:lnTo>
                    <a:lnTo>
                      <a:pt x="829" y="92"/>
                    </a:lnTo>
                    <a:lnTo>
                      <a:pt x="836" y="92"/>
                    </a:lnTo>
                    <a:lnTo>
                      <a:pt x="836" y="97"/>
                    </a:lnTo>
                    <a:lnTo>
                      <a:pt x="840" y="97"/>
                    </a:lnTo>
                    <a:lnTo>
                      <a:pt x="843" y="100"/>
                    </a:lnTo>
                    <a:lnTo>
                      <a:pt x="848" y="100"/>
                    </a:lnTo>
                    <a:lnTo>
                      <a:pt x="852" y="100"/>
                    </a:lnTo>
                    <a:lnTo>
                      <a:pt x="855" y="100"/>
                    </a:lnTo>
                    <a:lnTo>
                      <a:pt x="855" y="97"/>
                    </a:lnTo>
                    <a:lnTo>
                      <a:pt x="859" y="100"/>
                    </a:lnTo>
                    <a:lnTo>
                      <a:pt x="862" y="100"/>
                    </a:lnTo>
                    <a:lnTo>
                      <a:pt x="866" y="100"/>
                    </a:lnTo>
                    <a:lnTo>
                      <a:pt x="871" y="100"/>
                    </a:lnTo>
                    <a:lnTo>
                      <a:pt x="875" y="100"/>
                    </a:lnTo>
                    <a:lnTo>
                      <a:pt x="878" y="100"/>
                    </a:lnTo>
                    <a:lnTo>
                      <a:pt x="878" y="105"/>
                    </a:lnTo>
                    <a:lnTo>
                      <a:pt x="884" y="105"/>
                    </a:lnTo>
                    <a:lnTo>
                      <a:pt x="884" y="110"/>
                    </a:lnTo>
                    <a:lnTo>
                      <a:pt x="888" y="110"/>
                    </a:lnTo>
                    <a:lnTo>
                      <a:pt x="891" y="110"/>
                    </a:lnTo>
                    <a:lnTo>
                      <a:pt x="891" y="116"/>
                    </a:lnTo>
                    <a:lnTo>
                      <a:pt x="891" y="121"/>
                    </a:lnTo>
                    <a:lnTo>
                      <a:pt x="891" y="125"/>
                    </a:lnTo>
                    <a:lnTo>
                      <a:pt x="891" y="129"/>
                    </a:lnTo>
                    <a:lnTo>
                      <a:pt x="895" y="134"/>
                    </a:lnTo>
                    <a:lnTo>
                      <a:pt x="900" y="134"/>
                    </a:lnTo>
                    <a:lnTo>
                      <a:pt x="903" y="134"/>
                    </a:lnTo>
                    <a:lnTo>
                      <a:pt x="903" y="129"/>
                    </a:lnTo>
                    <a:lnTo>
                      <a:pt x="907" y="129"/>
                    </a:lnTo>
                    <a:lnTo>
                      <a:pt x="911" y="129"/>
                    </a:lnTo>
                    <a:lnTo>
                      <a:pt x="911" y="125"/>
                    </a:lnTo>
                    <a:lnTo>
                      <a:pt x="914" y="125"/>
                    </a:lnTo>
                    <a:lnTo>
                      <a:pt x="914" y="121"/>
                    </a:lnTo>
                    <a:lnTo>
                      <a:pt x="919" y="121"/>
                    </a:lnTo>
                    <a:lnTo>
                      <a:pt x="923" y="121"/>
                    </a:lnTo>
                    <a:lnTo>
                      <a:pt x="923" y="125"/>
                    </a:lnTo>
                    <a:lnTo>
                      <a:pt x="923" y="129"/>
                    </a:lnTo>
                    <a:lnTo>
                      <a:pt x="923" y="134"/>
                    </a:lnTo>
                    <a:lnTo>
                      <a:pt x="923" y="139"/>
                    </a:lnTo>
                    <a:lnTo>
                      <a:pt x="926" y="139"/>
                    </a:lnTo>
                    <a:lnTo>
                      <a:pt x="930" y="139"/>
                    </a:lnTo>
                    <a:lnTo>
                      <a:pt x="934" y="139"/>
                    </a:lnTo>
                    <a:lnTo>
                      <a:pt x="937" y="139"/>
                    </a:lnTo>
                    <a:lnTo>
                      <a:pt x="937" y="134"/>
                    </a:lnTo>
                    <a:lnTo>
                      <a:pt x="937" y="129"/>
                    </a:lnTo>
                    <a:lnTo>
                      <a:pt x="942" y="129"/>
                    </a:lnTo>
                    <a:lnTo>
                      <a:pt x="937" y="125"/>
                    </a:lnTo>
                    <a:lnTo>
                      <a:pt x="942" y="125"/>
                    </a:lnTo>
                    <a:lnTo>
                      <a:pt x="946" y="125"/>
                    </a:lnTo>
                    <a:lnTo>
                      <a:pt x="946" y="121"/>
                    </a:lnTo>
                    <a:lnTo>
                      <a:pt x="946" y="116"/>
                    </a:lnTo>
                    <a:lnTo>
                      <a:pt x="949" y="116"/>
                    </a:lnTo>
                    <a:lnTo>
                      <a:pt x="953" y="110"/>
                    </a:lnTo>
                    <a:lnTo>
                      <a:pt x="957" y="110"/>
                    </a:lnTo>
                    <a:lnTo>
                      <a:pt x="957" y="105"/>
                    </a:lnTo>
                    <a:lnTo>
                      <a:pt x="961" y="100"/>
                    </a:lnTo>
                    <a:lnTo>
                      <a:pt x="965" y="100"/>
                    </a:lnTo>
                    <a:lnTo>
                      <a:pt x="971" y="100"/>
                    </a:lnTo>
                    <a:lnTo>
                      <a:pt x="975" y="105"/>
                    </a:lnTo>
                    <a:lnTo>
                      <a:pt x="975" y="110"/>
                    </a:lnTo>
                    <a:lnTo>
                      <a:pt x="978" y="110"/>
                    </a:lnTo>
                    <a:lnTo>
                      <a:pt x="978" y="116"/>
                    </a:lnTo>
                    <a:lnTo>
                      <a:pt x="982" y="116"/>
                    </a:lnTo>
                    <a:lnTo>
                      <a:pt x="982" y="121"/>
                    </a:lnTo>
                    <a:lnTo>
                      <a:pt x="985" y="121"/>
                    </a:lnTo>
                    <a:lnTo>
                      <a:pt x="985" y="125"/>
                    </a:lnTo>
                    <a:lnTo>
                      <a:pt x="989" y="125"/>
                    </a:lnTo>
                    <a:lnTo>
                      <a:pt x="985" y="125"/>
                    </a:lnTo>
                    <a:lnTo>
                      <a:pt x="985" y="129"/>
                    </a:lnTo>
                    <a:lnTo>
                      <a:pt x="985" y="134"/>
                    </a:lnTo>
                    <a:lnTo>
                      <a:pt x="989" y="134"/>
                    </a:lnTo>
                    <a:lnTo>
                      <a:pt x="989" y="139"/>
                    </a:lnTo>
                    <a:lnTo>
                      <a:pt x="994" y="139"/>
                    </a:lnTo>
                    <a:lnTo>
                      <a:pt x="989" y="142"/>
                    </a:lnTo>
                    <a:lnTo>
                      <a:pt x="994" y="142"/>
                    </a:lnTo>
                    <a:lnTo>
                      <a:pt x="994" y="147"/>
                    </a:lnTo>
                    <a:lnTo>
                      <a:pt x="994" y="152"/>
                    </a:lnTo>
                    <a:lnTo>
                      <a:pt x="998" y="152"/>
                    </a:lnTo>
                    <a:lnTo>
                      <a:pt x="1001" y="152"/>
                    </a:lnTo>
                    <a:lnTo>
                      <a:pt x="1005" y="147"/>
                    </a:lnTo>
                    <a:lnTo>
                      <a:pt x="1008" y="147"/>
                    </a:lnTo>
                    <a:lnTo>
                      <a:pt x="1013" y="147"/>
                    </a:lnTo>
                    <a:lnTo>
                      <a:pt x="1013" y="152"/>
                    </a:lnTo>
                    <a:lnTo>
                      <a:pt x="1013" y="156"/>
                    </a:lnTo>
                    <a:lnTo>
                      <a:pt x="1013" y="160"/>
                    </a:lnTo>
                    <a:lnTo>
                      <a:pt x="1017" y="160"/>
                    </a:lnTo>
                    <a:lnTo>
                      <a:pt x="1020" y="165"/>
                    </a:lnTo>
                    <a:lnTo>
                      <a:pt x="1024" y="165"/>
                    </a:lnTo>
                    <a:lnTo>
                      <a:pt x="1028" y="165"/>
                    </a:lnTo>
                    <a:lnTo>
                      <a:pt x="1033" y="165"/>
                    </a:lnTo>
                    <a:lnTo>
                      <a:pt x="1036" y="165"/>
                    </a:lnTo>
                    <a:lnTo>
                      <a:pt x="1040" y="165"/>
                    </a:lnTo>
                    <a:lnTo>
                      <a:pt x="1043" y="165"/>
                    </a:lnTo>
                    <a:lnTo>
                      <a:pt x="1047" y="165"/>
                    </a:lnTo>
                    <a:lnTo>
                      <a:pt x="1051" y="165"/>
                    </a:lnTo>
                    <a:lnTo>
                      <a:pt x="1055" y="165"/>
                    </a:lnTo>
                    <a:lnTo>
                      <a:pt x="1065" y="165"/>
                    </a:lnTo>
                    <a:lnTo>
                      <a:pt x="1069" y="165"/>
                    </a:lnTo>
                    <a:lnTo>
                      <a:pt x="1072" y="169"/>
                    </a:lnTo>
                    <a:lnTo>
                      <a:pt x="1080" y="174"/>
                    </a:lnTo>
                    <a:lnTo>
                      <a:pt x="1084" y="179"/>
                    </a:lnTo>
                    <a:lnTo>
                      <a:pt x="1088" y="179"/>
                    </a:lnTo>
                    <a:lnTo>
                      <a:pt x="1092" y="179"/>
                    </a:lnTo>
                    <a:lnTo>
                      <a:pt x="1095" y="179"/>
                    </a:lnTo>
                    <a:lnTo>
                      <a:pt x="1099" y="179"/>
                    </a:lnTo>
                    <a:lnTo>
                      <a:pt x="1104" y="179"/>
                    </a:lnTo>
                    <a:lnTo>
                      <a:pt x="1104" y="174"/>
                    </a:lnTo>
                    <a:lnTo>
                      <a:pt x="1107" y="174"/>
                    </a:lnTo>
                    <a:lnTo>
                      <a:pt x="1107" y="169"/>
                    </a:lnTo>
                    <a:lnTo>
                      <a:pt x="1107" y="165"/>
                    </a:lnTo>
                    <a:lnTo>
                      <a:pt x="1111" y="165"/>
                    </a:lnTo>
                    <a:lnTo>
                      <a:pt x="1111" y="160"/>
                    </a:lnTo>
                    <a:lnTo>
                      <a:pt x="1115" y="160"/>
                    </a:lnTo>
                    <a:lnTo>
                      <a:pt x="1118" y="160"/>
                    </a:lnTo>
                    <a:lnTo>
                      <a:pt x="1118" y="156"/>
                    </a:lnTo>
                    <a:lnTo>
                      <a:pt x="1122" y="152"/>
                    </a:lnTo>
                    <a:lnTo>
                      <a:pt x="1127" y="147"/>
                    </a:lnTo>
                    <a:lnTo>
                      <a:pt x="1130" y="147"/>
                    </a:lnTo>
                    <a:lnTo>
                      <a:pt x="1130" y="142"/>
                    </a:lnTo>
                    <a:lnTo>
                      <a:pt x="1134" y="142"/>
                    </a:lnTo>
                    <a:lnTo>
                      <a:pt x="1134" y="139"/>
                    </a:lnTo>
                    <a:lnTo>
                      <a:pt x="1134" y="142"/>
                    </a:lnTo>
                    <a:lnTo>
                      <a:pt x="1137" y="142"/>
                    </a:lnTo>
                    <a:lnTo>
                      <a:pt x="1137" y="147"/>
                    </a:lnTo>
                    <a:lnTo>
                      <a:pt x="1141" y="147"/>
                    </a:lnTo>
                    <a:lnTo>
                      <a:pt x="1141" y="152"/>
                    </a:lnTo>
                    <a:lnTo>
                      <a:pt x="1141" y="156"/>
                    </a:lnTo>
                    <a:lnTo>
                      <a:pt x="1146" y="160"/>
                    </a:lnTo>
                    <a:lnTo>
                      <a:pt x="1146" y="165"/>
                    </a:lnTo>
                    <a:lnTo>
                      <a:pt x="1146" y="169"/>
                    </a:lnTo>
                    <a:lnTo>
                      <a:pt x="1146" y="174"/>
                    </a:lnTo>
                    <a:lnTo>
                      <a:pt x="1141" y="179"/>
                    </a:lnTo>
                    <a:lnTo>
                      <a:pt x="1137" y="179"/>
                    </a:lnTo>
                    <a:lnTo>
                      <a:pt x="1137" y="182"/>
                    </a:lnTo>
                    <a:lnTo>
                      <a:pt x="1141" y="182"/>
                    </a:lnTo>
                    <a:lnTo>
                      <a:pt x="1146" y="182"/>
                    </a:lnTo>
                    <a:lnTo>
                      <a:pt x="1151" y="182"/>
                    </a:lnTo>
                    <a:lnTo>
                      <a:pt x="1151" y="187"/>
                    </a:lnTo>
                    <a:lnTo>
                      <a:pt x="1151" y="194"/>
                    </a:lnTo>
                    <a:lnTo>
                      <a:pt x="1156" y="194"/>
                    </a:lnTo>
                    <a:lnTo>
                      <a:pt x="1159" y="194"/>
                    </a:lnTo>
                    <a:lnTo>
                      <a:pt x="1163" y="198"/>
                    </a:lnTo>
                    <a:lnTo>
                      <a:pt x="1163" y="203"/>
                    </a:lnTo>
                    <a:lnTo>
                      <a:pt x="1163" y="207"/>
                    </a:lnTo>
                    <a:lnTo>
                      <a:pt x="1163" y="211"/>
                    </a:lnTo>
                    <a:lnTo>
                      <a:pt x="1163" y="216"/>
                    </a:lnTo>
                    <a:lnTo>
                      <a:pt x="1159" y="216"/>
                    </a:lnTo>
                    <a:lnTo>
                      <a:pt x="1159" y="221"/>
                    </a:lnTo>
                    <a:lnTo>
                      <a:pt x="1159" y="226"/>
                    </a:lnTo>
                    <a:lnTo>
                      <a:pt x="1159" y="229"/>
                    </a:lnTo>
                    <a:lnTo>
                      <a:pt x="1159" y="234"/>
                    </a:lnTo>
                    <a:lnTo>
                      <a:pt x="1159" y="239"/>
                    </a:lnTo>
                    <a:lnTo>
                      <a:pt x="1159" y="242"/>
                    </a:lnTo>
                    <a:lnTo>
                      <a:pt x="1163" y="242"/>
                    </a:lnTo>
                    <a:lnTo>
                      <a:pt x="1166" y="242"/>
                    </a:lnTo>
                    <a:lnTo>
                      <a:pt x="1170" y="247"/>
                    </a:lnTo>
                    <a:lnTo>
                      <a:pt x="1170" y="242"/>
                    </a:lnTo>
                    <a:lnTo>
                      <a:pt x="1175" y="242"/>
                    </a:lnTo>
                    <a:lnTo>
                      <a:pt x="1178" y="242"/>
                    </a:lnTo>
                    <a:lnTo>
                      <a:pt x="1182" y="242"/>
                    </a:lnTo>
                    <a:lnTo>
                      <a:pt x="1186" y="242"/>
                    </a:lnTo>
                    <a:lnTo>
                      <a:pt x="1189" y="242"/>
                    </a:lnTo>
                    <a:lnTo>
                      <a:pt x="1193" y="242"/>
                    </a:lnTo>
                    <a:lnTo>
                      <a:pt x="1193" y="252"/>
                    </a:lnTo>
                    <a:lnTo>
                      <a:pt x="1198" y="261"/>
                    </a:lnTo>
                    <a:lnTo>
                      <a:pt x="1201" y="265"/>
                    </a:lnTo>
                    <a:lnTo>
                      <a:pt x="1198" y="265"/>
                    </a:lnTo>
                    <a:lnTo>
                      <a:pt x="1193" y="265"/>
                    </a:lnTo>
                    <a:lnTo>
                      <a:pt x="1193" y="271"/>
                    </a:lnTo>
                    <a:lnTo>
                      <a:pt x="1198" y="271"/>
                    </a:lnTo>
                    <a:lnTo>
                      <a:pt x="1201" y="271"/>
                    </a:lnTo>
                    <a:lnTo>
                      <a:pt x="1201" y="276"/>
                    </a:lnTo>
                    <a:lnTo>
                      <a:pt x="1201" y="281"/>
                    </a:lnTo>
                    <a:lnTo>
                      <a:pt x="1198" y="285"/>
                    </a:lnTo>
                    <a:lnTo>
                      <a:pt x="1193" y="285"/>
                    </a:lnTo>
                    <a:lnTo>
                      <a:pt x="1193" y="289"/>
                    </a:lnTo>
                    <a:lnTo>
                      <a:pt x="1189" y="294"/>
                    </a:lnTo>
                    <a:lnTo>
                      <a:pt x="1186" y="294"/>
                    </a:lnTo>
                    <a:lnTo>
                      <a:pt x="1182" y="298"/>
                    </a:lnTo>
                    <a:lnTo>
                      <a:pt x="1178" y="298"/>
                    </a:lnTo>
                    <a:lnTo>
                      <a:pt x="1175" y="308"/>
                    </a:lnTo>
                    <a:lnTo>
                      <a:pt x="1175" y="311"/>
                    </a:lnTo>
                    <a:lnTo>
                      <a:pt x="1170" y="316"/>
                    </a:lnTo>
                    <a:lnTo>
                      <a:pt x="1166" y="316"/>
                    </a:lnTo>
                    <a:lnTo>
                      <a:pt x="1166" y="321"/>
                    </a:lnTo>
                    <a:lnTo>
                      <a:pt x="1163" y="321"/>
                    </a:lnTo>
                    <a:lnTo>
                      <a:pt x="1163" y="324"/>
                    </a:lnTo>
                    <a:lnTo>
                      <a:pt x="1159" y="334"/>
                    </a:lnTo>
                    <a:lnTo>
                      <a:pt x="1159" y="339"/>
                    </a:lnTo>
                    <a:lnTo>
                      <a:pt x="1159" y="345"/>
                    </a:lnTo>
                    <a:lnTo>
                      <a:pt x="1159" y="350"/>
                    </a:lnTo>
                    <a:lnTo>
                      <a:pt x="1163" y="350"/>
                    </a:lnTo>
                    <a:lnTo>
                      <a:pt x="1163" y="353"/>
                    </a:lnTo>
                    <a:lnTo>
                      <a:pt x="1166" y="358"/>
                    </a:lnTo>
                    <a:lnTo>
                      <a:pt x="1166" y="368"/>
                    </a:lnTo>
                    <a:lnTo>
                      <a:pt x="1166" y="376"/>
                    </a:lnTo>
                    <a:lnTo>
                      <a:pt x="1170" y="381"/>
                    </a:lnTo>
                    <a:lnTo>
                      <a:pt x="1178" y="381"/>
                    </a:lnTo>
                    <a:lnTo>
                      <a:pt x="1182" y="381"/>
                    </a:lnTo>
                    <a:lnTo>
                      <a:pt x="1189" y="381"/>
                    </a:lnTo>
                    <a:lnTo>
                      <a:pt x="1193" y="381"/>
                    </a:lnTo>
                    <a:lnTo>
                      <a:pt x="1201" y="385"/>
                    </a:lnTo>
                    <a:lnTo>
                      <a:pt x="1205" y="385"/>
                    </a:lnTo>
                    <a:lnTo>
                      <a:pt x="1209" y="385"/>
                    </a:lnTo>
                    <a:lnTo>
                      <a:pt x="1209" y="390"/>
                    </a:lnTo>
                    <a:lnTo>
                      <a:pt x="1212" y="390"/>
                    </a:lnTo>
                    <a:lnTo>
                      <a:pt x="1224" y="408"/>
                    </a:lnTo>
                    <a:lnTo>
                      <a:pt x="1228" y="411"/>
                    </a:lnTo>
                    <a:lnTo>
                      <a:pt x="1228" y="416"/>
                    </a:lnTo>
                    <a:lnTo>
                      <a:pt x="1228" y="423"/>
                    </a:lnTo>
                    <a:lnTo>
                      <a:pt x="1224" y="432"/>
                    </a:lnTo>
                    <a:lnTo>
                      <a:pt x="1228" y="432"/>
                    </a:lnTo>
                    <a:lnTo>
                      <a:pt x="1231" y="432"/>
                    </a:lnTo>
                    <a:lnTo>
                      <a:pt x="1231" y="437"/>
                    </a:lnTo>
                    <a:lnTo>
                      <a:pt x="1231" y="440"/>
                    </a:lnTo>
                    <a:lnTo>
                      <a:pt x="1228" y="445"/>
                    </a:lnTo>
                    <a:lnTo>
                      <a:pt x="1224" y="453"/>
                    </a:lnTo>
                    <a:lnTo>
                      <a:pt x="1221" y="458"/>
                    </a:lnTo>
                    <a:lnTo>
                      <a:pt x="1224" y="458"/>
                    </a:lnTo>
                    <a:lnTo>
                      <a:pt x="1228" y="463"/>
                    </a:lnTo>
                    <a:lnTo>
                      <a:pt x="1237" y="467"/>
                    </a:lnTo>
                    <a:lnTo>
                      <a:pt x="1237" y="472"/>
                    </a:lnTo>
                    <a:lnTo>
                      <a:pt x="1241" y="476"/>
                    </a:lnTo>
                    <a:lnTo>
                      <a:pt x="1245" y="476"/>
                    </a:lnTo>
                    <a:lnTo>
                      <a:pt x="1250" y="481"/>
                    </a:lnTo>
                    <a:lnTo>
                      <a:pt x="1245" y="485"/>
                    </a:lnTo>
                    <a:lnTo>
                      <a:pt x="1241" y="494"/>
                    </a:lnTo>
                    <a:lnTo>
                      <a:pt x="1237" y="494"/>
                    </a:lnTo>
                    <a:lnTo>
                      <a:pt x="1237" y="500"/>
                    </a:lnTo>
                    <a:lnTo>
                      <a:pt x="1237" y="505"/>
                    </a:lnTo>
                    <a:lnTo>
                      <a:pt x="1237" y="510"/>
                    </a:lnTo>
                    <a:lnTo>
                      <a:pt x="1237" y="514"/>
                    </a:lnTo>
                    <a:lnTo>
                      <a:pt x="1241" y="514"/>
                    </a:lnTo>
                    <a:lnTo>
                      <a:pt x="1245" y="519"/>
                    </a:lnTo>
                    <a:lnTo>
                      <a:pt x="1250" y="519"/>
                    </a:lnTo>
                    <a:lnTo>
                      <a:pt x="1253" y="523"/>
                    </a:lnTo>
                    <a:lnTo>
                      <a:pt x="1250" y="527"/>
                    </a:lnTo>
                    <a:lnTo>
                      <a:pt x="1245" y="532"/>
                    </a:lnTo>
                    <a:lnTo>
                      <a:pt x="1245" y="537"/>
                    </a:lnTo>
                    <a:lnTo>
                      <a:pt x="1241" y="537"/>
                    </a:lnTo>
                    <a:lnTo>
                      <a:pt x="1237" y="540"/>
                    </a:lnTo>
                    <a:lnTo>
                      <a:pt x="1237" y="545"/>
                    </a:lnTo>
                    <a:lnTo>
                      <a:pt x="1237" y="550"/>
                    </a:lnTo>
                    <a:lnTo>
                      <a:pt x="1231" y="550"/>
                    </a:lnTo>
                    <a:lnTo>
                      <a:pt x="1228" y="550"/>
                    </a:lnTo>
                    <a:lnTo>
                      <a:pt x="1224" y="550"/>
                    </a:lnTo>
                    <a:lnTo>
                      <a:pt x="1224" y="554"/>
                    </a:lnTo>
                    <a:lnTo>
                      <a:pt x="1224" y="558"/>
                    </a:lnTo>
                    <a:lnTo>
                      <a:pt x="1221" y="567"/>
                    </a:lnTo>
                    <a:lnTo>
                      <a:pt x="1224" y="572"/>
                    </a:lnTo>
                    <a:lnTo>
                      <a:pt x="1228" y="579"/>
                    </a:lnTo>
                    <a:lnTo>
                      <a:pt x="1231" y="579"/>
                    </a:lnTo>
                    <a:lnTo>
                      <a:pt x="1231" y="582"/>
                    </a:lnTo>
                    <a:lnTo>
                      <a:pt x="1228" y="587"/>
                    </a:lnTo>
                    <a:lnTo>
                      <a:pt x="1228" y="592"/>
                    </a:lnTo>
                    <a:lnTo>
                      <a:pt x="1224" y="596"/>
                    </a:lnTo>
                    <a:lnTo>
                      <a:pt x="1224" y="601"/>
                    </a:lnTo>
                    <a:lnTo>
                      <a:pt x="1221" y="601"/>
                    </a:lnTo>
                    <a:lnTo>
                      <a:pt x="1217" y="605"/>
                    </a:lnTo>
                    <a:lnTo>
                      <a:pt x="1217" y="609"/>
                    </a:lnTo>
                    <a:lnTo>
                      <a:pt x="1212" y="609"/>
                    </a:lnTo>
                    <a:lnTo>
                      <a:pt x="1205" y="605"/>
                    </a:lnTo>
                    <a:lnTo>
                      <a:pt x="1201" y="605"/>
                    </a:lnTo>
                    <a:lnTo>
                      <a:pt x="1193" y="601"/>
                    </a:lnTo>
                    <a:lnTo>
                      <a:pt x="1182" y="601"/>
                    </a:lnTo>
                    <a:lnTo>
                      <a:pt x="1178" y="601"/>
                    </a:lnTo>
                    <a:lnTo>
                      <a:pt x="1175" y="587"/>
                    </a:lnTo>
                    <a:lnTo>
                      <a:pt x="1175" y="582"/>
                    </a:lnTo>
                    <a:lnTo>
                      <a:pt x="1170" y="582"/>
                    </a:lnTo>
                    <a:lnTo>
                      <a:pt x="1170" y="579"/>
                    </a:lnTo>
                    <a:lnTo>
                      <a:pt x="1170" y="582"/>
                    </a:lnTo>
                    <a:lnTo>
                      <a:pt x="1163" y="582"/>
                    </a:lnTo>
                    <a:lnTo>
                      <a:pt x="1163" y="587"/>
                    </a:lnTo>
                    <a:lnTo>
                      <a:pt x="1159" y="587"/>
                    </a:lnTo>
                    <a:lnTo>
                      <a:pt x="1156" y="592"/>
                    </a:lnTo>
                    <a:lnTo>
                      <a:pt x="1151" y="601"/>
                    </a:lnTo>
                    <a:lnTo>
                      <a:pt x="1146" y="601"/>
                    </a:lnTo>
                    <a:lnTo>
                      <a:pt x="1146" y="605"/>
                    </a:lnTo>
                    <a:lnTo>
                      <a:pt x="1141" y="609"/>
                    </a:lnTo>
                    <a:lnTo>
                      <a:pt x="1137" y="609"/>
                    </a:lnTo>
                    <a:lnTo>
                      <a:pt x="1134" y="619"/>
                    </a:lnTo>
                    <a:lnTo>
                      <a:pt x="1130" y="619"/>
                    </a:lnTo>
                    <a:lnTo>
                      <a:pt x="1122" y="619"/>
                    </a:lnTo>
                    <a:lnTo>
                      <a:pt x="1115" y="619"/>
                    </a:lnTo>
                    <a:lnTo>
                      <a:pt x="1111" y="619"/>
                    </a:lnTo>
                    <a:lnTo>
                      <a:pt x="1107" y="619"/>
                    </a:lnTo>
                    <a:lnTo>
                      <a:pt x="1104" y="623"/>
                    </a:lnTo>
                    <a:lnTo>
                      <a:pt x="1099" y="627"/>
                    </a:lnTo>
                    <a:lnTo>
                      <a:pt x="1095" y="632"/>
                    </a:lnTo>
                    <a:lnTo>
                      <a:pt x="1095" y="637"/>
                    </a:lnTo>
                    <a:lnTo>
                      <a:pt x="1095" y="640"/>
                    </a:lnTo>
                    <a:lnTo>
                      <a:pt x="1095" y="645"/>
                    </a:lnTo>
                    <a:lnTo>
                      <a:pt x="1092" y="645"/>
                    </a:lnTo>
                    <a:lnTo>
                      <a:pt x="1092" y="650"/>
                    </a:lnTo>
                    <a:lnTo>
                      <a:pt x="1088" y="656"/>
                    </a:lnTo>
                    <a:lnTo>
                      <a:pt x="1088" y="661"/>
                    </a:lnTo>
                    <a:lnTo>
                      <a:pt x="1084" y="666"/>
                    </a:lnTo>
                    <a:lnTo>
                      <a:pt x="1080" y="666"/>
                    </a:lnTo>
                    <a:lnTo>
                      <a:pt x="1080" y="669"/>
                    </a:lnTo>
                    <a:lnTo>
                      <a:pt x="1080" y="674"/>
                    </a:lnTo>
                    <a:lnTo>
                      <a:pt x="1076" y="674"/>
                    </a:lnTo>
                    <a:lnTo>
                      <a:pt x="1072" y="679"/>
                    </a:lnTo>
                    <a:lnTo>
                      <a:pt x="1072" y="683"/>
                    </a:lnTo>
                    <a:lnTo>
                      <a:pt x="1072" y="687"/>
                    </a:lnTo>
                    <a:lnTo>
                      <a:pt x="1069" y="687"/>
                    </a:lnTo>
                    <a:lnTo>
                      <a:pt x="1069" y="692"/>
                    </a:lnTo>
                    <a:lnTo>
                      <a:pt x="1069" y="696"/>
                    </a:lnTo>
                    <a:lnTo>
                      <a:pt x="1069" y="701"/>
                    </a:lnTo>
                    <a:lnTo>
                      <a:pt x="1072" y="701"/>
                    </a:lnTo>
                    <a:lnTo>
                      <a:pt x="1080" y="701"/>
                    </a:lnTo>
                    <a:lnTo>
                      <a:pt x="1080" y="705"/>
                    </a:lnTo>
                    <a:lnTo>
                      <a:pt x="1084" y="705"/>
                    </a:lnTo>
                    <a:lnTo>
                      <a:pt x="1088" y="705"/>
                    </a:lnTo>
                    <a:lnTo>
                      <a:pt x="1092" y="705"/>
                    </a:lnTo>
                    <a:lnTo>
                      <a:pt x="1092" y="709"/>
                    </a:lnTo>
                    <a:lnTo>
                      <a:pt x="1092" y="714"/>
                    </a:lnTo>
                    <a:lnTo>
                      <a:pt x="1092" y="719"/>
                    </a:lnTo>
                    <a:lnTo>
                      <a:pt x="1092" y="722"/>
                    </a:lnTo>
                    <a:lnTo>
                      <a:pt x="1095" y="722"/>
                    </a:lnTo>
                    <a:lnTo>
                      <a:pt x="1095" y="727"/>
                    </a:lnTo>
                    <a:lnTo>
                      <a:pt x="1099" y="727"/>
                    </a:lnTo>
                    <a:lnTo>
                      <a:pt x="1104" y="727"/>
                    </a:lnTo>
                    <a:lnTo>
                      <a:pt x="1104" y="734"/>
                    </a:lnTo>
                    <a:lnTo>
                      <a:pt x="1107" y="734"/>
                    </a:lnTo>
                    <a:lnTo>
                      <a:pt x="1107" y="738"/>
                    </a:lnTo>
                    <a:lnTo>
                      <a:pt x="1115" y="738"/>
                    </a:lnTo>
                    <a:lnTo>
                      <a:pt x="1115" y="743"/>
                    </a:lnTo>
                    <a:lnTo>
                      <a:pt x="1118" y="748"/>
                    </a:lnTo>
                    <a:lnTo>
                      <a:pt x="1122" y="751"/>
                    </a:lnTo>
                    <a:lnTo>
                      <a:pt x="1118" y="756"/>
                    </a:lnTo>
                    <a:lnTo>
                      <a:pt x="1115" y="756"/>
                    </a:lnTo>
                    <a:lnTo>
                      <a:pt x="1111" y="756"/>
                    </a:lnTo>
                    <a:lnTo>
                      <a:pt x="1107" y="761"/>
                    </a:lnTo>
                    <a:lnTo>
                      <a:pt x="1104" y="766"/>
                    </a:lnTo>
                    <a:lnTo>
                      <a:pt x="1099" y="769"/>
                    </a:lnTo>
                    <a:lnTo>
                      <a:pt x="1095" y="769"/>
                    </a:lnTo>
                    <a:lnTo>
                      <a:pt x="1092" y="769"/>
                    </a:lnTo>
                    <a:lnTo>
                      <a:pt x="1092" y="774"/>
                    </a:lnTo>
                    <a:lnTo>
                      <a:pt x="1088" y="779"/>
                    </a:lnTo>
                    <a:lnTo>
                      <a:pt x="1092" y="779"/>
                    </a:lnTo>
                    <a:lnTo>
                      <a:pt x="1092" y="783"/>
                    </a:lnTo>
                    <a:lnTo>
                      <a:pt x="1092" y="787"/>
                    </a:lnTo>
                    <a:lnTo>
                      <a:pt x="1095" y="787"/>
                    </a:lnTo>
                    <a:lnTo>
                      <a:pt x="1095" y="792"/>
                    </a:lnTo>
                    <a:lnTo>
                      <a:pt x="1095" y="796"/>
                    </a:lnTo>
                    <a:lnTo>
                      <a:pt x="1099" y="796"/>
                    </a:lnTo>
                    <a:lnTo>
                      <a:pt x="1104" y="796"/>
                    </a:lnTo>
                    <a:lnTo>
                      <a:pt x="1107" y="801"/>
                    </a:lnTo>
                    <a:lnTo>
                      <a:pt x="1111" y="801"/>
                    </a:lnTo>
                    <a:lnTo>
                      <a:pt x="1115" y="801"/>
                    </a:lnTo>
                    <a:lnTo>
                      <a:pt x="1115" y="808"/>
                    </a:lnTo>
                    <a:lnTo>
                      <a:pt x="1111" y="812"/>
                    </a:lnTo>
                    <a:lnTo>
                      <a:pt x="1107" y="816"/>
                    </a:lnTo>
                    <a:lnTo>
                      <a:pt x="1107" y="821"/>
                    </a:lnTo>
                    <a:lnTo>
                      <a:pt x="1107" y="825"/>
                    </a:lnTo>
                    <a:lnTo>
                      <a:pt x="1111" y="825"/>
                    </a:lnTo>
                    <a:lnTo>
                      <a:pt x="1115" y="825"/>
                    </a:lnTo>
                    <a:lnTo>
                      <a:pt x="1115" y="830"/>
                    </a:lnTo>
                    <a:lnTo>
                      <a:pt x="1115" y="834"/>
                    </a:lnTo>
                    <a:lnTo>
                      <a:pt x="1115" y="838"/>
                    </a:lnTo>
                    <a:lnTo>
                      <a:pt x="1115" y="843"/>
                    </a:lnTo>
                    <a:lnTo>
                      <a:pt x="1118" y="843"/>
                    </a:lnTo>
                    <a:lnTo>
                      <a:pt x="1118" y="848"/>
                    </a:lnTo>
                    <a:lnTo>
                      <a:pt x="1122" y="848"/>
                    </a:lnTo>
                    <a:lnTo>
                      <a:pt x="1122" y="851"/>
                    </a:lnTo>
                    <a:lnTo>
                      <a:pt x="1127" y="861"/>
                    </a:lnTo>
                    <a:lnTo>
                      <a:pt x="1130" y="861"/>
                    </a:lnTo>
                    <a:lnTo>
                      <a:pt x="1130" y="865"/>
                    </a:lnTo>
                    <a:lnTo>
                      <a:pt x="1130" y="869"/>
                    </a:lnTo>
                    <a:lnTo>
                      <a:pt x="1134" y="869"/>
                    </a:lnTo>
                    <a:lnTo>
                      <a:pt x="1134" y="874"/>
                    </a:lnTo>
                    <a:lnTo>
                      <a:pt x="1134" y="879"/>
                    </a:lnTo>
                    <a:lnTo>
                      <a:pt x="1130" y="879"/>
                    </a:lnTo>
                    <a:lnTo>
                      <a:pt x="1130" y="885"/>
                    </a:lnTo>
                    <a:lnTo>
                      <a:pt x="1130" y="890"/>
                    </a:lnTo>
                    <a:lnTo>
                      <a:pt x="1134" y="890"/>
                    </a:lnTo>
                    <a:lnTo>
                      <a:pt x="1134" y="894"/>
                    </a:lnTo>
                    <a:lnTo>
                      <a:pt x="1130" y="894"/>
                    </a:lnTo>
                    <a:lnTo>
                      <a:pt x="1127" y="894"/>
                    </a:lnTo>
                    <a:lnTo>
                      <a:pt x="1122" y="890"/>
                    </a:lnTo>
                    <a:lnTo>
                      <a:pt x="1118" y="890"/>
                    </a:lnTo>
                    <a:lnTo>
                      <a:pt x="1118" y="894"/>
                    </a:lnTo>
                    <a:lnTo>
                      <a:pt x="1115" y="898"/>
                    </a:lnTo>
                    <a:lnTo>
                      <a:pt x="1118" y="898"/>
                    </a:lnTo>
                    <a:lnTo>
                      <a:pt x="1122" y="898"/>
                    </a:lnTo>
                    <a:lnTo>
                      <a:pt x="1122" y="903"/>
                    </a:lnTo>
                    <a:lnTo>
                      <a:pt x="1118" y="903"/>
                    </a:lnTo>
                    <a:lnTo>
                      <a:pt x="1115" y="903"/>
                    </a:lnTo>
                    <a:lnTo>
                      <a:pt x="1115" y="908"/>
                    </a:lnTo>
                    <a:lnTo>
                      <a:pt x="1115" y="912"/>
                    </a:lnTo>
                    <a:lnTo>
                      <a:pt x="1111" y="912"/>
                    </a:lnTo>
                    <a:lnTo>
                      <a:pt x="1107" y="912"/>
                    </a:lnTo>
                    <a:lnTo>
                      <a:pt x="1104" y="912"/>
                    </a:lnTo>
                    <a:lnTo>
                      <a:pt x="1104" y="921"/>
                    </a:lnTo>
                    <a:lnTo>
                      <a:pt x="1099" y="921"/>
                    </a:lnTo>
                    <a:lnTo>
                      <a:pt x="1099" y="925"/>
                    </a:lnTo>
                    <a:lnTo>
                      <a:pt x="1095" y="930"/>
                    </a:lnTo>
                    <a:lnTo>
                      <a:pt x="1095" y="935"/>
                    </a:lnTo>
                    <a:lnTo>
                      <a:pt x="1095" y="938"/>
                    </a:lnTo>
                    <a:lnTo>
                      <a:pt x="1092" y="943"/>
                    </a:lnTo>
                    <a:lnTo>
                      <a:pt x="1095" y="943"/>
                    </a:lnTo>
                    <a:lnTo>
                      <a:pt x="1095" y="948"/>
                    </a:lnTo>
                    <a:lnTo>
                      <a:pt x="1104" y="951"/>
                    </a:lnTo>
                    <a:lnTo>
                      <a:pt x="1104" y="956"/>
                    </a:lnTo>
                    <a:lnTo>
                      <a:pt x="1104" y="963"/>
                    </a:lnTo>
                    <a:lnTo>
                      <a:pt x="1107" y="967"/>
                    </a:lnTo>
                    <a:lnTo>
                      <a:pt x="1111" y="967"/>
                    </a:lnTo>
                    <a:lnTo>
                      <a:pt x="1115" y="967"/>
                    </a:lnTo>
                    <a:lnTo>
                      <a:pt x="1115" y="972"/>
                    </a:lnTo>
                    <a:lnTo>
                      <a:pt x="1118" y="972"/>
                    </a:lnTo>
                    <a:lnTo>
                      <a:pt x="1122" y="972"/>
                    </a:lnTo>
                    <a:lnTo>
                      <a:pt x="1122" y="977"/>
                    </a:lnTo>
                    <a:lnTo>
                      <a:pt x="1127" y="980"/>
                    </a:lnTo>
                    <a:lnTo>
                      <a:pt x="1122" y="980"/>
                    </a:lnTo>
                    <a:lnTo>
                      <a:pt x="1122" y="985"/>
                    </a:lnTo>
                    <a:lnTo>
                      <a:pt x="1122" y="990"/>
                    </a:lnTo>
                    <a:lnTo>
                      <a:pt x="1122" y="994"/>
                    </a:lnTo>
                    <a:lnTo>
                      <a:pt x="1118" y="994"/>
                    </a:lnTo>
                    <a:lnTo>
                      <a:pt x="1118" y="998"/>
                    </a:lnTo>
                    <a:lnTo>
                      <a:pt x="1118" y="1003"/>
                    </a:lnTo>
                    <a:lnTo>
                      <a:pt x="1122" y="1003"/>
                    </a:lnTo>
                    <a:lnTo>
                      <a:pt x="1122" y="1007"/>
                    </a:lnTo>
                    <a:lnTo>
                      <a:pt x="1118" y="1007"/>
                    </a:lnTo>
                    <a:lnTo>
                      <a:pt x="1115" y="1007"/>
                    </a:lnTo>
                    <a:lnTo>
                      <a:pt x="1107" y="1007"/>
                    </a:lnTo>
                    <a:lnTo>
                      <a:pt x="1107" y="1012"/>
                    </a:lnTo>
                    <a:lnTo>
                      <a:pt x="1104" y="1012"/>
                    </a:lnTo>
                    <a:lnTo>
                      <a:pt x="1107" y="1012"/>
                    </a:lnTo>
                    <a:lnTo>
                      <a:pt x="1104" y="1016"/>
                    </a:lnTo>
                    <a:lnTo>
                      <a:pt x="1104" y="1021"/>
                    </a:lnTo>
                    <a:lnTo>
                      <a:pt x="1099" y="1016"/>
                    </a:lnTo>
                    <a:lnTo>
                      <a:pt x="1095" y="1016"/>
                    </a:lnTo>
                    <a:lnTo>
                      <a:pt x="1095" y="1021"/>
                    </a:lnTo>
                    <a:lnTo>
                      <a:pt x="1092" y="1021"/>
                    </a:lnTo>
                    <a:lnTo>
                      <a:pt x="1088" y="1021"/>
                    </a:lnTo>
                    <a:lnTo>
                      <a:pt x="1084" y="1021"/>
                    </a:lnTo>
                    <a:lnTo>
                      <a:pt x="1080" y="1021"/>
                    </a:lnTo>
                    <a:lnTo>
                      <a:pt x="1072" y="1025"/>
                    </a:lnTo>
                    <a:lnTo>
                      <a:pt x="1072" y="1030"/>
                    </a:lnTo>
                    <a:lnTo>
                      <a:pt x="1069" y="1030"/>
                    </a:lnTo>
                    <a:lnTo>
                      <a:pt x="1069" y="1035"/>
                    </a:lnTo>
                    <a:lnTo>
                      <a:pt x="1065" y="1035"/>
                    </a:lnTo>
                    <a:lnTo>
                      <a:pt x="1060" y="1035"/>
                    </a:lnTo>
                    <a:lnTo>
                      <a:pt x="1055" y="1035"/>
                    </a:lnTo>
                    <a:lnTo>
                      <a:pt x="1051" y="1035"/>
                    </a:lnTo>
                    <a:lnTo>
                      <a:pt x="1047" y="1035"/>
                    </a:lnTo>
                    <a:lnTo>
                      <a:pt x="1043" y="1035"/>
                    </a:lnTo>
                    <a:lnTo>
                      <a:pt x="1040" y="1035"/>
                    </a:lnTo>
                    <a:lnTo>
                      <a:pt x="1036" y="1035"/>
                    </a:lnTo>
                    <a:lnTo>
                      <a:pt x="1036" y="1041"/>
                    </a:lnTo>
                    <a:lnTo>
                      <a:pt x="1033" y="1041"/>
                    </a:lnTo>
                    <a:lnTo>
                      <a:pt x="1033" y="1035"/>
                    </a:lnTo>
                    <a:lnTo>
                      <a:pt x="1028" y="1035"/>
                    </a:lnTo>
                    <a:lnTo>
                      <a:pt x="1024" y="1035"/>
                    </a:lnTo>
                    <a:lnTo>
                      <a:pt x="1020" y="1035"/>
                    </a:lnTo>
                    <a:lnTo>
                      <a:pt x="1020" y="1041"/>
                    </a:lnTo>
                    <a:lnTo>
                      <a:pt x="1017" y="1041"/>
                    </a:lnTo>
                    <a:lnTo>
                      <a:pt x="1013" y="1045"/>
                    </a:lnTo>
                    <a:lnTo>
                      <a:pt x="1008" y="1049"/>
                    </a:lnTo>
                    <a:lnTo>
                      <a:pt x="1005" y="1049"/>
                    </a:lnTo>
                    <a:lnTo>
                      <a:pt x="1001" y="1054"/>
                    </a:lnTo>
                    <a:lnTo>
                      <a:pt x="1001" y="1059"/>
                    </a:lnTo>
                    <a:lnTo>
                      <a:pt x="998" y="1059"/>
                    </a:lnTo>
                    <a:lnTo>
                      <a:pt x="994" y="1059"/>
                    </a:lnTo>
                    <a:lnTo>
                      <a:pt x="994" y="1064"/>
                    </a:lnTo>
                    <a:lnTo>
                      <a:pt x="989" y="1064"/>
                    </a:lnTo>
                    <a:lnTo>
                      <a:pt x="989" y="1067"/>
                    </a:lnTo>
                    <a:lnTo>
                      <a:pt x="985" y="1067"/>
                    </a:lnTo>
                    <a:lnTo>
                      <a:pt x="982" y="1067"/>
                    </a:lnTo>
                    <a:lnTo>
                      <a:pt x="982" y="1072"/>
                    </a:lnTo>
                    <a:lnTo>
                      <a:pt x="978" y="1072"/>
                    </a:lnTo>
                    <a:lnTo>
                      <a:pt x="971" y="1077"/>
                    </a:lnTo>
                    <a:lnTo>
                      <a:pt x="965" y="1077"/>
                    </a:lnTo>
                    <a:lnTo>
                      <a:pt x="965" y="1072"/>
                    </a:lnTo>
                    <a:lnTo>
                      <a:pt x="971" y="1072"/>
                    </a:lnTo>
                    <a:lnTo>
                      <a:pt x="971" y="1067"/>
                    </a:lnTo>
                    <a:lnTo>
                      <a:pt x="965" y="1067"/>
                    </a:lnTo>
                    <a:lnTo>
                      <a:pt x="965" y="1064"/>
                    </a:lnTo>
                    <a:lnTo>
                      <a:pt x="961" y="1064"/>
                    </a:lnTo>
                    <a:lnTo>
                      <a:pt x="957" y="1064"/>
                    </a:lnTo>
                    <a:lnTo>
                      <a:pt x="953" y="1067"/>
                    </a:lnTo>
                    <a:lnTo>
                      <a:pt x="949" y="1067"/>
                    </a:lnTo>
                    <a:lnTo>
                      <a:pt x="946" y="1067"/>
                    </a:lnTo>
                    <a:lnTo>
                      <a:pt x="942" y="1067"/>
                    </a:lnTo>
                    <a:lnTo>
                      <a:pt x="942" y="1064"/>
                    </a:lnTo>
                    <a:lnTo>
                      <a:pt x="937" y="1059"/>
                    </a:lnTo>
                    <a:lnTo>
                      <a:pt x="937" y="1064"/>
                    </a:lnTo>
                    <a:lnTo>
                      <a:pt x="934" y="1064"/>
                    </a:lnTo>
                    <a:lnTo>
                      <a:pt x="930" y="1064"/>
                    </a:lnTo>
                    <a:lnTo>
                      <a:pt x="926" y="1067"/>
                    </a:lnTo>
                    <a:lnTo>
                      <a:pt x="923" y="1067"/>
                    </a:lnTo>
                    <a:lnTo>
                      <a:pt x="919" y="1067"/>
                    </a:lnTo>
                    <a:lnTo>
                      <a:pt x="919" y="1072"/>
                    </a:lnTo>
                    <a:lnTo>
                      <a:pt x="914" y="1072"/>
                    </a:lnTo>
                    <a:lnTo>
                      <a:pt x="911" y="1072"/>
                    </a:lnTo>
                    <a:lnTo>
                      <a:pt x="907" y="1072"/>
                    </a:lnTo>
                    <a:lnTo>
                      <a:pt x="903" y="1072"/>
                    </a:lnTo>
                    <a:lnTo>
                      <a:pt x="900" y="1077"/>
                    </a:lnTo>
                    <a:lnTo>
                      <a:pt x="895" y="1080"/>
                    </a:lnTo>
                    <a:lnTo>
                      <a:pt x="891" y="1080"/>
                    </a:lnTo>
                    <a:lnTo>
                      <a:pt x="891" y="1085"/>
                    </a:lnTo>
                    <a:lnTo>
                      <a:pt x="888" y="1085"/>
                    </a:lnTo>
                    <a:lnTo>
                      <a:pt x="884" y="1085"/>
                    </a:lnTo>
                    <a:lnTo>
                      <a:pt x="878" y="1085"/>
                    </a:lnTo>
                    <a:lnTo>
                      <a:pt x="878" y="1080"/>
                    </a:lnTo>
                    <a:lnTo>
                      <a:pt x="875" y="1080"/>
                    </a:lnTo>
                    <a:lnTo>
                      <a:pt x="871" y="1077"/>
                    </a:lnTo>
                    <a:lnTo>
                      <a:pt x="866" y="1072"/>
                    </a:lnTo>
                    <a:lnTo>
                      <a:pt x="866" y="1067"/>
                    </a:lnTo>
                    <a:lnTo>
                      <a:pt x="862" y="1067"/>
                    </a:lnTo>
                    <a:lnTo>
                      <a:pt x="862" y="1064"/>
                    </a:lnTo>
                    <a:lnTo>
                      <a:pt x="859" y="1064"/>
                    </a:lnTo>
                    <a:lnTo>
                      <a:pt x="855" y="1064"/>
                    </a:lnTo>
                    <a:lnTo>
                      <a:pt x="852" y="1064"/>
                    </a:lnTo>
                    <a:lnTo>
                      <a:pt x="848" y="1067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  <a:effectLst>
                <a:outerShdw dist="17819" dir="2700000" blurRad="0" rotWithShape="0">
                  <a:srgbClr val="1e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>
              <a:off x="468360" y="1341360"/>
              <a:ext cx="1582560" cy="647640"/>
            </a:xfrm>
            <a:custGeom>
              <a:avLst/>
              <a:gdLst>
                <a:gd name="textAreaLeft" fmla="*/ 360 w 1582560"/>
                <a:gd name="textAreaRight" fmla="*/ 1583280 w 15825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13" y="10853"/>
                  </a:moveTo>
                  <a:arcTo wR="-8687" hR="-8687" stAng="10779026" swAng="-9522947"/>
                  <a:lnTo>
                    <a:pt x="713" y="6941"/>
                  </a:lnTo>
                  <a:arcTo wR="10800" hR="10800" stAng="-9543921" swAng="9522947"/>
                  <a:lnTo>
                    <a:pt x="24300" y="10718"/>
                  </a:lnTo>
                  <a:lnTo>
                    <a:pt x="20566" y="14497"/>
                  </a:lnTo>
                  <a:lnTo>
                    <a:pt x="16787" y="10763"/>
                  </a:lnTo>
                  <a:close/>
                </a:path>
              </a:pathLst>
            </a:custGeom>
            <a:solidFill>
              <a:srgbClr val="00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63640" y="1485720"/>
              <a:ext cx="935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a50021"/>
                  </a:solidFill>
                  <a:latin typeface="Times New Roman"/>
                </a:rPr>
                <a:t>Sebo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084720" y="5013360"/>
            <a:ext cx="3059280" cy="184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0" y="5013360"/>
            <a:ext cx="2484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89400" y="9000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Goudy Stout"/>
              </a:rPr>
              <a:t>MERCI DE VOTRE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03360" y="611676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pperplate Gothic Bold"/>
              </a:rPr>
              <a:t>VISITEZ  la VILLE  DE  F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5184720" cy="3673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300720" y="1989000"/>
            <a:ext cx="2665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156600" y="1724040"/>
            <a:ext cx="58824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cteur de l’eau po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Ressources mobilisées : 3940 l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- eau souterraine = 2340 l/s  (6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- eau de surface  = 1600 l/s  (4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soin actuel = 2190 l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aux de branchement = 9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981000"/>
            <a:ext cx="64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816520" y="2590920"/>
            <a:ext cx="27162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4428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7640" y="98100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0" y="1557360"/>
            <a:ext cx="7137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cteur de l’assainiss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linéaire réseau d’assainissement =  170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Taux de raccordement = 95%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(100 % en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harge pollua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3500280"/>
          <a:ext cx="5976720" cy="2195640"/>
        </p:xfrm>
        <a:graphic>
          <a:graphicData uri="http://schemas.openxmlformats.org/drawingml/2006/table">
            <a:tbl>
              <a:tblPr/>
              <a:tblGrid>
                <a:gridCol w="2665440"/>
                <a:gridCol w="1726920"/>
                <a:gridCol w="15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 (l/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BO5 (t/j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ivalent habit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45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15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580000" y="5734080"/>
            <a:ext cx="574560" cy="503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219280" y="5734080"/>
            <a:ext cx="360360" cy="503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54320" y="62373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50% dom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34600" y="62373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0% ind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443640" y="3429000"/>
            <a:ext cx="255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2772000" cy="2122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30360" y="1830240"/>
            <a:ext cx="61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tat de la qualité de l’oued Seb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79280" y="2349360"/>
            <a:ext cx="5976720" cy="4103640"/>
            <a:chOff x="179280" y="2349360"/>
            <a:chExt cx="5976720" cy="410364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179280" y="2349360"/>
              <a:ext cx="59767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812320" y="3845880"/>
              <a:ext cx="1083240" cy="80892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38040" y="1844640"/>
            <a:ext cx="66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jet de dépollution des eaux us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492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ahoma"/>
              </a:rPr>
              <a:t>1- Station d’épuration urb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4997520"/>
            <a:ext cx="29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émarrage des trava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ise en serv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ébut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619280" y="2997360"/>
            <a:ext cx="4537080" cy="340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3357720"/>
            <a:ext cx="183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Site 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- 2010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0920" y="2924280"/>
            <a:ext cx="1728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Site 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2006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3573360"/>
            <a:ext cx="1008000" cy="935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87640" y="3141720"/>
            <a:ext cx="2089080" cy="287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773360"/>
            <a:ext cx="6480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ût STEP (site B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0 M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finance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    ’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vention Eta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3     ’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vention ABH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3     ’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êt AF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    ’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êt AF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    ’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240" y="4075200"/>
            <a:ext cx="837972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cc"/>
                </a:solidFill>
                <a:latin typeface="Tahoma"/>
              </a:rPr>
              <a:t>2- Dépollution industri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mbre total d’unités (moderne et traditionnelle) : 1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llution générée : 656.000 Eqh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oût : 5 M $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inancement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FODEP   :  40 %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* industriel   :  4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ABHS      :  20%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* RADEEF   :  études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9160" y="2900520"/>
            <a:ext cx="87818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ahoma"/>
              </a:rPr>
              <a:t>Tarif de l’e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  <a:ea typeface="Arial"/>
              </a:rPr>
              <a:t>tarif actuel : 0,2 à 0,9 USD/m3, dont  0.15 USD pour assain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  <a:ea typeface="Arial"/>
              </a:rPr>
              <a:t>augmentation taxe assainissement :  </a:t>
            </a:r>
            <a:r>
              <a:rPr b="1" lang="fr-FR" sz="2000" spc="-1" strike="noStrike">
                <a:solidFill>
                  <a:srgbClr val="ccffff"/>
                </a:solidFill>
                <a:latin typeface="Tahoma"/>
                <a:ea typeface="Arial"/>
              </a:rPr>
              <a:t>0,15 à 0,30 U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1557360"/>
            <a:ext cx="38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f de la qua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6553080" cy="1971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340000" y="4508640"/>
            <a:ext cx="6580080" cy="21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4360" y="4724280"/>
            <a:ext cx="212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après ép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133720"/>
            <a:ext cx="201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avant ép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man Old Style"/>
              </a:rPr>
              <a:t>FIGHTING POVERTY THROUGH WASTEWATER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Script MT Bold"/>
              </a:rPr>
              <a:t>Cas de la ville de Fè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160" cy="838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9280" y="4581360"/>
            <a:ext cx="8888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 2005-2006, le volume lâché :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35 Mm3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soit pour irriguer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5000 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33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0000" y="5057640"/>
            <a:ext cx="772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urer production eau potable en continu en aval ville de Fè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iser lâchers à partir des barra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onner vie à la faune le long de l’oued ( 200 K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45440" y="0"/>
            <a:ext cx="898560" cy="907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1773360"/>
            <a:ext cx="87138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tombées positives du traitement des eaux usé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amélioration conditions sanitaires    ( 1 MUSD/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- réduction mortalité                        ( 13 MUS$/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- développement agricole                 ( 3 MUSD/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- éviter surcoût eau potable              ( 3 MUS$/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  <a:ea typeface="Arial"/>
              </a:rPr>
              <a:t>Total      :   20  MUS$/a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9:23:50Z</dcterms:created>
  <dc:creator>POSTE1</dc:creator>
  <dc:description/>
  <dc:language>en-US</dc:language>
  <cp:lastModifiedBy>aziz</cp:lastModifiedBy>
  <dcterms:modified xsi:type="dcterms:W3CDTF">2006-03-13T10:46:50Z</dcterms:modified>
  <cp:revision>26</cp:revision>
  <dc:subject/>
  <dc:title>WATER MANAGEMENT TO FIGHT POVERTY</dc:title>
</cp:coreProperties>
</file>