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2A9C-2F8A-42D9-B5B7-D39402E7B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D4E4-37B2-4248-AB78-6EC8F978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AEC9-A3BD-4FB3-8580-1165F44CC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FC5D-8727-4ED4-A10D-BE058F440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8461-1F5D-4E26-B169-FEB794BE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6E75-1142-4A53-95C2-4BE9276C4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F067-41CC-4206-8AB6-0F8D129B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4319-990C-4BC8-8357-0A792DDB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9A2D-643D-466A-A260-CFEDC490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0654-6086-41B8-B8B3-F1AF82B9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AF2F-B0ED-425C-95ED-0C5CB42A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3077-EA82-44B6-84B0-029F8A64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9290-FAE4-4C83-9A0E-78B09D6C9CC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19400" y="-14400"/>
            <a:ext cx="45846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340000" y="12600"/>
            <a:ext cx="456552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411280" y="12600"/>
            <a:ext cx="456588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40000" y="12600"/>
            <a:ext cx="456552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706840" y="12600"/>
            <a:ext cx="456552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706840" y="12600"/>
            <a:ext cx="456552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11280" y="12600"/>
            <a:ext cx="456588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706840" y="12600"/>
            <a:ext cx="456552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706840" y="12600"/>
            <a:ext cx="456552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56000" y="12600"/>
            <a:ext cx="456552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706840" y="12600"/>
            <a:ext cx="456552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411280" y="12600"/>
            <a:ext cx="456588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09:11:33Z</dcterms:created>
  <dc:creator>Gerard Velou</dc:creator>
  <dc:description/>
  <dc:language>en-US</dc:language>
  <cp:lastModifiedBy>Gerard Velou</cp:lastModifiedBy>
  <dcterms:modified xsi:type="dcterms:W3CDTF">2006-03-17T10:37:34Z</dcterms:modified>
  <cp:revision>2</cp:revision>
  <dc:subject/>
  <dc:title>Diapositive 1</dc:title>
</cp:coreProperties>
</file>