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D42-B8A5-47C0-9536-5BA9945B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DD5-DA16-405B-8B69-17F5B227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BF6-E797-4317-8617-3908E25A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8C6-D3A1-41D0-8FF6-EA94AC2A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9B4-F745-44B6-B1E8-5A12F840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838-08D1-408D-8A5C-864D8D7E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162-E64E-465D-9E24-502BF186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49A-DF0B-40B0-82B1-8B0BF93A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B8F-8379-4EDD-B930-EF0EB15F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649-1823-463A-9454-36629D51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D9B-5902-4816-9B3E-434016C0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3D6-DEAF-412C-8F27-7F9887BB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D94B-3A86-4DCC-98FE-C7F87C95ED3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19400" y="-14400"/>
            <a:ext cx="45846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2600"/>
            <a:ext cx="45658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4000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684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684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11280" y="12600"/>
            <a:ext cx="45658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0684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684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5600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0684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11280" y="12600"/>
            <a:ext cx="45658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9:11:33Z</dcterms:created>
  <dc:creator>Gerard Velou</dc:creator>
  <dc:description/>
  <dc:language>en-US</dc:language>
  <cp:lastModifiedBy>Gerard Velou</cp:lastModifiedBy>
  <dcterms:modified xsi:type="dcterms:W3CDTF">2006-03-17T10:37:34Z</dcterms:modified>
  <cp:revision>2</cp:revision>
  <dc:subject/>
  <dc:title>Diapositive 1</dc:title>
</cp:coreProperties>
</file>