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E8D6-27DE-455C-B860-592A562E9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72B7-AB93-4720-B2B1-09B7EBFCAC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8B24-AF0F-44E0-94EA-3F119C061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7462-E88E-4FE7-B68A-A90832A6A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0DCE-E7AC-49D8-97D3-B9AA68B36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C135-1F23-4EC2-B6F0-4B0235C9C5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F24F-7314-4CCF-B1B0-373D6E65E3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B8A0-1FAC-44C5-8301-4E0B5AACC0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9285-4D7E-4136-AA1D-7B8952600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FE39-50F7-47A4-A489-C6C4B68169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CCA9-D0F1-4CA5-AC5A-3953A448C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AE18-5B74-44CE-84A9-0585AD71AA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2F77-750B-4E23-9965-60EF26ADAA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0B77-5EB5-4C69-AAC2-AF1C0336A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FEBB-678F-4978-8827-F6603826EE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58A0-D489-411C-8267-D7C4A855F2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ADB57-CD89-4CA1-BC7A-136BCC626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D944-B7DD-4730-8BFD-7F3B91FD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C48B3-09F9-4D6B-90A6-B0C5D24C2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5CCBC-798A-4EA7-B276-F953FFC48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FA23-9D00-464D-9FC7-8A895684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A634-7B38-4FB1-9F3F-BCEA5106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821D-7F0B-410E-9F0A-FCDD0735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A9C1-8999-4180-BA20-5CB594A9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4C12-5B25-470A-ABAD-4790EBDD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AF73-1671-4073-8E3A-38D3F2ECD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1C3A-76FC-494D-B7F0-1C71E0944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626A-436E-4EBE-84C5-EFDECCFC0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B725-B95A-422D-909E-9FEFE23237A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seau.or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14476" t="0" r="10361" b="0"/>
          <a:stretch/>
        </p:blipFill>
        <p:spPr>
          <a:xfrm>
            <a:off x="0" y="368280"/>
            <a:ext cx="1600200" cy="6019920"/>
          </a:xfrm>
          <a:prstGeom prst="rect">
            <a:avLst/>
          </a:prstGeom>
          <a:ln w="0">
            <a:noFill/>
          </a:ln>
        </p:spPr>
      </p:pic>
      <p:sp>
        <p:nvSpPr>
          <p:cNvPr id="49" name="Text Box 3"/>
          <p:cNvSpPr/>
          <p:nvPr/>
        </p:nvSpPr>
        <p:spPr>
          <a:xfrm>
            <a:off x="4876920" y="5334120"/>
            <a:ext cx="2935080" cy="862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Pierre-Marie Grondin</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4"/>
          <p:cNvSpPr/>
          <p:nvPr/>
        </p:nvSpPr>
        <p:spPr>
          <a:xfrm>
            <a:off x="2050920" y="981000"/>
            <a:ext cx="6842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rPr>
              <a:t>L’eau au Maroc et en France des similitudes et des différen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rPr>
              <a:t>La coopération, une démarche volontaire et solidaire</a:t>
            </a:r>
            <a:endParaRPr b="0" lang="en-US" sz="3600" spc="-1" strike="noStrike">
              <a:solidFill>
                <a:srgbClr val="000000"/>
              </a:solidFill>
              <a:latin typeface="Arial"/>
            </a:endParaRPr>
          </a:p>
        </p:txBody>
      </p:sp>
      <p:pic>
        <p:nvPicPr>
          <p:cNvPr id="51" name="Picture 5" descr=""/>
          <p:cNvPicPr/>
          <p:nvPr/>
        </p:nvPicPr>
        <p:blipFill>
          <a:blip r:embed="rId2"/>
          <a:stretch/>
        </p:blipFill>
        <p:spPr>
          <a:xfrm>
            <a:off x="7924680" y="5105520"/>
            <a:ext cx="1219320" cy="1218960"/>
          </a:xfrm>
          <a:prstGeom prst="rect">
            <a:avLst/>
          </a:prstGeom>
          <a:ln w="0">
            <a:noFill/>
          </a:ln>
        </p:spPr>
      </p:pic>
      <p:sp>
        <p:nvSpPr>
          <p:cNvPr id="52" name="Text Box 6"/>
          <p:cNvSpPr/>
          <p:nvPr/>
        </p:nvSpPr>
        <p:spPr>
          <a:xfrm>
            <a:off x="1835280" y="4221000"/>
            <a:ext cx="66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gadir 18 décembre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La coopération décentralisée française en Méditerranée</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opération décentralisée française en Méditerranée sur le thème de l’eau et l’assainissement n’est pas la thématique la plus largement répandue. Les actions les plus nombreuses tournent autour des activités culturelles, du développement et de l’aménagement urbain, des actions soci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opération décentralisée dans le domaine de l’eau est surtout développé au niveau du Maghreb et plus particulièrement au Maro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commune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Aix-en-Provence et Commune d’Oujda</a:t>
            </a:r>
            <a:r>
              <a:rPr b="1"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entre la Régie Autonome Intercommunale de Distribution d’Eau et d’Electricité d’Oujda (RADEEO) créée en 1978 et la Direction de l’Eau et de l’Assainissement (DEA) de la ville d’Aix en Provence</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Commune de Maxeville et Commune d’Imouzzer du Kandar</a:t>
            </a:r>
            <a:r>
              <a:rPr b="1" lang="fr-FR" sz="1800" spc="-1" strike="noStrike">
                <a:solidFill>
                  <a:srgbClr val="2c2a2a"/>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1995, Ville de Maxéville, N.A.N.C.I.E, (Centre International de l’Eau), l’O. N. E. P. (Office National de l’Eau Potable du Royaume du, Maroc) et la Ville d’Imouzzer du Kandar pour l’approvisionnement en eau potable</a:t>
            </a:r>
            <a:r>
              <a:rPr b="0" lang="fr-FR" sz="1800" spc="-1" strike="noStrike">
                <a:solidFill>
                  <a:srgbClr val="2c2a2a"/>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e Belfort et Commune de Mohammed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icipation au projet de gestion intégrée de la zone humide de Mohammedia</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e La Rochelle et Commune d’Essaouira</a:t>
            </a:r>
            <a:r>
              <a:rPr b="1"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tude sur l’assainissement de la ville d’Essaouir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Ville de Tours en Hydraulique villageoise, Ville de Marseille avec Casablanc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régions et de communautés urbaines</a:t>
            </a:r>
            <a:endParaRPr b="0" lang="en-US" sz="3200" spc="-1" strike="noStrike">
              <a:solidFill>
                <a:srgbClr val="000000"/>
              </a:solidFill>
              <a:latin typeface="Arial"/>
            </a:endParaRPr>
          </a:p>
        </p:txBody>
      </p:sp>
      <p:sp>
        <p:nvSpPr>
          <p:cNvPr id="75" name="PlaceHolder 2"/>
          <p:cNvSpPr>
            <a:spLocks noGrp="1"/>
          </p:cNvSpPr>
          <p:nvPr>
            <p:ph/>
          </p:nvPr>
        </p:nvSpPr>
        <p:spPr>
          <a:xfrm>
            <a:off x="457200" y="1599840"/>
            <a:ext cx="8229600" cy="370044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Région Lorraine et Région Fès-Boulmane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Assainissement liquide/solide, approvisionnement en eau potable (partenaire ONEP, NANCIE).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Région Centre avec Meknès (Tafilalet)</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Les grands axes d’une éventuelle coopération parmi lesquels : « L’intensification des échanges humain, culturel et économique, le développement durable, la gestion de la ressource en eau et le développement de l’agriculture raisonnée, la formation professionnelle, la lutte contre la pauvreté...»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gion Aquitaine et Région Souss-Massa-Dra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rois axes : La politique de l’eau Assistance pour l’élaboration d’une stratégie de communication, sensibilisation et éducation sur la gestion de l’eau et conception des outils de communication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Communauté Urbaine de Lyon et Communauté Urbaine d’Agadir</a:t>
            </a:r>
            <a:r>
              <a:rPr b="0" lang="fr-FR" sz="1600" spc="-1" strike="noStrike">
                <a:solidFill>
                  <a:srgbClr val="2c2a2a"/>
                </a:solidFill>
                <a:latin typeface="Arial"/>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Assainissement liquide/solide (formation de techniciens, assistance technique dans la gestion des effets solides, coopération recherche...)</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Le Grand Lyon est également engagé dans un accord de coopération triangulaire entre sa direction de l’eau, la direction de l’eau à Beyrouth et l’ONEP au Maroc : la collaboration porte sur des systèmes d’analyse (implication de l’association CORAIL)</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333000"/>
            <a:ext cx="8820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départements et des syndicats</a:t>
            </a:r>
            <a:endParaRPr b="0" lang="en-US" sz="3200" spc="-1" strike="noStrike">
              <a:solidFill>
                <a:srgbClr val="000000"/>
              </a:solidFill>
              <a:latin typeface="Arial"/>
            </a:endParaRPr>
          </a:p>
        </p:txBody>
      </p:sp>
      <p:sp>
        <p:nvSpPr>
          <p:cNvPr id="77" name="PlaceHolder 2"/>
          <p:cNvSpPr>
            <a:spLocks noGrp="1"/>
          </p:cNvSpPr>
          <p:nvPr>
            <p:ph/>
          </p:nvPr>
        </p:nvSpPr>
        <p:spPr>
          <a:xfrm>
            <a:off x="179280" y="1341360"/>
            <a:ext cx="8964720" cy="4967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Vendée et Communauté Urbaine de Rab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mation de techniciens supérieurs dans le domaine de l’assainissement solide et liquide à l’Institut Agronomique et Vétérinaire Hassan I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Hérault et Conseil Régional Souss Massa Dr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ui à la mise en œuvre d’une politique régionale de développement durable : Amélioration de la gestion raisonnée de l’eau pour parvenir à un équilibre de la ressource et de la consommation en eau en 201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a Seine-Saint-Denis avec la Municipalité de Figuig</a:t>
            </a:r>
            <a:r>
              <a:rPr b="0" lang="fr-FR"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depuis juin 2000,présence importante en Seine-Saint-Denis d’une communauté originaire de Figu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dicat intercommunal de Beaumont Ceyrat St Genes Chapanelle avec Tadnast, </a:t>
            </a:r>
            <a:r>
              <a:rPr b="0" lang="fr-FR" sz="1600" spc="-1" strike="noStrike">
                <a:solidFill>
                  <a:srgbClr val="000000"/>
                </a:solidFill>
                <a:latin typeface="Arial"/>
              </a:rPr>
              <a:t>Adduction d’eau potab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dicat Sydom du Jura, Lons le Saunier et Communautés Urbaines de Kenitra et Tanger (associe également Antalya en Turquie et Lisbonne au Portug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ocycle, coopération sur la récupération et le recyclage des déchets (liquide et solide) transfert de savoir- faire et d’expérienc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autres initiatives notamment les Agences de l’eau</a:t>
            </a:r>
            <a:endParaRPr b="0" lang="en-US" sz="3200" spc="-1" strike="noStrike">
              <a:solidFill>
                <a:srgbClr val="000000"/>
              </a:solidFill>
              <a:latin typeface="Arial"/>
            </a:endParaRPr>
          </a:p>
        </p:txBody>
      </p:sp>
      <p:sp>
        <p:nvSpPr>
          <p:cNvPr id="79" name="PlaceHolder 2"/>
          <p:cNvSpPr>
            <a:spLocks noGrp="1"/>
          </p:cNvSpPr>
          <p:nvPr>
            <p:ph/>
          </p:nvPr>
        </p:nvSpPr>
        <p:spPr>
          <a:xfrm>
            <a:off x="250560" y="1773000"/>
            <a:ext cx="8569080" cy="38163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Régional Nord Pas de Calais et la Région de Doukkala Ab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action sur l’eau pour le moment mais cité dans le protocole d’accord de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Isère et le Conseil régional de Tadla-Azil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ui aux femmes pour l’accès aux ressources et engagement sur la petite hydrauliq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ille de Strasbourg et ville de Fès</a:t>
            </a:r>
            <a:r>
              <a:rPr b="0" lang="fr-FR" sz="1600" spc="-1" strike="noStrike">
                <a:solidFill>
                  <a:srgbClr val="000000"/>
                </a:solidFill>
                <a:latin typeface="Arial"/>
              </a:rPr>
              <a:t>, Depuis 2004, un nouveau volet assainiss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yndicat des eaux d’Île de France</a:t>
            </a:r>
            <a:r>
              <a:rPr b="0" lang="fr-FR" sz="1600" spc="-1" strike="noStrike">
                <a:solidFill>
                  <a:srgbClr val="000000"/>
                </a:solidFill>
                <a:latin typeface="Arial"/>
              </a:rPr>
              <a:t> (SEDIF) à Oujda avec Ca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s Agences de l’eau comme Rhône Méditerranée Corse et Adour Garonne, sont souvent associées aux actions menées par les collectivités de leurs bassin et le deuxième volet de la loi va accroître leur mobilis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rci de vous être mobilisés pour cette journée et de votre atten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ecrétariat du Groupe d’échange CNCD/CN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ww.pseau.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seau@pseau.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es similitudes</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abilité publiq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acteurs clés Décideurs locaux, organismes de bassin, Ét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age de la notion de la gestion par bass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outils pour connaître la ressource en ea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souci d’améliorer sa quali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cience du danger de l’ea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u po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mettre l’accès aux services à to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pertes des réseaux qui demeurent importan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manque d’action sur la dema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ssainiss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manque de prévention et une tendance au curati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équilibre à trouver entre le collectif et le non collecti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Quelques différence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aroc a sa propre législation la France dépend d’un cadre européen plus large que le territoire 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histoire de la gestion locale propre à chaque p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osition au stress hydriq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osition aux crues et aux aléas climatiques plus importan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tion du prix du coût du service, du prix de l’e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urbanisation plus importante et une autre répartition de la popul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 les réseaux existent leur accès n’est pas garantie de la même maniè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égration du coût de l’assainissement dans le prix de l’eau, principe pollueur payeu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Les collectivités territoriales</a:t>
            </a:r>
            <a:endParaRPr b="0" lang="en-US" sz="3200" spc="-1" strike="noStrike">
              <a:solidFill>
                <a:srgbClr val="000000"/>
              </a:solidFill>
              <a:latin typeface="Arial"/>
            </a:endParaRPr>
          </a:p>
        </p:txBody>
      </p:sp>
      <p:sp>
        <p:nvSpPr>
          <p:cNvPr id="58"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itre IV "De la coopération décentralisée" de la loi du 6 février 1992 :</a:t>
            </a: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connaît juridiquement le droit aux collectivités locales françaises et leurs groupements de « conclure des conventions avec des collectivités territoriales étrangères et leurs groupements, dans les limites de leurs compétences et dans le respect des engagements internationaux de la France »,</a:t>
            </a:r>
            <a:endParaRPr b="0" lang="en-US" sz="24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aux collectivités territoriales de conduire des actions de coopération décentralisée sur leur budget général, mais pas sur leur budget annexe « eau et assainissemen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Mode d’action de la coopération décentralisée</a:t>
            </a:r>
            <a:endParaRPr b="0" lang="en-US" sz="3200" spc="-1" strike="noStrike">
              <a:solidFill>
                <a:srgbClr val="000000"/>
              </a:solidFill>
              <a:latin typeface="Arial"/>
            </a:endParaRPr>
          </a:p>
        </p:txBody>
      </p:sp>
      <p:sp>
        <p:nvSpPr>
          <p:cNvPr id="60" name="PlaceHolder 2"/>
          <p:cNvSpPr>
            <a:spLocks noGrp="1"/>
          </p:cNvSpPr>
          <p:nvPr>
            <p:ph/>
          </p:nvPr>
        </p:nvSpPr>
        <p:spPr>
          <a:xfrm>
            <a:off x="-360" y="2133720"/>
            <a:ext cx="8893080" cy="4114800"/>
          </a:xfrm>
          <a:prstGeom prst="rect">
            <a:avLst/>
          </a:prstGeom>
          <a:noFill/>
          <a:ln w="0">
            <a:noFill/>
          </a:ln>
        </p:spPr>
        <p:txBody>
          <a:bodyPr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la collectivité locale définit sa propre zone de coopération « de territoire à territoi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gestion directe des opér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partenariat avec des ONG ou autres partenai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l’acteur de coopération décentralisée met en place un « guichet d’appui » à l’attention des acteurs de la solidarité internationale de son territo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es qualités reconnues</a:t>
            </a:r>
            <a:endParaRPr b="0" lang="en-US" sz="3200" spc="-1" strike="noStrike">
              <a:solidFill>
                <a:srgbClr val="000000"/>
              </a:solidFill>
              <a:latin typeface="Arial"/>
            </a:endParaRPr>
          </a:p>
        </p:txBody>
      </p:sp>
      <p:sp>
        <p:nvSpPr>
          <p:cNvPr id="62" name="PlaceHolder 2"/>
          <p:cNvSpPr>
            <a:spLocks noGrp="1"/>
          </p:cNvSpPr>
          <p:nvPr>
            <p:ph/>
          </p:nvPr>
        </p:nvSpPr>
        <p:spPr>
          <a:xfrm>
            <a:off x="304920" y="1523880"/>
            <a:ext cx="861048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opération directe entre acteurs locau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phase sur les enjeux liés à la décentralisation (Reconnaît le caractère sous-souverain des collectivités locales du Sud et leur responsabilité dans la mise en œuvre des services publics locaux)</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de renforcer les solidarités entre usagers du Nord et du Sud, de sensibiliser les citoyens en France à la problématique de l’accès à l’eau et à l’assainissement dans les PED</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ffet de levier sur la mobilisation d’autres fin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La  loi Oudin-Santini</a:t>
            </a:r>
            <a:endParaRPr b="0" lang="en-US" sz="3200" spc="-1" strike="noStrike">
              <a:solidFill>
                <a:srgbClr val="000000"/>
              </a:solidFill>
              <a:latin typeface="Arial"/>
            </a:endParaRPr>
          </a:p>
        </p:txBody>
      </p:sp>
      <p:sp>
        <p:nvSpPr>
          <p:cNvPr id="64" name="PlaceHolder 2"/>
          <p:cNvSpPr>
            <a:spLocks noGrp="1"/>
          </p:cNvSpPr>
          <p:nvPr>
            <p:ph/>
          </p:nvPr>
        </p:nvSpPr>
        <p:spPr>
          <a:xfrm>
            <a:off x="228600" y="1294920"/>
            <a:ext cx="8763120" cy="4800600"/>
          </a:xfrm>
          <a:prstGeom prst="rect">
            <a:avLst/>
          </a:prstGeom>
          <a:noFill/>
          <a:ln w="0">
            <a:noFill/>
          </a:ln>
        </p:spPr>
        <p:txBody>
          <a:bodyPr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c2a2a"/>
                </a:solidFill>
                <a:latin typeface="Univers-Bold"/>
              </a:rPr>
              <a:t>Article 1</a:t>
            </a:r>
            <a:r>
              <a:rPr b="0" lang="fr-FR" sz="3200" spc="-1" strike="noStrike" baseline="30000">
                <a:solidFill>
                  <a:srgbClr val="000000"/>
                </a:solidFill>
                <a:latin typeface="Arial"/>
              </a:rPr>
              <a:t>er</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c2a2a"/>
                </a:solidFill>
                <a:latin typeface="Arial"/>
              </a:rPr>
              <a:t>	</a:t>
            </a:r>
            <a:r>
              <a:rPr b="0" lang="fr-FR" sz="2400" spc="-1" strike="noStrike">
                <a:solidFill>
                  <a:srgbClr val="2c2a2a"/>
                </a:solidFill>
                <a:latin typeface="Arial"/>
              </a:rPr>
              <a:t>Les </a:t>
            </a:r>
            <a:r>
              <a:rPr b="1" lang="fr-FR" sz="2400" spc="-1" strike="noStrike">
                <a:solidFill>
                  <a:srgbClr val="2c2a2a"/>
                </a:solidFill>
                <a:latin typeface="Arial"/>
              </a:rPr>
              <a:t>communes, les établissements publics de coopération intercommunale et les syndicats mixtes chargés des services publics de distribution d’eau potable et d’assainissement</a:t>
            </a:r>
            <a:r>
              <a:rPr b="0" lang="fr-FR" sz="2400" spc="-1" strike="noStrike">
                <a:solidFill>
                  <a:srgbClr val="2c2a2a"/>
                </a:solidFill>
                <a:latin typeface="Arial"/>
              </a:rPr>
              <a:t> peuvent, dans la limite de 1% des ressources qui sont affectées aux budgets de ces services, mener des actions de coopération avec les collectivités territoriales étrangères et leurs groupements, dans le cadre des conventions prévues à l’article L. 1115-1, des actions d’aide d’urgence au bénéfice de ces collectivités et groupements, ainsi que des actions de solidarité internationale dans les domaines de l’eau et de l’assainissement</a:t>
            </a:r>
            <a:r>
              <a:rPr b="0" lang="fr-FR" sz="2800" spc="-1" strike="noStrike">
                <a:solidFill>
                  <a:srgbClr val="2c2a2a"/>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94920"/>
            <a:ext cx="8763120" cy="4800600"/>
          </a:xfrm>
          <a:prstGeom prst="rect">
            <a:avLst/>
          </a:prstGeom>
          <a:noFill/>
          <a:ln w="0">
            <a:noFill/>
          </a:ln>
        </p:spPr>
        <p:txBody>
          <a:bodyPr anchor="t">
            <a:normAutofit/>
          </a:bodyPr>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c2a2a"/>
                </a:solidFill>
                <a:latin typeface="Univers-Bold"/>
              </a:rPr>
              <a:t>Article 2</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2c2a2a"/>
                </a:solidFill>
                <a:latin typeface="Arial"/>
              </a:rPr>
              <a:t>	</a:t>
            </a:r>
            <a:r>
              <a:rPr b="0" lang="fr-FR" sz="2400" spc="-1" strike="noStrike">
                <a:solidFill>
                  <a:srgbClr val="2c2a2a"/>
                </a:solidFill>
                <a:latin typeface="Arial"/>
              </a:rPr>
              <a:t>Dans le respect des engagements internationaux de la France et dans le cadre de conventions soumises à l’avis du comité de bassin, l’agence peut mener des actions de coopération internationale dans les domaines de l’eau et de l’assainissement, dans la limite de 1 % de ses ressources, le cas échéant et suivant les règles statutaires en vigueur pour chaque catégorie de personnels, avec le concours de ses agents.</a:t>
            </a:r>
            <a:endParaRPr b="0" lang="en-US" sz="2400" spc="-1" strike="noStrike">
              <a:solidFill>
                <a:srgbClr val="000000"/>
              </a:solidFill>
              <a:latin typeface="Arial"/>
            </a:endParaRPr>
          </a:p>
        </p:txBody>
      </p:sp>
      <p:sp>
        <p:nvSpPr>
          <p:cNvPr id="66" name="Text Box 3"/>
          <p:cNvSpPr/>
          <p:nvPr/>
        </p:nvSpPr>
        <p:spPr>
          <a:xfrm>
            <a:off x="755640" y="476280"/>
            <a:ext cx="76327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ispositif loi Oudin-Santini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Accroître la solidarité dans le domaine de l ’eau</a:t>
            </a:r>
            <a:endParaRPr b="0" lang="en-US" sz="3200" spc="-1" strike="noStrike">
              <a:solidFill>
                <a:srgbClr val="000000"/>
              </a:solidFill>
              <a:latin typeface="Arial"/>
            </a:endParaRPr>
          </a:p>
        </p:txBody>
      </p:sp>
      <p:sp>
        <p:nvSpPr>
          <p:cNvPr id="68" name="PlaceHolder 2"/>
          <p:cNvSpPr>
            <a:spLocks noGrp="1"/>
          </p:cNvSpPr>
          <p:nvPr>
            <p:ph/>
          </p:nvPr>
        </p:nvSpPr>
        <p:spPr>
          <a:xfrm>
            <a:off x="609480" y="1752480"/>
            <a:ext cx="4394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cisions sur le site </a:t>
            </a:r>
            <a:r>
              <a:rPr b="0" lang="fr-FR" sz="1800" spc="-1" strike="noStrike" u="sng">
                <a:solidFill>
                  <a:srgbClr val="009999"/>
                </a:solidFill>
                <a:uFillTx/>
                <a:latin typeface="Arial"/>
                <a:hlinkClick r:id="rId1"/>
              </a:rPr>
              <a:t>www.pseau.org</a:t>
            </a:r>
            <a:r>
              <a:rPr b="0" lang="fr-FR" sz="1800" spc="-1" strike="noStrike">
                <a:solidFill>
                  <a:srgbClr val="000000"/>
                </a:solidFill>
                <a:latin typeface="Arial"/>
              </a:rPr>
              <a:t>,  rubrique "Appui aux porteurs de projets Eau, une ligne loi « Oudin </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circulaire d’application lève les ambiguïtés notamment le contrôle de légali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les collectivités locales : mobiliser, outre leur budget général, des moyens sur leur budget annexe « eau et assainissement » (relation entre consommation et solidari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les syndicats intercommunaux et les agences de l’eau : re légaliser des pratiques déjà ancienn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5181480" y="1447920"/>
            <a:ext cx="3732480" cy="525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4:37:31Z</dcterms:created>
  <dc:creator>PSEAU</dc:creator>
  <dc:description/>
  <dc:language>en-US</dc:language>
  <cp:lastModifiedBy>Christophe</cp:lastModifiedBy>
  <dcterms:modified xsi:type="dcterms:W3CDTF">2009-01-26T09:33:48Z</dcterms:modified>
  <cp:revision>35</cp:revision>
  <dc:subject/>
  <dc:title>Diapositive 1</dc:title>
</cp:coreProperties>
</file>