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6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338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3416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7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8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6C401-6321-436E-A801-1F8099E22A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78E9B-0FA6-4C16-9467-CBC8BA70DF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341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005B-3D98-45CA-8615-910A9722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7220-6F7B-4A32-8539-1051DB0F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5EC9-FBFB-4C60-91A6-7456C6F7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497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29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765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497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229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DFA8-0094-4F7D-9DDD-F0D59963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BF97-D441-4C6E-8C84-1128B410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497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29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6765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497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29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D378-8CCC-4B18-8958-DA696EB1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57DA-27A7-4D9B-831D-B21A2FBB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2BF7-0D5D-46BC-9BDC-36D12AB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9D86-ABDD-4E00-BF4B-781BA3A7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83BC-6A2B-4312-9E52-C39F8143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A5AF-A409-4E4D-89FE-E9C20709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AB5D-FCAE-431F-9BCA-089842B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" name="Object 12" descr=""/>
          <p:cNvPicPr/>
          <p:nvPr/>
        </p:nvPicPr>
        <p:blipFill>
          <a:blip r:embed="rId2"/>
          <a:stretch/>
        </p:blipFill>
        <p:spPr>
          <a:xfrm>
            <a:off x="0" y="0"/>
            <a:ext cx="1546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Line 13"/>
          <p:cNvSpPr/>
          <p:nvPr/>
        </p:nvSpPr>
        <p:spPr>
          <a:xfrm>
            <a:off x="396720" y="40892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" name="Object 15" descr=""/>
          <p:cNvPicPr/>
          <p:nvPr/>
        </p:nvPicPr>
        <p:blipFill>
          <a:blip r:embed="rId3"/>
          <a:stretch/>
        </p:blipFill>
        <p:spPr>
          <a:xfrm>
            <a:off x="361800" y="0"/>
            <a:ext cx="8782200" cy="609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905120" y="146160"/>
            <a:ext cx="640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Century Gothic"/>
              </a:rPr>
              <a:t>DIRECTION DE L’EAU ET DE LA BIODIVERSITE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" name="Object 17" descr=""/>
          <p:cNvPicPr/>
          <p:nvPr/>
        </p:nvPicPr>
        <p:blipFill>
          <a:blip r:embed="rId4"/>
          <a:stretch/>
        </p:blipFill>
        <p:spPr>
          <a:xfrm>
            <a:off x="0" y="1133640"/>
            <a:ext cx="1498680" cy="190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-360" y="4266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8BC7-00A6-4FAC-A9FD-5ECA18D2288D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-360" y="3276360"/>
            <a:ext cx="1523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-360" y="3809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8" descr="C:\Documents and Settings\lucejo\Mes documents\Mes images\BlocMarqDevDurable-500.png"/>
          <p:cNvPicPr/>
          <p:nvPr/>
        </p:nvPicPr>
        <p:blipFill>
          <a:blip r:embed="rId5"/>
          <a:stretch/>
        </p:blipFill>
        <p:spPr>
          <a:xfrm>
            <a:off x="0" y="5029200"/>
            <a:ext cx="1536840" cy="18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ject 1036" descr=""/>
          <p:cNvPicPr/>
          <p:nvPr/>
        </p:nvPicPr>
        <p:blipFill>
          <a:blip r:embed="rId2"/>
          <a:stretch/>
        </p:blipFill>
        <p:spPr>
          <a:xfrm>
            <a:off x="0" y="0"/>
            <a:ext cx="15462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Line 1037"/>
          <p:cNvSpPr/>
          <p:nvPr/>
        </p:nvSpPr>
        <p:spPr>
          <a:xfrm>
            <a:off x="396720" y="40892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9" name="Object 1043" descr=""/>
          <p:cNvPicPr/>
          <p:nvPr/>
        </p:nvPicPr>
        <p:blipFill>
          <a:blip r:embed="rId3"/>
          <a:stretch/>
        </p:blipFill>
        <p:spPr>
          <a:xfrm>
            <a:off x="361800" y="0"/>
            <a:ext cx="878220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44"/>
          <p:cNvSpPr/>
          <p:nvPr/>
        </p:nvSpPr>
        <p:spPr>
          <a:xfrm>
            <a:off x="1447920" y="155520"/>
            <a:ext cx="706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Century Gothic"/>
              </a:rPr>
              <a:t>DIRECTION DE L’EAU ET DE LA BIODIVERSITE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1" name="Picture 1093" descr="C:\Documents and Settings\lucejo\Mes documents\Mes images\BlocMarqDevDurable-500.png"/>
          <p:cNvPicPr/>
          <p:nvPr/>
        </p:nvPicPr>
        <p:blipFill>
          <a:blip r:embed="rId4"/>
          <a:stretch/>
        </p:blipFill>
        <p:spPr>
          <a:xfrm>
            <a:off x="0" y="487692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-360" y="3809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-360" y="3276360"/>
            <a:ext cx="1523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54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505320" y="1522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7147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2209680" y="47926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3" name="Picture 16" descr="C:\Documents and Settings\lucejo\Mes documents\Mes images\satellite_view.jpg"/>
          <p:cNvPicPr/>
          <p:nvPr/>
        </p:nvPicPr>
        <p:blipFill>
          <a:blip r:embed="rId1"/>
          <a:stretch/>
        </p:blipFill>
        <p:spPr>
          <a:xfrm>
            <a:off x="1523880" y="609480"/>
            <a:ext cx="7620120" cy="6248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8"/>
          <p:cNvSpPr/>
          <p:nvPr/>
        </p:nvSpPr>
        <p:spPr>
          <a:xfrm>
            <a:off x="1905120" y="2971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ff"/>
                </a:solidFill>
                <a:latin typeface="Arial"/>
              </a:rPr>
              <a:t>L’Union pour la Méditerranée</a:t>
            </a:r>
            <a:endParaRPr b="0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523880" y="6094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hilippe GUETTIER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ission Présidence française de l’Union Européenne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F3A1-80E9-4217-BF5D-36ECCB0DF9C7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8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Calendrier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Stratégie :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décision sur ses orientations le 22 décembre 2008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décision sur son contenu définitif mi 2010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approbation par les Chefs d’Etat et de Gouvernement fin 2010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Projets : 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transmission des premiers projets « eau » au Secrétariat de l’UpM en mai 2009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4" descr="C:\Documents and Settings\lucejo\Mes documents\Mes images\2008-11 (nov.)\Numériser.jpg"/>
          <p:cNvPicPr/>
          <p:nvPr/>
        </p:nvPicPr>
        <p:blipFill>
          <a:blip r:embed="rId1"/>
          <a:stretch/>
        </p:blipFill>
        <p:spPr>
          <a:xfrm>
            <a:off x="2286000" y="4038480"/>
            <a:ext cx="6019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49A1-5FA6-4C5E-8EA5-31FD084F272F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Orientations de la stratégie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Ambition politique de haut niveau permettant de s’attaquer à des problèmes dépassant les moyens d’action d’un seul pays ou d’une seule organisation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Deux grandes finalités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- préservation de la qualité des eaux (dépollution de la mer Méditerranée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- diversification de l’approvisionnement en eau et utilisation rationnelle et durable de l’eau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Obtenir un accord sur des concepts couvrant principalement des modes de gouvernance efficac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enforcer la coordination des initiatives existantes sur les questions d’information et d’expertis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2172-357A-4680-91D1-793B6EB99472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Thématique des projets concrets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Adaptation au changement climatiqu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Équilibre entre mobilisation de nouvelles ressources et gestion des demand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éhabilitation et valorisation des milieux naturel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Dépollution de la mer Méditerrané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Technologies et usages efficient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1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98A1-247D-4E9C-AB46-C8CD52B0A3D3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Espace réservé de la date 3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523880" y="3429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Merci pour votre attention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BDA7-5F1F-455E-A231-C89344820F73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Un nouvel élan majeur en faveur de la région méditerranéenne</a:t>
            </a:r>
            <a:br>
              <a:rPr sz="1800"/>
            </a:b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600200" y="2362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84360" y="1870200"/>
            <a:ext cx="733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es écarts de développement se creusent entre les deux rives de la Méditerrané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isques d’instabilité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nouvelle dynamique impulsée par les Chefs d’Etat et de Gouvernement le 13 juillet 2008 lors du Sommet de Paris : l’Union pour la Méditerrané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appui sur les acquis du Processus de Barcelone (1995)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3C2B-43B7-4CB9-BE15-6E0D13824870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4 principes fondateurs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mobilisation politique au plus haut niveau : Sommets des Chefs d’Etat de Gouvernement tous les 2 an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éalisation de projets concrets régionaux et sous régionaux et à géométrie variable utiles pour les citoyens de la région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Gouvernance équilibrée Nord-Sud, Secrétariat paritaire pour l’identification, la promotion des projets et la recherche de financement et de partenair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Participation de la société civile, des autorités locales et régionales et du secteur privé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484A-3381-4805-AFE9-128DA3F98594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Priorités thématiques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environnement et énergie : dépollution de la Méditerranée, gestion durable et efficiente des ressources en eau, plan solaire méditerranée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isques naturels et transports : protection civile, autoroutes de la mer et terrestr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développement économique et social : développement des petites et moyennes entreprises, enseignement supérieur et recherch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B639-9480-481D-971F-CBEAD2FD0652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La région méditerranéenne risque de connaître une crise de l’eau dans moins d’une générati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essource rare, fragile et inégalement reparti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Augmentation des demandes : 80 % des usages sont agricoles au Sud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Atteinte proche du niveau limite des ressources disponibl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014A-D3F0-4AFC-9B93-A12CBB093BED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En 2000 :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108 millions d’habitants pauvres en eau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45 millions en situation de pénurie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En 2025 :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63 millions en situation de pénurie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95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Un pays sur 3 prélèvera plus de 50 % du volume annuel de ses ressources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Utilisation de ressources non renouvelabl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Pays les plus menacés : Libye,  Territoires Palestiniens, Jordanie, Israël, Malte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Century Gothic"/>
              </a:rPr>
              <a:t>* Selon Plan Bleu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1E4B-4B7F-4EF7-8F43-CB4552F67171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Destruction d’aquifères côtiers par intrusion     salin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Épuisement des ressources fossil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Envasement de nombreux barrag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Dégradation et pollutions d’origine humaine limitant les possibilités d’usag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Perte de la biodiversité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égression des zones humid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Conséquences importantes du changement climatiqu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ACBE-34C5-45A1-A18A-14924565D952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Sur le plan quantitatif, un gisement important ne nécessitant pas de nouvelles pressions sur la ressource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a  limitation des pertes dues aux différents usages aux fuites et aux transfert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es pertes représentent plus du double de l’accroissement des besoins d’ici 2015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Ce gisement permettrait d’éviter la construction de 100 barrages d’ici cette date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Nécessité d’un changement de cultur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entury Gothic"/>
              </a:rPr>
              <a:t>* Selon Plan Bleu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1456-B6AF-42CA-9BEB-9DDE57E01738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4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Nécessité de renforcer le nombre et la qualité des projets concrets en s’appuyant sur une stratégie régionale partagé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27428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Mandat donné à la conférence ministérielle sur l’eau associant tous les pays membres de l’UpM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- bâtir une stratégie à long terme pour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l’eau en Méditerrané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- identifier des projets concrets cohérent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avec la stratégi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Participation de la société civile, des autorités locales et régionales, du secteur privé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5:38:10Z</dcterms:created>
  <dc:creator>utilisateur</dc:creator>
  <dc:description/>
  <dc:language>en-US</dc:language>
  <cp:lastModifiedBy>Christophe</cp:lastModifiedBy>
  <dcterms:modified xsi:type="dcterms:W3CDTF">2009-01-26T09:32:59Z</dcterms:modified>
  <cp:revision>734</cp:revision>
  <dc:subject/>
  <dc:title>Présentation PowerPoint</dc:title>
</cp:coreProperties>
</file>