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5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14920" y="-360"/>
            <a:ext cx="29160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01800" y="74088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09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6664B-4B80-4BB5-B2B7-1A43E979AE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E7027-3154-4977-998C-83CDCCEB5B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903240" y="7412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47802-5F1A-402C-B5D7-B27BA9ADE5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E35F9-6539-45C9-B5FF-B461CD169D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D1CA0-8525-48E2-B0D2-3A920006C2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C94DC-0A22-4033-BDB1-0B11F04113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024EE-0DD4-4B86-BDC5-1177C622DF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901800" y="739800"/>
            <a:ext cx="49384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E0027-7D41-47AB-9855-CFEEFFB4FD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6DE48-2754-43DB-B470-62C0AE4783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68FBC-1652-4CBE-B3C7-3CAE650551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B4CA3-8B68-4C99-A753-DEB07C14E2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15F4E-4F2D-4FED-BF9B-67FB459188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58EDD-2E15-4F8C-AB60-F139A4DD0A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BE70A-3B54-419E-B2BE-799F2A5CE9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75CE2-038E-47EA-8813-56C5273CF5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AD81D-00E2-4285-8B3A-24BC9D15E2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8B444-6447-4B43-8F98-3489339241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9B4CE-51D8-4329-A267-F65C755FB3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28D2C-9CAD-4513-A3B5-2816EE9025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DB580-2BBA-4722-AD65-F4BBD049A0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0D270-D8F9-4D2D-B13E-07CCFE051C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BF5E-B5FC-4007-9A2D-64C79287FB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C8F3E-03C8-4AA2-8016-878777518C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09160-56FD-4B54-ABB4-3FB9ACD7FD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BD1DB-FDA1-4FDC-9AAC-0BF951949A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9D9F4-0B25-46B8-89C0-A29B351993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903240" y="7412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6945E-71F0-4835-A74C-34D1D2DE7A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4BF1F-029A-4F86-A813-D51710FCB1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B5A3E-8AA5-4B18-8F14-E0D8AB019B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90180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6760" y="4684320"/>
            <a:ext cx="494064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Loin de remettre en cause notre politique de l’eau, la directive c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confirme et renforce les principes de gestion de l’eau en France. Mais 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va plus loin, en introduisant trois principes qui en font un instr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d’une politique de développement durable dans le domaine de l’eau :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participation du public, la prise en compte des considérations socioéconom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et les résultats environnement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C31CE-8DF2-4711-84EB-4B90F40B13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F7474-2773-446C-A2C0-5C76FD5417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1F75-36F9-45F4-9B5C-5A388006F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76160" y="428112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AF14-73B0-4CEA-A6B2-28D5187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2304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1B3D-16E2-4870-A5F3-F6CCA9B2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4828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040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7616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4828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2040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601C-A817-4303-8D43-EBFEB36D18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99840" y="685440"/>
            <a:ext cx="73882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B276-C373-4A77-BB9D-24733684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2304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676160" y="428112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42304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4828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2040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67616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14828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62040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DC4F-9CEA-41E7-BCA9-BA04A7A7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B521-1C3D-4BE8-B468-6B53A28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1F39-F16F-4C08-A596-AB05C49F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685440"/>
            <a:ext cx="73882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B792-CDD7-4C9A-BBE9-511DC6AF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20D7-C888-4F0A-B61A-1E19745C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2304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0AFE-B92E-479A-824C-CC73C33D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1262-F292-4061-8D03-E24AEDF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1546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Line 4"/>
          <p:cNvSpPr/>
          <p:nvPr/>
        </p:nvSpPr>
        <p:spPr>
          <a:xfrm>
            <a:off x="396720" y="4089240"/>
            <a:ext cx="719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Object 5" descr=""/>
          <p:cNvPicPr/>
          <p:nvPr/>
        </p:nvPicPr>
        <p:blipFill>
          <a:blip r:embed="rId3"/>
          <a:stretch/>
        </p:blipFill>
        <p:spPr>
          <a:xfrm>
            <a:off x="360360" y="0"/>
            <a:ext cx="8782200" cy="609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1905120" y="146160"/>
            <a:ext cx="640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Century Gothic"/>
              </a:rPr>
              <a:t>DIRECTION DE L’EAU DE LA BIODIVERSI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Object 7" descr=""/>
          <p:cNvPicPr/>
          <p:nvPr/>
        </p:nvPicPr>
        <p:blipFill>
          <a:blip r:embed="rId4"/>
          <a:stretch/>
        </p:blipFill>
        <p:spPr>
          <a:xfrm>
            <a:off x="0" y="1133640"/>
            <a:ext cx="1498680" cy="190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-360" y="4266720"/>
            <a:ext cx="152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91898D-A91E-4B98-A5C3-C0435F2A1946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0" y="3276720"/>
            <a:ext cx="1523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-360" y="3809520"/>
            <a:ext cx="152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5"/>
          <a:stretch/>
        </p:blipFill>
        <p:spPr>
          <a:xfrm>
            <a:off x="0" y="4876920"/>
            <a:ext cx="155736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2133720"/>
            <a:ext cx="72360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1546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>
            <a:off x="396720" y="4089240"/>
            <a:ext cx="719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3"/>
          <a:stretch/>
        </p:blipFill>
        <p:spPr>
          <a:xfrm>
            <a:off x="361800" y="0"/>
            <a:ext cx="87822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447920" y="155520"/>
            <a:ext cx="706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Century Gothic"/>
              </a:rPr>
              <a:t>DIRECTION DE L’EAU ET DE LA BIODIVERSI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3200400" y="609480"/>
            <a:ext cx="140976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-360" y="3809520"/>
            <a:ext cx="152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3276720"/>
            <a:ext cx="1523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>
            <a:off x="6095880" y="609480"/>
            <a:ext cx="175284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6"/>
          <a:stretch/>
        </p:blipFill>
        <p:spPr>
          <a:xfrm>
            <a:off x="4597560" y="609480"/>
            <a:ext cx="149832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7"/>
          <a:stretch/>
        </p:blipFill>
        <p:spPr>
          <a:xfrm>
            <a:off x="7810560" y="609480"/>
            <a:ext cx="133344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8"/>
          <a:stretch/>
        </p:blipFill>
        <p:spPr>
          <a:xfrm>
            <a:off x="7772400" y="6094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9"/>
          <a:stretch/>
        </p:blipFill>
        <p:spPr>
          <a:xfrm>
            <a:off x="0" y="609480"/>
            <a:ext cx="3219480" cy="2438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720360" y="1604880"/>
            <a:ext cx="796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" name="Picture 15" descr=""/>
          <p:cNvPicPr/>
          <p:nvPr/>
        </p:nvPicPr>
        <p:blipFill>
          <a:blip r:embed="rId10"/>
          <a:stretch/>
        </p:blipFill>
        <p:spPr>
          <a:xfrm>
            <a:off x="0" y="4876920"/>
            <a:ext cx="155736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e la date 2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243648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3c49a8"/>
                </a:solidFill>
                <a:latin typeface="Arial"/>
              </a:rPr>
              <a:t>La politique française de l’eau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355640"/>
            <a:ext cx="6400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505320" y="1522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147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596AF-19F4-4EFF-8BAD-842C1CD3B144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Atteinte du bon état des eaux côtières en 2015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814480" y="1371600"/>
            <a:ext cx="46864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BF4C7-5ACA-4624-B6DA-78CD37220971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ollution diffuse agricol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 de la DC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roche combinée (2012)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jets soumis à autorisation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eurs limites d’émission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ctifs de qualité environnementale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3 substances prioritair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 de la LEMA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s d’action pouvant être obligatoires dans les secteurs sensibles (zones d’alimentation des captages, zones humides d’intérêt particulier, zones d’érosion diffuse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çabilité des ventes des produits phytosanitaires et des biocid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ôle des pulvérisateurs utilisés pour l’application de ces produit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devance au profit des agences de l’eau (écotoxicité des produits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086280" cy="2043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781680" y="350532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Laurent Mignaux©MED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00518-37FD-48EB-A284-88CF40E5E5AB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olitique d’assainissement collectif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731520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viron 15000 stations d’épuration en France dont 900 &gt; 10000 équivalent hbt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irective européenne eaux résiduaires urbaines de 1991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/4 du territoire en zones sensibles à l’eutrophisation 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18 stations d’épuration &gt; 10000 équivalent hbt concernées avec traitement plus rigoureux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84 stations &gt; 15000 équivalent hbt rejetant en zone normale (traitement secondaire)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Certaines communes n’ont pas encore mis en place de traitement plus rigoureux 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an d’action de mise en conformité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ssion coercitive de l’Etat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nsignation des fonds 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ndamnations pénales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ides financières dégressives des agences de l’eau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spension des primes 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isation des organismes de prêts aux collectivités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0D2E-821A-4729-89DB-5D3856D5D350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olitique d’assainissement non collectif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31520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,1 millions de logements concernés en zones périurbaines ou rural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es en charge du contrôle de la qualité et du bon fonctionn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 installation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cadrement réglementaire 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de général des collectivités territoriales et code de la santé publ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rêtés d’application (contrôle des installations, prescriptions techniques, agrément des sociétés réalisant les vidanges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2781360" cy="1841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3581280" y="647712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sse toutes-eau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95680" y="63244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Laurent Mignaux©MED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1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5F798-383A-4EF1-A84B-56FDDD887DF0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Espace réservé de la date 2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600200" y="760680"/>
            <a:ext cx="73915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lan de gestion de la rareté de l’eau</a:t>
            </a:r>
            <a:br>
              <a:rPr sz="2400"/>
            </a:br>
            <a:br>
              <a:rPr sz="2000"/>
            </a:br>
            <a:r>
              <a:rPr b="1" lang="en-GB" sz="2000" spc="-1" strike="noStrike">
                <a:solidFill>
                  <a:srgbClr val="3c49a8"/>
                </a:solidFill>
                <a:latin typeface="Arial"/>
              </a:rPr>
              <a:t> Restaurer l’équilibre entre l’offre et la demande en 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523880" y="220968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écheresses répétées, déséquilibre chronique dans certaines rég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26 mesures, 3 ax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iorité à l’eau potab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estion économe de l’eau et partage entre les usage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(optimisation des systèmes d’irrigation + meilleure adaptation des culture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isation de l’eau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écupération eaux de pluies, réutilisation eaux traitées, recharge artificielle nappes souterraines, dessalement eau de m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bjectif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conomie d’e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ssources de substit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estion collective de la ressource en eau (LEMA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9CB96-FACD-4F9C-804D-73FD63FFF01D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Gestion des inondation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52480" y="6232680"/>
            <a:ext cx="7467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600200" y="4572000"/>
            <a:ext cx="70866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y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e technique central d’appu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SCHAPI)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2 services de prévisions des crues (SP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219320" y="1600200"/>
            <a:ext cx="7543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importantes avancées pour la prévention des inond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informer, prévenir, développer la conscience du risq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nouveaux outils de prévention (servitudes de sur-inondation, lutte contre l'érosion des sol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3200400"/>
            <a:ext cx="6705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travaux des collectivit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éduire la vulnérabilité d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zones inondables et répar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es domma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3429000" cy="2276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"/>
          <p:cNvSpPr/>
          <p:nvPr/>
        </p:nvSpPr>
        <p:spPr>
          <a:xfrm>
            <a:off x="5562720" y="5486400"/>
            <a:ext cx="32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éhicule des pompiers en cours d'intervention dans un champ d'expansion des crues ( Narbonne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7010280" y="5257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Laurent Mignaux©MED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B0537-C3BD-4BD2-B845-F8B99CDF01EA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Carte des programmes d’actions de prévention des inondations (PAPI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679140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3DA80-737B-4177-90E4-D439D9411708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739152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cadre institutionnel</a:t>
            </a:r>
            <a:br>
              <a:rPr sz="2400"/>
            </a:br>
            <a:br>
              <a:rPr sz="22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grands acteurs, 3 domaines de compétenc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Décideurs locaux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collectivités territoriales, agriculteurs, industriel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stissements 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devances aux agences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rganismes de bassins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itique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ception et redistribution des redevances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ta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irection de l’eau du Ministère de l’Ecologie, du Développement et d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’Aménagement Durables : animateur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glementation et contrôle (police de l’eau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e national de l’eau et des milieux aquatiques (ONEMA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9D18D-DD11-4847-B532-496D724D7450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s comités de bassin</a:t>
            </a:r>
            <a:r>
              <a:rPr b="1" i="1" lang="en-GB" sz="2700" spc="-1" strike="noStrike">
                <a:solidFill>
                  <a:srgbClr val="006699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600200" y="373392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  <a:ea typeface="Arial Unicode MS"/>
              </a:rPr>
              <a:t>Les commissions locales de l’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791320" y="1828800"/>
            <a:ext cx="31240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élaboration et adoption des Schémas Directeurs d'Aménagement et de Gestion des Eaux (SDAG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rientation de la politique d’intervention financière des agences de l’e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248520" y="487692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élaboration, adoption et suivi des Schémas d’Amenagement et de Gestion des Eaux (SAG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Object 5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657600" cy="2050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6" descr=""/>
          <p:cNvPicPr/>
          <p:nvPr/>
        </p:nvPicPr>
        <p:blipFill>
          <a:blip r:embed="rId2"/>
          <a:stretch/>
        </p:blipFill>
        <p:spPr>
          <a:xfrm>
            <a:off x="2209680" y="4610160"/>
            <a:ext cx="3629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78B6A-8E94-46CA-AFFC-D6E4C595474E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s agences de l’ea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6 agences de l’eau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éservation, amélioration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la ressource en ea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tte contre la pollution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du public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evances et aides aux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issement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02240" cy="4724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4952880" y="64771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ion de l’Ea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A9E20-693F-42E0-BD44-849395A19396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3c49a8"/>
                </a:solidFill>
                <a:latin typeface="Arial"/>
              </a:rPr>
              <a:t>Sommair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315200" cy="47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Deux parties 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olitique de l’eau en Franc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Coopération internationale français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96368-C95E-48A5-A37A-7E9AF7E9CBD5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cadre institutionnel des services d’eau et d’assainissement : les collectivités responsabl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315200" cy="527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s consommateu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inancent les services d’eau potable et d’assainissement (« l’eau paie l’eau »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 commun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x moyen de l’eau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2,77 euros/m3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e: NUS Consulting 2006)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dget spécifique et contrôle les compt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glementation sanitaire et environnemental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 de gestion : régie ou délégation. 26% de la population desservie par un opérateur public, 74% par un opérateur privé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sce: rapport BIPE/FP2E 2006)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429000" y="5791320"/>
            <a:ext cx="1447920" cy="841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53341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BF61C-640C-47F7-9D44-FC9D12DEF52C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600200" y="1676520"/>
            <a:ext cx="7162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 rapport des délégatai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lité de l’e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 rapport du ma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ix, qualité du service public d’eau potable et d’assainiss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 commission consultative des services publics loc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bligatoire pour toute commune de plus de 10 000 habita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a transparence des services d'eau et d'assainissemen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0D462-5164-428F-9D87-F097739EA808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prix de l’eau pour les usager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00200" y="1523880"/>
            <a:ext cx="7162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Object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962520" cy="2341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523880" y="36576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edad,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4296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876920" y="37339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c49a8"/>
                </a:solidFill>
                <a:latin typeface="Arial"/>
              </a:rPr>
              <a:t>Prix moyen sur le bassin Artois Picardie en 2006 (eur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4648320" y="4033800"/>
            <a:ext cx="4322520" cy="28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869BE-48E7-4FBC-A747-F66A490F5C0D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prix moyen de l’eau dans les pays européen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057400" y="1795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032600" cy="3800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6629400" y="6012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NUS Consulting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e la date 2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2742840"/>
            <a:ext cx="739152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3c49a8"/>
                </a:solidFill>
                <a:latin typeface="Arial"/>
              </a:rPr>
              <a:t>La coopération internationale françai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133720" y="5423040"/>
            <a:ext cx="6400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3DABF-7674-495B-B2E9-0ED9136D3BF8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’eau, un enjeu mondial pour le XXIème siècl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52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itique et géopolitiqu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60 bassins fluviaux partagés par deux ou plusieurs Etats, risque accru de confli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économ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ins de 0,5% des PIB des pays en développement consacrés à l’eau et à l’assainiss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1 milliard de personnes n’ont pas accès à l’eau potabl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4 milliards de personnes n’ont pas accès à des installations d’assainiss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uvaise qualité de l’eau : 1ère cause de mortalité dans le mond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vironnemental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00 millions de personnes de 43 pays sous le seuil de stress hydr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629400" y="64594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: PNUD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60B5F-73EB-4EA2-A04E-35060922B913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a France : 4ème bailleur de fonds dans le secteur de l’ea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8800" y="2286000"/>
            <a:ext cx="73152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f du Millénaire pour le développement n°7 (accès à l’eau et à l’assainissement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ublement aide gouvernementale d’ici 2009 (Afrique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pération décentralisée (loi Oudin-Santini, 2005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ublement aides allouées aux ONG pour des actions de coopération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FB1EC-40A9-4FEA-A803-7393D4084573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a France : 4ème bailleur de fonds dans le secteur de l’eau</a:t>
            </a:r>
            <a:br>
              <a:rPr sz="2400"/>
            </a:br>
            <a:br>
              <a:rPr sz="2400"/>
            </a:br>
            <a:r>
              <a:rPr b="1" lang="en-GB" sz="2000" spc="-1" strike="noStrike">
                <a:solidFill>
                  <a:srgbClr val="3c49a8"/>
                </a:solidFill>
                <a:latin typeface="Arial"/>
              </a:rPr>
              <a:t>Les thématiques d’engagement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520" y="2437920"/>
            <a:ext cx="7315200" cy="490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éfinition par un gouvernement de sa politique nationale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ès renforcé et équitable à l’eau et à l’assainiss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stion intégrée et efficiente des ressources à l’échelle des bassins versants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ne gouvernanc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lication des acteurs locaux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ivi et évalua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gique de résultat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AA497-5360-48DF-98B7-5AC780BC2D18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530280" indent="0" algn="ctr">
              <a:lnSpc>
                <a:spcPct val="100000"/>
              </a:lnSpc>
              <a:buNone/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artenariat Français sur l’Eau (PFE)</a:t>
            </a:r>
            <a:br>
              <a:rPr sz="2400"/>
            </a:br>
            <a:br>
              <a:rPr sz="2000"/>
            </a:br>
            <a:r>
              <a:rPr b="1" lang="en-GB" sz="1800" spc="-1" strike="noStrike">
                <a:solidFill>
                  <a:srgbClr val="3c49a8"/>
                </a:solidFill>
                <a:latin typeface="Arial"/>
              </a:rPr>
              <a:t>Une offre globale de coopération des acteurs français publics et privés : une porte d’entrée pour les partenaires étranger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520" y="2666520"/>
            <a:ext cx="7315200" cy="35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teurs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ectivités, Etat, parlementaires, Agence Française de Développement (AFD), agences de l’eau, grands groupes, sociétés d’ingénierie, PME-PMI, organisations scientifiques et techniques, organisations non gouvernementales (ONG), organismes de recherche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jectifs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ire connaître les actions de ses membres et de la communauté internationale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ributions aux représentants du gouvernement français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ssages communs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bilisation principale : 5ème Forum mondial de l’eau d’Istanbul (mars 2009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0" y="6400800"/>
            <a:ext cx="152388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657600" y="6573960"/>
            <a:ext cx="358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c49a8"/>
                </a:solidFill>
                <a:latin typeface="Arial"/>
              </a:rPr>
              <a:t>www.eau-international-france.f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14520" y="2448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666960" y="3019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4114800" y="5715000"/>
            <a:ext cx="180972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53F31-09F5-4D2C-AC53-E7811A2FC717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ne expérience français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 décentralisation et participation des acteur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stion globale des ressources en eau par bassin versant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oit d’accès à l’eau potable à des conditions économiquement acceptables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uvelle politique pour atteindre le bon état écologique des eaux (changement climatique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n savoir-faire au service de la communauté international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einte des « Objectifs du Millénaire »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re intégrée de coopération des acteurs françai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124080" y="4876920"/>
            <a:ext cx="35053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ur plus d’information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c49a8"/>
                </a:solidFill>
                <a:latin typeface="Times New Roman"/>
              </a:rPr>
              <a:t>http://www.ecologie.gouv.f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c49a8"/>
                </a:solidFill>
                <a:latin typeface="Times New Roman"/>
              </a:rPr>
              <a:t>http://www.eau-international-France.f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971800" y="62485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édits photographiques :  Laurent Mignaux@ME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e la date 2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5120" y="243648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530280" indent="0" algn="ctr">
              <a:lnSpc>
                <a:spcPct val="100000"/>
              </a:lnSpc>
              <a:buNone/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3c49a8"/>
                </a:solidFill>
                <a:latin typeface="Arial"/>
              </a:rPr>
              <a:t>Politique de l’eau en France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33720" y="2908440"/>
            <a:ext cx="64008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368AA-3023-4E18-8435-ADBC66F328DF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c49a8"/>
                </a:solidFill>
                <a:latin typeface="Arial"/>
              </a:rPr>
              <a:t>Merci de votre attenti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7086600" cy="47037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7010280" y="6400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Laurent Mignaux©MED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82F04-9E21-4744-8685-1463F127308B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73915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c49a8"/>
                </a:solidFill>
                <a:latin typeface="Arial"/>
              </a:rPr>
              <a:t>Les enjeux de la gestion de l’eau et des milieux aquatiqu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315200" cy="443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a France : un pays relativement favoris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disparités par bassi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source pour milieux et usages : 3000 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an/hab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Meda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ommation domestique moyenne : 165 litres d’eau/hab/jour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ifen2004)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s enjeux qualitatif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 état écologique des eaux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fforts sur pollutions diffuses agricoles et urbaines (directive nitrates, eaux résiduaires urbaines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s enjeux quantitatif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énomènes extrêmes : inondations et sécheresses (changement climatique et développement urbain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A7C05-0B3D-4D51-944F-966FDA4A2294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739152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cadre législatif européen</a:t>
            </a:r>
            <a:br>
              <a:rPr sz="2400"/>
            </a:br>
            <a:br>
              <a:rPr sz="2400"/>
            </a:br>
            <a:r>
              <a:rPr b="1" lang="en-GB" sz="2000" spc="-1" strike="noStrike">
                <a:solidFill>
                  <a:srgbClr val="3c49a8"/>
                </a:solidFill>
                <a:latin typeface="Arial"/>
              </a:rPr>
              <a:t>La Directive Cadre européenne sur l’eau (DCE) de 2000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2209320"/>
            <a:ext cx="7315200" cy="49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ctifs communs aux 27 Etats membr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 état écologique des eaux et des milieux aquatiques d'ici 2015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mation et planification par district hydrograph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alyse économ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cupération des coût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icipation renforcée des citoyen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80% de la législation française dans le secteur de l’eau découle de la législation européenn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ar ailleurs, d’autres directives sectorielles réglementent le secteur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00730-EA4C-4293-9B41-A0B48E531184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cadre législatif françai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7315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textes rénovateur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la Charte de l’environne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 droit à un environnement sain et développement durable = constitutionnel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2006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 loi sur l’eau et les milieux aquatiques (LEMA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util pour atteindre les objectifs de la DC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oit à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aptation au changement climatique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novation organisation institutionnelle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lutions diffuses agricol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stion locale et concertée des ressources en 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plifie et renforce la police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parence des services publics de l’eau et d’assainiss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forme la pêche en eau douc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0A209-D6A3-4D1D-BE63-C4F7E5458EC0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746748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s districts hydrographiques en Franc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6232680"/>
            <a:ext cx="746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486400" y="1828800"/>
            <a:ext cx="3505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districts hydrographiques correspondent aux grands bassins franç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rmation gestion et planification par bassin vers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Object 4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3673440" cy="4521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752480" y="62485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ion de l’Ea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D50BB-FA13-41C5-9444-26E0EF6DDEE1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Atteinte du bon état des eaux de surface en 2015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071880" y="1685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20120" y="64008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agences de l’eau,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2514600" y="1301760"/>
            <a:ext cx="453384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3ADB8-1261-43C1-AD01-4EA8CA2F2835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3c49a8"/>
                </a:solidFill>
                <a:latin typeface="Arial"/>
              </a:rPr>
              <a:t>Atteinte du bon état des eaux souterraines en 2015</a:t>
            </a:r>
            <a:endParaRPr b="1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3537000" y="1371600"/>
            <a:ext cx="3871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ophe</cp:lastModifiedBy>
  <dcterms:modified xsi:type="dcterms:W3CDTF">2009-01-26T09:30:58Z</dcterms:modified>
  <cp:revision>8</cp:revision>
  <dc:subject/>
  <dc:title>La politique française de l’eau</dc:title>
</cp:coreProperties>
</file>