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6056" t="0" r="9166" b="0"/>
          <a:stretch/>
        </p:blipFill>
        <p:spPr>
          <a:xfrm>
            <a:off x="0" y="6324480"/>
            <a:ext cx="9144000" cy="484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066680" y="658332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cc"/>
                </a:solidFill>
                <a:latin typeface="Arial"/>
              </a:rPr>
              <a:t>programme Solidarité 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6056" t="0" r="35306" b="0"/>
          <a:stretch/>
        </p:blipFill>
        <p:spPr>
          <a:xfrm>
            <a:off x="0" y="0"/>
            <a:ext cx="9144000" cy="40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%20pS-Eau" descr=""/>
          <p:cNvPicPr/>
          <p:nvPr/>
        </p:nvPicPr>
        <p:blipFill>
          <a:blip r:embed="rId1"/>
          <a:stretch/>
        </p:blipFill>
        <p:spPr>
          <a:xfrm>
            <a:off x="304920" y="504180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42" name="PDM%20quadri" descr=""/>
          <p:cNvPicPr/>
          <p:nvPr/>
        </p:nvPicPr>
        <p:blipFill>
          <a:blip r:embed="rId2"/>
          <a:stretch/>
        </p:blipFill>
        <p:spPr>
          <a:xfrm>
            <a:off x="6400800" y="5462640"/>
            <a:ext cx="1143000" cy="973080"/>
          </a:xfrm>
          <a:prstGeom prst="rect">
            <a:avLst/>
          </a:prstGeom>
          <a:ln w="0">
            <a:noFill/>
          </a:ln>
        </p:spPr>
      </p:pic>
      <p:pic>
        <p:nvPicPr>
          <p:cNvPr id="43" name="logoMAE" descr=""/>
          <p:cNvPicPr/>
          <p:nvPr/>
        </p:nvPicPr>
        <p:blipFill>
          <a:blip r:embed="rId3"/>
          <a:stretch/>
        </p:blipFill>
        <p:spPr>
          <a:xfrm>
            <a:off x="7696080" y="5499000"/>
            <a:ext cx="1447920" cy="98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57800" y="35053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hristophe Le Jallé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pS-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Élaboration de stratégies municipales concerté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ntex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’eau potable et l’assainissement : des services publics dont la mise en oeuvre relève du niveau local en cohérence avec les politique nat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 collectivité locale est l’acteur clé pour assurer la mise en oeuvre de ces services, en concertation et en s’appuyant sur tous les acteurs loc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e vision partagée entre tous les partenaires est nécess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ahoma"/>
              </a:rPr>
              <a:t>Pour répondre à ce const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programme d’expérimentation coordonné par le pS-Eau et le P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Financé par le Ministère français des Affaires étrangè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ur 3 villes africaines : Koudougou (Burkina Faso), Dschang (Cameroun) et Ziguinchor (Sénég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La démarche de concer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590920" y="2743200"/>
            <a:ext cx="3886200" cy="1752480"/>
            <a:chOff x="2590920" y="2743200"/>
            <a:chExt cx="3886200" cy="1752480"/>
          </a:xfrm>
        </p:grpSpPr>
        <p:sp>
          <p:nvSpPr>
            <p:cNvPr id="50" name=""/>
            <p:cNvSpPr/>
            <p:nvPr/>
          </p:nvSpPr>
          <p:spPr>
            <a:xfrm>
              <a:off x="3429000" y="3809880"/>
              <a:ext cx="3048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que veut-on faire ensemble ? Comment y parvenir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14800" y="274320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éfinir une </a:t>
              </a: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straté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90920" y="289548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172200" y="2743200"/>
            <a:ext cx="2971800" cy="1523880"/>
            <a:chOff x="6172200" y="2743200"/>
            <a:chExt cx="2971800" cy="1523880"/>
          </a:xfrm>
        </p:grpSpPr>
        <p:sp>
          <p:nvSpPr>
            <p:cNvPr id="54" name=""/>
            <p:cNvSpPr/>
            <p:nvPr/>
          </p:nvSpPr>
          <p:spPr>
            <a:xfrm>
              <a:off x="7391520" y="274320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éaliser des proje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172200" y="289548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67480" y="388620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6600"/>
                  </a:solidFill>
                  <a:latin typeface="Arial"/>
                </a:rPr>
                <a:t>Inter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52280" y="2743200"/>
            <a:ext cx="3048120" cy="1752480"/>
            <a:chOff x="152280" y="2743200"/>
            <a:chExt cx="3048120" cy="1752480"/>
          </a:xfrm>
        </p:grpSpPr>
        <p:sp>
          <p:nvSpPr>
            <p:cNvPr id="58" name=""/>
            <p:cNvSpPr/>
            <p:nvPr/>
          </p:nvSpPr>
          <p:spPr>
            <a:xfrm>
              <a:off x="380880" y="2743200"/>
              <a:ext cx="1905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vailler ensem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3809880"/>
              <a:ext cx="3048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Se </a:t>
              </a:r>
              <a:r>
                <a:rPr b="1" i="1" lang="en-US" sz="1600" spc="-1" strike="noStrike">
                  <a:solidFill>
                    <a:srgbClr val="ff6600"/>
                  </a:solidFill>
                  <a:latin typeface="Arial"/>
                </a:rPr>
                <a:t>concerter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pour prendre en compte les attentes de chacu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219320" y="3429000"/>
            <a:ext cx="7315200" cy="2666880"/>
            <a:chOff x="1219320" y="3429000"/>
            <a:chExt cx="7315200" cy="2666880"/>
          </a:xfrm>
        </p:grpSpPr>
        <p:sp>
          <p:nvSpPr>
            <p:cNvPr id="61" name=""/>
            <p:cNvSpPr/>
            <p:nvPr/>
          </p:nvSpPr>
          <p:spPr>
            <a:xfrm>
              <a:off x="1371600" y="5638680"/>
              <a:ext cx="7162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rial Black"/>
                </a:rPr>
                <a:t>Stratégie concertée d’interven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19320" y="4038480"/>
              <a:ext cx="14475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52880" y="3429000"/>
              <a:ext cx="0" cy="16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629040" y="4191120"/>
              <a:ext cx="10666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143000" y="1371600"/>
            <a:ext cx="708660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 processus conduit par la municipa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ec l’appui d’un consultant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Résultats attendus sur chaque vil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 service d’eau potable et d’assainissement pour tous pérenne s’appuyant sur des solutions multiples pour répondre à la diversité de l’ensemble du territoire concer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âc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mobilisation de tous les types d’acteurs à toutes les étapes : expression des problèmes et recherche des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 plan d’action, collectivement conçu et validé, pour faciliter la complémentarité des efforts locaux et extérieurs, en particulier avec les coopérations décentralisées et les bailleurs de f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Résultats attendus au-delà même des villes concerné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éer une capacité locale (consultants locaux) pour étendre cette approche à d’autres vi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italiser l’expérience conduite, en tirer les enseignements et produire des lignes directrices méthodologiq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user largement l’expériences, les enseignements tirés et les lignes directrices méthodolog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La démarche de « Stratégie municipale concertée » va maintenant être illustrée par le processus engagé sur la ville de Dscha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12:33:40Z</dcterms:created>
  <dc:creator>Denis</dc:creator>
  <dc:description/>
  <dc:language>en-US</dc:language>
  <cp:lastModifiedBy>Christophe Le Jallé</cp:lastModifiedBy>
  <dcterms:modified xsi:type="dcterms:W3CDTF">2006-09-20T05:16:03Z</dcterms:modified>
  <cp:revision>4</cp:revision>
  <dc:subject/>
  <dc:title>Présentation PowerPoint</dc:title>
</cp:coreProperties>
</file>