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E01-1F50-4DE0-8632-96632F65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70A-4C31-4286-A64B-DBFD6E7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DA1-9519-47DB-B1D4-49D1FEF9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C79-41CD-46BF-A0D5-DE5565C4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8F28-C4D9-48E5-85D2-644F3D76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4B0E-64F4-4739-822F-1EE5D5B7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01AD-0860-4E7D-A898-0C19BA7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32D0-9F7F-405A-965E-5053BA6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7027-2D87-4F56-80F2-4F1CD65F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FAF-BE7F-4CE0-B730-62CC112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EBF6-8F2C-4E82-A00B-79AAC2F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38C-F44A-451B-9FB0-5E376D2B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D1D-970B-43C5-8D6D-9C6EE7D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1112-FBA1-43A7-A9B8-24D3B02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9E2E-FED4-4C11-9C7B-D47271E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05F-20B5-44F7-BABF-8C80EC2B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D704-4DB4-4CB9-B709-DF39B2CF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6AB-6D30-4187-9FFF-B4BC426B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B79-EAE8-466F-9E4B-EADAF55C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D75-363B-4E66-B009-C3708A6E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048-719C-48B9-86BB-0B489B16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BDE-A45C-4D02-B841-74DF0F0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089-DC44-4FBD-ABA0-6E50B72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DD6-B765-48B1-867C-08010BA8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FA7-D81D-4540-B216-E6D8ADFE670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0A98-AF14-4D48-A51A-37C3C78E010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90236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Repenser les politiques de fourniture et d’accès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1160" y="4652640"/>
            <a:ext cx="7207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t de recommand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1873440" cy="1306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3141720"/>
            <a:ext cx="790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b7"/>
                </a:solidFill>
                <a:latin typeface="Arial Black"/>
              </a:rPr>
              <a:t>Rethinking policies for </a:t>
            </a:r>
            <a:br>
              <a:rPr sz="2800"/>
            </a:br>
            <a:r>
              <a:rPr b="1" i="1" lang="fr-FR" sz="2800" spc="-1" strike="noStrike">
                <a:solidFill>
                  <a:srgbClr val="ffffb7"/>
                </a:solidFill>
                <a:latin typeface="Arial Black"/>
              </a:rPr>
              <a:t>the delivery an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mmandation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uvoir dans l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logues interafrica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s principes fondamentaux présentés dans la session comme ceux nécessaires à une gestion équilibrée des services essentiels intégra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’objectif d’accès pour t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t les faire porter par la voix des organisations panafricaines continentales, comme la CADDEL, et région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515772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8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8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mmandation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uvoir les débats nationaux au sein d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ums réunissant toutes les parties prenan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 vue de l’élaboration d’u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te commune pour les services essentie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dans le respect des principes énoncés précédem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mmandation 3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uvoir la dissémination de la pratique d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logues locau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toutes les parties prenantes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s l’égide  des autorités loc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fin de donner corps aux principes de démocratie participative, de transparence et de responsabilité par le biais de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stion partagée des services essenti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5:26:14Z</dcterms:created>
  <dc:creator>User name placeholder</dc:creator>
  <dc:description/>
  <dc:language>en-US</dc:language>
  <cp:lastModifiedBy>User name placeholder</cp:lastModifiedBy>
  <dcterms:modified xsi:type="dcterms:W3CDTF">2006-09-19T07:43:35Z</dcterms:modified>
  <cp:revision>6</cp:revision>
  <dc:subject/>
  <dc:title>Repenser les politiques de fourniture et d’accès </dc:title>
</cp:coreProperties>
</file>