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A060-395B-46A3-A589-7556EE56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5810-74F0-47CC-AA94-1F552199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5D43-229B-4CFF-B96E-EECB9E67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5024-4AC2-4F20-9628-A50B0D99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07EC-BEDE-46C4-8478-C72693CA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3AF7-0F6F-4371-9F7B-98F88686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BEED-6087-4387-AD60-9F7A3D36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8037-4828-4A1F-B67F-F181A897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D1E4-004A-4995-AB13-A7F3CC75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68B6-1329-44BA-A71F-AE5E5239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6461-A78B-41F5-90FB-5DA500B9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5A42-59E7-40AB-AE2D-B23475F1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9D4B-B975-4BAF-866A-58A9B639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FA8F-BC01-4158-A722-9B6761CE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13BF-A592-45AA-B889-95F0DDAB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5C96-4892-4423-A674-23B41677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4E72-7B68-4BC5-AAEB-60D11281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B7A6-8A7B-4E88-88D1-F63413A9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903A-3937-43B6-B8CF-C11E5C3B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4D15-D45A-4765-8EEF-F9D1689A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12EE-3F65-48EB-9BF4-92653CE0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C5EA-4819-426E-A161-EC8E4F44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DEDC-9FE5-4036-B83D-DBBE957B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1CE3-A8C6-4896-B0A5-9158F830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6B13-BA6D-4592-A0F8-2A4DACA56D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45D8-8848-4604-8585-07DCDDF00C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1904760"/>
            <a:ext cx="790236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Repenser les politiques de fourniture et d’accès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1160" y="4652640"/>
            <a:ext cx="72072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aby DIAG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résident honoraire fondateur du PD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Mardi 19 Septembre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635280" y="260280"/>
            <a:ext cx="1873440" cy="1306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71640" y="3141720"/>
            <a:ext cx="7902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b7"/>
                </a:solidFill>
                <a:latin typeface="Arial Black"/>
              </a:rPr>
              <a:t>Rethinking policies for </a:t>
            </a:r>
            <a:br>
              <a:rPr sz="2800"/>
            </a:br>
            <a:r>
              <a:rPr b="1" i="1" lang="fr-FR" sz="2800" spc="-1" strike="noStrike">
                <a:solidFill>
                  <a:srgbClr val="ffffb7"/>
                </a:solidFill>
                <a:latin typeface="Arial Black"/>
              </a:rPr>
              <a:t>the delivery and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éclaration du Millénai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services essentiels sont au centre des politiques de développement et de réduction de la pauvreté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D 7 (environnement sain)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ble 10 : eau et assainiss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ble 11 : réduction des taud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 Services des services » (santé, éducation, loge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an à 5 ans : pas de progrès no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 prolongement des pratiques actuelles (modes de financement, de définition des niveaux de service, de gestion…) ne permettra pas à l’évidence d’atteindre ces objecti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penser les politiqu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mbition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: Accès pour tous (en repensant les niveaux de service en fonction des niveaux de vie des popula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ragmatisme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: le contexte, l’objectif de résultat et les méthodes doivent prévaloir sur les querelles idéolog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nsensus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: pas de progrès possibles sans un dialogue interacteurs, au niveau national et local, pour définir les rôles, les responsabilités et les méthodes (y compris de finance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penser les politiques :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principes (1ère part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rification des rôle de chac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’accorder sur les principes fondamentaux de financement, de gouvern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us du dialogue pour instaurer une dynamique loc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pratique (2ème part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nser l’équité d’accès : expériences modè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5:26:14Z</dcterms:created>
  <dc:creator>User name placeholder</dc:creator>
  <dc:description/>
  <dc:language>en-US</dc:language>
  <cp:lastModifiedBy>User name placeholder</cp:lastModifiedBy>
  <dcterms:modified xsi:type="dcterms:W3CDTF">2006-09-18T19:06:14Z</dcterms:modified>
  <cp:revision>4</cp:revision>
  <dc:subject/>
  <dc:title>Repenser les politiques de fourniture et d’accès </dc:title>
</cp:coreProperties>
</file>