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A52-7538-492E-B765-394C735183C0}" type="slidenum"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 prioritization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 Convention states that ‘special regard’ should be given to ‘the requirements of vital human needs.’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 prioritization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 Convention states that ‘special regard’ should be given to ‘the requirements of vital human needs.’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1D70-A922-43E9-A199-3F234D3EB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Progress for Target 10</a:t>
            </a:r>
            <a:br>
              <a:rPr sz="4600"/>
            </a:b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in Africa</a:t>
            </a:r>
            <a:br>
              <a:rPr sz="4600"/>
            </a:b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present situation, challenges, gaps, and future outlook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52574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lain MOREL, Sr Water and Sanitation Speciali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WSP - Afr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Nairobi, Kenya – AFRICITIES -  18 - 22 September 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87a"/>
                </a:solidFill>
                <a:latin typeface="Arial Unicode MS"/>
              </a:rPr>
              <a:t>Scale of the challenge for Africa</a:t>
            </a:r>
            <a:endParaRPr b="1" lang="en-US" sz="3600" spc="-1" strike="noStrike">
              <a:solidFill>
                <a:srgbClr val="00687a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1600200"/>
          <a:ext cx="731988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00200"/>
                    <a:ext cx="7319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029200" y="2438280"/>
            <a:ext cx="1295280" cy="609840"/>
          </a:xfrm>
          <a:prstGeom prst="wedgeRoundRectCallout">
            <a:avLst>
              <a:gd name="adj1" fmla="val 27203"/>
              <a:gd name="adj2" fmla="val 45050"/>
              <a:gd name="adj3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0 million more b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819520"/>
            <a:ext cx="1066680" cy="609480"/>
          </a:xfrm>
          <a:prstGeom prst="wedgeRoundRectCallout">
            <a:avLst>
              <a:gd name="adj1" fmla="val 11606"/>
              <a:gd name="adj2" fmla="val 41925"/>
              <a:gd name="adj3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0 million 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933640"/>
            <a:ext cx="1219320" cy="533520"/>
          </a:xfrm>
          <a:prstGeom prst="wedgeRoundRectCallout">
            <a:avLst>
              <a:gd name="adj1" fmla="val 25000"/>
              <a:gd name="adj2" fmla="val 47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r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towns/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43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ouble the number of people to be served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87a"/>
                </a:solidFill>
                <a:latin typeface="Tahoma"/>
              </a:rPr>
              <a:t>Manque d’AEP  =  </a:t>
            </a:r>
            <a:br>
              <a:rPr sz="2400"/>
            </a:br>
            <a:r>
              <a:rPr b="1" lang="fr-FR" sz="2400" spc="-1" strike="noStrike">
                <a:solidFill>
                  <a:srgbClr val="00687a"/>
                </a:solidFill>
                <a:latin typeface="Tahoma"/>
              </a:rPr>
              <a:t>Une dimension centrale de la pauvreté</a:t>
            </a:r>
            <a:endParaRPr b="1" lang="en-US" sz="2400" spc="-1" strike="noStrike">
              <a:solidFill>
                <a:srgbClr val="00687a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-457200" y="1066680"/>
            <a:ext cx="9979200" cy="5560200"/>
            <a:chOff x="-457200" y="1066680"/>
            <a:chExt cx="9979200" cy="5560200"/>
          </a:xfrm>
        </p:grpSpPr>
        <p:graphicFrame>
          <p:nvGraphicFramePr>
            <p:cNvPr id="97" name=""/>
            <p:cNvGraphicFramePr/>
            <p:nvPr/>
          </p:nvGraphicFramePr>
          <p:xfrm>
            <a:off x="-457200" y="1066680"/>
            <a:ext cx="9979200" cy="5560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457200" y="1066680"/>
                      <a:ext cx="9979200" cy="556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1940400" y="3593520"/>
              <a:ext cx="4528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b35f5"/>
                  </a:solidFill>
                  <a:latin typeface="Times New Roman"/>
                </a:rPr>
                <a:t>51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17000" y="3389040"/>
              <a:ext cx="0" cy="687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46240" y="2488320"/>
              <a:ext cx="4528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b35f5"/>
                  </a:solidFill>
                  <a:latin typeface="Times New Roman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35040" y="2286720"/>
              <a:ext cx="0" cy="64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34880" y="3745800"/>
              <a:ext cx="4528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7b915d"/>
                  </a:solidFill>
                  <a:latin typeface="Times New Roman"/>
                </a:rPr>
                <a:t>6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280" y="3389040"/>
              <a:ext cx="0" cy="9410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7680" y="2603160"/>
              <a:ext cx="4528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7b915d"/>
                  </a:solidFill>
                  <a:latin typeface="Times New Roman"/>
                </a:rPr>
                <a:t>3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8000" y="2286720"/>
              <a:ext cx="0" cy="8229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33720" y="2286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87a"/>
                </a:solidFill>
                <a:latin typeface="Arial Unicode MS"/>
              </a:rPr>
              <a:t>Where do we st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09224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7a"/>
                </a:solidFill>
                <a:latin typeface="Arial"/>
              </a:rPr>
              <a:t>Diversity of the challenge in Africa</a:t>
            </a:r>
            <a:endParaRPr b="1" lang="en-US" sz="32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-753840" y="3085560"/>
            <a:ext cx="22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pulation in mill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447920"/>
            <a:ext cx="152388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50% in 5 lar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Nig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Ethiop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R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Tanz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1447920"/>
            <a:ext cx="1676160" cy="20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75% in 13 lar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+ Ken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Sud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Ug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Gh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Mozamb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Madagasc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687a"/>
                </a:solidFill>
                <a:latin typeface="Arial"/>
                <a:ea typeface="Times New Roman"/>
              </a:rPr>
              <a:t>Camero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Cote d'Iv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2240" y="1438200"/>
            <a:ext cx="167616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90% in 22 lar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+ Ang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Burkina F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Zimbab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M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Mala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Ni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Sen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Za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Rw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7a"/>
                </a:solidFill>
                <a:latin typeface="Arial"/>
              </a:rPr>
              <a:t>MDG Country Roadmap</a:t>
            </a:r>
            <a:br>
              <a:rPr sz="3200"/>
            </a:br>
            <a:r>
              <a:rPr b="0" lang="en-US" sz="3200" spc="-1" strike="noStrike">
                <a:solidFill>
                  <a:srgbClr val="00687a"/>
                </a:solidFill>
                <a:latin typeface="Arial"/>
              </a:rPr>
              <a:t>Principles</a:t>
            </a:r>
            <a:endParaRPr b="1" lang="en-US" sz="32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ure political wi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y and empower the governmental agency in charge of piloting th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olve all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coalitions and partnerships to pilot and share responsibilities in implementing the action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k the roadmap to national budget planning process, i.e. PRSP, MTE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ild on current  programs and look for complementarities with other sectors (i.e. IWRM, health, environment, education, etc.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29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7a"/>
                </a:solidFill>
                <a:latin typeface="Arial"/>
              </a:rPr>
              <a:t>3 crucial parameters to reach MDGs in Africa</a:t>
            </a:r>
            <a:endParaRPr b="1" lang="en-US" sz="3200" spc="-1" strike="noStrike">
              <a:solidFill>
                <a:srgbClr val="00687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ba"/>
                </a:solidFill>
                <a:latin typeface="Arial"/>
              </a:rPr>
              <a:t>INSTITUTIONAL RE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IN 39 COUNT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ance improvement : NEPAD, PPP, domestic private sector, civil society, decentralization, regional integ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eed to support and sustain refo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ba"/>
                </a:solidFill>
                <a:latin typeface="Arial"/>
              </a:rPr>
              <a:t>FINANCING SYSTE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AME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viable financing mechanisms, strongly depending on external aid (&gt;80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approach for development ai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focused on poverty reduction; need to fix institutions before investment; debt cancellation, budget support; new financial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DGs financing strategy provides room for innov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ba"/>
                </a:solidFill>
                <a:latin typeface="Arial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KEY FOR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 of public sector, « providential » govern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matic approach, decentralization, SME and DPS participation, et consumers et users consultation are the new opportunities for capacity develop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pportunity to encourage programmatic approaches, and improve the use of private sector and consumers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90720" y="1371600"/>
          <a:ext cx="73152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315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87a"/>
                </a:solidFill>
                <a:latin typeface="Arial"/>
              </a:rPr>
              <a:t>Just Do It !!!</a:t>
            </a:r>
            <a:endParaRPr b="1" lang="en-US" sz="4200" spc="-1" strike="noStrike">
              <a:solidFill>
                <a:srgbClr val="00687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wb246592</cp:lastModifiedBy>
  <cp:lastPrinted>2003-08-13T21:38:48Z</cp:lastPrinted>
  <dcterms:modified xsi:type="dcterms:W3CDTF">2006-09-18T07:02:52Z</dcterms:modified>
  <cp:revision>136</cp:revision>
  <dc:subject/>
  <dc:title>PowerPoint Presentation</dc:title>
</cp:coreProperties>
</file>