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056" t="0" r="9166" b="0"/>
          <a:stretch/>
        </p:blipFill>
        <p:spPr>
          <a:xfrm>
            <a:off x="0" y="6324480"/>
            <a:ext cx="9144000" cy="484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066680" y="658332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cc"/>
                </a:solidFill>
                <a:latin typeface="Arial"/>
              </a:rPr>
              <a:t>programme Solidarité 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6056" t="0" r="35306" b="0"/>
          <a:stretch/>
        </p:blipFill>
        <p:spPr>
          <a:xfrm>
            <a:off x="0" y="0"/>
            <a:ext cx="9144000" cy="40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8120"/>
            <a:ext cx="838224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3333cc"/>
                </a:solidFill>
                <a:latin typeface="Arial"/>
                <a:ea typeface="Times New Roman"/>
              </a:rPr>
              <a:t>Conférence électroniqu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0000"/>
                </a:solidFill>
                <a:latin typeface="TimesNewRoman,Bold"/>
                <a:ea typeface="Times New Roman"/>
              </a:rPr>
              <a:t>« Assainisseme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0000"/>
                </a:solidFill>
                <a:latin typeface="TimesNewRoman,Bold"/>
                <a:ea typeface="Times New Roman"/>
              </a:rPr>
              <a:t>	</a:t>
            </a:r>
            <a:r>
              <a:rPr b="1" lang="fr-FR" sz="3800" spc="-1" strike="noStrike">
                <a:solidFill>
                  <a:srgbClr val="ff0000"/>
                </a:solidFill>
                <a:latin typeface="TimesNewRoman,Bold"/>
                <a:ea typeface="Times New Roman"/>
              </a:rPr>
              <a:t>	</a:t>
            </a:r>
            <a:r>
              <a:rPr b="1" lang="fr-FR" sz="3800" spc="-1" strike="noStrike">
                <a:solidFill>
                  <a:srgbClr val="ff0000"/>
                </a:solidFill>
                <a:latin typeface="TimesNewRoman,Bold"/>
                <a:ea typeface="Times New Roman"/>
              </a:rPr>
              <a:t> </a:t>
            </a:r>
            <a:r>
              <a:rPr b="1" lang="fr-FR" sz="3800" spc="-1" strike="noStrike">
                <a:solidFill>
                  <a:srgbClr val="ff0000"/>
                </a:solidFill>
                <a:latin typeface="TimesNewRoman,Bold"/>
                <a:ea typeface="Times New Roman"/>
              </a:rPr>
              <a:t>Quand l’inaction tue 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9576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Niki_tmpphpTZ7zrl" descr=""/>
          <p:cNvPicPr/>
          <p:nvPr/>
        </p:nvPicPr>
        <p:blipFill>
          <a:blip r:embed="rId1"/>
          <a:stretch/>
        </p:blipFill>
        <p:spPr>
          <a:xfrm>
            <a:off x="2438280" y="609480"/>
            <a:ext cx="57150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ynthèse thème 1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nt promouvoir des politiques d’assainissement efficac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895480"/>
            <a:ext cx="8077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pondérance de l’assainissement auto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ance du plaidoyer s’appuyant sur la démonstration des bénéfices de l’assainissement (non seulement sanitaires et environnementaux, mais aussi sur le plan économique, social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ance qu’il y ait un service d’Etat en charge de la coordination  national du secteur de l’assainissement, en lien avec toutes les parties prenantes, en particulier CL et us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ème 2 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nt renforcer et appuyer les autorités locales dans leur missio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’amélioration de l’accès à l’assainissement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2.1 : Comment s’assurer que le rôle et 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sabilités des collectivités locales soient pr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 compte dans les législations nationale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e un plaidoyer auprès des gouvernements pour renforcer les lois sur la décentralisation afin de s’assurer que le transfert de compétences soit accompagné du transfert de moy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’appuyer sur les associations nationales de collectivités lo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r/appuyer les collectivités locales pour qu’elles disposent de plan d’assainissement et de stratégie de mise en oeu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2.2 : </a:t>
            </a: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Comment accroître le soutien financier et renforce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les capacités des collectivités locales pou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l’amélioration des services d’assainiss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tre en place, à l’attention des élus et services techniques,  des modules de formation spécifiques sur la mise en œuvre de politiques et stratégies, la gestion de services et la formulation de pro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évoir des transferts du budget national vers les CL en s’appuyant sur des fonds de développement local ou au moins associer les CL à la planification et la mise en œu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tre en place des systèmes de péréquation aux niveaux national et local / S’appuyer sur les mécanismes de financement solidaires et sur la coopération décentrali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2.3 : </a:t>
            </a: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Comment promouvoir et développer des outils et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procédures permettant de soutenir directement le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collectivités loc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aloriser/adapter les outils existants – Développer les outils d’aide à la décision qui manqu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endre en compte dans tout projet ou démarche de partenariat un volet renforcement des capaci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nforcer les échanges et collaborations entre services de l’Etat et CL, et entre C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oir des outils simples présentant aux CL leur rôle face à la complexité de la gestion du service de l’assaini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2.4 : </a:t>
            </a: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Comment appuyer les collectivités locales dan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l’élaboration de stratégies locales concertées pou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l’assainiss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laborer des stratégies spécifiques pour l’assainissement en complément et en cohérence avec les plans de développement communaux et plans d’urbanismes exi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tre en place au niveau national des mesures incitant les CL à réaliser ces straté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r les partenaires au développement à appuyer les CL pour l’élaboration de stratégies assainissement en amont des pro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appuyer sur un « dialogue » informé par « l’expertis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forcer une expertise nationale d’appui à la formulation de straté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2.5 : </a:t>
            </a: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Comment accroître l’implication des acteurs locaux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de l’assainissement dans la gestion des service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d’assainissement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 toutes les parties prenantes du service au niveau local et les impliquer dans la formulation de straté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associer et les impliquer dans la mise en œuvre des straté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iller à ce que le cadre institutionnel facilite leur implication et leur recon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nthèse thème 2 :</a:t>
            </a:r>
            <a:br>
              <a:rPr sz="24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ment renforcer et appuyer les autorités locales dans leur mission d’amélioration de l’accès à l’assainissement 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3080" y="145584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ôle clé des Associations nationales de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ance du renforcement des capacités des CL et de leurs partenaires locaux pour comprendre la filière assainissement, formuler des stratégies et plan d’actions, gérer les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décentralisation doit aller jusqu’au transfert de moy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mise en œuvre d’un service pérenne doit s’appuyer sur toutes les parties prenantes (CONCER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écessité d’un dialogue et d’une écoute, appuyé/informé par une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b ne réside pas seulement dans la définition d’un cadre législatif, mais dans sa mise en oeu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ème 3 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nt financer les infrastructures et les services d’assainissement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3.1 : </a:t>
            </a: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Comment accroître les ressources nationale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et locales allouées à l’amélioration de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services d’assainissement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en identifier la complémentarité entre financement nationaux, locaux, des ménages, et des partenaires au développement face à chaque segment du secteur de l’assaini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uyer l’émergence et la consolidation d’un marché dynamique de l’assaini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iter auprès du secteur privé un engouement pour les amener à s’impliquer d’avantage dans le secteur de l’assaini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,Bold"/>
              </a:rPr>
              <a:t>Objectifs de la conférence électro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Construire des messages partagés entre partenaires africains et europé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Contribuant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à la préparation d’une rencontre Afrique-Europe de haut nivea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à la réunion AfricaSan+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NewRoman"/>
                <a:ea typeface="Times New Roman"/>
              </a:rPr>
              <a:t>aux divers événements qui pourront être organisés durant l’Année Internationale de l’assaini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3.2 : </a:t>
            </a: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Comment s’assurer que le secteur de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l’assainissement soit une priorité et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bénéficient des financements nécessair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montrer aux décideurs nationaux et parlementaires les bénéfices de l’assainissement / Intégrer les questions liées à l’assainissement dans les grandes orientations nat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er des ateliers de partage d’expériences entre pays afric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’appuyer sur une veille citoyenne / Faciliter la circulation d’information sur la situation et sur les perspectives d’amélioration (Observatoi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3.3 : </a:t>
            </a: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Comment améliorer la connaissance sur le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mécanismes de financement ? Comment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construire un mécanisme de financement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Narrow-BoldItalic"/>
                <a:ea typeface="Arial"/>
              </a:rPr>
              <a:t>pérenne pour les services d’assainissement 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éaliser une étude exhaustive et comparative des mécanismes et initiatives de financement des services d’assainissement / Vulgariser et diffuser ces enseign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er des formations spécifiques dans les pays à l’attention des CL et des partenaires locaux en s’appuyant sur ces enseign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tre en place des systèmes de taxation qui permettent de mobiliser des ressources pérennes pour améliorer l’accès à l’assainissement pour t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nthèse thème 3 :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ment financer les infrastructures et les services d’assainissement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600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654200"/>
            <a:ext cx="8686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trouver un équilibre entre le financement pour l’assainissement collectif et pour l’assainissement autono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écessité d’identifier la complémentarité entre les différentes origines de financement et les segments de la filière à fin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nir des outils d’aide à la décision pour la mise en place d’un financement pérenne au niveau local de l’ensemble de la fil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voriser l’émergence et la consolidation d’un marché de l’assainissement dyna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grand défi est de développer des mécanismes de financement efficaces pour soutenir l’investissement des mén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èmes de la conférence électro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133720"/>
            <a:ext cx="8915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ine 1 (5-10 novembre)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promouvoir des politiques d’assainissement efficac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ine 2 (12-17 Novembre)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renforcer et soutenir les collectivités locales pour faire face au défi du développement des services d’assainiss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ine 3 (19-24 Novembre)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financer les infrastructures et le service d’assainiss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articipants à la conférence électro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-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Futura-Condensed"/>
                <a:ea typeface="Times New Roman"/>
              </a:rPr>
              <a:t>100 participants inscr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-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Futura-Condensed"/>
                <a:ea typeface="Times New Roman"/>
              </a:rPr>
              <a:t>49 contributions par 33 contributeurs (1/3 des inscr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-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Futura-Condensed"/>
                <a:ea typeface="Times New Roman"/>
              </a:rPr>
              <a:t>Représentants des ONG, des bureaux d’études, des collectivités locales, des organismes de recherche, des États, mais aussi des institutions bi- et multi-laté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utura-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Futura-Condensed"/>
                <a:ea typeface="Times New Roman"/>
              </a:rPr>
              <a:t>2/3 des contributeurs d’Afrique   ;  1/3 d’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800" spc="-1" strike="noStrike">
                <a:solidFill>
                  <a:srgbClr val="000000"/>
                </a:solidFill>
                <a:latin typeface="Futura-Condensed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Futura-Condensed"/>
                <a:ea typeface="Times New Roman"/>
              </a:rPr>
              <a:t>Dialoguant directement en français ou en angl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ynthèse des déb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ynthèse des débats très riches est encore en cou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-après : Quelque messages clés provisoires pour chacun des 3 thè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ème 1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nt promouvoir des politiques d’assainissement efficaces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r que l’assainissement soit considéré à sa juste valeur par les décideurs politiques africains, des actions de plaidoyer sont indispens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 plaidoyer doit s’appuyer sur un argumentaire économique et social : l’insuffisance d’assainissement est un frein à la croissance économique et aggrave la pauvret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ciété civile, en bénéficiant de l’appui nécessaire (en terme d’organisation et de stratégie de communication), est la plus à même d’assurer ce plaido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1.1 : Comment encourager les décideurs politiques africains à considérer l’assainissement comme un service public dont ils ont la responsabilité 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1.2 : Comment faire en sorte que l’assainissement soit placé sous la responsabilité d’une autorité unique, reconnue, et responsable du secteur au niveau nation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avoir un réel pouvoir de coordination, l’autorité nationale en charge de l’assainissement doit être reconnue par la législation du p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influencer le développement du secteur, l’autorité nationale doit être de nature trans-sectorielle entre les différents ministères concernés par l’assainiss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tte autorité n’est pas un gestionnaire de projet. Elle a avant tout vocation à être un lieu de concertation, de réflexion et de promotion des démarches, outils et solutions à mettre en œuvre pour relever le défi de l’assainiss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éfi 1.3 : Comment promouvoir les systèmes autonomes et semi-collectifs comme des solutions adaptées au développement des services d'assainissement 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ssainissement autonome est de loin le système le plus développé. Très populaire auprès des ménages, il a apporté la preuve qu’il est à ce jour le système le plus viable dans le contexte afric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développement et l’amélioration de ce type d’assainissement ne peut être assuré qu’en réponse à une réelle demande des mén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être viable, l’assainissement autonome et semi-collectif ne doivent en aucun cas occulter le reste de la filière assainissement : la collecte des effluents hors des quartiers et des villes ainsi que leur trai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2:33:40Z</dcterms:created>
  <dc:creator>Denis</dc:creator>
  <dc:description/>
  <dc:language>en-US</dc:language>
  <cp:lastModifiedBy>Christophe Le Jallé</cp:lastModifiedBy>
  <dcterms:modified xsi:type="dcterms:W3CDTF">2007-12-18T10:58:21Z</dcterms:modified>
  <cp:revision>41</cp:revision>
  <dc:subject/>
  <dc:title>Présentation PowerPoint</dc:title>
</cp:coreProperties>
</file>